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F3F6-A9CD-4A38-B024-2AB872DCCE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A46-6687-498B-A069-165BB14E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C09-0FA0-43C2-BE56-041FA915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64969-C97A-49EB-BBA1-44CFCEA6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29042-1539-475E-BBC4-3504ABAE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BDF68-B8EB-429F-A993-8AEC669C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F8554-0910-465A-89F9-F5B13EBA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76643-9781-4929-AA05-ABD2715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6B869-7AA8-4AB6-9608-C8BB5232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242EE-69CF-40B4-9893-1F1A7B62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71936-D9CA-42E2-8E06-8083BA3B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D83B1-EC88-4DC6-8D84-60FCECC2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6A1-2784-47AC-94E2-62898546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333-B2F8-4193-9F0F-6486B7FE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B9D9-B41D-421E-B9BA-95614951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3C9C-A265-4A9F-8938-C9D740BA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2D97-B535-465D-B837-129486A0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DDD1-158D-4929-A3FF-9C2ED85A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0CAF-527B-499D-AB01-F2227DE7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C9EA-54CF-45CF-9680-ADC573C5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EF1-89AF-4203-8C1E-E30BB98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646-0D20-430C-942A-4D602B8F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53A2-8381-436C-89E8-40D1A9F4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1EB0-9802-4B1F-BF0A-E8EA5B4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E1F0-9C24-4EE9-8BD0-7A4034AC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4A6A-3923-4935-BA0F-7A9EE193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1E3C-B38F-4967-B1F5-69D26427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5B38-E246-4357-BF58-748DAFCA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1011-2CDA-46AC-9837-62E80581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C7AE-DDDA-45A6-BD39-97F65227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B51F-DD02-4ABF-B93E-A04C12D0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FF29-BA2D-42EA-94ED-8411A3A2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C9D-0E4D-4AC1-972D-EA7A6B37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89C9-C47F-4282-9FB2-5736F6CD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61BB-A15B-47E6-BB64-31CBE7C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A0911-CFEC-4D1F-92AF-4A1AA82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8D6F-6A4E-4CEE-A1D6-B79C84B1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9747-0396-4AAF-974F-4400589C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1980-C2A5-485E-A55A-98EFA708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B76F-A5A9-433B-B908-F4EDFE93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79EC-B869-49F4-B0F3-77EE4BC4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65CB-DEF3-4FCD-8A81-D32AE25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71CDA-51D6-4A05-AF81-3C95607A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EE7-D0FC-4B8D-BA06-4C627DA2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6578-34EE-4A77-A6CB-2480FBA5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0D9DE-9AF6-4DDB-A1F8-F960715E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D3628-0F59-474F-A6B5-775EECD7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EB6E6-AA3A-4B71-8F03-7B9046B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22F5-068E-4EE2-8FB6-0EFE296E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21A6-C0D6-4548-8D1C-72CFDE7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DA928-F09B-453A-8DE8-4C769B07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D562-2A3F-4441-B3DF-DF473984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4A7E-7CEA-44AB-809C-5F682E17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AD8C-B0BF-4007-A1FC-C009C6F4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4DD-5BEF-4F8E-BA20-B6CA7ADD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9DBBE-906D-4CE5-86CC-214DD1DB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453A5-965E-49AE-922D-1227D5EC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85735-E089-4E32-821A-0C3FACCC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1ACE-CAEF-456B-977F-0041C93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8918-CBF6-4BED-803B-1DF70ED8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3882D-8E6C-4DD1-969F-56316E1F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7425E-A5E1-450B-80C6-61C69F3A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C5A1-8E0D-4A6A-ABFF-C227A492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3B4B-A9FF-44E0-A01F-CEC14078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6DB51-4662-4CFB-8B0A-50BE00C9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DFA-7B94-4BCE-ADBE-392325F4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E7D2D-6C32-48E5-A2B9-3F0649C3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5EC8-5B1B-482E-B069-4CC0CAE7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09B45-64A8-4B66-9211-579C0AFE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97E23-455D-4B6A-AC01-306BC7F1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9459-060F-40FF-AE36-D32D54E4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16837-47D0-4D6D-83F5-216E8784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91AAB-4063-413C-8EA6-B1016E20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38B51-7E86-4494-BB03-2DFC7C2C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8DBE8-15CA-4DA6-A55F-DBF0814F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4563D-F983-45DD-AC0E-E6005423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EEC-7C55-4E58-A84E-73FF35A6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BD94-227C-4D97-8861-04108A8C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005FA-C80A-4FFD-8B01-A96C79C2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59D20-8DCF-4CAF-B2F6-04A0B79C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D9552-9429-4740-B122-A63525DB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1DFC-08C1-4404-8FCB-EFD438E4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236F8-79F3-4BF0-B547-77BB07DC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772FC-48D5-446F-996C-3B00F3C3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B9EE0-599B-4C62-8A4D-FC3F6ED6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DB1F6-C4A9-41DB-AA85-C644C8FA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A9C28-C1D6-4990-9060-BAC9A039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25D-4CE2-4FFC-80EE-30CF687C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5F4E0-A04B-4C17-B14D-4B7FEB6A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0D424-915B-4DEC-95D5-86F2D5E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AD06-6D63-4EBE-ABD2-83FFFA86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0C5D-477A-4A34-A42A-87D349F5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E6112-066D-4B7A-8B9C-6A12D178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DF3B2-9ABC-408F-A89D-DDD4BE96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CA9DE-0C4F-42B4-BA61-B2A8ABDF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6686-6F6D-4414-8380-D6777895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27BA8-03BC-446A-90F7-8EB3816C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14706-BFD8-4770-88C4-52FE2A8C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A64-302E-40A5-B2D9-8E17B777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C00D1-A182-43D5-830A-F8AA343C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67971-A016-4859-825C-F7894BF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74775-B027-4956-B869-E924919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54C34-9682-4F94-81D4-E9AFFAC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9CA65-E228-4C72-9FB7-76DDAD21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5D56C-03E9-41F7-AD4A-3F659B7E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E76F9-9A20-4317-836D-AEA99AED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89334-FFF1-427C-AA1A-7EBFC9A1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4ACA8-3F5B-4D8F-9373-499EBBC7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ED8DC-E437-4A06-8A2A-A8D6A113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6599-DD34-4216-80E3-372C6303CA86}" type="slidenum">
              <a:rPr b="0" lang="ru-RU" sz="1400" spc="-1" strike="noStrike">
                <a:solidFill>
                  <a:srgbClr val="3891a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5101-4BF0-4DC9-A6BA-4AADA1462BA6}" type="slidenum">
              <a:rPr b="0" lang="ru-RU" sz="1400" spc="-1" strike="noStrike">
                <a:solidFill>
                  <a:srgbClr val="4f81b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84F7-B549-4BA5-9C50-32E81BEB994D}" type="slidenum">
              <a:rPr b="0" lang="ru-RU" sz="1400" spc="-1" strike="noStrike">
                <a:solidFill>
                  <a:srgbClr val="3891a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0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2FD3-31EF-46C1-A511-D6C10567B0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8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8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0156-C9E0-4227-9807-55C3F1CFB748}" type="slidenum">
              <a:rPr b="0" lang="ru-RU" sz="1400" spc="-1" strike="noStrike">
                <a:solidFill>
                  <a:srgbClr val="4f81b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B17C-9A08-435C-81DF-9F3A1ADD7E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1640" y="549360"/>
            <a:ext cx="7623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Системы счислен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508360" y="5084280"/>
            <a:ext cx="3384360" cy="1297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МБОУ «СОШ № 128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И.А. Мер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10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27440" y="1989000"/>
            <a:ext cx="41036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850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сятичная система счислен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446400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ичная система счисл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зиционная система счисления по основанию 10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, что основание 10 связано с количеством пальцев на руках у человек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ённая система счисления в мир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писи чисел используются символы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мые арабскими цифра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1"/>
          <a:stretch/>
        </p:blipFill>
        <p:spPr>
          <a:xfrm>
            <a:off x="5940360" y="1341360"/>
            <a:ext cx="30067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воичная система счислен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ая система счисл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зиционная система счисления с основанием 2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цифры 0 и 1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ая система используется в цифровых устройствах, поскольку является наиболее простой и удовлетворяет требованиям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значений существует в системе, тем проще изготовить отдельные элементы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количество состояний у элемента, тем выше помехоустойчивость и тем быстрее он может работат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та создания таблиц сложения и умножения — основных действий над числам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2314"/>
                </a:solidFill>
                <a:latin typeface="Corbel"/>
              </a:rPr>
              <a:t>Алфавит двоичной, восьмеричной, десятичной и шестнадцатеричной систем счисления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042920" y="1628640"/>
          <a:ext cx="7655040" cy="3024360"/>
        </p:xfrm>
        <a:graphic>
          <a:graphicData uri="http://schemas.openxmlformats.org/drawingml/2006/table">
            <a:tbl>
              <a:tblPr/>
              <a:tblGrid>
                <a:gridCol w="2232000"/>
                <a:gridCol w="1368360"/>
                <a:gridCol w="4054680"/>
              </a:tblGrid>
              <a:tr h="60480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0516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Прямоугольник 1"/>
          <p:cNvSpPr/>
          <p:nvPr/>
        </p:nvSpPr>
        <p:spPr>
          <a:xfrm>
            <a:off x="1042920" y="4797360"/>
            <a:ext cx="756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используемых цифр называет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м 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72314"/>
                </a:solidFill>
                <a:latin typeface="Corbel"/>
              </a:rPr>
              <a:t>Соответствие десятичной, двоичной, восьмеричной и шестнадцатеричной систем счисления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468360" y="1197000"/>
          <a:ext cx="8634240" cy="1981080"/>
        </p:xfrm>
        <a:graphic>
          <a:graphicData uri="http://schemas.openxmlformats.org/drawingml/2006/table">
            <a:tbl>
              <a:tblPr/>
              <a:tblGrid>
                <a:gridCol w="539640"/>
                <a:gridCol w="309600"/>
                <a:gridCol w="308160"/>
                <a:gridCol w="385560"/>
                <a:gridCol w="385920"/>
                <a:gridCol w="463320"/>
                <a:gridCol w="462240"/>
                <a:gridCol w="463320"/>
                <a:gridCol w="461880"/>
                <a:gridCol w="540000"/>
                <a:gridCol w="541080"/>
                <a:gridCol w="540000"/>
                <a:gridCol w="539640"/>
                <a:gridCol w="539640"/>
                <a:gridCol w="540000"/>
                <a:gridCol w="541080"/>
                <a:gridCol w="540000"/>
                <a:gridCol w="53316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=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=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=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Text Box 475"/>
          <p:cNvSpPr/>
          <p:nvPr/>
        </p:nvSpPr>
        <p:spPr>
          <a:xfrm>
            <a:off x="1116000" y="3284640"/>
            <a:ext cx="8028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дновременной работе с несколькими системами счисления для их различения основание системы обычно указывается в виде нижнего индекса, который записывается в десятич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число 321 в десятичной системе счис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00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то же число, но в дво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ое число 101000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расписать в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00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9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еревод чисел из любой позиционной системы счисления в десятичную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00000" y="981000"/>
            <a:ext cx="8034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еревести целое число из позиционной системы счисления с основанием p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есятичну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ужно справа налево, начиная с 0, расставить разряды, потом каждую цифру умножить на основание системы счисления из которой переводим в степени этого разряд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переведем число 110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есятичную систему счисления. Для этого представим это число в виде степеней двойки и произведем вычисления в десятичной системе счисл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16 +1*8 + 0*4 + 0*2 + 1*1 = 16 + 8 + 0 + 0 + 1 = 25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еще один пример. Переведем число 12,3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есятичную систему счисл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3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8 + 2*1 + 3*1/8 +4*1/64 = 10 + 0,375 + 0,0625 = 10,4375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Прямоугольник 1"/>
          <p:cNvSpPr/>
          <p:nvPr/>
        </p:nvSpPr>
        <p:spPr>
          <a:xfrm>
            <a:off x="1727280" y="4076640"/>
            <a:ext cx="730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1568520" y="4076640"/>
            <a:ext cx="730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5"/>
          <p:cNvSpPr/>
          <p:nvPr/>
        </p:nvSpPr>
        <p:spPr>
          <a:xfrm>
            <a:off x="1455840" y="4076640"/>
            <a:ext cx="712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6"/>
          <p:cNvSpPr/>
          <p:nvPr/>
        </p:nvSpPr>
        <p:spPr>
          <a:xfrm>
            <a:off x="1316160" y="4068720"/>
            <a:ext cx="730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7"/>
          <p:cNvSpPr/>
          <p:nvPr/>
        </p:nvSpPr>
        <p:spPr>
          <a:xfrm>
            <a:off x="1173240" y="4076640"/>
            <a:ext cx="712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1244520" y="5595840"/>
            <a:ext cx="71640" cy="182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1100160" y="5595840"/>
            <a:ext cx="73080" cy="182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0"/>
          <p:cNvSpPr/>
          <p:nvPr/>
        </p:nvSpPr>
        <p:spPr>
          <a:xfrm>
            <a:off x="1352520" y="5589720"/>
            <a:ext cx="318960" cy="215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1568520" y="5578560"/>
            <a:ext cx="339480" cy="217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право 12"/>
          <p:cNvSpPr/>
          <p:nvPr/>
        </p:nvSpPr>
        <p:spPr>
          <a:xfrm flipH="1">
            <a:off x="7596360" y="6316560"/>
            <a:ext cx="1079280" cy="503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4"/>
          <p:cNvSpPr txBox="1"/>
          <p:nvPr/>
        </p:nvSpPr>
        <p:spPr>
          <a:xfrm>
            <a:off x="1181160" y="2421000"/>
            <a:ext cx="7423200" cy="16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д целых  десятичных чисел  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2, 8, 16-ую системы счисления 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403280" y="458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4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еревод чисел из десятичной системы счисления в любую другую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есятичн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 счисления в систему счисления с основание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уществляется последовательным делением десятичного числа и его десятичных частных 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выписыванием последнего частного и остатков в обратном порядк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ем десятичное число 20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оичную систем счисления (основание системы счисления p=2). В итоге получили 20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100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21524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469" name="Группа 8"/>
          <p:cNvGrpSpPr/>
          <p:nvPr/>
        </p:nvGrpSpPr>
        <p:grpSpPr>
          <a:xfrm>
            <a:off x="6803280" y="3499920"/>
            <a:ext cx="1945080" cy="865800"/>
            <a:chOff x="6803280" y="3499920"/>
            <a:chExt cx="1945080" cy="865800"/>
          </a:xfrm>
        </p:grpSpPr>
        <p:sp>
          <p:nvSpPr>
            <p:cNvPr id="470" name="Прямая соединительная линия 2"/>
            <p:cNvSpPr/>
            <p:nvPr/>
          </p:nvSpPr>
          <p:spPr>
            <a:xfrm flipH="1">
              <a:off x="8172000" y="4005360"/>
              <a:ext cx="576360" cy="36036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Прямая со стрелкой 4"/>
            <p:cNvCxnSpPr/>
            <p:nvPr/>
          </p:nvCxnSpPr>
          <p:spPr>
            <a:xfrm flipH="1" flipV="1">
              <a:off x="6803280" y="3499920"/>
              <a:ext cx="1369080" cy="86616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39680" y="914400"/>
            <a:ext cx="81043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ести десятичное число </a:t>
            </a: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6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двоичную, троичную, шестнадцатеричную системы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112400" y="1988640"/>
            <a:ext cx="2597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Х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  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010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564000" y="1989000"/>
            <a:ext cx="24588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Х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 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2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2411280" y="2997360"/>
            <a:ext cx="0" cy="23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4932360" y="3213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6222960" y="1989000"/>
            <a:ext cx="252108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Х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А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7524720" y="299736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1039680" y="23760"/>
            <a:ext cx="7786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ВОД ЦЕЛОГО ДЕСЯТИЧНОГО ЧИСЛА МЕТОДОМ ПОЭТАПНОГО ДЕЛ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Стрелка вниз 1"/>
          <p:cNvSpPr/>
          <p:nvPr/>
        </p:nvSpPr>
        <p:spPr>
          <a:xfrm flipV="1">
            <a:off x="2946240" y="3068640"/>
            <a:ext cx="71640" cy="2192400"/>
          </a:xfrm>
          <a:prstGeom prst="downArrow">
            <a:avLst>
              <a:gd name="adj1" fmla="val 50000"/>
              <a:gd name="adj2" fmla="val 49872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трелка вниз 10"/>
          <p:cNvSpPr/>
          <p:nvPr/>
        </p:nvSpPr>
        <p:spPr>
          <a:xfrm flipV="1">
            <a:off x="5435640" y="3213000"/>
            <a:ext cx="73080" cy="144000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трелка вниз 11"/>
          <p:cNvSpPr/>
          <p:nvPr/>
        </p:nvSpPr>
        <p:spPr>
          <a:xfrm flipV="1">
            <a:off x="8140680" y="3068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еревести десятичную дробь 0,375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160640" y="1456920"/>
            <a:ext cx="16668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375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 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75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5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0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179280" y="6021360"/>
            <a:ext cx="30243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3635280" y="1506600"/>
            <a:ext cx="16668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3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1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3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1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3203640" y="5950080"/>
            <a:ext cx="30240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10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443640" y="1736640"/>
            <a:ext cx="166680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3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2   25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3   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6119640" y="5877000"/>
            <a:ext cx="302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6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1"/>
          <p:cNvGrpSpPr/>
          <p:nvPr/>
        </p:nvGrpSpPr>
        <p:grpSpPr>
          <a:xfrm>
            <a:off x="1003320" y="1628640"/>
            <a:ext cx="1550880" cy="3529080"/>
            <a:chOff x="1003320" y="1628640"/>
            <a:chExt cx="1550880" cy="3529080"/>
          </a:xfrm>
        </p:grpSpPr>
        <p:sp>
          <p:nvSpPr>
            <p:cNvPr id="491" name="Line 4"/>
            <p:cNvSpPr/>
            <p:nvPr/>
          </p:nvSpPr>
          <p:spPr>
            <a:xfrm>
              <a:off x="1549440" y="162864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6"/>
            <p:cNvSpPr/>
            <p:nvPr/>
          </p:nvSpPr>
          <p:spPr>
            <a:xfrm>
              <a:off x="1187640" y="2060280"/>
              <a:ext cx="13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Стрелка вниз 14"/>
            <p:cNvSpPr/>
            <p:nvPr/>
          </p:nvSpPr>
          <p:spPr>
            <a:xfrm>
              <a:off x="1003320" y="1861920"/>
              <a:ext cx="45720" cy="3224520"/>
            </a:xfrm>
            <a:prstGeom prst="downArrow">
              <a:avLst>
                <a:gd name="adj1" fmla="val 50000"/>
                <a:gd name="adj2" fmla="val 50284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Группа 2"/>
          <p:cNvGrpSpPr/>
          <p:nvPr/>
        </p:nvGrpSpPr>
        <p:grpSpPr>
          <a:xfrm>
            <a:off x="3613320" y="1628640"/>
            <a:ext cx="1319040" cy="3672000"/>
            <a:chOff x="3613320" y="1628640"/>
            <a:chExt cx="1319040" cy="3672000"/>
          </a:xfrm>
        </p:grpSpPr>
        <p:sp>
          <p:nvSpPr>
            <p:cNvPr id="495" name="Line 8"/>
            <p:cNvSpPr/>
            <p:nvPr/>
          </p:nvSpPr>
          <p:spPr>
            <a:xfrm>
              <a:off x="3709080" y="2060280"/>
              <a:ext cx="122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9"/>
            <p:cNvSpPr/>
            <p:nvPr/>
          </p:nvSpPr>
          <p:spPr>
            <a:xfrm>
              <a:off x="4067640" y="162864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Стрелка вниз 16"/>
            <p:cNvSpPr/>
            <p:nvPr/>
          </p:nvSpPr>
          <p:spPr>
            <a:xfrm>
              <a:off x="3613320" y="1844280"/>
              <a:ext cx="45720" cy="3311640"/>
            </a:xfrm>
            <a:prstGeom prst="downArrow">
              <a:avLst>
                <a:gd name="adj1" fmla="val 50000"/>
                <a:gd name="adj2" fmla="val 50301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6"/>
          <p:cNvGrpSpPr/>
          <p:nvPr/>
        </p:nvGrpSpPr>
        <p:grpSpPr>
          <a:xfrm>
            <a:off x="6156360" y="1844640"/>
            <a:ext cx="1728720" cy="2448000"/>
            <a:chOff x="6156360" y="1844640"/>
            <a:chExt cx="1728720" cy="2448000"/>
          </a:xfrm>
        </p:grpSpPr>
        <p:sp>
          <p:nvSpPr>
            <p:cNvPr id="499" name="Line 12"/>
            <p:cNvSpPr/>
            <p:nvPr/>
          </p:nvSpPr>
          <p:spPr>
            <a:xfrm>
              <a:off x="6517080" y="2249280"/>
              <a:ext cx="13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3"/>
            <p:cNvSpPr/>
            <p:nvPr/>
          </p:nvSpPr>
          <p:spPr>
            <a:xfrm>
              <a:off x="6875640" y="184464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Стрелка вниз 17"/>
            <p:cNvSpPr/>
            <p:nvPr/>
          </p:nvSpPr>
          <p:spPr>
            <a:xfrm>
              <a:off x="6156360" y="2149200"/>
              <a:ext cx="71280" cy="2143440"/>
            </a:xfrm>
            <a:prstGeom prst="downArrow">
              <a:avLst>
                <a:gd name="adj1" fmla="val 50000"/>
                <a:gd name="adj2" fmla="val 50118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Line 12"/>
          <p:cNvSpPr/>
          <p:nvPr/>
        </p:nvSpPr>
        <p:spPr>
          <a:xfrm>
            <a:off x="6397560" y="3378240"/>
            <a:ext cx="1904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3"/>
          <p:cNvSpPr/>
          <p:nvPr/>
        </p:nvSpPr>
        <p:spPr>
          <a:xfrm>
            <a:off x="6492960" y="3254400"/>
            <a:ext cx="0" cy="24588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7"/>
          <p:cNvSpPr/>
          <p:nvPr/>
        </p:nvSpPr>
        <p:spPr>
          <a:xfrm>
            <a:off x="6372360" y="4005360"/>
            <a:ext cx="503280" cy="503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91440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 в 2-ую СС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37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010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7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011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37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010,011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3240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orbel"/>
              </a:rPr>
              <a:t>Содержание</a:t>
            </a:r>
            <a:r>
              <a:rPr b="1" lang="ru-RU" sz="3600" spc="-1" strike="noStrike">
                <a:solidFill>
                  <a:srgbClr val="800000"/>
                </a:solidFill>
                <a:latin typeface="Corbel"/>
              </a:rPr>
              <a:t>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042920" y="620280"/>
            <a:ext cx="76550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воичное кодирование в ПК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 такое система счисления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позиционные системы счисл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иционные системы счисл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вод в 10-тичную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вод из 10-тичной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вод из 2-ной в 8-ную и обратно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вод из 2-ной в 16-ную и обратно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ро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рифметические операции в позиционных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жение и вычитание в 2-ой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множение в 2-ой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жение и вычитание в 8-ой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шение примеров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33200" y="115920"/>
            <a:ext cx="80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Прочитайте стихотворение. Переведите встречающиеся в нем числительные из двоичной системы счисления в десятичную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700360" y="1413000"/>
            <a:ext cx="381636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ыкновенная девчо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. Н. Стар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Ей было тысяча сто лет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Она в 101-ый класс ходил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В портфеле по сто книг носила 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Все это правда, а не бре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Когда, пыля десятком ног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Она шагала по дорог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За ней всегда бежал щено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С одним хвостом, зато стоног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Она ловила каждый зву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Своими десятью ушами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И десять загорелых ру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Портфель и поводок держал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И десять темно-синих гла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Рассматривали мир привычно,…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Но станет все совсем обычным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Когда поймете наш расска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6000" y="234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42920" y="907920"/>
            <a:ext cx="7499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число в римской системе счисления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=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развернутом виде числа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5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10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числа в десятичную систему счисления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,1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ет записываться число 2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воичной системе счисления? 12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осьмеричной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Стрелка вправо 3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340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2 </a:t>
            </a:r>
            <a:r>
              <a:rPr b="1" lang="ru-RU" sz="4300" spc="-1" strike="noStrike">
                <a:solidFill>
                  <a:srgbClr val="c00000"/>
                </a:solidFill>
                <a:latin typeface="Symbol"/>
                <a:ea typeface="Symbol"/>
              </a:rPr>
              <a:t></a:t>
            </a: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8 С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115640" y="1268280"/>
            <a:ext cx="7342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просто! Направо и налево от точки откладываем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риад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руппы по три цифры, после чего записываем их в соответствующем 8-ном виде. Неполные триады дополняются нулям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1010,011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 011 010,011 010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2,32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о - с точностью до наоборот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7,3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 101 111, 011 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101111,011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Полилиния 3"/>
          <p:cNvSpPr/>
          <p:nvPr/>
        </p:nvSpPr>
        <p:spPr>
          <a:xfrm>
            <a:off x="1908000" y="3710160"/>
            <a:ext cx="405000" cy="5364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олилиния 6"/>
          <p:cNvSpPr/>
          <p:nvPr/>
        </p:nvSpPr>
        <p:spPr>
          <a:xfrm>
            <a:off x="1469880" y="3710160"/>
            <a:ext cx="403200" cy="5364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олилиния 7"/>
          <p:cNvSpPr/>
          <p:nvPr/>
        </p:nvSpPr>
        <p:spPr>
          <a:xfrm>
            <a:off x="1057320" y="3730680"/>
            <a:ext cx="404640" cy="5400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олилиния 9"/>
          <p:cNvSpPr/>
          <p:nvPr/>
        </p:nvSpPr>
        <p:spPr>
          <a:xfrm>
            <a:off x="2411280" y="3705120"/>
            <a:ext cx="405000" cy="5256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олилиния 10"/>
          <p:cNvSpPr/>
          <p:nvPr/>
        </p:nvSpPr>
        <p:spPr>
          <a:xfrm>
            <a:off x="2836800" y="3701880"/>
            <a:ext cx="405000" cy="5256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истемы счисления, используемые в ЭВМ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(с основанием 2</a:t>
            </a:r>
            <a:r>
              <a:rPr b="0" lang="en-US" sz="2800" spc="-1" strike="noStrike" baseline="30000">
                <a:solidFill>
                  <a:srgbClr val="572314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)</a:t>
            </a: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сти числ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010011010101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сьмеричную систему счисл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  100  101  001  101  010  11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4       5     1      5      2      7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451527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20" name="Группа 2"/>
          <p:cNvGrpSpPr/>
          <p:nvPr/>
        </p:nvGrpSpPr>
        <p:grpSpPr>
          <a:xfrm>
            <a:off x="1619280" y="3213000"/>
            <a:ext cx="5256360" cy="863640"/>
            <a:chOff x="1619280" y="3213000"/>
            <a:chExt cx="5256360" cy="863640"/>
          </a:xfrm>
        </p:grpSpPr>
        <p:sp>
          <p:nvSpPr>
            <p:cNvPr id="521" name="Line 4"/>
            <p:cNvSpPr/>
            <p:nvPr/>
          </p:nvSpPr>
          <p:spPr>
            <a:xfrm>
              <a:off x="1619280" y="3573000"/>
              <a:ext cx="52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5"/>
            <p:cNvSpPr/>
            <p:nvPr/>
          </p:nvSpPr>
          <p:spPr>
            <a:xfrm>
              <a:off x="233928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6"/>
            <p:cNvSpPr/>
            <p:nvPr/>
          </p:nvSpPr>
          <p:spPr>
            <a:xfrm>
              <a:off x="316080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"/>
            <p:cNvSpPr/>
            <p:nvPr/>
          </p:nvSpPr>
          <p:spPr>
            <a:xfrm>
              <a:off x="385128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>
              <a:off x="464364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9"/>
            <p:cNvSpPr/>
            <p:nvPr/>
          </p:nvSpPr>
          <p:spPr>
            <a:xfrm>
              <a:off x="536364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0"/>
            <p:cNvSpPr/>
            <p:nvPr/>
          </p:nvSpPr>
          <p:spPr>
            <a:xfrm>
              <a:off x="615564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Стрелка вправо 11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269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2 </a:t>
            </a:r>
            <a:r>
              <a:rPr b="1" lang="ru-RU" sz="4300" spc="-1" strike="noStrike">
                <a:solidFill>
                  <a:srgbClr val="c00000"/>
                </a:solidFill>
                <a:latin typeface="Symbol"/>
                <a:ea typeface="Symbol"/>
              </a:rPr>
              <a:t></a:t>
            </a: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16 С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186920" y="1197000"/>
            <a:ext cx="72709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просто! Направо и налево от точки откладываем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трады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ы по четыре цифры, после чего записываем их в соответствующем 16-ном виде. Неполные тетрады дополняются нулям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1010110,011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0 11 01 0110,011 010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2,32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о - с точностью до наоборот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7,3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 101 111, 011 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101111,011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Полилиния 1"/>
          <p:cNvSpPr/>
          <p:nvPr/>
        </p:nvSpPr>
        <p:spPr>
          <a:xfrm>
            <a:off x="2251080" y="3533760"/>
            <a:ext cx="57132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олилиния 4"/>
          <p:cNvSpPr/>
          <p:nvPr/>
        </p:nvSpPr>
        <p:spPr>
          <a:xfrm>
            <a:off x="1698480" y="3546360"/>
            <a:ext cx="57168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олилиния 5"/>
          <p:cNvSpPr/>
          <p:nvPr/>
        </p:nvSpPr>
        <p:spPr>
          <a:xfrm>
            <a:off x="1135080" y="3567240"/>
            <a:ext cx="57132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олилиния 6"/>
          <p:cNvSpPr/>
          <p:nvPr/>
        </p:nvSpPr>
        <p:spPr>
          <a:xfrm>
            <a:off x="2822400" y="3527280"/>
            <a:ext cx="57168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олилиния 7"/>
          <p:cNvSpPr/>
          <p:nvPr/>
        </p:nvSpPr>
        <p:spPr>
          <a:xfrm>
            <a:off x="3394080" y="3527280"/>
            <a:ext cx="57132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186920" y="126828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сти числ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010011010101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естнадцатеричную систему счисл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0  0101  0011  0101  011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   5        3        5        7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5357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37" name="Группа 2"/>
          <p:cNvGrpSpPr/>
          <p:nvPr/>
        </p:nvGrpSpPr>
        <p:grpSpPr>
          <a:xfrm>
            <a:off x="1763640" y="2997360"/>
            <a:ext cx="4608720" cy="863280"/>
            <a:chOff x="1763640" y="2997360"/>
            <a:chExt cx="4608720" cy="863280"/>
          </a:xfrm>
        </p:grpSpPr>
        <p:sp>
          <p:nvSpPr>
            <p:cNvPr id="538" name="Line 5"/>
            <p:cNvSpPr/>
            <p:nvPr/>
          </p:nvSpPr>
          <p:spPr>
            <a:xfrm>
              <a:off x="1763640" y="3429000"/>
              <a:ext cx="46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8"/>
            <p:cNvSpPr/>
            <p:nvPr/>
          </p:nvSpPr>
          <p:spPr>
            <a:xfrm>
              <a:off x="270036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9"/>
            <p:cNvSpPr/>
            <p:nvPr/>
          </p:nvSpPr>
          <p:spPr>
            <a:xfrm>
              <a:off x="363600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0"/>
            <p:cNvSpPr/>
            <p:nvPr/>
          </p:nvSpPr>
          <p:spPr>
            <a:xfrm>
              <a:off x="457200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1"/>
            <p:cNvSpPr/>
            <p:nvPr/>
          </p:nvSpPr>
          <p:spPr>
            <a:xfrm>
              <a:off x="550836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77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еревести число  из восьмеричной системы счисления в шестнадцатеричную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258560" y="2349000"/>
            <a:ext cx="74278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1527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059280" y="2637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Стрелка вправо 4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570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Согласны ли Вы с утверждениями….?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187280" y="476280"/>
          <a:ext cx="7488360" cy="6127560"/>
        </p:xfrm>
        <a:graphic>
          <a:graphicData uri="http://schemas.openxmlformats.org/drawingml/2006/table">
            <a:tbl>
              <a:tblPr/>
              <a:tblGrid>
                <a:gridCol w="432000"/>
                <a:gridCol w="5761080"/>
                <a:gridCol w="647640"/>
                <a:gridCol w="64764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ы ли вы с утвержд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системы счисления делятся на три большие группы: позиционные, непозиционные и полупозиционн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зиционных системах счисления количественное значение цифры зависит от ее позиции в чис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м двоичной системы счисления является числ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21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D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записано в шестнадцатеричной  системе счис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56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о с ошибк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0, записанное в десятичной системе счисления, в двоичной системе счисления записывается как 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0, записанное в десятичной системе счисления, меньше числа 10, записанного в восьмеричной системе счис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3005,23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о с ошибк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 записано в восьмеричной системе счис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1042920" y="476280"/>
          <a:ext cx="7881840" cy="6032520"/>
        </p:xfrm>
        <a:graphic>
          <a:graphicData uri="http://schemas.openxmlformats.org/drawingml/2006/table">
            <a:tbl>
              <a:tblPr/>
              <a:tblGrid>
                <a:gridCol w="432000"/>
                <a:gridCol w="5659200"/>
                <a:gridCol w="928800"/>
                <a:gridCol w="861840"/>
              </a:tblGrid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ы ли вы с утверж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системы счисления делятся на три большие группы: позиционные, непозиционные и полупозиционны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зиционных системах счисления количественное значение цифры зависит от ее позиции в числ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м двоичной системы счисления является число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21С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D4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ано в шестнадцатеричной  системе счисле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56</a:t>
                      </a:r>
                      <a:r>
                        <a:rPr b="0" lang="ru-RU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о с ошибкой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0, записанное в десятичной системе счисления, в двоичной системе счисления записывается как 1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0, записанное в десятичной системе счисления, меньше числа 10, записанного в восьмеричной системе счисле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3005,23</a:t>
                      </a:r>
                      <a:r>
                        <a:rPr b="0" lang="ru-RU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о с ошибкой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 записано в восьмеричной системе счисле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Text Box 249"/>
          <p:cNvSpPr/>
          <p:nvPr/>
        </p:nvSpPr>
        <p:spPr>
          <a:xfrm>
            <a:off x="7348680" y="1044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0"/>
          <p:cNvSpPr/>
          <p:nvPr/>
        </p:nvSpPr>
        <p:spPr>
          <a:xfrm>
            <a:off x="8285040" y="173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51"/>
          <p:cNvSpPr/>
          <p:nvPr/>
        </p:nvSpPr>
        <p:spPr>
          <a:xfrm>
            <a:off x="7348680" y="22352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52"/>
          <p:cNvSpPr/>
          <p:nvPr/>
        </p:nvSpPr>
        <p:spPr>
          <a:xfrm>
            <a:off x="828504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53"/>
          <p:cNvSpPr/>
          <p:nvPr/>
        </p:nvSpPr>
        <p:spPr>
          <a:xfrm>
            <a:off x="7348680" y="33717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4"/>
          <p:cNvSpPr/>
          <p:nvPr/>
        </p:nvSpPr>
        <p:spPr>
          <a:xfrm>
            <a:off x="828504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55"/>
          <p:cNvSpPr/>
          <p:nvPr/>
        </p:nvSpPr>
        <p:spPr>
          <a:xfrm>
            <a:off x="828036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6"/>
          <p:cNvSpPr/>
          <p:nvPr/>
        </p:nvSpPr>
        <p:spPr>
          <a:xfrm>
            <a:off x="828036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57"/>
          <p:cNvSpPr/>
          <p:nvPr/>
        </p:nvSpPr>
        <p:spPr>
          <a:xfrm>
            <a:off x="7348680" y="5543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58"/>
          <p:cNvSpPr/>
          <p:nvPr/>
        </p:nvSpPr>
        <p:spPr>
          <a:xfrm>
            <a:off x="8282160" y="602136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9560" y="115560"/>
            <a:ext cx="7572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Проверь себя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1" name="Стрелка вправо 13"/>
          <p:cNvSpPr/>
          <p:nvPr/>
        </p:nvSpPr>
        <p:spPr>
          <a:xfrm flipH="1">
            <a:off x="7514640" y="6365880"/>
            <a:ext cx="1081080" cy="503280"/>
          </a:xfrm>
          <a:prstGeom prst="rightArrow">
            <a:avLst>
              <a:gd name="adj1" fmla="val 50000"/>
              <a:gd name="adj2" fmla="val 50121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1331640" y="980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«Арифметические операции в позиционных системах счисления»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Двоичное кодирование в компьютере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00000" y="1125000"/>
            <a:ext cx="806472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информация, которую обрабатывает компьютер должна быть представлена двоичным кодом с помощью двух цифр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и два символа принято называ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ыми цифрам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а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ым код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технической реализации использование двоичной системы счисления для кодирования информации оказалось намного более простым, чем применение других способов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оичного кодирования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ые коды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технике легче иметь дело с большим количеством простых элементов, чем с небольшим числом сложны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отсутствие электрического сигнала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наличие электрического сигнал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Picture 9" descr=""/>
          <p:cNvPicPr/>
          <p:nvPr/>
        </p:nvPicPr>
        <p:blipFill>
          <a:blip r:embed="rId1"/>
          <a:srcRect l="3492" t="3760" r="4580" b="6689"/>
          <a:stretch/>
        </p:blipFill>
        <p:spPr>
          <a:xfrm>
            <a:off x="6443640" y="5149800"/>
            <a:ext cx="21891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5"/>
          <p:cNvSpPr/>
          <p:nvPr/>
        </p:nvSpPr>
        <p:spPr>
          <a:xfrm>
            <a:off x="1116000" y="11592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зиционные системы счисления «одинаковы», а именно, во всех них выполняются  арифметические операции по одним и тем же правил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1044720" y="1125360"/>
            <a:ext cx="79200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eb80a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ы одни и те же законы арифмет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тативны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местительный):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тивный (сочетательный)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тивный (распределительный)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1044720" y="407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eb80a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ы правила сложения, вычитания и умножения столбик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1116000" y="52484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выполнения арифметических операций опираются на таблицы сложения и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трелка вправо 5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1042920" y="1890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в двоичной системе счис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9"/>
          <p:cNvSpPr/>
          <p:nvPr/>
        </p:nvSpPr>
        <p:spPr>
          <a:xfrm>
            <a:off x="2130480" y="1208160"/>
            <a:ext cx="4714920" cy="23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0=0       0+1=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+0=1       1+1=</a:t>
            </a: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4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1 + 1 = 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4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0"/>
          <p:cNvSpPr/>
          <p:nvPr/>
        </p:nvSpPr>
        <p:spPr>
          <a:xfrm>
            <a:off x="6084720" y="1557360"/>
            <a:ext cx="1397160" cy="431640"/>
          </a:xfrm>
          <a:prstGeom prst="wedgeRoundRectCallout">
            <a:avLst>
              <a:gd name="adj1" fmla="val -39930"/>
              <a:gd name="adj2" fmla="val 82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3"/>
          <p:cNvSpPr/>
          <p:nvPr/>
        </p:nvSpPr>
        <p:spPr>
          <a:xfrm>
            <a:off x="3344760" y="4408560"/>
            <a:ext cx="25340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0 1 1 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4"/>
          <p:cNvSpPr/>
          <p:nvPr/>
        </p:nvSpPr>
        <p:spPr>
          <a:xfrm>
            <a:off x="3214800" y="566892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6"/>
          <p:cNvSpPr/>
          <p:nvPr/>
        </p:nvSpPr>
        <p:spPr>
          <a:xfrm>
            <a:off x="5376960" y="566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7"/>
          <p:cNvSpPr/>
          <p:nvPr/>
        </p:nvSpPr>
        <p:spPr>
          <a:xfrm>
            <a:off x="4649040" y="393048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8"/>
          <p:cNvSpPr/>
          <p:nvPr/>
        </p:nvSpPr>
        <p:spPr>
          <a:xfrm>
            <a:off x="5059800" y="566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9"/>
          <p:cNvSpPr/>
          <p:nvPr/>
        </p:nvSpPr>
        <p:spPr>
          <a:xfrm>
            <a:off x="4710240" y="566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4364280" y="56754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4015080" y="56754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3"/>
          <p:cNvSpPr/>
          <p:nvPr/>
        </p:nvSpPr>
        <p:spPr>
          <a:xfrm>
            <a:off x="3262680" y="566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4"/>
          <p:cNvSpPr/>
          <p:nvPr/>
        </p:nvSpPr>
        <p:spPr>
          <a:xfrm>
            <a:off x="3654720" y="56754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6"/>
          <p:cNvSpPr/>
          <p:nvPr/>
        </p:nvSpPr>
        <p:spPr>
          <a:xfrm>
            <a:off x="5644080" y="5767560"/>
            <a:ext cx="3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Крест 2"/>
          <p:cNvSpPr/>
          <p:nvPr/>
        </p:nvSpPr>
        <p:spPr>
          <a:xfrm>
            <a:off x="3465360" y="4863960"/>
            <a:ext cx="281160" cy="289080"/>
          </a:xfrm>
          <a:prstGeom prst="plus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7"/>
          <p:cNvSpPr/>
          <p:nvPr/>
        </p:nvSpPr>
        <p:spPr>
          <a:xfrm>
            <a:off x="4266720" y="393048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7"/>
          <p:cNvSpPr/>
          <p:nvPr/>
        </p:nvSpPr>
        <p:spPr>
          <a:xfrm>
            <a:off x="3930120" y="393048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7"/>
          <p:cNvSpPr/>
          <p:nvPr/>
        </p:nvSpPr>
        <p:spPr>
          <a:xfrm>
            <a:off x="3660120" y="393876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7"/>
          <p:cNvSpPr/>
          <p:nvPr/>
        </p:nvSpPr>
        <p:spPr>
          <a:xfrm>
            <a:off x="3378240" y="393048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3"/>
          <p:cNvSpPr/>
          <p:nvPr/>
        </p:nvSpPr>
        <p:spPr>
          <a:xfrm>
            <a:off x="6783480" y="3645000"/>
            <a:ext cx="2057400" cy="2023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10-ой 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Крест 27"/>
          <p:cNvSpPr/>
          <p:nvPr/>
        </p:nvSpPr>
        <p:spPr>
          <a:xfrm>
            <a:off x="7340760" y="4863960"/>
            <a:ext cx="141120" cy="144720"/>
          </a:xfrm>
          <a:prstGeom prst="plus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4"/>
          <p:cNvSpPr/>
          <p:nvPr/>
        </p:nvSpPr>
        <p:spPr>
          <a:xfrm>
            <a:off x="7412040" y="5153040"/>
            <a:ext cx="61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1042920" y="189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мер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12"/>
          <p:cNvGrpSpPr/>
          <p:nvPr/>
        </p:nvGrpSpPr>
        <p:grpSpPr>
          <a:xfrm>
            <a:off x="1042920" y="1052640"/>
            <a:ext cx="3133800" cy="2412720"/>
            <a:chOff x="1042920" y="1052640"/>
            <a:chExt cx="3133800" cy="2412720"/>
          </a:xfrm>
        </p:grpSpPr>
        <p:sp>
          <p:nvSpPr>
            <p:cNvPr id="594" name="Rectangle 6"/>
            <p:cNvSpPr/>
            <p:nvPr/>
          </p:nvSpPr>
          <p:spPr>
            <a:xfrm>
              <a:off x="1042920" y="1052640"/>
              <a:ext cx="313380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1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7"/>
            <p:cNvSpPr/>
            <p:nvPr/>
          </p:nvSpPr>
          <p:spPr>
            <a:xfrm>
              <a:off x="1305720" y="2708280"/>
              <a:ext cx="2666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16"/>
          <p:cNvGrpSpPr/>
          <p:nvPr/>
        </p:nvGrpSpPr>
        <p:grpSpPr>
          <a:xfrm>
            <a:off x="5076720" y="1143000"/>
            <a:ext cx="3202200" cy="2412720"/>
            <a:chOff x="5076720" y="1143000"/>
            <a:chExt cx="3202200" cy="2412720"/>
          </a:xfrm>
        </p:grpSpPr>
        <p:sp>
          <p:nvSpPr>
            <p:cNvPr id="597" name="Rectangle 17"/>
            <p:cNvSpPr/>
            <p:nvPr/>
          </p:nvSpPr>
          <p:spPr>
            <a:xfrm>
              <a:off x="5076720" y="1143000"/>
              <a:ext cx="320220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8"/>
            <p:cNvSpPr/>
            <p:nvPr/>
          </p:nvSpPr>
          <p:spPr>
            <a:xfrm>
              <a:off x="5345280" y="2798640"/>
              <a:ext cx="27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9"/>
          <p:cNvGrpSpPr/>
          <p:nvPr/>
        </p:nvGrpSpPr>
        <p:grpSpPr>
          <a:xfrm>
            <a:off x="2843280" y="3929040"/>
            <a:ext cx="3292560" cy="2412720"/>
            <a:chOff x="2843280" y="3929040"/>
            <a:chExt cx="3292560" cy="2412720"/>
          </a:xfrm>
        </p:grpSpPr>
        <p:sp>
          <p:nvSpPr>
            <p:cNvPr id="600" name="Rectangle 20"/>
            <p:cNvSpPr/>
            <p:nvPr/>
          </p:nvSpPr>
          <p:spPr>
            <a:xfrm>
              <a:off x="2843280" y="3929040"/>
              <a:ext cx="329256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1"/>
            <p:cNvSpPr/>
            <p:nvPr/>
          </p:nvSpPr>
          <p:spPr>
            <a:xfrm>
              <a:off x="3002040" y="55846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042920" y="18900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тание в двоичной системе счисл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1"/>
          <p:cNvSpPr/>
          <p:nvPr/>
        </p:nvSpPr>
        <p:spPr>
          <a:xfrm>
            <a:off x="2690640" y="1268280"/>
            <a:ext cx="3926160" cy="169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0=0     1-1=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0=1   </a:t>
            </a: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4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=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2"/>
          <p:cNvSpPr/>
          <p:nvPr/>
        </p:nvSpPr>
        <p:spPr>
          <a:xfrm>
            <a:off x="3564000" y="2960640"/>
            <a:ext cx="1260360" cy="432000"/>
          </a:xfrm>
          <a:prstGeom prst="wedgeRoundRectCallout">
            <a:avLst>
              <a:gd name="adj1" fmla="val 29296"/>
              <a:gd name="adj2" fmla="val -11227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7"/>
          <p:cNvSpPr/>
          <p:nvPr/>
        </p:nvSpPr>
        <p:spPr>
          <a:xfrm>
            <a:off x="3365280" y="4503600"/>
            <a:ext cx="28692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0 0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8"/>
          <p:cNvSpPr/>
          <p:nvPr/>
        </p:nvSpPr>
        <p:spPr>
          <a:xfrm>
            <a:off x="3432240" y="572760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54"/>
          <p:cNvGrpSpPr/>
          <p:nvPr/>
        </p:nvGrpSpPr>
        <p:grpSpPr>
          <a:xfrm>
            <a:off x="5610240" y="5689440"/>
            <a:ext cx="608760" cy="899280"/>
            <a:chOff x="5610240" y="5689440"/>
            <a:chExt cx="608760" cy="899280"/>
          </a:xfrm>
        </p:grpSpPr>
        <p:sp>
          <p:nvSpPr>
            <p:cNvPr id="609" name="Rectangle 39"/>
            <p:cNvSpPr/>
            <p:nvPr/>
          </p:nvSpPr>
          <p:spPr>
            <a:xfrm>
              <a:off x="5610240" y="568944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40"/>
            <p:cNvSpPr/>
            <p:nvPr/>
          </p:nvSpPr>
          <p:spPr>
            <a:xfrm>
              <a:off x="5904000" y="5870520"/>
              <a:ext cx="315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Rectangle 41"/>
          <p:cNvSpPr/>
          <p:nvPr/>
        </p:nvSpPr>
        <p:spPr>
          <a:xfrm>
            <a:off x="5281920" y="5689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3620160" y="41194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4979880" y="4119480"/>
            <a:ext cx="2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5086800" y="3960720"/>
            <a:ext cx="75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80a"/>
                </a:solidFill>
                <a:latin typeface="Calibri"/>
              </a:rPr>
              <a:t>0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5"/>
          <p:cNvSpPr/>
          <p:nvPr/>
        </p:nvSpPr>
        <p:spPr>
          <a:xfrm>
            <a:off x="4621320" y="5689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4950000" y="569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7"/>
          <p:cNvSpPr/>
          <p:nvPr/>
        </p:nvSpPr>
        <p:spPr>
          <a:xfrm>
            <a:off x="3665520" y="3978360"/>
            <a:ext cx="166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80a"/>
                </a:solidFill>
                <a:latin typeface="Calibri"/>
              </a:rPr>
              <a:t>0   1   </a:t>
            </a:r>
            <a:r>
              <a:rPr b="1" lang="ru-RU" sz="10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eb80a"/>
                </a:solidFill>
                <a:latin typeface="Calibri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8"/>
          <p:cNvSpPr/>
          <p:nvPr/>
        </p:nvSpPr>
        <p:spPr>
          <a:xfrm>
            <a:off x="4227840" y="569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9"/>
          <p:cNvSpPr/>
          <p:nvPr/>
        </p:nvSpPr>
        <p:spPr>
          <a:xfrm>
            <a:off x="3934080" y="569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0"/>
          <p:cNvSpPr/>
          <p:nvPr/>
        </p:nvSpPr>
        <p:spPr>
          <a:xfrm>
            <a:off x="3619800" y="57103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5"/>
          <p:cNvSpPr/>
          <p:nvPr/>
        </p:nvSpPr>
        <p:spPr>
          <a:xfrm>
            <a:off x="6783480" y="3344760"/>
            <a:ext cx="2057400" cy="20242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10-ой 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ая соединительная линия 3"/>
          <p:cNvSpPr/>
          <p:nvPr/>
        </p:nvSpPr>
        <p:spPr>
          <a:xfrm>
            <a:off x="3432240" y="5103720"/>
            <a:ext cx="233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8"/>
          <p:cNvSpPr/>
          <p:nvPr/>
        </p:nvSpPr>
        <p:spPr>
          <a:xfrm>
            <a:off x="7524720" y="4761000"/>
            <a:ext cx="55404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ая соединительная линия 29"/>
          <p:cNvSpPr/>
          <p:nvPr/>
        </p:nvSpPr>
        <p:spPr>
          <a:xfrm>
            <a:off x="7407360" y="4390920"/>
            <a:ext cx="117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258920" y="189000"/>
            <a:ext cx="727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мер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079640" y="1125360"/>
            <a:ext cx="3133440" cy="2412720"/>
            <a:chOff x="1079640" y="1125360"/>
            <a:chExt cx="3133440" cy="2412720"/>
          </a:xfrm>
        </p:grpSpPr>
        <p:sp>
          <p:nvSpPr>
            <p:cNvPr id="628" name="Rectangle 5"/>
            <p:cNvSpPr/>
            <p:nvPr/>
          </p:nvSpPr>
          <p:spPr>
            <a:xfrm>
              <a:off x="1079640" y="1125360"/>
              <a:ext cx="313344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1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1342440" y="2781000"/>
              <a:ext cx="2666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631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–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19"/>
          <p:cNvGrpSpPr/>
          <p:nvPr/>
        </p:nvGrpSpPr>
        <p:grpSpPr>
          <a:xfrm>
            <a:off x="2843280" y="3929040"/>
            <a:ext cx="3292560" cy="2412720"/>
            <a:chOff x="2843280" y="3929040"/>
            <a:chExt cx="3292560" cy="2412720"/>
          </a:xfrm>
        </p:grpSpPr>
        <p:sp>
          <p:nvSpPr>
            <p:cNvPr id="634" name="Rectangle 20"/>
            <p:cNvSpPr/>
            <p:nvPr/>
          </p:nvSpPr>
          <p:spPr>
            <a:xfrm>
              <a:off x="2843280" y="3929040"/>
              <a:ext cx="329256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1010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1"/>
            <p:cNvSpPr/>
            <p:nvPr/>
          </p:nvSpPr>
          <p:spPr>
            <a:xfrm>
              <a:off x="3002040" y="55846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Стрелка вправо 12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6000" y="27792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в двоичной системе счисления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187280" y="1600200"/>
          <a:ext cx="7499520" cy="4525920"/>
        </p:xfrm>
        <a:graphic>
          <a:graphicData uri="http://schemas.openxmlformats.org/drawingml/2006/table">
            <a:tbl>
              <a:tblPr/>
              <a:tblGrid>
                <a:gridCol w="2401920"/>
                <a:gridCol w="2186280"/>
                <a:gridCol w="2911320"/>
              </a:tblGrid>
              <a:tr h="1508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509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4"/>
          <p:cNvGrpSpPr/>
          <p:nvPr/>
        </p:nvGrpSpPr>
        <p:grpSpPr>
          <a:xfrm>
            <a:off x="1079640" y="620640"/>
            <a:ext cx="3133440" cy="4606560"/>
            <a:chOff x="1079640" y="620640"/>
            <a:chExt cx="3133440" cy="4606560"/>
          </a:xfrm>
        </p:grpSpPr>
        <p:sp>
          <p:nvSpPr>
            <p:cNvPr id="640" name="Rectangle 5"/>
            <p:cNvSpPr/>
            <p:nvPr/>
          </p:nvSpPr>
          <p:spPr>
            <a:xfrm>
              <a:off x="1079640" y="620640"/>
              <a:ext cx="3133440" cy="46065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1101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00000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110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100001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"/>
            <p:cNvSpPr/>
            <p:nvPr/>
          </p:nvSpPr>
          <p:spPr>
            <a:xfrm>
              <a:off x="1357200" y="2205000"/>
              <a:ext cx="26668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Line 6"/>
          <p:cNvSpPr/>
          <p:nvPr/>
        </p:nvSpPr>
        <p:spPr>
          <a:xfrm>
            <a:off x="1312920" y="4292640"/>
            <a:ext cx="26668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644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*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  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Box 2"/>
          <p:cNvSpPr/>
          <p:nvPr/>
        </p:nvSpPr>
        <p:spPr>
          <a:xfrm>
            <a:off x="5435640" y="2830680"/>
            <a:ext cx="28033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101111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Стрелка вправо 11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1116000" y="189000"/>
            <a:ext cx="741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рифметические операции в 8-ричной 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504720" y="795240"/>
            <a:ext cx="2032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927000" y="2036880"/>
            <a:ext cx="269568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1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Gill Sans MT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+   6 6 2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Gill Sans MT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1828800" y="1387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1431360" y="35766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>
            <a:off x="1370160" y="3576600"/>
            <a:ext cx="233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3710160" y="1989000"/>
            <a:ext cx="48592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 + 2 = 8 = 1*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*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 + 6 + 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*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1470240" y="1387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3"/>
          <p:cNvSpPr/>
          <p:nvPr/>
        </p:nvSpPr>
        <p:spPr>
          <a:xfrm>
            <a:off x="6513480" y="2565360"/>
            <a:ext cx="2540160" cy="432000"/>
          </a:xfrm>
          <a:prstGeom prst="wedgeRoundRectCallout">
            <a:avLst>
              <a:gd name="adj1" fmla="val -40907"/>
              <a:gd name="adj2" fmla="val 145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в след. разря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4"/>
          <p:cNvSpPr/>
          <p:nvPr/>
        </p:nvSpPr>
        <p:spPr>
          <a:xfrm>
            <a:off x="6300720" y="1305000"/>
            <a:ext cx="2808360" cy="431640"/>
          </a:xfrm>
          <a:prstGeom prst="wedgeRoundRectCallout">
            <a:avLst>
              <a:gd name="adj1" fmla="val -67657"/>
              <a:gd name="adj2" fmla="val 13831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в след. ра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2278080" y="1387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2835360" y="3594240"/>
            <a:ext cx="669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1"/>
          <p:cNvSpPr/>
          <p:nvPr/>
        </p:nvSpPr>
        <p:spPr>
          <a:xfrm>
            <a:off x="1842480" y="35766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2"/>
          <p:cNvSpPr/>
          <p:nvPr/>
        </p:nvSpPr>
        <p:spPr>
          <a:xfrm>
            <a:off x="2293560" y="35845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3"/>
          <p:cNvSpPr/>
          <p:nvPr/>
        </p:nvSpPr>
        <p:spPr>
          <a:xfrm>
            <a:off x="6156360" y="5229360"/>
            <a:ext cx="2897280" cy="431640"/>
          </a:xfrm>
          <a:prstGeom prst="wedgeRoundRectCallout">
            <a:avLst>
              <a:gd name="adj1" fmla="val -35013"/>
              <a:gd name="adj2" fmla="val -11985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в след. ра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1081080" y="189000"/>
            <a:ext cx="745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18"/>
          <p:cNvGrpSpPr/>
          <p:nvPr/>
        </p:nvGrpSpPr>
        <p:grpSpPr>
          <a:xfrm>
            <a:off x="1081080" y="1305000"/>
            <a:ext cx="3058920" cy="2484360"/>
            <a:chOff x="1081080" y="1305000"/>
            <a:chExt cx="3058920" cy="2484360"/>
          </a:xfrm>
        </p:grpSpPr>
        <p:sp>
          <p:nvSpPr>
            <p:cNvPr id="667" name="Rectangle 5"/>
            <p:cNvSpPr/>
            <p:nvPr/>
          </p:nvSpPr>
          <p:spPr>
            <a:xfrm>
              <a:off x="1081080" y="1305000"/>
              <a:ext cx="305892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5 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 3 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8"/>
            <p:cNvSpPr/>
            <p:nvPr/>
          </p:nvSpPr>
          <p:spPr>
            <a:xfrm>
              <a:off x="1081080" y="2925720"/>
              <a:ext cx="287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19"/>
          <p:cNvGrpSpPr/>
          <p:nvPr/>
        </p:nvGrpSpPr>
        <p:grpSpPr>
          <a:xfrm>
            <a:off x="5040360" y="1305000"/>
            <a:ext cx="2954160" cy="2484360"/>
            <a:chOff x="5040360" y="1305000"/>
            <a:chExt cx="2954160" cy="2484360"/>
          </a:xfrm>
        </p:grpSpPr>
        <p:sp>
          <p:nvSpPr>
            <p:cNvPr id="670" name="Rectangle 20"/>
            <p:cNvSpPr/>
            <p:nvPr/>
          </p:nvSpPr>
          <p:spPr>
            <a:xfrm>
              <a:off x="5040360" y="1305000"/>
              <a:ext cx="295416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3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21"/>
            <p:cNvSpPr/>
            <p:nvPr/>
          </p:nvSpPr>
          <p:spPr>
            <a:xfrm>
              <a:off x="5510160" y="2925720"/>
              <a:ext cx="233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116000" y="189000"/>
            <a:ext cx="741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рифметические операции в 8-ричной 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504720" y="795240"/>
            <a:ext cx="2032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1152360" y="2033640"/>
            <a:ext cx="269568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1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Gill Sans MT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   6 6 2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Gill Sans MT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1528200" y="35370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8"/>
          <p:cNvSpPr/>
          <p:nvPr/>
        </p:nvSpPr>
        <p:spPr>
          <a:xfrm>
            <a:off x="1370160" y="3576600"/>
            <a:ext cx="233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1"/>
          <p:cNvSpPr/>
          <p:nvPr/>
        </p:nvSpPr>
        <p:spPr>
          <a:xfrm>
            <a:off x="3970440" y="1989000"/>
            <a:ext cx="48592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*8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6 + 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1</a:t>
            </a: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*8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5796000" y="2124000"/>
            <a:ext cx="1079640" cy="432000"/>
          </a:xfrm>
          <a:prstGeom prst="wedgeRoundRectCallout">
            <a:avLst>
              <a:gd name="adj1" fmla="val -62462"/>
              <a:gd name="adj2" fmla="val 1004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0"/>
          <p:cNvSpPr/>
          <p:nvPr/>
        </p:nvSpPr>
        <p:spPr>
          <a:xfrm>
            <a:off x="2976480" y="3537000"/>
            <a:ext cx="669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1"/>
          <p:cNvSpPr/>
          <p:nvPr/>
        </p:nvSpPr>
        <p:spPr>
          <a:xfrm>
            <a:off x="2016360" y="35370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2"/>
          <p:cNvSpPr/>
          <p:nvPr/>
        </p:nvSpPr>
        <p:spPr>
          <a:xfrm>
            <a:off x="2505240" y="35370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"/>
          <p:cNvSpPr/>
          <p:nvPr/>
        </p:nvSpPr>
        <p:spPr>
          <a:xfrm>
            <a:off x="2158920" y="1773360"/>
            <a:ext cx="115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8"/>
          <p:cNvSpPr/>
          <p:nvPr/>
        </p:nvSpPr>
        <p:spPr>
          <a:xfrm>
            <a:off x="1681200" y="1773360"/>
            <a:ext cx="115920" cy="1443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6985080" y="2943360"/>
            <a:ext cx="1079280" cy="431640"/>
          </a:xfrm>
          <a:prstGeom prst="wedgeRoundRectCallout">
            <a:avLst>
              <a:gd name="adj1" fmla="val -166657"/>
              <a:gd name="adj2" fmla="val 6377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115640" y="549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двух цифр 0 и 1 можно закодировать любое сообщение. Это явилось причиной того, что в компьютере обязательно должно быть организованно два важных процесса: кодирование и декодирова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диро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образование входной информации в форму, воспринимаемую компьютером, т.е. двоичный код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кодиро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образование данных из двоичного кода в форму, понятную человек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кодирования и декодирования информации в компьютере, в первую очередь, зависит от вида информации, а именно, что должно кодироваться: числа, текст, графические изображения или зву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Стрелка вправо 1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116000" y="189000"/>
            <a:ext cx="741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0"/>
          <p:cNvGrpSpPr/>
          <p:nvPr/>
        </p:nvGrpSpPr>
        <p:grpSpPr>
          <a:xfrm>
            <a:off x="1498680" y="1197000"/>
            <a:ext cx="2990880" cy="2484360"/>
            <a:chOff x="1498680" y="1197000"/>
            <a:chExt cx="2990880" cy="2484360"/>
          </a:xfrm>
        </p:grpSpPr>
        <p:sp>
          <p:nvSpPr>
            <p:cNvPr id="689" name="Rectangle 4"/>
            <p:cNvSpPr/>
            <p:nvPr/>
          </p:nvSpPr>
          <p:spPr>
            <a:xfrm>
              <a:off x="1498680" y="119700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5"/>
            <p:cNvSpPr/>
            <p:nvPr/>
          </p:nvSpPr>
          <p:spPr>
            <a:xfrm>
              <a:off x="2005200" y="281772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1"/>
          <p:cNvGrpSpPr/>
          <p:nvPr/>
        </p:nvGrpSpPr>
        <p:grpSpPr>
          <a:xfrm>
            <a:off x="5148360" y="1197000"/>
            <a:ext cx="2990880" cy="2484360"/>
            <a:chOff x="5148360" y="1197000"/>
            <a:chExt cx="2990880" cy="2484360"/>
          </a:xfrm>
        </p:grpSpPr>
        <p:sp>
          <p:nvSpPr>
            <p:cNvPr id="692" name="Rectangle 12"/>
            <p:cNvSpPr/>
            <p:nvPr/>
          </p:nvSpPr>
          <p:spPr>
            <a:xfrm>
              <a:off x="5148360" y="119700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3"/>
            <p:cNvSpPr/>
            <p:nvPr/>
          </p:nvSpPr>
          <p:spPr>
            <a:xfrm>
              <a:off x="5654880" y="281772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Стрелка вправо 9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Решение пример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96" name="Picture 5" descr="1191269027_c4112"/>
          <p:cNvPicPr/>
          <p:nvPr/>
        </p:nvPicPr>
        <p:blipFill>
          <a:blip r:embed="rId1"/>
          <a:stretch/>
        </p:blipFill>
        <p:spPr>
          <a:xfrm>
            <a:off x="2843280" y="1700280"/>
            <a:ext cx="3779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 №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258560" y="1447560"/>
            <a:ext cx="767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ведите числа данные в десятичной СС в двоичную , а затем в шестнадцатеричную СС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3,2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едите данное число в десятичную СС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110101,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00110,1010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на задание №1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116000" y="1628640"/>
            <a:ext cx="75708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143,25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10001111,01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8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4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2,5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10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1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0,1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3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8,8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110101,1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181,5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0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110,1011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2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94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065625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2989440" y="191628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"/>
          <p:cNvSpPr/>
          <p:nvPr/>
        </p:nvSpPr>
        <p:spPr>
          <a:xfrm>
            <a:off x="6029280" y="19162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>
            <a:off x="2989440" y="24321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6029280" y="24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3706920" y="29973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>
            <a:off x="4427640" y="3527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8" name="Rectangle 8"/>
          <p:cNvSpPr/>
          <p:nvPr/>
        </p:nvSpPr>
        <p:spPr>
          <a:xfrm>
            <a:off x="1258920" y="1473840"/>
            <a:ext cx="712944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в восьмеричную и шестнадцатеричную 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0,10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1011010011,0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1111011,0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01000010,01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10010,101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62,5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32,А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11010011,01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1323,2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D3,4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101111011,01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1573,2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7B,4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1000010,0111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502,34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42,7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на задание № 2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 №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1258920" y="1686240"/>
            <a:ext cx="71294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ложите данные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01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1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е вычит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1100110,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10000010,101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полните умн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10001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 на задание №3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1187280" y="292428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003640" y="292428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1042920" y="1916280"/>
            <a:ext cx="777708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00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0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+  1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01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101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01 110 1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011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11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.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1"/>
          <p:cNvSpPr/>
          <p:nvPr/>
        </p:nvSpPr>
        <p:spPr>
          <a:xfrm>
            <a:off x="4714920" y="450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4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900000" y="1447560"/>
            <a:ext cx="8136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ведите число данное в десятичной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оичную , а затем в шестнадцатеричную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70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едите данное число в десятичную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111001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0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на задание №4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187280" y="14126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0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011110 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Е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0100010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А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001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999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0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7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3" name="Line 4"/>
          <p:cNvSpPr/>
          <p:nvPr/>
        </p:nvSpPr>
        <p:spPr>
          <a:xfrm>
            <a:off x="2916360" y="1700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5"/>
          <p:cNvSpPr/>
          <p:nvPr/>
        </p:nvSpPr>
        <p:spPr>
          <a:xfrm>
            <a:off x="6156360" y="16984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2735280" y="220500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5508720" y="2276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3708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3276720" y="3807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стема счислен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447920"/>
            <a:ext cx="74995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ы используем цифры от 0 до 9? А как можно считать еще? Оказывается, существует множество вариантов! И это зависит от такого понятия, как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</a:t>
            </a:r>
            <a:r>
              <a:rPr b="0" lang="ru-RU" sz="2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 (СС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пособ записи чисел с помощью набора специальных знаков, называемых цифра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Стрелка вправо 3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5"/>
          <p:cNvGrpSpPr/>
          <p:nvPr/>
        </p:nvGrpSpPr>
        <p:grpSpPr>
          <a:xfrm>
            <a:off x="1547640" y="1413000"/>
            <a:ext cx="1656000" cy="792000"/>
            <a:chOff x="1547640" y="1413000"/>
            <a:chExt cx="1656000" cy="792000"/>
          </a:xfrm>
        </p:grpSpPr>
        <p:sp>
          <p:nvSpPr>
            <p:cNvPr id="730" name="Line 8"/>
            <p:cNvSpPr/>
            <p:nvPr/>
          </p:nvSpPr>
          <p:spPr>
            <a:xfrm>
              <a:off x="1547640" y="220500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7"/>
            <p:cNvSpPr/>
            <p:nvPr/>
          </p:nvSpPr>
          <p:spPr>
            <a:xfrm>
              <a:off x="1547640" y="161064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6"/>
            <p:cNvSpPr/>
            <p:nvPr/>
          </p:nvSpPr>
          <p:spPr>
            <a:xfrm>
              <a:off x="1713240" y="141300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9"/>
          <p:cNvGrpSpPr/>
          <p:nvPr/>
        </p:nvGrpSpPr>
        <p:grpSpPr>
          <a:xfrm>
            <a:off x="6877080" y="1557360"/>
            <a:ext cx="1294920" cy="647280"/>
            <a:chOff x="6877080" y="1557360"/>
            <a:chExt cx="1294920" cy="647280"/>
          </a:xfrm>
        </p:grpSpPr>
        <p:sp>
          <p:nvSpPr>
            <p:cNvPr id="734" name="Line 11"/>
            <p:cNvSpPr/>
            <p:nvPr/>
          </p:nvSpPr>
          <p:spPr>
            <a:xfrm>
              <a:off x="6877080" y="15573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0"/>
            <p:cNvSpPr/>
            <p:nvPr/>
          </p:nvSpPr>
          <p:spPr>
            <a:xfrm>
              <a:off x="7020720" y="2204640"/>
              <a:ext cx="11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2"/>
          <p:cNvSpPr/>
          <p:nvPr/>
        </p:nvSpPr>
        <p:spPr>
          <a:xfrm>
            <a:off x="0" y="8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ь неизвестные цифры, обозначенные *,  определив вначале в какой системе счисления изображены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3"/>
          <p:cNvSpPr/>
          <p:nvPr/>
        </p:nvSpPr>
        <p:spPr>
          <a:xfrm>
            <a:off x="476280" y="1202040"/>
            <a:ext cx="851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ctr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2411280" y="2637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0" y="3068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6"/>
          <p:cNvSpPr/>
          <p:nvPr/>
        </p:nvSpPr>
        <p:spPr>
          <a:xfrm>
            <a:off x="539640" y="31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7"/>
          <p:cNvSpPr/>
          <p:nvPr/>
        </p:nvSpPr>
        <p:spPr>
          <a:xfrm>
            <a:off x="826920" y="3213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9"/>
          <p:cNvSpPr/>
          <p:nvPr/>
        </p:nvSpPr>
        <p:spPr>
          <a:xfrm>
            <a:off x="111600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0"/>
          <p:cNvSpPr/>
          <p:nvPr/>
        </p:nvSpPr>
        <p:spPr>
          <a:xfrm>
            <a:off x="1547640" y="31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53964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1116000" y="364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755640" y="364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154764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6"/>
          <p:cNvSpPr/>
          <p:nvPr/>
        </p:nvSpPr>
        <p:spPr>
          <a:xfrm>
            <a:off x="25092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7"/>
          <p:cNvSpPr/>
          <p:nvPr/>
        </p:nvSpPr>
        <p:spPr>
          <a:xfrm>
            <a:off x="395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8"/>
          <p:cNvSpPr/>
          <p:nvPr/>
        </p:nvSpPr>
        <p:spPr>
          <a:xfrm>
            <a:off x="395280" y="4149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9"/>
          <p:cNvSpPr/>
          <p:nvPr/>
        </p:nvSpPr>
        <p:spPr>
          <a:xfrm>
            <a:off x="216000" y="422100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0"/>
          <p:cNvSpPr/>
          <p:nvPr/>
        </p:nvSpPr>
        <p:spPr>
          <a:xfrm>
            <a:off x="468360" y="4221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2"/>
          <p:cNvSpPr/>
          <p:nvPr/>
        </p:nvSpPr>
        <p:spPr>
          <a:xfrm>
            <a:off x="90000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3"/>
          <p:cNvSpPr/>
          <p:nvPr/>
        </p:nvSpPr>
        <p:spPr>
          <a:xfrm>
            <a:off x="755640" y="4221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4"/>
          <p:cNvSpPr/>
          <p:nvPr/>
        </p:nvSpPr>
        <p:spPr>
          <a:xfrm>
            <a:off x="1150920" y="422100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5"/>
          <p:cNvSpPr/>
          <p:nvPr/>
        </p:nvSpPr>
        <p:spPr>
          <a:xfrm>
            <a:off x="1547640" y="42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6"/>
          <p:cNvSpPr/>
          <p:nvPr/>
        </p:nvSpPr>
        <p:spPr>
          <a:xfrm>
            <a:off x="-36360" y="4653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5+7=12=1 </a:t>
            </a:r>
            <a:r>
              <a:rPr b="0" lang="ru-RU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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8+4          р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7"/>
          <p:cNvSpPr/>
          <p:nvPr/>
        </p:nvSpPr>
        <p:spPr>
          <a:xfrm>
            <a:off x="0" y="5084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5+2+1=8=1 </a:t>
            </a:r>
            <a:r>
              <a:rPr b="0" lang="ru-RU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+0         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8"/>
          <p:cNvSpPr/>
          <p:nvPr/>
        </p:nvSpPr>
        <p:spPr>
          <a:xfrm>
            <a:off x="0" y="551664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2+1=5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9"/>
          <p:cNvSpPr/>
          <p:nvPr/>
        </p:nvSpPr>
        <p:spPr>
          <a:xfrm>
            <a:off x="0" y="59500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5+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    5+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ru-RU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+1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0" y="64008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*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71636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2"/>
          <p:cNvSpPr/>
          <p:nvPr/>
        </p:nvSpPr>
        <p:spPr>
          <a:xfrm>
            <a:off x="5508720" y="306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586728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4"/>
          <p:cNvSpPr/>
          <p:nvPr/>
        </p:nvSpPr>
        <p:spPr>
          <a:xfrm>
            <a:off x="6227640" y="306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5"/>
          <p:cNvSpPr/>
          <p:nvPr/>
        </p:nvSpPr>
        <p:spPr>
          <a:xfrm>
            <a:off x="6659640" y="3068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5867280" y="357336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6227640" y="3500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8"/>
          <p:cNvSpPr/>
          <p:nvPr/>
        </p:nvSpPr>
        <p:spPr>
          <a:xfrm>
            <a:off x="6659640" y="35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579600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6227640" y="40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6661080" y="39895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52"/>
          <p:cNvSpPr/>
          <p:nvPr/>
        </p:nvSpPr>
        <p:spPr>
          <a:xfrm>
            <a:off x="5580000" y="40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53"/>
          <p:cNvSpPr/>
          <p:nvPr/>
        </p:nvSpPr>
        <p:spPr>
          <a:xfrm>
            <a:off x="5364000" y="3573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4"/>
          <p:cNvSpPr/>
          <p:nvPr/>
        </p:nvSpPr>
        <p:spPr>
          <a:xfrm>
            <a:off x="5148360" y="450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6-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5"/>
          <p:cNvSpPr/>
          <p:nvPr/>
        </p:nvSpPr>
        <p:spPr>
          <a:xfrm>
            <a:off x="5148360" y="4941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2+р-4=5     р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6"/>
          <p:cNvSpPr/>
          <p:nvPr/>
        </p:nvSpPr>
        <p:spPr>
          <a:xfrm>
            <a:off x="5148360" y="5445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7-*=6      *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57"/>
          <p:cNvSpPr/>
          <p:nvPr/>
        </p:nvSpPr>
        <p:spPr>
          <a:xfrm>
            <a:off x="1116000" y="4221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8"/>
          <p:cNvSpPr/>
          <p:nvPr/>
        </p:nvSpPr>
        <p:spPr>
          <a:xfrm>
            <a:off x="75564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9"/>
          <p:cNvSpPr/>
          <p:nvPr/>
        </p:nvSpPr>
        <p:spPr>
          <a:xfrm>
            <a:off x="53964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61"/>
          <p:cNvSpPr/>
          <p:nvPr/>
        </p:nvSpPr>
        <p:spPr>
          <a:xfrm>
            <a:off x="250920" y="420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62"/>
          <p:cNvSpPr/>
          <p:nvPr/>
        </p:nvSpPr>
        <p:spPr>
          <a:xfrm>
            <a:off x="5796000" y="350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352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систем счисл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3492360" y="1378080"/>
            <a:ext cx="2882880" cy="576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6dd"/>
                </a:solidFill>
                <a:latin typeface="Arial"/>
              </a:rPr>
              <a:t>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663560" y="2349360"/>
            <a:ext cx="273708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508720" y="2349360"/>
            <a:ext cx="273672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AutoShape 7"/>
          <p:cNvCxnSpPr>
            <a:stCxn id="427" idx="2"/>
            <a:endCxn id="428" idx="0"/>
          </p:cNvCxnSpPr>
          <p:nvPr/>
        </p:nvCxnSpPr>
        <p:spPr>
          <a:xfrm flipH="1">
            <a:off x="3031920" y="1954080"/>
            <a:ext cx="19022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AutoShape 8"/>
          <p:cNvCxnSpPr>
            <a:stCxn id="427" idx="2"/>
            <a:endCxn id="429" idx="0"/>
          </p:cNvCxnSpPr>
          <p:nvPr/>
        </p:nvCxnSpPr>
        <p:spPr>
          <a:xfrm>
            <a:off x="4933800" y="1954080"/>
            <a:ext cx="19440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Text Box 9"/>
          <p:cNvSpPr/>
          <p:nvPr/>
        </p:nvSpPr>
        <p:spPr>
          <a:xfrm>
            <a:off x="5508720" y="3284640"/>
            <a:ext cx="2736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ицио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х счисл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ую обозначает цифр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ис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ис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1663560" y="3284640"/>
            <a:ext cx="2764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х счисл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означаемая цифрой в записи числ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её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исле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09800" y="11556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епозиционные системы счисл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42560" y="105228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м примером фактическ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иционн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сления являетс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ск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в качестве цифр используются латинские буквы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 1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5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0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50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00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500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000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уральные числа записываются при помощи повторения этих цифр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II = 1 + 1 = 2, здесь символ I обозначает 1 независимо от места в числ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й записи больших чисел римскими цифрами необходимо сначала записать число тысяч, затем сотен, затем десятков и, наконец, единиц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мер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дна тысяч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мь соте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семьдеся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X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вя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пишем их вмест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CCLXXXI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CCLXXXIX=1000+(500+100+100)+(50+10+10+10)+(10-1)=178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ображения чисел в непозиционной системе счисления нельзя ограничится конечным набором цифр. Кроме того, выполнение арифметических действий в них крайне неудобно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Стрелка вправо 3"/>
          <p:cNvSpPr/>
          <p:nvPr/>
        </p:nvSpPr>
        <p:spPr>
          <a:xfrm flipH="1">
            <a:off x="7524000" y="6353280"/>
            <a:ext cx="1079640" cy="50472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9040" y="0"/>
            <a:ext cx="8064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ервые позиционные системы счисления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99640" y="549000"/>
            <a:ext cx="8099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первой такой системой, когда счетным "прибором" служили пальцы рук, был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ерич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й возникл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надцатерич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счисления. Возникла она в древнем Шумере. Возможно, что она возникала у них из подсчёта фаланг на руке большим пальцем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ее широкое использование в прошлом указывает сохранившиеся в ряде стран способы отсчета времени, денег и соотношения между некоторыми единицами измерения. Год состоит из 12 месяцев, а половина суток состоит из 12 час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ом двенадцатеричной системы в современности может служить счёт дюжина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фунт состоит из 12 шиллинг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6175440" y="4508640"/>
            <a:ext cx="232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позиционная система счисления была придумана еще в Древнем Вавилоне, причем вавилонская нумерация был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десятер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в ней использовалось шестьдесят цифр!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ее позднее время использовалась арабами, а также древними и средневековыми астрономами. Шестидесятеричная система счисления, как считают исследователи, являет собой синтез уже вышеупомянутых пятеричной и двенадцатеричной систе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наиболее распространен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ьмер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надцатер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 счислен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mx665</cp:lastModifiedBy>
  <dcterms:modified xsi:type="dcterms:W3CDTF">2014-02-10T14:23:38Z</dcterms:modified>
  <cp:revision>115</cp:revision>
  <dc:subject/>
  <dc:title>Слайд 1</dc:title>
</cp:coreProperties>
</file>