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A5F-F971-4DC2-A14B-C4CE4318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52B-17CF-4688-8F07-DEB08696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A6E-E4C9-4C01-A7D1-7756D851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561-1711-4407-A460-3BF894A4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5FB-4DE0-40DE-B060-C369A97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D0A-7D02-4474-9070-58BF317C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EC6-817F-42CA-894C-2B4268BD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418-A0D0-4C36-8BB6-59440CDA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31D-7B27-4AAB-B6A8-1E5291C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FB2-0F2F-4629-9FE2-4F7E178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05A-B4F1-4B51-BA78-80E0F4D4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E3A-A18E-402D-8027-5277EDE8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E166-9BA7-49CB-98C7-C52B20B9E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0"/>
          <p:cNvGraphicFramePr/>
          <p:nvPr/>
        </p:nvGraphicFramePr>
        <p:xfrm>
          <a:off x="1258920" y="1438200"/>
          <a:ext cx="2592360" cy="22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38200"/>
                    <a:ext cx="259236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AutoShape 5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_s14342"/>
          <p:cNvSpPr/>
          <p:nvPr/>
        </p:nvSpPr>
        <p:spPr>
          <a:xfrm>
            <a:off x="826920" y="777960"/>
            <a:ext cx="3795840" cy="3794040"/>
          </a:xfrm>
          <a:custGeom>
            <a:avLst/>
            <a:gdLst>
              <a:gd name="textAreaLeft" fmla="*/ 1216800 w 3795840"/>
              <a:gd name="textAreaRight" fmla="*/ 2579040 w 3795840"/>
              <a:gd name="textAreaTop" fmla="*/ 0 h 3794040"/>
              <a:gd name="textAreaBottom" fmla="*/ 639720 h 3794040"/>
            </a:gdLst>
            <a:ahLst/>
            <a:rect l="textAreaLeft" t="textAreaTop" r="textAreaRight" b="textAreaBottom"/>
            <a:pathLst>
              <a:path w="21600" h="21600">
                <a:moveTo>
                  <a:pt x="9251" y="3290"/>
                </a:moveTo>
                <a:cubicBezTo>
                  <a:pt x="9760" y="3184"/>
                  <a:pt x="10279" y="3131"/>
                  <a:pt x="10800" y="3132"/>
                </a:cubicBezTo>
                <a:cubicBezTo>
                  <a:pt x="11320" y="3132"/>
                  <a:pt x="11839" y="3184"/>
                  <a:pt x="12348" y="3290"/>
                </a:cubicBezTo>
                <a:lnTo>
                  <a:pt x="12981" y="222"/>
                </a:lnTo>
                <a:cubicBezTo>
                  <a:pt x="12263" y="74"/>
                  <a:pt x="11532" y="-1"/>
                  <a:pt x="10799" y="0"/>
                </a:cubicBezTo>
                <a:cubicBezTo>
                  <a:pt x="10067" y="0"/>
                  <a:pt x="9336" y="74"/>
                  <a:pt x="8618" y="222"/>
                </a:cubicBezTo>
                <a:lnTo>
                  <a:pt x="9251" y="329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_s14343"/>
          <p:cNvSpPr/>
          <p:nvPr/>
        </p:nvSpPr>
        <p:spPr>
          <a:xfrm rot="5400000">
            <a:off x="838800" y="1002240"/>
            <a:ext cx="3794040" cy="3795840"/>
          </a:xfrm>
          <a:custGeom>
            <a:avLst/>
            <a:gdLst>
              <a:gd name="textAreaLeft" fmla="*/ 1109520 w 3794040"/>
              <a:gd name="textAreaRight" fmla="*/ 2684520 w 3794040"/>
              <a:gd name="textAreaTop" fmla="*/ 0 h 3795840"/>
              <a:gd name="textAreaBottom" fmla="*/ 628560 h 3795840"/>
            </a:gdLst>
            <a:ahLst/>
            <a:rect l="textAreaLeft" t="textAreaTop" r="textAreaRight" b="textAreaBottom"/>
            <a:pathLst>
              <a:path w="21600" h="21600">
                <a:moveTo>
                  <a:pt x="8766" y="3125"/>
                </a:moveTo>
                <a:cubicBezTo>
                  <a:pt x="9429" y="2950"/>
                  <a:pt x="10113" y="2860"/>
                  <a:pt x="10800" y="2861"/>
                </a:cubicBezTo>
                <a:cubicBezTo>
                  <a:pt x="11486" y="2861"/>
                  <a:pt x="12170" y="2950"/>
                  <a:pt x="12833" y="3125"/>
                </a:cubicBezTo>
                <a:lnTo>
                  <a:pt x="13566" y="360"/>
                </a:lnTo>
                <a:cubicBezTo>
                  <a:pt x="12663" y="121"/>
                  <a:pt x="11733" y="-1"/>
                  <a:pt x="10799" y="0"/>
                </a:cubicBezTo>
                <a:cubicBezTo>
                  <a:pt x="9866" y="0"/>
                  <a:pt x="8936" y="121"/>
                  <a:pt x="8033" y="360"/>
                </a:cubicBezTo>
                <a:lnTo>
                  <a:pt x="8766" y="31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_s14344"/>
          <p:cNvSpPr/>
          <p:nvPr/>
        </p:nvSpPr>
        <p:spPr>
          <a:xfrm rot="10800000">
            <a:off x="826920" y="777600"/>
            <a:ext cx="3795840" cy="3794040"/>
          </a:xfrm>
          <a:custGeom>
            <a:avLst/>
            <a:gdLst>
              <a:gd name="textAreaLeft" fmla="*/ 1164600 w 3795840"/>
              <a:gd name="textAreaRight" fmla="*/ 2631240 w 3795840"/>
              <a:gd name="textAreaTop" fmla="*/ 0 h 3794040"/>
              <a:gd name="textAreaBottom" fmla="*/ 618480 h 3794040"/>
            </a:gdLst>
            <a:ahLst/>
            <a:rect l="textAreaLeft" t="textAreaTop" r="textAreaRight" b="textAreaBottom"/>
            <a:pathLst>
              <a:path w="21600" h="21600">
                <a:moveTo>
                  <a:pt x="8997" y="3117"/>
                </a:moveTo>
                <a:cubicBezTo>
                  <a:pt x="9588" y="2979"/>
                  <a:pt x="10193" y="2908"/>
                  <a:pt x="10800" y="2909"/>
                </a:cubicBezTo>
                <a:cubicBezTo>
                  <a:pt x="11406" y="2909"/>
                  <a:pt x="12011" y="2979"/>
                  <a:pt x="12602" y="3117"/>
                </a:cubicBezTo>
                <a:lnTo>
                  <a:pt x="13267" y="285"/>
                </a:lnTo>
                <a:cubicBezTo>
                  <a:pt x="12458" y="95"/>
                  <a:pt x="11630" y="-1"/>
                  <a:pt x="10799" y="0"/>
                </a:cubicBezTo>
                <a:cubicBezTo>
                  <a:pt x="9969" y="0"/>
                  <a:pt x="9141" y="95"/>
                  <a:pt x="8332" y="285"/>
                </a:cubicBezTo>
                <a:lnTo>
                  <a:pt x="8997" y="3117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_s14345"/>
          <p:cNvSpPr/>
          <p:nvPr/>
        </p:nvSpPr>
        <p:spPr>
          <a:xfrm rot="16200000">
            <a:off x="838800" y="425520"/>
            <a:ext cx="3794040" cy="3795840"/>
          </a:xfrm>
          <a:custGeom>
            <a:avLst/>
            <a:gdLst>
              <a:gd name="textAreaLeft" fmla="*/ 1067040 w 3794040"/>
              <a:gd name="textAreaRight" fmla="*/ 2727000 w 3794040"/>
              <a:gd name="textAreaTop" fmla="*/ 0 h 3795840"/>
              <a:gd name="textAreaBottom" fmla="*/ 671040 h 3795840"/>
            </a:gdLst>
            <a:ahLst/>
            <a:rect l="textAreaLeft" t="textAreaTop" r="textAreaRight" b="textAreaBottom"/>
            <a:pathLst>
              <a:path w="21600" h="21600">
                <a:moveTo>
                  <a:pt x="8640" y="3342"/>
                </a:moveTo>
                <a:cubicBezTo>
                  <a:pt x="9342" y="3139"/>
                  <a:pt x="10069" y="3035"/>
                  <a:pt x="10800" y="3036"/>
                </a:cubicBezTo>
                <a:cubicBezTo>
                  <a:pt x="11530" y="3036"/>
                  <a:pt x="12257" y="3139"/>
                  <a:pt x="12959" y="3342"/>
                </a:cubicBezTo>
                <a:lnTo>
                  <a:pt x="13804" y="426"/>
                </a:lnTo>
                <a:cubicBezTo>
                  <a:pt x="12828" y="143"/>
                  <a:pt x="11816" y="-1"/>
                  <a:pt x="10799" y="0"/>
                </a:cubicBezTo>
                <a:cubicBezTo>
                  <a:pt x="9783" y="0"/>
                  <a:pt x="8771" y="143"/>
                  <a:pt x="7795" y="426"/>
                </a:cubicBezTo>
                <a:lnTo>
                  <a:pt x="8640" y="334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4346"/>
          <p:cNvSpPr/>
          <p:nvPr/>
        </p:nvSpPr>
        <p:spPr>
          <a:xfrm>
            <a:off x="1074600" y="1015920"/>
            <a:ext cx="973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_s14347"/>
          <p:cNvSpPr/>
          <p:nvPr/>
        </p:nvSpPr>
        <p:spPr>
          <a:xfrm>
            <a:off x="984240" y="846000"/>
            <a:ext cx="973080" cy="97344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_s14348"/>
          <p:cNvSpPr/>
          <p:nvPr/>
        </p:nvSpPr>
        <p:spPr>
          <a:xfrm>
            <a:off x="3424320" y="3362400"/>
            <a:ext cx="973080" cy="973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_s14349"/>
          <p:cNvSpPr/>
          <p:nvPr/>
        </p:nvSpPr>
        <p:spPr>
          <a:xfrm>
            <a:off x="3422520" y="1014480"/>
            <a:ext cx="973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_s14347"/>
          <p:cNvSpPr/>
          <p:nvPr/>
        </p:nvSpPr>
        <p:spPr>
          <a:xfrm>
            <a:off x="984240" y="3436920"/>
            <a:ext cx="973080" cy="973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_s14347"/>
          <p:cNvSpPr/>
          <p:nvPr/>
        </p:nvSpPr>
        <p:spPr>
          <a:xfrm>
            <a:off x="3575160" y="846000"/>
            <a:ext cx="973080" cy="97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0"/>
          <p:cNvSpPr/>
          <p:nvPr/>
        </p:nvSpPr>
        <p:spPr>
          <a:xfrm>
            <a:off x="6227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1"/>
          <p:cNvSpPr/>
          <p:nvPr/>
        </p:nvSpPr>
        <p:spPr>
          <a:xfrm>
            <a:off x="637236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2"/>
          <p:cNvSpPr/>
          <p:nvPr/>
        </p:nvSpPr>
        <p:spPr>
          <a:xfrm>
            <a:off x="651672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3"/>
          <p:cNvSpPr/>
          <p:nvPr/>
        </p:nvSpPr>
        <p:spPr>
          <a:xfrm>
            <a:off x="6659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4"/>
          <p:cNvSpPr/>
          <p:nvPr/>
        </p:nvSpPr>
        <p:spPr>
          <a:xfrm>
            <a:off x="6804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5"/>
          <p:cNvSpPr/>
          <p:nvPr/>
        </p:nvSpPr>
        <p:spPr>
          <a:xfrm>
            <a:off x="694836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6"/>
          <p:cNvSpPr/>
          <p:nvPr/>
        </p:nvSpPr>
        <p:spPr>
          <a:xfrm>
            <a:off x="709128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7"/>
          <p:cNvSpPr/>
          <p:nvPr/>
        </p:nvSpPr>
        <p:spPr>
          <a:xfrm>
            <a:off x="7236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8"/>
          <p:cNvSpPr/>
          <p:nvPr/>
        </p:nvSpPr>
        <p:spPr>
          <a:xfrm>
            <a:off x="738036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9"/>
          <p:cNvSpPr/>
          <p:nvPr/>
        </p:nvSpPr>
        <p:spPr>
          <a:xfrm>
            <a:off x="752328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0"/>
          <p:cNvSpPr/>
          <p:nvPr/>
        </p:nvSpPr>
        <p:spPr>
          <a:xfrm>
            <a:off x="7667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1"/>
          <p:cNvSpPr/>
          <p:nvPr/>
        </p:nvSpPr>
        <p:spPr>
          <a:xfrm>
            <a:off x="7812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2"/>
          <p:cNvSpPr/>
          <p:nvPr/>
        </p:nvSpPr>
        <p:spPr>
          <a:xfrm>
            <a:off x="7956720" y="476280"/>
            <a:ext cx="0" cy="60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3"/>
          <p:cNvSpPr/>
          <p:nvPr/>
        </p:nvSpPr>
        <p:spPr>
          <a:xfrm>
            <a:off x="8101080" y="476280"/>
            <a:ext cx="0" cy="60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4"/>
          <p:cNvSpPr/>
          <p:nvPr/>
        </p:nvSpPr>
        <p:spPr>
          <a:xfrm>
            <a:off x="8245440" y="476280"/>
            <a:ext cx="0" cy="6048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5"/>
          <p:cNvSpPr/>
          <p:nvPr/>
        </p:nvSpPr>
        <p:spPr>
          <a:xfrm>
            <a:off x="8388360" y="476280"/>
            <a:ext cx="0" cy="6048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6"/>
          <p:cNvSpPr/>
          <p:nvPr/>
        </p:nvSpPr>
        <p:spPr>
          <a:xfrm>
            <a:off x="8532720" y="476280"/>
            <a:ext cx="0" cy="604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7"/>
          <p:cNvSpPr/>
          <p:nvPr/>
        </p:nvSpPr>
        <p:spPr>
          <a:xfrm>
            <a:off x="8677440" y="476280"/>
            <a:ext cx="0" cy="60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9"/>
          <p:cNvSpPr/>
          <p:nvPr/>
        </p:nvSpPr>
        <p:spPr>
          <a:xfrm>
            <a:off x="4788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0"/>
          <p:cNvSpPr/>
          <p:nvPr/>
        </p:nvSpPr>
        <p:spPr>
          <a:xfrm>
            <a:off x="4932360" y="47628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1"/>
          <p:cNvSpPr/>
          <p:nvPr/>
        </p:nvSpPr>
        <p:spPr>
          <a:xfrm>
            <a:off x="5076720" y="476280"/>
            <a:ext cx="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2"/>
          <p:cNvSpPr/>
          <p:nvPr/>
        </p:nvSpPr>
        <p:spPr>
          <a:xfrm>
            <a:off x="5219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3"/>
          <p:cNvSpPr/>
          <p:nvPr/>
        </p:nvSpPr>
        <p:spPr>
          <a:xfrm>
            <a:off x="5364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4"/>
          <p:cNvSpPr/>
          <p:nvPr/>
        </p:nvSpPr>
        <p:spPr>
          <a:xfrm>
            <a:off x="550872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5"/>
          <p:cNvSpPr/>
          <p:nvPr/>
        </p:nvSpPr>
        <p:spPr>
          <a:xfrm>
            <a:off x="5651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6"/>
          <p:cNvSpPr/>
          <p:nvPr/>
        </p:nvSpPr>
        <p:spPr>
          <a:xfrm>
            <a:off x="5796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7"/>
          <p:cNvSpPr/>
          <p:nvPr/>
        </p:nvSpPr>
        <p:spPr>
          <a:xfrm>
            <a:off x="594036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8"/>
          <p:cNvSpPr/>
          <p:nvPr/>
        </p:nvSpPr>
        <p:spPr>
          <a:xfrm>
            <a:off x="608328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644400" y="4776840"/>
            <a:ext cx="711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2"/>
          <p:cNvSpPr/>
          <p:nvPr/>
        </p:nvSpPr>
        <p:spPr>
          <a:xfrm>
            <a:off x="1471680" y="6161040"/>
            <a:ext cx="590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4"/>
          <p:cNvSpPr/>
          <p:nvPr/>
        </p:nvSpPr>
        <p:spPr>
          <a:xfrm>
            <a:off x="6012000" y="1557360"/>
            <a:ext cx="14436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5"/>
          <p:cNvSpPr/>
          <p:nvPr/>
        </p:nvSpPr>
        <p:spPr>
          <a:xfrm>
            <a:off x="6300720" y="765000"/>
            <a:ext cx="14436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6"/>
          <p:cNvSpPr/>
          <p:nvPr/>
        </p:nvSpPr>
        <p:spPr>
          <a:xfrm>
            <a:off x="6588000" y="2492280"/>
            <a:ext cx="14472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7"/>
          <p:cNvSpPr/>
          <p:nvPr/>
        </p:nvSpPr>
        <p:spPr>
          <a:xfrm>
            <a:off x="6732720" y="1916280"/>
            <a:ext cx="144360" cy="1425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8"/>
          <p:cNvSpPr/>
          <p:nvPr/>
        </p:nvSpPr>
        <p:spPr>
          <a:xfrm>
            <a:off x="7020000" y="2997360"/>
            <a:ext cx="144360" cy="1425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9"/>
          <p:cNvSpPr/>
          <p:nvPr/>
        </p:nvSpPr>
        <p:spPr>
          <a:xfrm>
            <a:off x="6300720" y="3860640"/>
            <a:ext cx="14436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0"/>
          <p:cNvSpPr/>
          <p:nvPr/>
        </p:nvSpPr>
        <p:spPr>
          <a:xfrm>
            <a:off x="5651640" y="3645000"/>
            <a:ext cx="14436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1"/>
          <p:cNvSpPr/>
          <p:nvPr/>
        </p:nvSpPr>
        <p:spPr>
          <a:xfrm>
            <a:off x="5867280" y="3284640"/>
            <a:ext cx="14472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2"/>
          <p:cNvSpPr/>
          <p:nvPr/>
        </p:nvSpPr>
        <p:spPr>
          <a:xfrm>
            <a:off x="5867280" y="4076640"/>
            <a:ext cx="14472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214200" y="479736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УПРАВЛЕНИЕ  КАЧЕСТВОМ ОБРАЗОВА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СОВРЕМЕНН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 flipV="1">
            <a:off x="1763640" y="1548360"/>
            <a:ext cx="554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ценка качества образования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60560" y="2205000"/>
            <a:ext cx="718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внутренний и внешний ауди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общественная эксперт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3"/>
          <p:cNvGrpSpPr/>
          <p:nvPr/>
        </p:nvGrpSpPr>
        <p:grpSpPr>
          <a:xfrm>
            <a:off x="395280" y="-17640"/>
            <a:ext cx="8137080" cy="1231920"/>
            <a:chOff x="395280" y="-17640"/>
            <a:chExt cx="8137080" cy="1231920"/>
          </a:xfrm>
        </p:grpSpPr>
        <p:sp>
          <p:nvSpPr>
            <p:cNvPr id="189" name="Rectangle 14"/>
            <p:cNvSpPr/>
            <p:nvPr/>
          </p:nvSpPr>
          <p:spPr>
            <a:xfrm>
              <a:off x="395280" y="1146600"/>
              <a:ext cx="2905560" cy="6732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2865240" y="1214280"/>
              <a:ext cx="56671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300840" y="1148040"/>
              <a:ext cx="52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7"/>
            <p:cNvSpPr/>
            <p:nvPr/>
          </p:nvSpPr>
          <p:spPr>
            <a:xfrm>
              <a:off x="395280" y="549000"/>
              <a:ext cx="1234800" cy="33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974880" y="748800"/>
              <a:ext cx="655200" cy="39924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9"/>
            <p:cNvSpPr/>
            <p:nvPr/>
          </p:nvSpPr>
          <p:spPr>
            <a:xfrm rot="2751600">
              <a:off x="775440" y="124920"/>
              <a:ext cx="570960" cy="410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Стрелка вниз 2"/>
          <p:cNvSpPr/>
          <p:nvPr/>
        </p:nvSpPr>
        <p:spPr>
          <a:xfrm>
            <a:off x="4103640" y="1328760"/>
            <a:ext cx="865080" cy="799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95280" y="5157720"/>
            <a:ext cx="813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Arial Black"/>
              </a:rPr>
              <a:t>рейтингования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Black"/>
              </a:rPr>
              <a:t>        </a:t>
            </a:r>
            <a:r>
              <a:rPr b="0" lang="ru-RU" sz="3200" spc="-1" strike="noStrike">
                <a:solidFill>
                  <a:srgbClr val="0070c0"/>
                </a:solidFill>
                <a:latin typeface="Arial Black"/>
              </a:rPr>
              <a:t>рекрининг     бренчмаркинг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14"/>
          <p:cNvSpPr/>
          <p:nvPr/>
        </p:nvSpPr>
        <p:spPr>
          <a:xfrm>
            <a:off x="4103640" y="4257720"/>
            <a:ext cx="865080" cy="798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3300480" y="3228840"/>
            <a:ext cx="27939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                  </a:t>
            </a:r>
            <a:r>
              <a:rPr b="0" lang="ru-RU" sz="3600" spc="-1" strike="noStrike">
                <a:solidFill>
                  <a:srgbClr val="990099"/>
                </a:solidFill>
                <a:latin typeface="Arial Black"/>
              </a:rPr>
              <a:t>МЕТ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1" name="image21.jpeg" descr=""/>
          <p:cNvPicPr/>
          <p:nvPr/>
        </p:nvPicPr>
        <p:blipFill>
          <a:blip r:embed="rId2"/>
          <a:srcRect l="1493" t="3773" r="19720" b="57665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4" name="image25.jpeg" descr=""/>
          <p:cNvPicPr/>
          <p:nvPr/>
        </p:nvPicPr>
        <p:blipFill>
          <a:blip r:embed="rId2"/>
          <a:srcRect l="1049" t="3776" r="19957" b="57104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«Решение педагогической ситу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0" y="-6120"/>
            <a:ext cx="8532360" cy="1490040"/>
            <a:chOff x="0" y="-6120"/>
            <a:chExt cx="8532360" cy="1490040"/>
          </a:xfrm>
        </p:grpSpPr>
        <p:sp>
          <p:nvSpPr>
            <p:cNvPr id="207" name="Rectangle 5"/>
            <p:cNvSpPr/>
            <p:nvPr/>
          </p:nvSpPr>
          <p:spPr>
            <a:xfrm>
              <a:off x="0" y="1400760"/>
              <a:ext cx="3046680" cy="8316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2589840" y="1483920"/>
              <a:ext cx="59425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3046680" y="1402920"/>
              <a:ext cx="548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0" y="665280"/>
              <a:ext cx="1294920" cy="410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7680" y="911160"/>
              <a:ext cx="686880" cy="49140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 rot="2751600">
              <a:off x="347040" y="180720"/>
              <a:ext cx="702720" cy="4298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Прямоугольник 6"/>
          <p:cNvSpPr/>
          <p:nvPr/>
        </p:nvSpPr>
        <p:spPr>
          <a:xfrm>
            <a:off x="287280" y="1628640"/>
            <a:ext cx="8450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Алгоритм решения педагогическ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рочесть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Дать описание ситуации кратко: чём суть случившего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Выделить противоречия, породившие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Выделить возможные причины ситуации, не менее трё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Сформулировать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Определить задачи по решению проблемы (нескольк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Предложить несколько вариантов решения ситуации: в момент случившегося   и на перспективу (потом, в дальнейш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Аргументировать своё решение с разных позиций – психологической,  педагогической, социальной, медицинской и других. Можно привести  аргументы в форме цитирования великих педагогов, известных учёных,   подобными ситуациями из произведений и филь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219" name="image26.jpeg" descr=""/>
          <p:cNvPicPr/>
          <p:nvPr/>
        </p:nvPicPr>
        <p:blipFill>
          <a:blip r:embed="rId2"/>
          <a:srcRect l="2480" t="3497" r="20081" b="57151"/>
          <a:stretch/>
        </p:blipFill>
        <p:spPr>
          <a:xfrm>
            <a:off x="22320" y="-30240"/>
            <a:ext cx="912168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225" name="image28.jpeg" descr=""/>
          <p:cNvPicPr/>
          <p:nvPr/>
        </p:nvPicPr>
        <p:blipFill>
          <a:blip r:embed="rId2"/>
          <a:srcRect l="2227" t="3497" r="19830" b="57482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Эффективность управления качеством образов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222840" y="80640"/>
            <a:ext cx="8165160" cy="1445040"/>
            <a:chOff x="222840" y="80640"/>
            <a:chExt cx="8165160" cy="1445040"/>
          </a:xfrm>
        </p:grpSpPr>
        <p:sp>
          <p:nvSpPr>
            <p:cNvPr id="228" name="Rectangle 5"/>
            <p:cNvSpPr/>
            <p:nvPr/>
          </p:nvSpPr>
          <p:spPr>
            <a:xfrm>
              <a:off x="323640" y="1452600"/>
              <a:ext cx="2879640" cy="730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>
              <a:off x="2771640" y="1525680"/>
              <a:ext cx="5616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3203280" y="1454400"/>
              <a:ext cx="518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264960" y="963720"/>
              <a:ext cx="649080" cy="43164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0"/>
            <p:cNvSpPr/>
            <p:nvPr/>
          </p:nvSpPr>
          <p:spPr>
            <a:xfrm rot="2751600">
              <a:off x="274680" y="240480"/>
              <a:ext cx="617760" cy="4064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14" descr="https://avatars.mds.yandex.net/get-zen_doc/1244179/pub_5ddecdef0d13017d4ff77bf1_5de213545ba2b500adf08236/scale_1200"/>
          <p:cNvPicPr/>
          <p:nvPr/>
        </p:nvPicPr>
        <p:blipFill>
          <a:blip r:embed="rId1"/>
          <a:srcRect l="2986" t="9108" r="2230" b="3603"/>
          <a:stretch/>
        </p:blipFill>
        <p:spPr>
          <a:xfrm>
            <a:off x="492120" y="1392120"/>
            <a:ext cx="8400960" cy="54532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2"/>
          <p:cNvSpPr/>
          <p:nvPr/>
        </p:nvSpPr>
        <p:spPr>
          <a:xfrm>
            <a:off x="2411280" y="2565360"/>
            <a:ext cx="4200480" cy="133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целенаправл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стемность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опера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инноваци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https://myslide.ru/documents_4/90232723628fad176b4355538e78119c/img5.jpg"/>
          <p:cNvPicPr/>
          <p:nvPr/>
        </p:nvPicPr>
        <p:blipFill>
          <a:blip r:embed="rId1"/>
          <a:srcRect l="0" t="82557" r="0" b="0"/>
          <a:stretch/>
        </p:blipFill>
        <p:spPr>
          <a:xfrm>
            <a:off x="28440" y="5819760"/>
            <a:ext cx="9115560" cy="10382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3"/>
          <p:cNvSpPr/>
          <p:nvPr/>
        </p:nvSpPr>
        <p:spPr>
          <a:xfrm>
            <a:off x="154080" y="189000"/>
            <a:ext cx="8864640" cy="1008000"/>
          </a:xfrm>
          <a:prstGeom prst="roundRect">
            <a:avLst>
              <a:gd name="adj" fmla="val 16667"/>
            </a:avLst>
          </a:prstGeom>
          <a:solidFill>
            <a:srgbClr val="99ccff">
              <a:alpha val="32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еспечение высокого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право 4"/>
          <p:cNvSpPr/>
          <p:nvPr/>
        </p:nvSpPr>
        <p:spPr>
          <a:xfrm rot="5400000">
            <a:off x="4226040" y="1430280"/>
            <a:ext cx="720720" cy="57456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28840" y="2246400"/>
            <a:ext cx="8146800" cy="768240"/>
          </a:xfrm>
          <a:prstGeom prst="rect">
            <a:avLst/>
          </a:prstGeom>
          <a:solidFill>
            <a:srgbClr val="99ccff">
              <a:alpha val="35000"/>
            </a:srgbClr>
          </a:solidFill>
          <a:ln w="381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ибкость и нелинейность  организационных форм производства и социальной 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5"/>
          <p:cNvSpPr/>
          <p:nvPr/>
        </p:nvSpPr>
        <p:spPr>
          <a:xfrm>
            <a:off x="471600" y="3284640"/>
            <a:ext cx="8229600" cy="10080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ереход управления экономическими и социальными процессами на электронные информационно-коммуникационны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5"/>
          <p:cNvSpPr/>
          <p:nvPr/>
        </p:nvSpPr>
        <p:spPr>
          <a:xfrm>
            <a:off x="471600" y="4724280"/>
            <a:ext cx="8229600" cy="109548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ереориентация социальной политики российского государства на  воспроизводство и развитие человеческ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 flipV="1">
            <a:off x="1763640" y="1548360"/>
            <a:ext cx="554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442800" y="915120"/>
            <a:ext cx="8064360" cy="967680"/>
            <a:chOff x="442800" y="915120"/>
            <a:chExt cx="8064360" cy="967680"/>
          </a:xfrm>
        </p:grpSpPr>
        <p:sp>
          <p:nvSpPr>
            <p:cNvPr id="102" name="Rectangle 6"/>
            <p:cNvSpPr/>
            <p:nvPr/>
          </p:nvSpPr>
          <p:spPr>
            <a:xfrm>
              <a:off x="442800" y="1831320"/>
              <a:ext cx="2879640" cy="5112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2890800" y="1882800"/>
              <a:ext cx="5616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3322440" y="1832760"/>
              <a:ext cx="518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442800" y="1378080"/>
              <a:ext cx="1224000" cy="2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1017360" y="1529640"/>
              <a:ext cx="649440" cy="30276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1"/>
            <p:cNvSpPr/>
            <p:nvPr/>
          </p:nvSpPr>
          <p:spPr>
            <a:xfrm rot="2751600">
              <a:off x="886320" y="1008720"/>
              <a:ext cx="433080" cy="4064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оугольник 1"/>
          <p:cNvSpPr/>
          <p:nvPr/>
        </p:nvSpPr>
        <p:spPr>
          <a:xfrm>
            <a:off x="2050920" y="255600"/>
            <a:ext cx="66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правлять — значит, предвидеть,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рганизовывать, распоряжаться,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оординировать и контроли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. Фай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"/>
          <p:cNvSpPr/>
          <p:nvPr/>
        </p:nvSpPr>
        <p:spPr>
          <a:xfrm>
            <a:off x="1882800" y="1940040"/>
            <a:ext cx="5425920" cy="4608360"/>
          </a:xfrm>
          <a:prstGeom prst="ellipse">
            <a:avLst/>
          </a:prstGeom>
          <a:solidFill>
            <a:srgbClr val="99ccff">
              <a:alpha val="2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 Black"/>
              </a:rPr>
              <a:t>ПЛАН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 </a:t>
            </a: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 Black"/>
              </a:rPr>
              <a:t>Д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-Что делать?                    -Делайте то,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что и как 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-Как делать?                    запланирова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-В какие сро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 Black"/>
              </a:rPr>
              <a:t>ВОЗДЕЙСТВИЕ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ru-RU" sz="1600" spc="-1" strike="noStrike" u="sng">
                <a:solidFill>
                  <a:srgbClr val="0033cc"/>
                </a:solidFill>
                <a:uFillTx/>
                <a:latin typeface="Arial Black"/>
              </a:rPr>
              <a:t>КОНТ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-Как улучшить                 -Результатив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ледующий раз?          -Эффектив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4"/>
          <p:cNvSpPr/>
          <p:nvPr/>
        </p:nvSpPr>
        <p:spPr>
          <a:xfrm>
            <a:off x="4595760" y="194004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1882800" y="4245120"/>
            <a:ext cx="542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гнутая вверх стрелка 16"/>
          <p:cNvSpPr/>
          <p:nvPr/>
        </p:nvSpPr>
        <p:spPr>
          <a:xfrm>
            <a:off x="3970440" y="1940040"/>
            <a:ext cx="1295280" cy="720720"/>
          </a:xfrm>
          <a:custGeom>
            <a:avLst/>
            <a:gdLst>
              <a:gd name="textAreaLeft" fmla="*/ 256320 w 1295280"/>
              <a:gd name="textAreaRight" fmla="*/ 948960 w 12952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50" hR="21600" stAng="10800000" swAng="5400000"/>
                <a:lnTo>
                  <a:pt x="11550" y="0"/>
                </a:lnTo>
                <a:arcTo wR="8550" hR="21600" stAng="-5400000" swAng="3413035"/>
                <a:lnTo>
                  <a:pt x="21329" y="16200"/>
                </a:lnTo>
                <a:lnTo>
                  <a:pt x="18600" y="21600"/>
                </a:lnTo>
                <a:lnTo>
                  <a:pt x="15329" y="16200"/>
                </a:lnTo>
                <a:lnTo>
                  <a:pt x="16829" y="16200"/>
                </a:lnTo>
                <a:arcTo wR="8550" hR="21600" stAng="-1986965" swAng="-3170942"/>
                <a:lnTo>
                  <a:pt x="10050" y="335"/>
                </a:lnTo>
                <a:arcTo wR="8550" hR="21600" stAng="-5642092" swAng="-5157908"/>
                <a:close/>
              </a:path>
              <a:path fill="darkenLess" w="21600" h="21600">
                <a:moveTo>
                  <a:pt x="0" y="21600"/>
                </a:moveTo>
                <a:arcTo wR="8550" hR="21600" stAng="10800000" swAng="5400000"/>
                <a:lnTo>
                  <a:pt x="8550" y="0"/>
                </a:lnTo>
                <a:arcTo wR="8550" hR="21600" stAng="-5400000" swAng="242092"/>
                <a:lnTo>
                  <a:pt x="10050" y="335"/>
                </a:lnTo>
                <a:arcTo wR="8550" hR="21600" stAng="-5642092" swAng="-5157908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Выгнутая вверх стрелка 27"/>
          <p:cNvSpPr/>
          <p:nvPr/>
        </p:nvSpPr>
        <p:spPr>
          <a:xfrm rot="5400000">
            <a:off x="6215400" y="3783600"/>
            <a:ext cx="1015920" cy="639720"/>
          </a:xfrm>
          <a:custGeom>
            <a:avLst/>
            <a:gdLst>
              <a:gd name="textAreaLeft" fmla="*/ 194040 w 1015920"/>
              <a:gd name="textAreaRight" fmla="*/ 741960 w 101592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50" hR="21600" stAng="10800000" swAng="5400000"/>
                <a:lnTo>
                  <a:pt x="11651" y="0"/>
                </a:lnTo>
                <a:arcTo wR="8250" hR="21600" stAng="-5400000" swAng="3356354"/>
                <a:lnTo>
                  <a:pt x="21338" y="16200"/>
                </a:lnTo>
                <a:lnTo>
                  <a:pt x="18200" y="21600"/>
                </a:lnTo>
                <a:lnTo>
                  <a:pt x="14537" y="16200"/>
                </a:lnTo>
                <a:lnTo>
                  <a:pt x="16237" y="16200"/>
                </a:lnTo>
                <a:arcTo wR="8250" hR="21600" stAng="-2043646" swAng="-3080366"/>
                <a:lnTo>
                  <a:pt x="9950" y="464"/>
                </a:lnTo>
                <a:arcTo wR="8250" hR="21600" stAng="-5675988" swAng="-5124012"/>
                <a:close/>
              </a:path>
              <a:path fill="darkenLess" w="21600" h="21600">
                <a:moveTo>
                  <a:pt x="0" y="21600"/>
                </a:moveTo>
                <a:arcTo wR="8250" hR="21600" stAng="10800000" swAng="5400000"/>
                <a:lnTo>
                  <a:pt x="8250" y="0"/>
                </a:lnTo>
                <a:arcTo wR="8250" hR="21600" stAng="-5400000" swAng="275988"/>
                <a:lnTo>
                  <a:pt x="9950" y="464"/>
                </a:lnTo>
                <a:arcTo wR="8250" hR="21600" stAng="-5675988" swAng="-5124012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Выгнутая вверх стрелка 28"/>
          <p:cNvSpPr/>
          <p:nvPr/>
        </p:nvSpPr>
        <p:spPr>
          <a:xfrm rot="10576800">
            <a:off x="3947760" y="5785920"/>
            <a:ext cx="1295280" cy="720720"/>
          </a:xfrm>
          <a:custGeom>
            <a:avLst/>
            <a:gdLst>
              <a:gd name="textAreaLeft" fmla="*/ 256320 w 1295280"/>
              <a:gd name="textAreaRight" fmla="*/ 948960 w 12952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50" hR="21600" stAng="10800000" swAng="5400000"/>
                <a:lnTo>
                  <a:pt x="11550" y="0"/>
                </a:lnTo>
                <a:arcTo wR="8550" hR="21600" stAng="-5400000" swAng="3413035"/>
                <a:lnTo>
                  <a:pt x="21329" y="16200"/>
                </a:lnTo>
                <a:lnTo>
                  <a:pt x="18600" y="21600"/>
                </a:lnTo>
                <a:lnTo>
                  <a:pt x="15329" y="16200"/>
                </a:lnTo>
                <a:lnTo>
                  <a:pt x="16829" y="16200"/>
                </a:lnTo>
                <a:arcTo wR="8550" hR="21600" stAng="-1986965" swAng="-3170942"/>
                <a:lnTo>
                  <a:pt x="10050" y="335"/>
                </a:lnTo>
                <a:arcTo wR="8550" hR="21600" stAng="-5642092" swAng="-5157908"/>
                <a:close/>
              </a:path>
              <a:path fill="darkenLess" w="21600" h="21600">
                <a:moveTo>
                  <a:pt x="0" y="21600"/>
                </a:moveTo>
                <a:arcTo wR="8550" hR="21600" stAng="10800000" swAng="5400000"/>
                <a:lnTo>
                  <a:pt x="8550" y="0"/>
                </a:lnTo>
                <a:arcTo wR="8550" hR="21600" stAng="-5400000" swAng="242092"/>
                <a:lnTo>
                  <a:pt x="10050" y="335"/>
                </a:lnTo>
                <a:arcTo wR="8550" hR="21600" stAng="-5642092" swAng="-5157908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ыгнутая вверх стрелка 29"/>
          <p:cNvSpPr/>
          <p:nvPr/>
        </p:nvSpPr>
        <p:spPr>
          <a:xfrm rot="15958200">
            <a:off x="1733040" y="3924000"/>
            <a:ext cx="1017720" cy="639720"/>
          </a:xfrm>
          <a:custGeom>
            <a:avLst/>
            <a:gdLst>
              <a:gd name="textAreaLeft" fmla="*/ 194400 w 1017720"/>
              <a:gd name="textAreaRight" fmla="*/ 743400 w 101772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50" hR="21600" stAng="10800000" swAng="5400000"/>
                <a:lnTo>
                  <a:pt x="11651" y="0"/>
                </a:lnTo>
                <a:arcTo wR="8250" hR="21600" stAng="-5400000" swAng="3356354"/>
                <a:lnTo>
                  <a:pt x="21338" y="16200"/>
                </a:lnTo>
                <a:lnTo>
                  <a:pt x="18200" y="21600"/>
                </a:lnTo>
                <a:lnTo>
                  <a:pt x="14537" y="16200"/>
                </a:lnTo>
                <a:lnTo>
                  <a:pt x="16237" y="16200"/>
                </a:lnTo>
                <a:arcTo wR="8250" hR="21600" stAng="-2043646" swAng="-3080366"/>
                <a:lnTo>
                  <a:pt x="9950" y="464"/>
                </a:lnTo>
                <a:arcTo wR="8250" hR="21600" stAng="-5675988" swAng="-5124012"/>
                <a:close/>
              </a:path>
              <a:path fill="darkenLess" w="21600" h="21600">
                <a:moveTo>
                  <a:pt x="0" y="21600"/>
                </a:moveTo>
                <a:arcTo wR="8250" hR="21600" stAng="10800000" swAng="5400000"/>
                <a:lnTo>
                  <a:pt x="8250" y="0"/>
                </a:lnTo>
                <a:arcTo wR="8250" hR="21600" stAng="-5400000" swAng="275988"/>
                <a:lnTo>
                  <a:pt x="9950" y="464"/>
                </a:lnTo>
                <a:arcTo wR="8250" hR="21600" stAng="-5675988" swAng="-5124012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 flipV="1">
            <a:off x="2124000" y="563040"/>
            <a:ext cx="55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395280" y="141840"/>
            <a:ext cx="8137080" cy="1435680"/>
            <a:chOff x="395280" y="141840"/>
            <a:chExt cx="8137080" cy="1435680"/>
          </a:xfrm>
        </p:grpSpPr>
        <p:sp>
          <p:nvSpPr>
            <p:cNvPr id="118" name="Rectangle 4"/>
            <p:cNvSpPr/>
            <p:nvPr/>
          </p:nvSpPr>
          <p:spPr>
            <a:xfrm>
              <a:off x="395280" y="1497600"/>
              <a:ext cx="2905560" cy="7992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>
              <a:off x="2865240" y="1577520"/>
              <a:ext cx="56671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3300840" y="1499400"/>
              <a:ext cx="52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395280" y="788040"/>
              <a:ext cx="123480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8"/>
            <p:cNvSpPr/>
            <p:nvPr/>
          </p:nvSpPr>
          <p:spPr>
            <a:xfrm>
              <a:off x="974880" y="1025280"/>
              <a:ext cx="655200" cy="47412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9"/>
            <p:cNvSpPr/>
            <p:nvPr/>
          </p:nvSpPr>
          <p:spPr>
            <a:xfrm rot="2751600">
              <a:off x="722160" y="322560"/>
              <a:ext cx="677520" cy="410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411280" y="473040"/>
            <a:ext cx="7005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Модель управления качеством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             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"/>
          <p:cNvSpPr/>
          <p:nvPr/>
        </p:nvSpPr>
        <p:spPr>
          <a:xfrm>
            <a:off x="1447920" y="1822320"/>
            <a:ext cx="6362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ОЕКТИРОВАНИЕ  И  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6"/>
          <p:cNvSpPr/>
          <p:nvPr/>
        </p:nvSpPr>
        <p:spPr>
          <a:xfrm rot="10800000">
            <a:off x="4188960" y="4397040"/>
            <a:ext cx="879480" cy="43812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1463760" y="4221000"/>
            <a:ext cx="2147760" cy="68436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ОНИТОРИНГ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8"/>
          <p:cNvSpPr/>
          <p:nvPr/>
        </p:nvSpPr>
        <p:spPr>
          <a:xfrm>
            <a:off x="5643720" y="4216320"/>
            <a:ext cx="2038320" cy="68904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ПРАВЛ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АЧ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гнутая вправо стрелка 4"/>
          <p:cNvSpPr/>
          <p:nvPr/>
        </p:nvSpPr>
        <p:spPr>
          <a:xfrm>
            <a:off x="7682040" y="2790720"/>
            <a:ext cx="982440" cy="1657440"/>
          </a:xfrm>
          <a:custGeom>
            <a:avLst/>
            <a:gdLst>
              <a:gd name="textAreaLeft" fmla="*/ 131400 w 982440"/>
              <a:gd name="textAreaRight" fmla="*/ 851040 w 982440"/>
              <a:gd name="textAreaTop" fmla="*/ 322200 h 1657440"/>
              <a:gd name="textAreaBottom" fmla="*/ 12124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98" stAng="-5400000" swAng="5400000"/>
                <a:lnTo>
                  <a:pt x="21600" y="11602"/>
                </a:lnTo>
                <a:arcTo wR="21600" hR="8398" stAng="0" swAng="3384622"/>
                <a:lnTo>
                  <a:pt x="5400" y="21333"/>
                </a:lnTo>
                <a:lnTo>
                  <a:pt x="0" y="18397"/>
                </a:lnTo>
                <a:lnTo>
                  <a:pt x="5400" y="14927"/>
                </a:lnTo>
                <a:lnTo>
                  <a:pt x="5400" y="16528"/>
                </a:lnTo>
                <a:arcTo wR="21600" hR="8398" stAng="3384622" swAng="-3125378"/>
                <a:lnTo>
                  <a:pt x="21203" y="10000"/>
                </a:lnTo>
                <a:arcTo wR="21600" hR="8398" stAng="-259244" swAng="-5140756"/>
                <a:close/>
              </a:path>
              <a:path fill="darkenLess" w="21600" h="21600">
                <a:moveTo>
                  <a:pt x="0" y="0"/>
                </a:moveTo>
                <a:arcTo wR="21600" hR="8398" stAng="-5400000" swAng="5400000"/>
                <a:lnTo>
                  <a:pt x="21600" y="11602"/>
                </a:lnTo>
                <a:arcTo wR="21600" hR="8398" stAng="0" swAng="-259244"/>
                <a:lnTo>
                  <a:pt x="21203" y="10000"/>
                </a:lnTo>
                <a:arcTo wR="21600" hR="8398" stAng="-259244" swAng="-5140756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гнутая вправо стрелка 20"/>
          <p:cNvSpPr/>
          <p:nvPr/>
        </p:nvSpPr>
        <p:spPr>
          <a:xfrm flipH="1">
            <a:off x="510480" y="2708280"/>
            <a:ext cx="971640" cy="1657440"/>
          </a:xfrm>
          <a:custGeom>
            <a:avLst/>
            <a:gdLst>
              <a:gd name="textAreaLeft" fmla="*/ 129960 w 971640"/>
              <a:gd name="textAreaRight" fmla="*/ 841680 w 971640"/>
              <a:gd name="textAreaTop" fmla="*/ 323280 h 1657440"/>
              <a:gd name="textAreaBottom" fmla="*/ 12128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27" stAng="-5400000" swAng="5400000"/>
                <a:lnTo>
                  <a:pt x="21600" y="11592"/>
                </a:lnTo>
                <a:arcTo wR="21600" hR="8427" stAng="0" swAng="3390080"/>
                <a:lnTo>
                  <a:pt x="5400" y="21332"/>
                </a:lnTo>
                <a:lnTo>
                  <a:pt x="0" y="18436"/>
                </a:lnTo>
                <a:lnTo>
                  <a:pt x="5400" y="15003"/>
                </a:lnTo>
                <a:lnTo>
                  <a:pt x="5400" y="16585"/>
                </a:lnTo>
                <a:arcTo wR="21600" hR="8427" stAng="3390080" swAng="-3134129"/>
                <a:lnTo>
                  <a:pt x="21216" y="10009"/>
                </a:lnTo>
                <a:arcTo wR="21600" hR="8427" stAng="-255951" swAng="-5144049"/>
                <a:close/>
              </a:path>
              <a:path fill="darkenLess" w="21600" h="21600">
                <a:moveTo>
                  <a:pt x="0" y="0"/>
                </a:moveTo>
                <a:arcTo wR="21600" hR="8427" stAng="-5400000" swAng="5400000"/>
                <a:lnTo>
                  <a:pt x="21600" y="11592"/>
                </a:lnTo>
                <a:arcTo wR="21600" hR="8427" stAng="0" swAng="-255951"/>
                <a:lnTo>
                  <a:pt x="21216" y="10009"/>
                </a:lnTo>
                <a:arcTo wR="21600" hR="8427" stAng="-255951" swAng="-5144049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395280" y="17280"/>
            <a:ext cx="8137080" cy="1704960"/>
            <a:chOff x="395280" y="17280"/>
            <a:chExt cx="8137080" cy="1704960"/>
          </a:xfrm>
        </p:grpSpPr>
        <p:sp>
          <p:nvSpPr>
            <p:cNvPr id="132" name="Rectangle 5"/>
            <p:cNvSpPr/>
            <p:nvPr/>
          </p:nvSpPr>
          <p:spPr>
            <a:xfrm>
              <a:off x="395280" y="1625400"/>
              <a:ext cx="2905560" cy="968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2865240" y="1722240"/>
              <a:ext cx="56671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3300840" y="1627920"/>
              <a:ext cx="52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395280" y="768240"/>
              <a:ext cx="1234800" cy="477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9"/>
            <p:cNvSpPr/>
            <p:nvPr/>
          </p:nvSpPr>
          <p:spPr>
            <a:xfrm>
              <a:off x="974880" y="1054800"/>
              <a:ext cx="655200" cy="57276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0"/>
            <p:cNvSpPr/>
            <p:nvPr/>
          </p:nvSpPr>
          <p:spPr>
            <a:xfrm rot="2751600">
              <a:off x="651600" y="248760"/>
              <a:ext cx="819000" cy="410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Прямоугольник 1"/>
          <p:cNvSpPr/>
          <p:nvPr/>
        </p:nvSpPr>
        <p:spPr>
          <a:xfrm>
            <a:off x="2068560" y="128520"/>
            <a:ext cx="726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Высокое качество не достигается случайно, это всегда результат осмысленных стараний...                                  Д. Рас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200160" y="172872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Цель управления качеством образования: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беспечение необходимых условий предоставления качественной образовательной услуги, отвечающей запросам и ожиданиям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с двумя вырезанными противолежащими углами 5"/>
          <p:cNvSpPr/>
          <p:nvPr/>
        </p:nvSpPr>
        <p:spPr>
          <a:xfrm>
            <a:off x="379440" y="3141720"/>
            <a:ext cx="3816360" cy="934920"/>
          </a:xfrm>
          <a:prstGeom prst="pie">
            <a:avLst/>
          </a:prstGeom>
          <a:solidFill>
            <a:srgbClr val="ffff00">
              <a:alpha val="67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ия  эффективност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с двумя вырезанными противолежащими углами 17"/>
          <p:cNvSpPr/>
          <p:nvPr/>
        </p:nvSpPr>
        <p:spPr>
          <a:xfrm>
            <a:off x="4719600" y="3141720"/>
            <a:ext cx="4029120" cy="934920"/>
          </a:xfrm>
          <a:prstGeom prst="pie">
            <a:avLst/>
          </a:prstGeom>
          <a:solidFill>
            <a:srgbClr val="ffff00">
              <a:alpha val="58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я творческой и деятельной 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с двумя вырезанными противолежащими углами 18"/>
          <p:cNvSpPr/>
          <p:nvPr/>
        </p:nvSpPr>
        <p:spPr>
          <a:xfrm>
            <a:off x="414360" y="4437000"/>
            <a:ext cx="4270320" cy="936720"/>
          </a:xfrm>
          <a:prstGeom prst="pie">
            <a:avLst/>
          </a:prstGeom>
          <a:solidFill>
            <a:srgbClr val="ffff00">
              <a:alpha val="48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учшение системы управления в общеобразовательном учре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с двумя вырезанными противолежащими углами 19"/>
          <p:cNvSpPr/>
          <p:nvPr/>
        </p:nvSpPr>
        <p:spPr>
          <a:xfrm>
            <a:off x="4932360" y="4373640"/>
            <a:ext cx="3816360" cy="936720"/>
          </a:xfrm>
          <a:prstGeom prst="pie">
            <a:avLst/>
          </a:prstGeom>
          <a:solidFill>
            <a:srgbClr val="ffff00">
              <a:alpha val="6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тимизации финансового, ресурсного и кадрового 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с двумя вырезанными противолежащими углами 20"/>
          <p:cNvSpPr/>
          <p:nvPr/>
        </p:nvSpPr>
        <p:spPr>
          <a:xfrm>
            <a:off x="2776680" y="5589720"/>
            <a:ext cx="3816360" cy="934920"/>
          </a:xfrm>
          <a:prstGeom prst="pie">
            <a:avLst/>
          </a:prstGeom>
          <a:solidFill>
            <a:srgbClr val="ffff00">
              <a:alpha val="36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я современных безопасны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"/>
          <p:cNvGrpSpPr/>
          <p:nvPr/>
        </p:nvGrpSpPr>
        <p:grpSpPr>
          <a:xfrm>
            <a:off x="324000" y="-90360"/>
            <a:ext cx="8137080" cy="852480"/>
            <a:chOff x="324000" y="-90360"/>
            <a:chExt cx="8137080" cy="852480"/>
          </a:xfrm>
        </p:grpSpPr>
        <p:sp>
          <p:nvSpPr>
            <p:cNvPr id="146" name="Rectangle 5"/>
            <p:cNvSpPr/>
            <p:nvPr/>
          </p:nvSpPr>
          <p:spPr>
            <a:xfrm>
              <a:off x="324000" y="718200"/>
              <a:ext cx="2905560" cy="4392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793960" y="762120"/>
              <a:ext cx="56671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3229560" y="719280"/>
              <a:ext cx="52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324000" y="328680"/>
              <a:ext cx="1234800" cy="21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903600" y="459000"/>
              <a:ext cx="655200" cy="26028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"/>
            <p:cNvSpPr/>
            <p:nvPr/>
          </p:nvSpPr>
          <p:spPr>
            <a:xfrm rot="2751600">
              <a:off x="803880" y="-19080"/>
              <a:ext cx="371880" cy="410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Прямоугольник 12"/>
          <p:cNvSpPr/>
          <p:nvPr/>
        </p:nvSpPr>
        <p:spPr>
          <a:xfrm>
            <a:off x="831960" y="6111720"/>
            <a:ext cx="7615080" cy="5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ff"/>
                </a:solidFill>
                <a:latin typeface="Arial Black"/>
              </a:rPr>
              <a:t>Взаимовыгодные отношения с поставщиками рес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3"/>
          <p:cNvSpPr/>
          <p:nvPr/>
        </p:nvSpPr>
        <p:spPr>
          <a:xfrm>
            <a:off x="1409760" y="5589720"/>
            <a:ext cx="6468840" cy="52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 Black"/>
              </a:rPr>
              <a:t>Принятие решений, основанных на фак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4"/>
          <p:cNvSpPr/>
          <p:nvPr/>
        </p:nvSpPr>
        <p:spPr>
          <a:xfrm>
            <a:off x="1776240" y="5072040"/>
            <a:ext cx="5740560" cy="517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 Black"/>
              </a:rPr>
              <a:t>Постоянное  улучшение 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5"/>
          <p:cNvSpPr/>
          <p:nvPr/>
        </p:nvSpPr>
        <p:spPr>
          <a:xfrm>
            <a:off x="2050920" y="4676760"/>
            <a:ext cx="5042160" cy="355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Системный подход к у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6"/>
          <p:cNvSpPr/>
          <p:nvPr/>
        </p:nvSpPr>
        <p:spPr>
          <a:xfrm>
            <a:off x="2411280" y="4319640"/>
            <a:ext cx="4248360" cy="35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Процессны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7"/>
          <p:cNvSpPr/>
          <p:nvPr/>
        </p:nvSpPr>
        <p:spPr>
          <a:xfrm>
            <a:off x="2624040" y="3963960"/>
            <a:ext cx="3826080" cy="355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 Black"/>
              </a:rPr>
              <a:t>Вовлечение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8"/>
          <p:cNvSpPr/>
          <p:nvPr/>
        </p:nvSpPr>
        <p:spPr>
          <a:xfrm>
            <a:off x="2736720" y="3608280"/>
            <a:ext cx="3600720" cy="355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 Black"/>
              </a:rPr>
              <a:t>Лидерство руков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9"/>
          <p:cNvSpPr/>
          <p:nvPr/>
        </p:nvSpPr>
        <p:spPr>
          <a:xfrm>
            <a:off x="3228840" y="2289240"/>
            <a:ext cx="2616480" cy="12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Ориентация на потребителя образовательн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"/>
          <p:cNvSpPr/>
          <p:nvPr/>
        </p:nvSpPr>
        <p:spPr>
          <a:xfrm>
            <a:off x="2916360" y="773280"/>
            <a:ext cx="3456000" cy="150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УПРАВЛЕНИЕ КАЧЕСТВОМ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https://distant.sev.msu.ru/pluginfile.php/15503/course/overviewfiles/78003.jpg"/>
          <p:cNvPicPr/>
          <p:nvPr/>
        </p:nvPicPr>
        <p:blipFill>
          <a:blip r:embed="rId1"/>
          <a:stretch/>
        </p:blipFill>
        <p:spPr>
          <a:xfrm>
            <a:off x="727200" y="26654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https://thumbs.dreamstime.com/z/%D0%B1%D0%BE-%D1%8C%D1%88%D0%B0%D1%8F-%D1%82%D0%BE-%D0%BF%D0%B0-%D1%80%D0%B0%D0%B7-%D0%B8%D1%87%D0%BD%D1%8B%D1%85-%D1%8E-%D0%B5%D0%B9-%D1%81%D1%82%D0%BE%D0%B8%D1%82-%D0%BD%D0%B0-%D0%B1%D0%B5-%D0%B8%D0%B7%D0%BD%D0%B5-50825277.jpg"/>
          <p:cNvPicPr/>
          <p:nvPr/>
        </p:nvPicPr>
        <p:blipFill>
          <a:blip r:embed="rId2"/>
          <a:srcRect l="0" t="15387" r="0" b="25118"/>
          <a:stretch/>
        </p:blipFill>
        <p:spPr>
          <a:xfrm>
            <a:off x="324000" y="189000"/>
            <a:ext cx="3155760" cy="15382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95200" y="1727280"/>
            <a:ext cx="35290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качество образования соотносят с развитием индивидуальности их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https://i1.wp.com/kalykal.ru/wp-content/uploads/2020/05/2020-05-29-11-47-19-scaled.jpg?resize=2048%2C1365"/>
          <p:cNvPicPr/>
          <p:nvPr/>
        </p:nvPicPr>
        <p:blipFill>
          <a:blip r:embed="rId3"/>
          <a:srcRect l="2643" t="31744" r="3614" b="30693"/>
          <a:stretch/>
        </p:blipFill>
        <p:spPr>
          <a:xfrm>
            <a:off x="4884840" y="392040"/>
            <a:ext cx="4236840" cy="11318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9"/>
          <p:cNvSpPr/>
          <p:nvPr/>
        </p:nvSpPr>
        <p:spPr>
          <a:xfrm>
            <a:off x="5238720" y="1704960"/>
            <a:ext cx="3529080" cy="86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качество образования связано с внутришкольным клима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0"/>
          <p:cNvSpPr/>
          <p:nvPr/>
        </p:nvSpPr>
        <p:spPr>
          <a:xfrm>
            <a:off x="368280" y="5086440"/>
            <a:ext cx="3816360" cy="79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наличие качественного учебного плана, учебн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static7.depositphotos.com/1002709/779/i/950/depositphotos_7793243-stock-photo-conceptual-image-of-teamwork.jpg"/>
          <p:cNvPicPr/>
          <p:nvPr/>
        </p:nvPicPr>
        <p:blipFill>
          <a:blip r:embed="rId4"/>
          <a:srcRect l="0" t="8689" r="0" b="6683"/>
          <a:stretch/>
        </p:blipFill>
        <p:spPr>
          <a:xfrm>
            <a:off x="4944960" y="2690640"/>
            <a:ext cx="3832200" cy="22924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2"/>
          <p:cNvSpPr/>
          <p:nvPr/>
        </p:nvSpPr>
        <p:spPr>
          <a:xfrm>
            <a:off x="5249880" y="5095800"/>
            <a:ext cx="3527280" cy="60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ценностные ориен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s://cdn.pixabay.com/photo/2019/03/30/14/06/online-4091231_1280.jpg"/>
          <p:cNvPicPr/>
          <p:nvPr/>
        </p:nvPicPr>
        <p:blipFill>
          <a:blip r:embed="rId2"/>
          <a:srcRect l="8412" t="7408" r="5079" b="3491"/>
          <a:stretch/>
        </p:blipFill>
        <p:spPr>
          <a:xfrm>
            <a:off x="0" y="0"/>
            <a:ext cx="9144000" cy="7062840"/>
          </a:xfrm>
          <a:prstGeom prst="rect">
            <a:avLst/>
          </a:prstGeom>
          <a:ln w="0">
            <a:noFill/>
          </a:ln>
        </p:spPr>
      </p:pic>
      <p:sp>
        <p:nvSpPr>
          <p:cNvPr id="172" name="Скругленный прямоугольник 3"/>
          <p:cNvSpPr/>
          <p:nvPr/>
        </p:nvSpPr>
        <p:spPr>
          <a:xfrm>
            <a:off x="1332000" y="3646440"/>
            <a:ext cx="28796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КВАЛИФИЦИРОВАННЫЙ ПЕДАГОГИЧЕСКИЙ СО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2340000" y="2205000"/>
            <a:ext cx="222876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 Black"/>
              </a:rPr>
              <a:t>НОВЫЕ ПЕДАГОГИЧЕСКИ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6"/>
          <p:cNvSpPr/>
          <p:nvPr/>
        </p:nvSpPr>
        <p:spPr>
          <a:xfrm>
            <a:off x="4716360" y="2205000"/>
            <a:ext cx="2303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 Black"/>
              </a:rPr>
              <a:t>БЛАГОПРИЯТНЫЕ УСЛОВИЯ ДЛЯ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7"/>
          <p:cNvSpPr/>
          <p:nvPr/>
        </p:nvSpPr>
        <p:spPr>
          <a:xfrm>
            <a:off x="5580000" y="3646440"/>
            <a:ext cx="2160720" cy="86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66"/>
                </a:solidFill>
                <a:latin typeface="Arial Black"/>
              </a:rPr>
              <a:t>БЛАГОПРИЯТНАЯ СРЕДА 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сновные  направления 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        управления качеством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управления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проводимых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учебных достижений учащихся в соответствии с их уровнем обучаемости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Достижение  максимально  высоких результатов итоговой и промежуточной  аттестации, включая результаты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Сохранение и укрепление здоровья учащихся, улучшение уровня психологического климата в  классах   и школе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работы со школьной документацией (журналы, личные дела, дневники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организации учебно-воспит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Высокие достижения учащихся, учителей и коллектива школы в творческих конкурсах, соревнованиях, олимпи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108000" y="72720"/>
            <a:ext cx="8856360" cy="1670040"/>
            <a:chOff x="108000" y="72720"/>
            <a:chExt cx="8856360" cy="1670040"/>
          </a:xfrm>
        </p:grpSpPr>
        <p:sp>
          <p:nvSpPr>
            <p:cNvPr id="179" name="Rectangle 5"/>
            <p:cNvSpPr/>
            <p:nvPr/>
          </p:nvSpPr>
          <p:spPr>
            <a:xfrm>
              <a:off x="108000" y="1648800"/>
              <a:ext cx="3162240" cy="9396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2796480" y="1742760"/>
              <a:ext cx="6167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"/>
            <p:cNvSpPr/>
            <p:nvPr/>
          </p:nvSpPr>
          <p:spPr>
            <a:xfrm>
              <a:off x="3270240" y="1651320"/>
              <a:ext cx="569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108000" y="817560"/>
              <a:ext cx="1344240" cy="463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9"/>
            <p:cNvSpPr/>
            <p:nvPr/>
          </p:nvSpPr>
          <p:spPr>
            <a:xfrm>
              <a:off x="738720" y="1095480"/>
              <a:ext cx="713160" cy="55548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0"/>
            <p:cNvSpPr/>
            <p:nvPr/>
          </p:nvSpPr>
          <p:spPr>
            <a:xfrm rot="2751600">
              <a:off x="435600" y="289800"/>
              <a:ext cx="793800" cy="446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9:50:13Z</dcterms:created>
  <dc:creator>K-27</dc:creator>
  <dc:description/>
  <dc:language>en-US</dc:language>
  <cp:lastModifiedBy>Пользователь</cp:lastModifiedBy>
  <dcterms:modified xsi:type="dcterms:W3CDTF">2022-03-29T15:56:23Z</dcterms:modified>
  <cp:revision>297</cp:revision>
  <dc:subject/>
  <dc:title>Слайд 1</dc:title>
</cp:coreProperties>
</file>