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52CB-17EF-474B-8668-1FE2BC50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E816-7E20-4094-A7DF-184058AF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8FED-5113-420E-8882-3530248B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4E0F-BA93-41FA-B0F0-E03A9549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2D24-128A-4A03-B05C-BB16D549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E2E-A47B-4A1A-B463-B3A6EC0F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4EFF-D225-4178-B7AF-378F4724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E244-7D88-491A-86CB-6FC72170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A7FD-EEF9-419E-8FE1-C6E2FB7F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9EFF-9AC3-4AB4-9963-E62056DF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AB3-E9F4-4D0F-AD2D-1ADA29CB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86E5-B17C-4686-A667-201819EB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351C-B71B-4623-9D39-F0DE533F99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0"/>
          <p:cNvGraphicFramePr/>
          <p:nvPr/>
        </p:nvGraphicFramePr>
        <p:xfrm>
          <a:off x="1258920" y="1438200"/>
          <a:ext cx="2592360" cy="22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38200"/>
                    <a:ext cx="2592360" cy="22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AutoShape 5"/>
          <p:cNvSpPr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_s14342"/>
          <p:cNvSpPr/>
          <p:nvPr/>
        </p:nvSpPr>
        <p:spPr>
          <a:xfrm>
            <a:off x="826920" y="777960"/>
            <a:ext cx="3795840" cy="3794040"/>
          </a:xfrm>
          <a:custGeom>
            <a:avLst/>
            <a:gdLst>
              <a:gd name="textAreaLeft" fmla="*/ 1216800 w 3795840"/>
              <a:gd name="textAreaRight" fmla="*/ 2579040 w 3795840"/>
              <a:gd name="textAreaTop" fmla="*/ 0 h 3794040"/>
              <a:gd name="textAreaBottom" fmla="*/ 639720 h 3794040"/>
            </a:gdLst>
            <a:ahLst/>
            <a:rect l="textAreaLeft" t="textAreaTop" r="textAreaRight" b="textAreaBottom"/>
            <a:pathLst>
              <a:path w="21600" h="21600">
                <a:moveTo>
                  <a:pt x="9251" y="3290"/>
                </a:moveTo>
                <a:cubicBezTo>
                  <a:pt x="9760" y="3184"/>
                  <a:pt x="10279" y="3131"/>
                  <a:pt x="10800" y="3132"/>
                </a:cubicBezTo>
                <a:cubicBezTo>
                  <a:pt x="11320" y="3132"/>
                  <a:pt x="11839" y="3184"/>
                  <a:pt x="12348" y="3290"/>
                </a:cubicBezTo>
                <a:lnTo>
                  <a:pt x="12981" y="222"/>
                </a:lnTo>
                <a:cubicBezTo>
                  <a:pt x="12263" y="74"/>
                  <a:pt x="11532" y="-1"/>
                  <a:pt x="10799" y="0"/>
                </a:cubicBezTo>
                <a:cubicBezTo>
                  <a:pt x="10067" y="0"/>
                  <a:pt x="9336" y="74"/>
                  <a:pt x="8618" y="222"/>
                </a:cubicBezTo>
                <a:lnTo>
                  <a:pt x="9251" y="329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_s14343"/>
          <p:cNvSpPr/>
          <p:nvPr/>
        </p:nvSpPr>
        <p:spPr>
          <a:xfrm rot="5400000">
            <a:off x="838800" y="1002240"/>
            <a:ext cx="3794040" cy="3795840"/>
          </a:xfrm>
          <a:custGeom>
            <a:avLst/>
            <a:gdLst>
              <a:gd name="textAreaLeft" fmla="*/ 1109520 w 3794040"/>
              <a:gd name="textAreaRight" fmla="*/ 2684520 w 3794040"/>
              <a:gd name="textAreaTop" fmla="*/ 0 h 3795840"/>
              <a:gd name="textAreaBottom" fmla="*/ 628560 h 3795840"/>
            </a:gdLst>
            <a:ahLst/>
            <a:rect l="textAreaLeft" t="textAreaTop" r="textAreaRight" b="textAreaBottom"/>
            <a:pathLst>
              <a:path w="21600" h="21600">
                <a:moveTo>
                  <a:pt x="8766" y="3125"/>
                </a:moveTo>
                <a:cubicBezTo>
                  <a:pt x="9429" y="2950"/>
                  <a:pt x="10113" y="2860"/>
                  <a:pt x="10800" y="2861"/>
                </a:cubicBezTo>
                <a:cubicBezTo>
                  <a:pt x="11486" y="2861"/>
                  <a:pt x="12170" y="2950"/>
                  <a:pt x="12833" y="3125"/>
                </a:cubicBezTo>
                <a:lnTo>
                  <a:pt x="13566" y="360"/>
                </a:lnTo>
                <a:cubicBezTo>
                  <a:pt x="12663" y="121"/>
                  <a:pt x="11733" y="-1"/>
                  <a:pt x="10799" y="0"/>
                </a:cubicBezTo>
                <a:cubicBezTo>
                  <a:pt x="9866" y="0"/>
                  <a:pt x="8936" y="121"/>
                  <a:pt x="8033" y="360"/>
                </a:cubicBezTo>
                <a:lnTo>
                  <a:pt x="8766" y="312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_s14344"/>
          <p:cNvSpPr/>
          <p:nvPr/>
        </p:nvSpPr>
        <p:spPr>
          <a:xfrm rot="10800000">
            <a:off x="826920" y="777600"/>
            <a:ext cx="3795840" cy="3794040"/>
          </a:xfrm>
          <a:custGeom>
            <a:avLst/>
            <a:gdLst>
              <a:gd name="textAreaLeft" fmla="*/ 1164600 w 3795840"/>
              <a:gd name="textAreaRight" fmla="*/ 2631240 w 3795840"/>
              <a:gd name="textAreaTop" fmla="*/ 0 h 3794040"/>
              <a:gd name="textAreaBottom" fmla="*/ 618480 h 3794040"/>
            </a:gdLst>
            <a:ahLst/>
            <a:rect l="textAreaLeft" t="textAreaTop" r="textAreaRight" b="textAreaBottom"/>
            <a:pathLst>
              <a:path w="21600" h="21600">
                <a:moveTo>
                  <a:pt x="8997" y="3117"/>
                </a:moveTo>
                <a:cubicBezTo>
                  <a:pt x="9588" y="2979"/>
                  <a:pt x="10193" y="2908"/>
                  <a:pt x="10800" y="2909"/>
                </a:cubicBezTo>
                <a:cubicBezTo>
                  <a:pt x="11406" y="2909"/>
                  <a:pt x="12011" y="2979"/>
                  <a:pt x="12602" y="3117"/>
                </a:cubicBezTo>
                <a:lnTo>
                  <a:pt x="13267" y="285"/>
                </a:lnTo>
                <a:cubicBezTo>
                  <a:pt x="12458" y="95"/>
                  <a:pt x="11630" y="-1"/>
                  <a:pt x="10799" y="0"/>
                </a:cubicBezTo>
                <a:cubicBezTo>
                  <a:pt x="9969" y="0"/>
                  <a:pt x="9141" y="95"/>
                  <a:pt x="8332" y="285"/>
                </a:cubicBezTo>
                <a:lnTo>
                  <a:pt x="8997" y="3117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_s14345"/>
          <p:cNvSpPr/>
          <p:nvPr/>
        </p:nvSpPr>
        <p:spPr>
          <a:xfrm rot="16200000">
            <a:off x="838800" y="425520"/>
            <a:ext cx="3794040" cy="3795840"/>
          </a:xfrm>
          <a:custGeom>
            <a:avLst/>
            <a:gdLst>
              <a:gd name="textAreaLeft" fmla="*/ 1067040 w 3794040"/>
              <a:gd name="textAreaRight" fmla="*/ 2727000 w 3794040"/>
              <a:gd name="textAreaTop" fmla="*/ 0 h 3795840"/>
              <a:gd name="textAreaBottom" fmla="*/ 671040 h 3795840"/>
            </a:gdLst>
            <a:ahLst/>
            <a:rect l="textAreaLeft" t="textAreaTop" r="textAreaRight" b="textAreaBottom"/>
            <a:pathLst>
              <a:path w="21600" h="21600">
                <a:moveTo>
                  <a:pt x="8640" y="3342"/>
                </a:moveTo>
                <a:cubicBezTo>
                  <a:pt x="9342" y="3139"/>
                  <a:pt x="10069" y="3035"/>
                  <a:pt x="10800" y="3036"/>
                </a:cubicBezTo>
                <a:cubicBezTo>
                  <a:pt x="11530" y="3036"/>
                  <a:pt x="12257" y="3139"/>
                  <a:pt x="12959" y="3342"/>
                </a:cubicBezTo>
                <a:lnTo>
                  <a:pt x="13804" y="426"/>
                </a:lnTo>
                <a:cubicBezTo>
                  <a:pt x="12828" y="143"/>
                  <a:pt x="11816" y="-1"/>
                  <a:pt x="10799" y="0"/>
                </a:cubicBezTo>
                <a:cubicBezTo>
                  <a:pt x="9783" y="0"/>
                  <a:pt x="8771" y="143"/>
                  <a:pt x="7795" y="426"/>
                </a:cubicBezTo>
                <a:lnTo>
                  <a:pt x="8640" y="334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_s14346"/>
          <p:cNvSpPr/>
          <p:nvPr/>
        </p:nvSpPr>
        <p:spPr>
          <a:xfrm>
            <a:off x="1074600" y="1015920"/>
            <a:ext cx="973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_s14347"/>
          <p:cNvSpPr/>
          <p:nvPr/>
        </p:nvSpPr>
        <p:spPr>
          <a:xfrm>
            <a:off x="984240" y="846000"/>
            <a:ext cx="973080" cy="97344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_s14348"/>
          <p:cNvSpPr/>
          <p:nvPr/>
        </p:nvSpPr>
        <p:spPr>
          <a:xfrm>
            <a:off x="3424320" y="3362400"/>
            <a:ext cx="973080" cy="973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_s14349"/>
          <p:cNvSpPr/>
          <p:nvPr/>
        </p:nvSpPr>
        <p:spPr>
          <a:xfrm>
            <a:off x="3422520" y="1014480"/>
            <a:ext cx="973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_s14347"/>
          <p:cNvSpPr/>
          <p:nvPr/>
        </p:nvSpPr>
        <p:spPr>
          <a:xfrm>
            <a:off x="984240" y="3436920"/>
            <a:ext cx="973080" cy="9730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_s14347"/>
          <p:cNvSpPr/>
          <p:nvPr/>
        </p:nvSpPr>
        <p:spPr>
          <a:xfrm>
            <a:off x="3575160" y="846000"/>
            <a:ext cx="973080" cy="97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0"/>
          <p:cNvSpPr/>
          <p:nvPr/>
        </p:nvSpPr>
        <p:spPr>
          <a:xfrm>
            <a:off x="622764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1"/>
          <p:cNvSpPr/>
          <p:nvPr/>
        </p:nvSpPr>
        <p:spPr>
          <a:xfrm>
            <a:off x="637236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2"/>
          <p:cNvSpPr/>
          <p:nvPr/>
        </p:nvSpPr>
        <p:spPr>
          <a:xfrm>
            <a:off x="651672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3"/>
          <p:cNvSpPr/>
          <p:nvPr/>
        </p:nvSpPr>
        <p:spPr>
          <a:xfrm>
            <a:off x="665964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4"/>
          <p:cNvSpPr/>
          <p:nvPr/>
        </p:nvSpPr>
        <p:spPr>
          <a:xfrm>
            <a:off x="680400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5"/>
          <p:cNvSpPr/>
          <p:nvPr/>
        </p:nvSpPr>
        <p:spPr>
          <a:xfrm>
            <a:off x="694836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6"/>
          <p:cNvSpPr/>
          <p:nvPr/>
        </p:nvSpPr>
        <p:spPr>
          <a:xfrm>
            <a:off x="709128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7"/>
          <p:cNvSpPr/>
          <p:nvPr/>
        </p:nvSpPr>
        <p:spPr>
          <a:xfrm>
            <a:off x="723600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8"/>
          <p:cNvSpPr/>
          <p:nvPr/>
        </p:nvSpPr>
        <p:spPr>
          <a:xfrm>
            <a:off x="738036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9"/>
          <p:cNvSpPr/>
          <p:nvPr/>
        </p:nvSpPr>
        <p:spPr>
          <a:xfrm>
            <a:off x="752328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0"/>
          <p:cNvSpPr/>
          <p:nvPr/>
        </p:nvSpPr>
        <p:spPr>
          <a:xfrm>
            <a:off x="766764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1"/>
          <p:cNvSpPr/>
          <p:nvPr/>
        </p:nvSpPr>
        <p:spPr>
          <a:xfrm>
            <a:off x="781200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2"/>
          <p:cNvSpPr/>
          <p:nvPr/>
        </p:nvSpPr>
        <p:spPr>
          <a:xfrm>
            <a:off x="7956720" y="476280"/>
            <a:ext cx="0" cy="60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3"/>
          <p:cNvSpPr/>
          <p:nvPr/>
        </p:nvSpPr>
        <p:spPr>
          <a:xfrm>
            <a:off x="8101080" y="476280"/>
            <a:ext cx="0" cy="60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4"/>
          <p:cNvSpPr/>
          <p:nvPr/>
        </p:nvSpPr>
        <p:spPr>
          <a:xfrm>
            <a:off x="8245440" y="476280"/>
            <a:ext cx="0" cy="6048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5"/>
          <p:cNvSpPr/>
          <p:nvPr/>
        </p:nvSpPr>
        <p:spPr>
          <a:xfrm>
            <a:off x="8388360" y="476280"/>
            <a:ext cx="0" cy="60483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6"/>
          <p:cNvSpPr/>
          <p:nvPr/>
        </p:nvSpPr>
        <p:spPr>
          <a:xfrm>
            <a:off x="8532720" y="476280"/>
            <a:ext cx="0" cy="6048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7"/>
          <p:cNvSpPr/>
          <p:nvPr/>
        </p:nvSpPr>
        <p:spPr>
          <a:xfrm>
            <a:off x="8677440" y="476280"/>
            <a:ext cx="0" cy="60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9"/>
          <p:cNvSpPr/>
          <p:nvPr/>
        </p:nvSpPr>
        <p:spPr>
          <a:xfrm>
            <a:off x="478800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0"/>
          <p:cNvSpPr/>
          <p:nvPr/>
        </p:nvSpPr>
        <p:spPr>
          <a:xfrm>
            <a:off x="4932360" y="476280"/>
            <a:ext cx="0" cy="40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1"/>
          <p:cNvSpPr/>
          <p:nvPr/>
        </p:nvSpPr>
        <p:spPr>
          <a:xfrm>
            <a:off x="5076720" y="476280"/>
            <a:ext cx="0" cy="403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2"/>
          <p:cNvSpPr/>
          <p:nvPr/>
        </p:nvSpPr>
        <p:spPr>
          <a:xfrm>
            <a:off x="521964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3"/>
          <p:cNvSpPr/>
          <p:nvPr/>
        </p:nvSpPr>
        <p:spPr>
          <a:xfrm>
            <a:off x="536400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4"/>
          <p:cNvSpPr/>
          <p:nvPr/>
        </p:nvSpPr>
        <p:spPr>
          <a:xfrm>
            <a:off x="550872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5"/>
          <p:cNvSpPr/>
          <p:nvPr/>
        </p:nvSpPr>
        <p:spPr>
          <a:xfrm>
            <a:off x="565164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6"/>
          <p:cNvSpPr/>
          <p:nvPr/>
        </p:nvSpPr>
        <p:spPr>
          <a:xfrm>
            <a:off x="579600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7"/>
          <p:cNvSpPr/>
          <p:nvPr/>
        </p:nvSpPr>
        <p:spPr>
          <a:xfrm>
            <a:off x="594036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8"/>
          <p:cNvSpPr/>
          <p:nvPr/>
        </p:nvSpPr>
        <p:spPr>
          <a:xfrm>
            <a:off x="6083280" y="476280"/>
            <a:ext cx="0" cy="403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1"/>
          <p:cNvSpPr/>
          <p:nvPr/>
        </p:nvSpPr>
        <p:spPr>
          <a:xfrm>
            <a:off x="644400" y="4776840"/>
            <a:ext cx="711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2"/>
          <p:cNvSpPr/>
          <p:nvPr/>
        </p:nvSpPr>
        <p:spPr>
          <a:xfrm>
            <a:off x="1471680" y="6161040"/>
            <a:ext cx="5904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4"/>
          <p:cNvSpPr/>
          <p:nvPr/>
        </p:nvSpPr>
        <p:spPr>
          <a:xfrm>
            <a:off x="6012000" y="1557360"/>
            <a:ext cx="144360" cy="1429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65"/>
          <p:cNvSpPr/>
          <p:nvPr/>
        </p:nvSpPr>
        <p:spPr>
          <a:xfrm>
            <a:off x="6300720" y="765000"/>
            <a:ext cx="144360" cy="1429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6"/>
          <p:cNvSpPr/>
          <p:nvPr/>
        </p:nvSpPr>
        <p:spPr>
          <a:xfrm>
            <a:off x="6588000" y="2492280"/>
            <a:ext cx="144720" cy="1429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67"/>
          <p:cNvSpPr/>
          <p:nvPr/>
        </p:nvSpPr>
        <p:spPr>
          <a:xfrm>
            <a:off x="6732720" y="1916280"/>
            <a:ext cx="144360" cy="1425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8"/>
          <p:cNvSpPr/>
          <p:nvPr/>
        </p:nvSpPr>
        <p:spPr>
          <a:xfrm>
            <a:off x="7020000" y="2997360"/>
            <a:ext cx="144360" cy="1425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9"/>
          <p:cNvSpPr/>
          <p:nvPr/>
        </p:nvSpPr>
        <p:spPr>
          <a:xfrm>
            <a:off x="6300720" y="3860640"/>
            <a:ext cx="144360" cy="1429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0"/>
          <p:cNvSpPr/>
          <p:nvPr/>
        </p:nvSpPr>
        <p:spPr>
          <a:xfrm>
            <a:off x="5651640" y="3645000"/>
            <a:ext cx="144360" cy="1429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71"/>
          <p:cNvSpPr/>
          <p:nvPr/>
        </p:nvSpPr>
        <p:spPr>
          <a:xfrm>
            <a:off x="5867280" y="3284640"/>
            <a:ext cx="144720" cy="1429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2"/>
          <p:cNvSpPr/>
          <p:nvPr/>
        </p:nvSpPr>
        <p:spPr>
          <a:xfrm>
            <a:off x="5867280" y="4076640"/>
            <a:ext cx="144720" cy="1429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214200" y="4797360"/>
            <a:ext cx="80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УПРАВЛЕНИЕ  КАЧЕСТВОМ ОБРАЗОВА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СОВРЕМЕННОЙ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 flipV="1">
            <a:off x="1763640" y="1548360"/>
            <a:ext cx="554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            </a:t>
            </a: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Оценка качества образования</a:t>
            </a:r>
            <a:r>
              <a:rPr b="0" lang="ru-RU" sz="28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60560" y="2205000"/>
            <a:ext cx="718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 Black"/>
              </a:rPr>
              <a:t>внутренний и внешний аудит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008000"/>
                </a:solidFill>
                <a:latin typeface="Arial Black"/>
              </a:rPr>
              <a:t>общественная эксперт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3"/>
          <p:cNvGrpSpPr/>
          <p:nvPr/>
        </p:nvGrpSpPr>
        <p:grpSpPr>
          <a:xfrm>
            <a:off x="395280" y="-17640"/>
            <a:ext cx="8137080" cy="1231920"/>
            <a:chOff x="395280" y="-17640"/>
            <a:chExt cx="8137080" cy="1231920"/>
          </a:xfrm>
        </p:grpSpPr>
        <p:sp>
          <p:nvSpPr>
            <p:cNvPr id="189" name="Rectangle 14"/>
            <p:cNvSpPr/>
            <p:nvPr/>
          </p:nvSpPr>
          <p:spPr>
            <a:xfrm>
              <a:off x="395280" y="1146600"/>
              <a:ext cx="2905560" cy="6732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>
              <a:off x="2865240" y="1214280"/>
              <a:ext cx="566712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6"/>
            <p:cNvSpPr/>
            <p:nvPr/>
          </p:nvSpPr>
          <p:spPr>
            <a:xfrm>
              <a:off x="3300840" y="1148040"/>
              <a:ext cx="5231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7"/>
            <p:cNvSpPr/>
            <p:nvPr/>
          </p:nvSpPr>
          <p:spPr>
            <a:xfrm>
              <a:off x="395280" y="549000"/>
              <a:ext cx="1234800" cy="33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8"/>
            <p:cNvSpPr/>
            <p:nvPr/>
          </p:nvSpPr>
          <p:spPr>
            <a:xfrm>
              <a:off x="974880" y="748800"/>
              <a:ext cx="655200" cy="399240"/>
            </a:xfrm>
            <a:prstGeom prst="flowChartInputOutpu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9"/>
            <p:cNvSpPr/>
            <p:nvPr/>
          </p:nvSpPr>
          <p:spPr>
            <a:xfrm rot="2751600">
              <a:off x="775440" y="124920"/>
              <a:ext cx="570960" cy="41004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Стрелка вниз 2"/>
          <p:cNvSpPr/>
          <p:nvPr/>
        </p:nvSpPr>
        <p:spPr>
          <a:xfrm>
            <a:off x="4103640" y="1328760"/>
            <a:ext cx="865080" cy="799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66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95280" y="5157720"/>
            <a:ext cx="813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70c0"/>
                </a:solidFill>
                <a:latin typeface="Arial Black"/>
              </a:rPr>
              <a:t>рейтингования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 Black"/>
              </a:rPr>
              <a:t>        </a:t>
            </a:r>
            <a:r>
              <a:rPr b="0" lang="ru-RU" sz="3200" spc="-1" strike="noStrike">
                <a:solidFill>
                  <a:srgbClr val="0070c0"/>
                </a:solidFill>
                <a:latin typeface="Arial Black"/>
              </a:rPr>
              <a:t>рекрининг     бренчмаркинг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трелка вниз 14"/>
          <p:cNvSpPr/>
          <p:nvPr/>
        </p:nvSpPr>
        <p:spPr>
          <a:xfrm>
            <a:off x="4103640" y="4257720"/>
            <a:ext cx="865080" cy="798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66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3300480" y="3228840"/>
            <a:ext cx="279396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 Black"/>
              </a:rPr>
              <a:t>                  </a:t>
            </a:r>
            <a:r>
              <a:rPr b="0" lang="ru-RU" sz="3600" spc="-1" strike="noStrike">
                <a:solidFill>
                  <a:srgbClr val="990099"/>
                </a:solidFill>
                <a:latin typeface="Arial Black"/>
              </a:rPr>
              <a:t>МЕТ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1" name="image21.jpeg" descr=""/>
          <p:cNvPicPr/>
          <p:nvPr/>
        </p:nvPicPr>
        <p:blipFill>
          <a:blip r:embed="rId2"/>
          <a:srcRect l="1493" t="3773" r="19720" b="57665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4" name="image25.jpeg" descr=""/>
          <p:cNvPicPr/>
          <p:nvPr/>
        </p:nvPicPr>
        <p:blipFill>
          <a:blip r:embed="rId2"/>
          <a:srcRect l="1049" t="3776" r="19957" b="57104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«Решение педагогической ситуац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4"/>
          <p:cNvGrpSpPr/>
          <p:nvPr/>
        </p:nvGrpSpPr>
        <p:grpSpPr>
          <a:xfrm>
            <a:off x="0" y="-6120"/>
            <a:ext cx="8532360" cy="1490040"/>
            <a:chOff x="0" y="-6120"/>
            <a:chExt cx="8532360" cy="1490040"/>
          </a:xfrm>
        </p:grpSpPr>
        <p:sp>
          <p:nvSpPr>
            <p:cNvPr id="207" name="Rectangle 5"/>
            <p:cNvSpPr/>
            <p:nvPr/>
          </p:nvSpPr>
          <p:spPr>
            <a:xfrm>
              <a:off x="0" y="1400760"/>
              <a:ext cx="3046680" cy="8316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"/>
            <p:cNvSpPr/>
            <p:nvPr/>
          </p:nvSpPr>
          <p:spPr>
            <a:xfrm>
              <a:off x="2589840" y="1483920"/>
              <a:ext cx="594252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"/>
            <p:cNvSpPr/>
            <p:nvPr/>
          </p:nvSpPr>
          <p:spPr>
            <a:xfrm>
              <a:off x="3046680" y="1402920"/>
              <a:ext cx="548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0" y="665280"/>
              <a:ext cx="1294920" cy="410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9"/>
            <p:cNvSpPr/>
            <p:nvPr/>
          </p:nvSpPr>
          <p:spPr>
            <a:xfrm>
              <a:off x="607680" y="911160"/>
              <a:ext cx="686880" cy="491400"/>
            </a:xfrm>
            <a:prstGeom prst="flowChartInputOutpu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0"/>
            <p:cNvSpPr/>
            <p:nvPr/>
          </p:nvSpPr>
          <p:spPr>
            <a:xfrm rot="2751600">
              <a:off x="347040" y="180720"/>
              <a:ext cx="702720" cy="42984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Прямоугольник 6"/>
          <p:cNvSpPr/>
          <p:nvPr/>
        </p:nvSpPr>
        <p:spPr>
          <a:xfrm>
            <a:off x="287280" y="1628640"/>
            <a:ext cx="8450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Алгоритм решения педагогическ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Прочесть ситу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Дать описание ситуации кратко: чём суть случившего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Выделить противоречия, породившие пробл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Выделить возможные причины ситуации, не менее трё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Сформулировать пробл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Определить задачи по решению проблемы (нескольк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Предложить несколько вариантов решения ситуации: в момент случившегося   и на перспективу (потом, в дальнейше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Аргументировать своё решение с разных позиций – психологической,  педагогической, социальной, медицинской и других. Можно привести  аргументы в форме цитирования великих педагогов, известных учёных,   подобными ситуациями из произведений и филь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219" name="image26.jpeg" descr=""/>
          <p:cNvPicPr/>
          <p:nvPr/>
        </p:nvPicPr>
        <p:blipFill>
          <a:blip r:embed="rId2"/>
          <a:srcRect l="2480" t="3497" r="20081" b="57151"/>
          <a:stretch/>
        </p:blipFill>
        <p:spPr>
          <a:xfrm>
            <a:off x="22320" y="-30240"/>
            <a:ext cx="9121680" cy="69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225" name="image28.jpeg" descr=""/>
          <p:cNvPicPr/>
          <p:nvPr/>
        </p:nvPicPr>
        <p:blipFill>
          <a:blip r:embed="rId2"/>
          <a:srcRect l="2227" t="3497" r="19830" b="57482"/>
          <a:stretch/>
        </p:blipFill>
        <p:spPr>
          <a:xfrm>
            <a:off x="23760" y="0"/>
            <a:ext cx="912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Эффективность управления качеством образова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4"/>
          <p:cNvGrpSpPr/>
          <p:nvPr/>
        </p:nvGrpSpPr>
        <p:grpSpPr>
          <a:xfrm>
            <a:off x="222840" y="80640"/>
            <a:ext cx="8165160" cy="1445040"/>
            <a:chOff x="222840" y="80640"/>
            <a:chExt cx="8165160" cy="1445040"/>
          </a:xfrm>
        </p:grpSpPr>
        <p:sp>
          <p:nvSpPr>
            <p:cNvPr id="228" name="Rectangle 5"/>
            <p:cNvSpPr/>
            <p:nvPr/>
          </p:nvSpPr>
          <p:spPr>
            <a:xfrm>
              <a:off x="323640" y="1452600"/>
              <a:ext cx="2879640" cy="7308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6"/>
            <p:cNvSpPr/>
            <p:nvPr/>
          </p:nvSpPr>
          <p:spPr>
            <a:xfrm>
              <a:off x="2771640" y="1525680"/>
              <a:ext cx="56163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7"/>
            <p:cNvSpPr/>
            <p:nvPr/>
          </p:nvSpPr>
          <p:spPr>
            <a:xfrm>
              <a:off x="3203280" y="1454400"/>
              <a:ext cx="518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9"/>
            <p:cNvSpPr/>
            <p:nvPr/>
          </p:nvSpPr>
          <p:spPr>
            <a:xfrm>
              <a:off x="264960" y="963720"/>
              <a:ext cx="649080" cy="431640"/>
            </a:xfrm>
            <a:prstGeom prst="flowChartInputOutpu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0"/>
            <p:cNvSpPr/>
            <p:nvPr/>
          </p:nvSpPr>
          <p:spPr>
            <a:xfrm rot="2751600">
              <a:off x="274680" y="240480"/>
              <a:ext cx="617760" cy="40644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Picture 14" descr="https://avatars.mds.yandex.net/get-zen_doc/1244179/pub_5ddecdef0d13017d4ff77bf1_5de213545ba2b500adf08236/scale_1200"/>
          <p:cNvPicPr/>
          <p:nvPr/>
        </p:nvPicPr>
        <p:blipFill>
          <a:blip r:embed="rId1"/>
          <a:srcRect l="2986" t="9108" r="2230" b="3603"/>
          <a:stretch/>
        </p:blipFill>
        <p:spPr>
          <a:xfrm>
            <a:off x="492120" y="1392120"/>
            <a:ext cx="8400960" cy="545328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2"/>
          <p:cNvSpPr/>
          <p:nvPr/>
        </p:nvSpPr>
        <p:spPr>
          <a:xfrm>
            <a:off x="2411280" y="2565360"/>
            <a:ext cx="4200480" cy="1338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целенаправлен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системность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опера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инновацио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3" descr="https://myslide.ru/documents_4/90232723628fad176b4355538e78119c/img5.jpg"/>
          <p:cNvPicPr/>
          <p:nvPr/>
        </p:nvPicPr>
        <p:blipFill>
          <a:blip r:embed="rId1"/>
          <a:srcRect l="0" t="82557" r="0" b="0"/>
          <a:stretch/>
        </p:blipFill>
        <p:spPr>
          <a:xfrm>
            <a:off x="28440" y="5819760"/>
            <a:ext cx="9115560" cy="103824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3"/>
          <p:cNvSpPr/>
          <p:nvPr/>
        </p:nvSpPr>
        <p:spPr>
          <a:xfrm>
            <a:off x="154080" y="189000"/>
            <a:ext cx="8864640" cy="1008000"/>
          </a:xfrm>
          <a:prstGeom prst="roundRect">
            <a:avLst>
              <a:gd name="adj" fmla="val 16667"/>
            </a:avLst>
          </a:prstGeom>
          <a:solidFill>
            <a:srgbClr val="99ccff">
              <a:alpha val="32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Обеспечение высокого качества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трелка вправо 4"/>
          <p:cNvSpPr/>
          <p:nvPr/>
        </p:nvSpPr>
        <p:spPr>
          <a:xfrm rot="5400000">
            <a:off x="4226040" y="1430280"/>
            <a:ext cx="720720" cy="574560"/>
          </a:xfrm>
          <a:prstGeom prst="rightArrow">
            <a:avLst>
              <a:gd name="adj1" fmla="val 50000"/>
              <a:gd name="adj2" fmla="val 50175"/>
            </a:avLst>
          </a:pr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28840" y="2246400"/>
            <a:ext cx="8146800" cy="768240"/>
          </a:xfrm>
          <a:prstGeom prst="rect">
            <a:avLst/>
          </a:prstGeom>
          <a:solidFill>
            <a:srgbClr val="99ccff">
              <a:alpha val="35000"/>
            </a:srgbClr>
          </a:solidFill>
          <a:ln w="381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гибкость и нелинейность  организационных форм производства и социальной сф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бъект 5"/>
          <p:cNvSpPr/>
          <p:nvPr/>
        </p:nvSpPr>
        <p:spPr>
          <a:xfrm>
            <a:off x="471600" y="3284640"/>
            <a:ext cx="8229600" cy="100800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ереход управления экономическими и социальными процессами на электронные информационно-коммуникационные 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бъект 5"/>
          <p:cNvSpPr/>
          <p:nvPr/>
        </p:nvSpPr>
        <p:spPr>
          <a:xfrm>
            <a:off x="471600" y="4724280"/>
            <a:ext cx="8229600" cy="1095480"/>
          </a:xfrm>
          <a:prstGeom prst="roundRect">
            <a:avLst>
              <a:gd name="adj" fmla="val 16667"/>
            </a:avLst>
          </a:prstGeom>
          <a:solidFill>
            <a:srgbClr val="99ccff">
              <a:alpha val="3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ереориентация социальной политики российского государства на  воспроизводство и развитие человеческого капит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 flipV="1">
            <a:off x="1763640" y="1548360"/>
            <a:ext cx="554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442800" y="915120"/>
            <a:ext cx="8064360" cy="967680"/>
            <a:chOff x="442800" y="915120"/>
            <a:chExt cx="8064360" cy="967680"/>
          </a:xfrm>
        </p:grpSpPr>
        <p:sp>
          <p:nvSpPr>
            <p:cNvPr id="102" name="Rectangle 6"/>
            <p:cNvSpPr/>
            <p:nvPr/>
          </p:nvSpPr>
          <p:spPr>
            <a:xfrm>
              <a:off x="442800" y="1831320"/>
              <a:ext cx="2879640" cy="5112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2890800" y="1882800"/>
              <a:ext cx="56163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3322440" y="1832760"/>
              <a:ext cx="518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9"/>
            <p:cNvSpPr/>
            <p:nvPr/>
          </p:nvSpPr>
          <p:spPr>
            <a:xfrm>
              <a:off x="442800" y="1378080"/>
              <a:ext cx="1224000" cy="252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10"/>
            <p:cNvSpPr/>
            <p:nvPr/>
          </p:nvSpPr>
          <p:spPr>
            <a:xfrm>
              <a:off x="1017360" y="1529640"/>
              <a:ext cx="649440" cy="302760"/>
            </a:xfrm>
            <a:prstGeom prst="flowChartInputOutpu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1"/>
            <p:cNvSpPr/>
            <p:nvPr/>
          </p:nvSpPr>
          <p:spPr>
            <a:xfrm rot="2751600">
              <a:off x="886320" y="1008720"/>
              <a:ext cx="433080" cy="40644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Прямоугольник 1"/>
          <p:cNvSpPr/>
          <p:nvPr/>
        </p:nvSpPr>
        <p:spPr>
          <a:xfrm>
            <a:off x="2050920" y="255600"/>
            <a:ext cx="669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Управлять — значит, предвидеть,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рганизовывать, распоряжаться,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координировать и контролир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А. Фай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2"/>
          <p:cNvSpPr/>
          <p:nvPr/>
        </p:nvSpPr>
        <p:spPr>
          <a:xfrm>
            <a:off x="1882800" y="1940040"/>
            <a:ext cx="5425920" cy="4608360"/>
          </a:xfrm>
          <a:prstGeom prst="ellipse">
            <a:avLst/>
          </a:prstGeom>
          <a:solidFill>
            <a:srgbClr val="99ccff">
              <a:alpha val="2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 Black"/>
              </a:rPr>
              <a:t>ПЛАН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               </a:t>
            </a:r>
            <a:r>
              <a:rPr b="1" lang="ru-RU" sz="1600" spc="-1" strike="noStrike" u="sng">
                <a:solidFill>
                  <a:srgbClr val="009900"/>
                </a:solidFill>
                <a:uFillTx/>
                <a:latin typeface="Arial Black"/>
              </a:rPr>
              <a:t>ДЕ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-Что делать?                    -Делайте то,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что и как бы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-Как делать?                    запланирова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-В какие сро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дел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99"/>
                </a:solidFill>
                <a:uFillTx/>
                <a:latin typeface="Arial Black"/>
              </a:rPr>
              <a:t>ВОЗДЕЙСТВИЕ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1" lang="ru-RU" sz="1600" spc="-1" strike="noStrike" u="sng">
                <a:solidFill>
                  <a:srgbClr val="0033cc"/>
                </a:solidFill>
                <a:uFillTx/>
                <a:latin typeface="Arial Black"/>
              </a:rPr>
              <a:t>КОНТРО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-Как улучшить                 -Результативн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 следующий раз?          -Эффективн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4"/>
          <p:cNvSpPr/>
          <p:nvPr/>
        </p:nvSpPr>
        <p:spPr>
          <a:xfrm>
            <a:off x="4595760" y="194004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1882800" y="4245120"/>
            <a:ext cx="542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Выгнутая вверх стрелка 16"/>
          <p:cNvSpPr/>
          <p:nvPr/>
        </p:nvSpPr>
        <p:spPr>
          <a:xfrm>
            <a:off x="3970440" y="1940040"/>
            <a:ext cx="1295280" cy="720720"/>
          </a:xfrm>
          <a:custGeom>
            <a:avLst/>
            <a:gdLst>
              <a:gd name="textAreaLeft" fmla="*/ 256320 w 1295280"/>
              <a:gd name="textAreaRight" fmla="*/ 948960 w 129528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50" hR="21600" stAng="10800000" swAng="5400000"/>
                <a:lnTo>
                  <a:pt x="11550" y="0"/>
                </a:lnTo>
                <a:arcTo wR="8550" hR="21600" stAng="-5400000" swAng="3413035"/>
                <a:lnTo>
                  <a:pt x="21329" y="16200"/>
                </a:lnTo>
                <a:lnTo>
                  <a:pt x="18600" y="21600"/>
                </a:lnTo>
                <a:lnTo>
                  <a:pt x="15329" y="16200"/>
                </a:lnTo>
                <a:lnTo>
                  <a:pt x="16829" y="16200"/>
                </a:lnTo>
                <a:arcTo wR="8550" hR="21600" stAng="-1986965" swAng="-3170942"/>
                <a:lnTo>
                  <a:pt x="10050" y="335"/>
                </a:lnTo>
                <a:arcTo wR="8550" hR="21600" stAng="-5642092" swAng="-5157908"/>
                <a:close/>
              </a:path>
              <a:path fill="darkenLess" w="21600" h="21600">
                <a:moveTo>
                  <a:pt x="0" y="21600"/>
                </a:moveTo>
                <a:arcTo wR="8550" hR="21600" stAng="10800000" swAng="5400000"/>
                <a:lnTo>
                  <a:pt x="8550" y="0"/>
                </a:lnTo>
                <a:arcTo wR="8550" hR="21600" stAng="-5400000" swAng="242092"/>
                <a:lnTo>
                  <a:pt x="10050" y="335"/>
                </a:lnTo>
                <a:arcTo wR="8550" hR="21600" stAng="-5642092" swAng="-5157908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Выгнутая вверх стрелка 27"/>
          <p:cNvSpPr/>
          <p:nvPr/>
        </p:nvSpPr>
        <p:spPr>
          <a:xfrm rot="5400000">
            <a:off x="6215400" y="3783600"/>
            <a:ext cx="1015920" cy="639720"/>
          </a:xfrm>
          <a:custGeom>
            <a:avLst/>
            <a:gdLst>
              <a:gd name="textAreaLeft" fmla="*/ 194040 w 1015920"/>
              <a:gd name="textAreaRight" fmla="*/ 741960 w 101592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50" hR="21600" stAng="10800000" swAng="5400000"/>
                <a:lnTo>
                  <a:pt x="11651" y="0"/>
                </a:lnTo>
                <a:arcTo wR="8250" hR="21600" stAng="-5400000" swAng="3356354"/>
                <a:lnTo>
                  <a:pt x="21338" y="16200"/>
                </a:lnTo>
                <a:lnTo>
                  <a:pt x="18200" y="21600"/>
                </a:lnTo>
                <a:lnTo>
                  <a:pt x="14537" y="16200"/>
                </a:lnTo>
                <a:lnTo>
                  <a:pt x="16237" y="16200"/>
                </a:lnTo>
                <a:arcTo wR="8250" hR="21600" stAng="-2043646" swAng="-3080366"/>
                <a:lnTo>
                  <a:pt x="9950" y="464"/>
                </a:lnTo>
                <a:arcTo wR="8250" hR="21600" stAng="-5675988" swAng="-5124012"/>
                <a:close/>
              </a:path>
              <a:path fill="darkenLess" w="21600" h="21600">
                <a:moveTo>
                  <a:pt x="0" y="21600"/>
                </a:moveTo>
                <a:arcTo wR="8250" hR="21600" stAng="10800000" swAng="5400000"/>
                <a:lnTo>
                  <a:pt x="8250" y="0"/>
                </a:lnTo>
                <a:arcTo wR="8250" hR="21600" stAng="-5400000" swAng="275988"/>
                <a:lnTo>
                  <a:pt x="9950" y="464"/>
                </a:lnTo>
                <a:arcTo wR="8250" hR="21600" stAng="-5675988" swAng="-5124012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Выгнутая вверх стрелка 28"/>
          <p:cNvSpPr/>
          <p:nvPr/>
        </p:nvSpPr>
        <p:spPr>
          <a:xfrm rot="10576800">
            <a:off x="3947760" y="5785920"/>
            <a:ext cx="1295280" cy="720720"/>
          </a:xfrm>
          <a:custGeom>
            <a:avLst/>
            <a:gdLst>
              <a:gd name="textAreaLeft" fmla="*/ 256320 w 1295280"/>
              <a:gd name="textAreaRight" fmla="*/ 948960 w 129528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50" hR="21600" stAng="10800000" swAng="5400000"/>
                <a:lnTo>
                  <a:pt x="11550" y="0"/>
                </a:lnTo>
                <a:arcTo wR="8550" hR="21600" stAng="-5400000" swAng="3413035"/>
                <a:lnTo>
                  <a:pt x="21329" y="16200"/>
                </a:lnTo>
                <a:lnTo>
                  <a:pt x="18600" y="21600"/>
                </a:lnTo>
                <a:lnTo>
                  <a:pt x="15329" y="16200"/>
                </a:lnTo>
                <a:lnTo>
                  <a:pt x="16829" y="16200"/>
                </a:lnTo>
                <a:arcTo wR="8550" hR="21600" stAng="-1986965" swAng="-3170942"/>
                <a:lnTo>
                  <a:pt x="10050" y="335"/>
                </a:lnTo>
                <a:arcTo wR="8550" hR="21600" stAng="-5642092" swAng="-5157908"/>
                <a:close/>
              </a:path>
              <a:path fill="darkenLess" w="21600" h="21600">
                <a:moveTo>
                  <a:pt x="0" y="21600"/>
                </a:moveTo>
                <a:arcTo wR="8550" hR="21600" stAng="10800000" swAng="5400000"/>
                <a:lnTo>
                  <a:pt x="8550" y="0"/>
                </a:lnTo>
                <a:arcTo wR="8550" hR="21600" stAng="-5400000" swAng="242092"/>
                <a:lnTo>
                  <a:pt x="10050" y="335"/>
                </a:lnTo>
                <a:arcTo wR="8550" hR="21600" stAng="-5642092" swAng="-5157908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Выгнутая вверх стрелка 29"/>
          <p:cNvSpPr/>
          <p:nvPr/>
        </p:nvSpPr>
        <p:spPr>
          <a:xfrm rot="15958200">
            <a:off x="1733040" y="3924000"/>
            <a:ext cx="1017720" cy="639720"/>
          </a:xfrm>
          <a:custGeom>
            <a:avLst/>
            <a:gdLst>
              <a:gd name="textAreaLeft" fmla="*/ 194400 w 1017720"/>
              <a:gd name="textAreaRight" fmla="*/ 743400 w 101772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50" hR="21600" stAng="10800000" swAng="5400000"/>
                <a:lnTo>
                  <a:pt x="11651" y="0"/>
                </a:lnTo>
                <a:arcTo wR="8250" hR="21600" stAng="-5400000" swAng="3356354"/>
                <a:lnTo>
                  <a:pt x="21338" y="16200"/>
                </a:lnTo>
                <a:lnTo>
                  <a:pt x="18200" y="21600"/>
                </a:lnTo>
                <a:lnTo>
                  <a:pt x="14537" y="16200"/>
                </a:lnTo>
                <a:lnTo>
                  <a:pt x="16237" y="16200"/>
                </a:lnTo>
                <a:arcTo wR="8250" hR="21600" stAng="-2043646" swAng="-3080366"/>
                <a:lnTo>
                  <a:pt x="9950" y="464"/>
                </a:lnTo>
                <a:arcTo wR="8250" hR="21600" stAng="-5675988" swAng="-5124012"/>
                <a:close/>
              </a:path>
              <a:path fill="darkenLess" w="21600" h="21600">
                <a:moveTo>
                  <a:pt x="0" y="21600"/>
                </a:moveTo>
                <a:arcTo wR="8250" hR="21600" stAng="10800000" swAng="5400000"/>
                <a:lnTo>
                  <a:pt x="8250" y="0"/>
                </a:lnTo>
                <a:arcTo wR="8250" hR="21600" stAng="-5400000" swAng="275988"/>
                <a:lnTo>
                  <a:pt x="9950" y="464"/>
                </a:lnTo>
                <a:arcTo wR="8250" hR="21600" stAng="-5675988" swAng="-5124012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 flipV="1">
            <a:off x="2124000" y="563040"/>
            <a:ext cx="554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"/>
          <p:cNvGrpSpPr/>
          <p:nvPr/>
        </p:nvGrpSpPr>
        <p:grpSpPr>
          <a:xfrm>
            <a:off x="395280" y="141840"/>
            <a:ext cx="8137080" cy="1435680"/>
            <a:chOff x="395280" y="141840"/>
            <a:chExt cx="8137080" cy="1435680"/>
          </a:xfrm>
        </p:grpSpPr>
        <p:sp>
          <p:nvSpPr>
            <p:cNvPr id="118" name="Rectangle 4"/>
            <p:cNvSpPr/>
            <p:nvPr/>
          </p:nvSpPr>
          <p:spPr>
            <a:xfrm>
              <a:off x="395280" y="1497600"/>
              <a:ext cx="2905560" cy="7992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"/>
            <p:cNvSpPr/>
            <p:nvPr/>
          </p:nvSpPr>
          <p:spPr>
            <a:xfrm>
              <a:off x="2865240" y="1577520"/>
              <a:ext cx="566712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3300840" y="1499400"/>
              <a:ext cx="5231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7"/>
            <p:cNvSpPr/>
            <p:nvPr/>
          </p:nvSpPr>
          <p:spPr>
            <a:xfrm>
              <a:off x="395280" y="788040"/>
              <a:ext cx="1234800" cy="3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8"/>
            <p:cNvSpPr/>
            <p:nvPr/>
          </p:nvSpPr>
          <p:spPr>
            <a:xfrm>
              <a:off x="974880" y="1025280"/>
              <a:ext cx="655200" cy="474120"/>
            </a:xfrm>
            <a:prstGeom prst="flowChartInputOutpu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9"/>
            <p:cNvSpPr/>
            <p:nvPr/>
          </p:nvSpPr>
          <p:spPr>
            <a:xfrm rot="2751600">
              <a:off x="722160" y="322560"/>
              <a:ext cx="677520" cy="41004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411280" y="473040"/>
            <a:ext cx="70056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Модель управления качеством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                </a:t>
            </a: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обра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1"/>
          <p:cNvSpPr/>
          <p:nvPr/>
        </p:nvSpPr>
        <p:spPr>
          <a:xfrm>
            <a:off x="1447920" y="1822320"/>
            <a:ext cx="63626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РОЕКТИРОВАНИЕ  И  ПЛАН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трелка вправо 16"/>
          <p:cNvSpPr/>
          <p:nvPr/>
        </p:nvSpPr>
        <p:spPr>
          <a:xfrm rot="10800000">
            <a:off x="4188960" y="4397040"/>
            <a:ext cx="879480" cy="438120"/>
          </a:xfrm>
          <a:prstGeom prst="rightArrow">
            <a:avLst>
              <a:gd name="adj1" fmla="val 50000"/>
              <a:gd name="adj2" fmla="val 49943"/>
            </a:avLst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3"/>
          <p:cNvSpPr/>
          <p:nvPr/>
        </p:nvSpPr>
        <p:spPr>
          <a:xfrm>
            <a:off x="1463760" y="4221000"/>
            <a:ext cx="2147760" cy="684360"/>
          </a:xfrm>
          <a:prstGeom prst="roundRect">
            <a:avLst>
              <a:gd name="adj" fmla="val 16667"/>
            </a:avLst>
          </a:prstGeom>
          <a:solidFill>
            <a:srgbClr val="cecee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ОНИТОРИНГКОРР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18"/>
          <p:cNvSpPr/>
          <p:nvPr/>
        </p:nvSpPr>
        <p:spPr>
          <a:xfrm>
            <a:off x="5643720" y="4216320"/>
            <a:ext cx="2038320" cy="689040"/>
          </a:xfrm>
          <a:prstGeom prst="roundRect">
            <a:avLst>
              <a:gd name="adj" fmla="val 16667"/>
            </a:avLst>
          </a:prstGeom>
          <a:solidFill>
            <a:srgbClr val="cecee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ПРАВЛЕН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КАЧЕ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Выгнутая вправо стрелка 4"/>
          <p:cNvSpPr/>
          <p:nvPr/>
        </p:nvSpPr>
        <p:spPr>
          <a:xfrm>
            <a:off x="7682040" y="2790720"/>
            <a:ext cx="982440" cy="1657440"/>
          </a:xfrm>
          <a:custGeom>
            <a:avLst/>
            <a:gdLst>
              <a:gd name="textAreaLeft" fmla="*/ 131400 w 982440"/>
              <a:gd name="textAreaRight" fmla="*/ 851040 w 982440"/>
              <a:gd name="textAreaTop" fmla="*/ 322200 h 1657440"/>
              <a:gd name="textAreaBottom" fmla="*/ 121248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98" stAng="-5400000" swAng="5400000"/>
                <a:lnTo>
                  <a:pt x="21600" y="11602"/>
                </a:lnTo>
                <a:arcTo wR="21600" hR="8398" stAng="0" swAng="3384622"/>
                <a:lnTo>
                  <a:pt x="5400" y="21333"/>
                </a:lnTo>
                <a:lnTo>
                  <a:pt x="0" y="18397"/>
                </a:lnTo>
                <a:lnTo>
                  <a:pt x="5400" y="14927"/>
                </a:lnTo>
                <a:lnTo>
                  <a:pt x="5400" y="16528"/>
                </a:lnTo>
                <a:arcTo wR="21600" hR="8398" stAng="3384622" swAng="-3125378"/>
                <a:lnTo>
                  <a:pt x="21203" y="10000"/>
                </a:lnTo>
                <a:arcTo wR="21600" hR="8398" stAng="-259244" swAng="-5140756"/>
                <a:close/>
              </a:path>
              <a:path fill="darkenLess" w="21600" h="21600">
                <a:moveTo>
                  <a:pt x="0" y="0"/>
                </a:moveTo>
                <a:arcTo wR="21600" hR="8398" stAng="-5400000" swAng="5400000"/>
                <a:lnTo>
                  <a:pt x="21600" y="11602"/>
                </a:lnTo>
                <a:arcTo wR="21600" hR="8398" stAng="0" swAng="-259244"/>
                <a:lnTo>
                  <a:pt x="21203" y="10000"/>
                </a:lnTo>
                <a:arcTo wR="21600" hR="8398" stAng="-259244" swAng="-5140756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Выгнутая вправо стрелка 20"/>
          <p:cNvSpPr/>
          <p:nvPr/>
        </p:nvSpPr>
        <p:spPr>
          <a:xfrm flipH="1">
            <a:off x="510480" y="2708280"/>
            <a:ext cx="971640" cy="1657440"/>
          </a:xfrm>
          <a:custGeom>
            <a:avLst/>
            <a:gdLst>
              <a:gd name="textAreaLeft" fmla="*/ 129960 w 971640"/>
              <a:gd name="textAreaRight" fmla="*/ 841680 w 971640"/>
              <a:gd name="textAreaTop" fmla="*/ 323280 h 1657440"/>
              <a:gd name="textAreaBottom" fmla="*/ 121284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27" stAng="-5400000" swAng="5400000"/>
                <a:lnTo>
                  <a:pt x="21600" y="11592"/>
                </a:lnTo>
                <a:arcTo wR="21600" hR="8427" stAng="0" swAng="3390080"/>
                <a:lnTo>
                  <a:pt x="5400" y="21332"/>
                </a:lnTo>
                <a:lnTo>
                  <a:pt x="0" y="18436"/>
                </a:lnTo>
                <a:lnTo>
                  <a:pt x="5400" y="15003"/>
                </a:lnTo>
                <a:lnTo>
                  <a:pt x="5400" y="16585"/>
                </a:lnTo>
                <a:arcTo wR="21600" hR="8427" stAng="3390080" swAng="-3134129"/>
                <a:lnTo>
                  <a:pt x="21216" y="10009"/>
                </a:lnTo>
                <a:arcTo wR="21600" hR="8427" stAng="-255951" swAng="-5144049"/>
                <a:close/>
              </a:path>
              <a:path fill="darkenLess" w="21600" h="21600">
                <a:moveTo>
                  <a:pt x="0" y="0"/>
                </a:moveTo>
                <a:arcTo wR="21600" hR="8427" stAng="-5400000" swAng="5400000"/>
                <a:lnTo>
                  <a:pt x="21600" y="11592"/>
                </a:lnTo>
                <a:arcTo wR="21600" hR="8427" stAng="0" swAng="-255951"/>
                <a:lnTo>
                  <a:pt x="21216" y="10009"/>
                </a:lnTo>
                <a:arcTo wR="21600" hR="8427" stAng="-255951" swAng="-5144049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4"/>
          <p:cNvGrpSpPr/>
          <p:nvPr/>
        </p:nvGrpSpPr>
        <p:grpSpPr>
          <a:xfrm>
            <a:off x="395280" y="17280"/>
            <a:ext cx="8137080" cy="1704960"/>
            <a:chOff x="395280" y="17280"/>
            <a:chExt cx="8137080" cy="1704960"/>
          </a:xfrm>
        </p:grpSpPr>
        <p:sp>
          <p:nvSpPr>
            <p:cNvPr id="132" name="Rectangle 5"/>
            <p:cNvSpPr/>
            <p:nvPr/>
          </p:nvSpPr>
          <p:spPr>
            <a:xfrm>
              <a:off x="395280" y="1625400"/>
              <a:ext cx="2905560" cy="968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>
              <a:off x="2865240" y="1722240"/>
              <a:ext cx="566712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"/>
            <p:cNvSpPr/>
            <p:nvPr/>
          </p:nvSpPr>
          <p:spPr>
            <a:xfrm>
              <a:off x="3300840" y="1627920"/>
              <a:ext cx="5231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8"/>
            <p:cNvSpPr/>
            <p:nvPr/>
          </p:nvSpPr>
          <p:spPr>
            <a:xfrm>
              <a:off x="395280" y="768240"/>
              <a:ext cx="1234800" cy="477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9"/>
            <p:cNvSpPr/>
            <p:nvPr/>
          </p:nvSpPr>
          <p:spPr>
            <a:xfrm>
              <a:off x="974880" y="1054800"/>
              <a:ext cx="655200" cy="572760"/>
            </a:xfrm>
            <a:prstGeom prst="flowChartInputOutpu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0"/>
            <p:cNvSpPr/>
            <p:nvPr/>
          </p:nvSpPr>
          <p:spPr>
            <a:xfrm rot="2751600">
              <a:off x="651600" y="248760"/>
              <a:ext cx="819000" cy="41004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Прямоугольник 1"/>
          <p:cNvSpPr/>
          <p:nvPr/>
        </p:nvSpPr>
        <p:spPr>
          <a:xfrm>
            <a:off x="2068560" y="128520"/>
            <a:ext cx="7261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Высокое качество не достигается случайно, это всегда результат осмысленных стараний...                                  Д. Рас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4"/>
          <p:cNvSpPr/>
          <p:nvPr/>
        </p:nvSpPr>
        <p:spPr>
          <a:xfrm>
            <a:off x="200160" y="1728720"/>
            <a:ext cx="83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Цель управления качеством образования: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обеспечение необходимых условий предоставления качественной образовательной услуги, отвечающей запросам и ожиданиям потреб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с двумя вырезанными противолежащими углами 5"/>
          <p:cNvSpPr/>
          <p:nvPr/>
        </p:nvSpPr>
        <p:spPr>
          <a:xfrm>
            <a:off x="379440" y="3141720"/>
            <a:ext cx="3816360" cy="934920"/>
          </a:xfrm>
          <a:prstGeom prst="pie">
            <a:avLst/>
          </a:prstGeom>
          <a:solidFill>
            <a:srgbClr val="ffff00">
              <a:alpha val="67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ышения  эффективности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с двумя вырезанными противолежащими углами 17"/>
          <p:cNvSpPr/>
          <p:nvPr/>
        </p:nvSpPr>
        <p:spPr>
          <a:xfrm>
            <a:off x="4719600" y="3141720"/>
            <a:ext cx="4029120" cy="934920"/>
          </a:xfrm>
          <a:prstGeom prst="pie">
            <a:avLst/>
          </a:prstGeom>
          <a:solidFill>
            <a:srgbClr val="ffff00">
              <a:alpha val="58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я творческой и деятельной атмосф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с двумя вырезанными противолежащими углами 18"/>
          <p:cNvSpPr/>
          <p:nvPr/>
        </p:nvSpPr>
        <p:spPr>
          <a:xfrm>
            <a:off x="414360" y="4437000"/>
            <a:ext cx="4270320" cy="936720"/>
          </a:xfrm>
          <a:prstGeom prst="pie">
            <a:avLst/>
          </a:prstGeom>
          <a:solidFill>
            <a:srgbClr val="ffff00">
              <a:alpha val="48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лучшение системы управления в общеобразовательном учрежд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с двумя вырезанными противолежащими углами 19"/>
          <p:cNvSpPr/>
          <p:nvPr/>
        </p:nvSpPr>
        <p:spPr>
          <a:xfrm>
            <a:off x="4932360" y="4373640"/>
            <a:ext cx="3816360" cy="936720"/>
          </a:xfrm>
          <a:prstGeom prst="pie">
            <a:avLst/>
          </a:prstGeom>
          <a:solidFill>
            <a:srgbClr val="ffff00">
              <a:alpha val="6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тимизации финансового, ресурсного и кадрового обесп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с двумя вырезанными противолежащими углами 20"/>
          <p:cNvSpPr/>
          <p:nvPr/>
        </p:nvSpPr>
        <p:spPr>
          <a:xfrm>
            <a:off x="2776680" y="5589720"/>
            <a:ext cx="3816360" cy="934920"/>
          </a:xfrm>
          <a:prstGeom prst="pie">
            <a:avLst/>
          </a:prstGeom>
          <a:solidFill>
            <a:srgbClr val="ffff00">
              <a:alpha val="36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ия современных безопасны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4"/>
          <p:cNvGrpSpPr/>
          <p:nvPr/>
        </p:nvGrpSpPr>
        <p:grpSpPr>
          <a:xfrm>
            <a:off x="324000" y="-90360"/>
            <a:ext cx="8137080" cy="852480"/>
            <a:chOff x="324000" y="-90360"/>
            <a:chExt cx="8137080" cy="852480"/>
          </a:xfrm>
        </p:grpSpPr>
        <p:sp>
          <p:nvSpPr>
            <p:cNvPr id="146" name="Rectangle 5"/>
            <p:cNvSpPr/>
            <p:nvPr/>
          </p:nvSpPr>
          <p:spPr>
            <a:xfrm>
              <a:off x="324000" y="718200"/>
              <a:ext cx="2905560" cy="4392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793960" y="762120"/>
              <a:ext cx="566712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3229560" y="719280"/>
              <a:ext cx="5231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324000" y="328680"/>
              <a:ext cx="1234800" cy="21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9"/>
            <p:cNvSpPr/>
            <p:nvPr/>
          </p:nvSpPr>
          <p:spPr>
            <a:xfrm>
              <a:off x="903600" y="459000"/>
              <a:ext cx="655200" cy="260280"/>
            </a:xfrm>
            <a:prstGeom prst="flowChartInputOutpu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0"/>
            <p:cNvSpPr/>
            <p:nvPr/>
          </p:nvSpPr>
          <p:spPr>
            <a:xfrm rot="2751600">
              <a:off x="803880" y="-19080"/>
              <a:ext cx="371880" cy="41004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Прямоугольник 12"/>
          <p:cNvSpPr/>
          <p:nvPr/>
        </p:nvSpPr>
        <p:spPr>
          <a:xfrm>
            <a:off x="831960" y="6111720"/>
            <a:ext cx="7615080" cy="520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ff"/>
                </a:solidFill>
                <a:latin typeface="Arial Black"/>
              </a:rPr>
              <a:t>Взаимовыгодные отношения с поставщиками ресур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3"/>
          <p:cNvSpPr/>
          <p:nvPr/>
        </p:nvSpPr>
        <p:spPr>
          <a:xfrm>
            <a:off x="1409760" y="5589720"/>
            <a:ext cx="6468840" cy="52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Arial Black"/>
              </a:rPr>
              <a:t>Принятие решений, основанных на фак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4"/>
          <p:cNvSpPr/>
          <p:nvPr/>
        </p:nvSpPr>
        <p:spPr>
          <a:xfrm>
            <a:off x="1776240" y="5072040"/>
            <a:ext cx="5740560" cy="517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 Black"/>
              </a:rPr>
              <a:t>Постоянное  улучшение 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5"/>
          <p:cNvSpPr/>
          <p:nvPr/>
        </p:nvSpPr>
        <p:spPr>
          <a:xfrm>
            <a:off x="2050920" y="4676760"/>
            <a:ext cx="5042160" cy="355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Системный подход к упр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6"/>
          <p:cNvSpPr/>
          <p:nvPr/>
        </p:nvSpPr>
        <p:spPr>
          <a:xfrm>
            <a:off x="2411280" y="4319640"/>
            <a:ext cx="4248360" cy="357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 Black"/>
              </a:rPr>
              <a:t>Процессный под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7"/>
          <p:cNvSpPr/>
          <p:nvPr/>
        </p:nvSpPr>
        <p:spPr>
          <a:xfrm>
            <a:off x="2624040" y="3963960"/>
            <a:ext cx="3826080" cy="355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 Black"/>
              </a:rPr>
              <a:t>Вовлечение рабо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8"/>
          <p:cNvSpPr/>
          <p:nvPr/>
        </p:nvSpPr>
        <p:spPr>
          <a:xfrm>
            <a:off x="2736720" y="3608280"/>
            <a:ext cx="3600720" cy="355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 Black"/>
              </a:rPr>
              <a:t>Лидерство руковод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9"/>
          <p:cNvSpPr/>
          <p:nvPr/>
        </p:nvSpPr>
        <p:spPr>
          <a:xfrm>
            <a:off x="3228840" y="2289240"/>
            <a:ext cx="2616480" cy="127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Ориентация на потребителя образовательных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"/>
          <p:cNvSpPr/>
          <p:nvPr/>
        </p:nvSpPr>
        <p:spPr>
          <a:xfrm>
            <a:off x="2916360" y="773280"/>
            <a:ext cx="3456000" cy="1503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УПРАВЛЕНИЕ КАЧЕСТВОМ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https://distant.sev.msu.ru/pluginfile.php/15503/course/overviewfiles/78003.jpg"/>
          <p:cNvPicPr/>
          <p:nvPr/>
        </p:nvPicPr>
        <p:blipFill>
          <a:blip r:embed="rId1"/>
          <a:stretch/>
        </p:blipFill>
        <p:spPr>
          <a:xfrm>
            <a:off x="727200" y="266544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https://thumbs.dreamstime.com/z/%D0%B1%D0%BE-%D1%8C%D1%88%D0%B0%D1%8F-%D1%82%D0%BE-%D0%BF%D0%B0-%D1%80%D0%B0%D0%B7-%D0%B8%D1%87%D0%BD%D1%8B%D1%85-%D1%8E-%D0%B5%D0%B9-%D1%81%D1%82%D0%BE%D0%B8%D1%82-%D0%BD%D0%B0-%D0%B1%D0%B5-%D0%B8%D0%B7%D0%BD%D0%B5-50825277.jpg"/>
          <p:cNvPicPr/>
          <p:nvPr/>
        </p:nvPicPr>
        <p:blipFill>
          <a:blip r:embed="rId2"/>
          <a:srcRect l="0" t="15387" r="0" b="25118"/>
          <a:stretch/>
        </p:blipFill>
        <p:spPr>
          <a:xfrm>
            <a:off x="324000" y="189000"/>
            <a:ext cx="3155760" cy="15382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2"/>
          <p:cNvSpPr/>
          <p:nvPr/>
        </p:nvSpPr>
        <p:spPr>
          <a:xfrm>
            <a:off x="295200" y="1727280"/>
            <a:ext cx="352908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 Black"/>
              </a:rPr>
              <a:t>качество образования соотносят с развитием индивидуальности их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https://i1.wp.com/kalykal.ru/wp-content/uploads/2020/05/2020-05-29-11-47-19-scaled.jpg?resize=2048%2C1365"/>
          <p:cNvPicPr/>
          <p:nvPr/>
        </p:nvPicPr>
        <p:blipFill>
          <a:blip r:embed="rId3"/>
          <a:srcRect l="2643" t="31744" r="3614" b="30693"/>
          <a:stretch/>
        </p:blipFill>
        <p:spPr>
          <a:xfrm>
            <a:off x="4884840" y="392040"/>
            <a:ext cx="4236840" cy="113184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9"/>
          <p:cNvSpPr/>
          <p:nvPr/>
        </p:nvSpPr>
        <p:spPr>
          <a:xfrm>
            <a:off x="5238720" y="1704960"/>
            <a:ext cx="3529080" cy="860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 Black"/>
              </a:rPr>
              <a:t>качество образования связано с внутришкольным клима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0"/>
          <p:cNvSpPr/>
          <p:nvPr/>
        </p:nvSpPr>
        <p:spPr>
          <a:xfrm>
            <a:off x="368280" y="5086440"/>
            <a:ext cx="3816360" cy="79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 Black"/>
              </a:rPr>
              <a:t>наличие качественного учебного плана, учебн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https://static7.depositphotos.com/1002709/779/i/950/depositphotos_7793243-stock-photo-conceptual-image-of-teamwork.jpg"/>
          <p:cNvPicPr/>
          <p:nvPr/>
        </p:nvPicPr>
        <p:blipFill>
          <a:blip r:embed="rId4"/>
          <a:srcRect l="0" t="8689" r="0" b="6683"/>
          <a:stretch/>
        </p:blipFill>
        <p:spPr>
          <a:xfrm>
            <a:off x="4944960" y="2690640"/>
            <a:ext cx="3832200" cy="229248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12"/>
          <p:cNvSpPr/>
          <p:nvPr/>
        </p:nvSpPr>
        <p:spPr>
          <a:xfrm>
            <a:off x="5249880" y="5095800"/>
            <a:ext cx="3527280" cy="601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Arial Black"/>
              </a:rPr>
              <a:t>    </a:t>
            </a:r>
            <a:r>
              <a:rPr b="0" lang="ru-RU" sz="1600" spc="-1" strike="noStrike">
                <a:solidFill>
                  <a:srgbClr val="0033cc"/>
                </a:solidFill>
                <a:latin typeface="Arial Black"/>
              </a:rPr>
              <a:t>ценностные ориен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https://cdn.pixabay.com/photo/2019/03/30/14/06/online-4091231_1280.jpg"/>
          <p:cNvPicPr/>
          <p:nvPr/>
        </p:nvPicPr>
        <p:blipFill>
          <a:blip r:embed="rId2"/>
          <a:srcRect l="8412" t="7408" r="5079" b="3491"/>
          <a:stretch/>
        </p:blipFill>
        <p:spPr>
          <a:xfrm>
            <a:off x="0" y="0"/>
            <a:ext cx="9144000" cy="7062840"/>
          </a:xfrm>
          <a:prstGeom prst="rect">
            <a:avLst/>
          </a:prstGeom>
          <a:ln w="0">
            <a:noFill/>
          </a:ln>
        </p:spPr>
      </p:pic>
      <p:sp>
        <p:nvSpPr>
          <p:cNvPr id="172" name="Скругленный прямоугольник 3"/>
          <p:cNvSpPr/>
          <p:nvPr/>
        </p:nvSpPr>
        <p:spPr>
          <a:xfrm>
            <a:off x="1332000" y="3646440"/>
            <a:ext cx="287964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 Black"/>
              </a:rPr>
              <a:t>КВАЛИФИЦИРОВАННЫЙ ПЕДАГОГИЧЕСКИЙ СОСТА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5"/>
          <p:cNvSpPr/>
          <p:nvPr/>
        </p:nvSpPr>
        <p:spPr>
          <a:xfrm>
            <a:off x="2340000" y="2205000"/>
            <a:ext cx="222876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 Black"/>
              </a:rPr>
              <a:t>НОВЫЕ ПЕДАГОГИЧЕСКИЕ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6"/>
          <p:cNvSpPr/>
          <p:nvPr/>
        </p:nvSpPr>
        <p:spPr>
          <a:xfrm>
            <a:off x="4716360" y="2205000"/>
            <a:ext cx="2303640" cy="93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 Black"/>
              </a:rPr>
              <a:t>БЛАГОПРИЯТНЫЕ УСЛОВИЯ ДЛЯ ОБ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7"/>
          <p:cNvSpPr/>
          <p:nvPr/>
        </p:nvSpPr>
        <p:spPr>
          <a:xfrm>
            <a:off x="5580000" y="3646440"/>
            <a:ext cx="2160720" cy="86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9966"/>
                </a:solidFill>
                <a:latin typeface="Arial Black"/>
              </a:rPr>
              <a:t>БЛАГОПРИЯТНАЯ СРЕДА ОБЩ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0" lang="ru-RU" sz="4400" spc="-1" strike="noStrike">
                <a:solidFill>
                  <a:srgbClr val="0000ff"/>
                </a:solidFill>
                <a:latin typeface="Arial Black"/>
              </a:rPr>
              <a:t>      </a:t>
            </a: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Основные  направления  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        управления качеством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Качество управления 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Качество проводимых ур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Качество учебных достижений учащихся в соответствии с их уровнем обучаемости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Достижение  максимально  высоких результатов итоговой и промежуточной  аттестации, включая результаты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Сохранение и укрепление здоровья учащихся, улучшение уровня психологического климата в  классах   и школе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Качество работы со школьной документацией (журналы, личные дела, дневники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Качество организации учебно-воспит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 Black"/>
              </a:rPr>
              <a:t>Высокие достижения учащихся, учителей и коллектива школы в творческих конкурсах, соревнованиях, олимпиа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108000" y="72720"/>
            <a:ext cx="8856360" cy="1670040"/>
            <a:chOff x="108000" y="72720"/>
            <a:chExt cx="8856360" cy="1670040"/>
          </a:xfrm>
        </p:grpSpPr>
        <p:sp>
          <p:nvSpPr>
            <p:cNvPr id="179" name="Rectangle 5"/>
            <p:cNvSpPr/>
            <p:nvPr/>
          </p:nvSpPr>
          <p:spPr>
            <a:xfrm>
              <a:off x="108000" y="1648800"/>
              <a:ext cx="3162240" cy="9396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6"/>
            <p:cNvSpPr/>
            <p:nvPr/>
          </p:nvSpPr>
          <p:spPr>
            <a:xfrm>
              <a:off x="2796480" y="1742760"/>
              <a:ext cx="616788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"/>
            <p:cNvSpPr/>
            <p:nvPr/>
          </p:nvSpPr>
          <p:spPr>
            <a:xfrm>
              <a:off x="3270240" y="1651320"/>
              <a:ext cx="5693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8"/>
            <p:cNvSpPr/>
            <p:nvPr/>
          </p:nvSpPr>
          <p:spPr>
            <a:xfrm>
              <a:off x="108000" y="817560"/>
              <a:ext cx="1344240" cy="463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9"/>
            <p:cNvSpPr/>
            <p:nvPr/>
          </p:nvSpPr>
          <p:spPr>
            <a:xfrm>
              <a:off x="738720" y="1095480"/>
              <a:ext cx="713160" cy="555480"/>
            </a:xfrm>
            <a:prstGeom prst="flowChartInputOutpu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0"/>
            <p:cNvSpPr/>
            <p:nvPr/>
          </p:nvSpPr>
          <p:spPr>
            <a:xfrm rot="2751600">
              <a:off x="435600" y="289800"/>
              <a:ext cx="793800" cy="44604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09:50:13Z</dcterms:created>
  <dc:creator>K-27</dc:creator>
  <dc:description/>
  <dc:language>en-US</dc:language>
  <cp:lastModifiedBy>Пользователь</cp:lastModifiedBy>
  <dcterms:modified xsi:type="dcterms:W3CDTF">2022-03-29T15:56:23Z</dcterms:modified>
  <cp:revision>297</cp:revision>
  <dc:subject/>
  <dc:title>Слайд 1</dc:title>
</cp:coreProperties>
</file>