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2BB-3049-454B-8ACF-146E45BB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157-EFAE-4E6C-A359-F3AB0AB2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158-9EB8-41D8-BE2F-5DD5ACF1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940-83F5-4477-ADA5-1A0283C8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2CE-0F90-48E9-A69F-DC645AD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D056-4DFC-44A8-AC37-2762437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86E-236C-4748-BBF7-BF503A7C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07B-0A54-4B8C-9A3C-A5F3D6F3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4B8-61D1-41E8-BFAA-A76DACB6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CD47-AD6B-4C2C-87B7-970B5E3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3C5-C7BE-4047-9790-5AD3695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94A-EF5D-4F5D-B248-FF27198E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F60E-C741-4013-8005-4634D182A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250920" y="5877000"/>
            <a:ext cx="85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Сычевская С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informpskov.ru/pictures/25184_20051207163856.jpg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interpress.ru/getfull.php?name=143090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4.jpg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1</cp:lastModifiedBy>
  <dcterms:modified xsi:type="dcterms:W3CDTF">2022-05-08T05:46:55Z</dcterms:modified>
  <cp:revision>45</cp:revision>
  <dc:subject/>
  <dc:title>Слайд 1</dc:title>
</cp:coreProperties>
</file>