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F84-A576-4B4D-91CA-95EAE440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471-6407-4B4E-BA6C-0559CE0C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3A8-B1B6-4C1B-A480-6732B521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098-DEFA-4B4C-B98A-BB135005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980-F887-4417-8694-407D7FFD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4FE-15DE-4F29-8242-473DBB3A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2E9-72EE-4D73-91E7-694C89A2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DE3-D445-4130-A7C8-FF8F9F7B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08A-8C41-4E8E-BF9E-1C6149E0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A4C-94B7-4D25-B586-1C2A5547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6EF-25DB-4FEC-A83E-131488E7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B74-B492-4F1E-9C43-87CCF699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C386-E634-4421-B61F-E9702F985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250920" y="5877000"/>
            <a:ext cx="85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ыче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nformpskov.ru/pictures/25184_20051207163856.jpg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interpress.ru/getfull.php?name=143090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4.jpg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1</cp:lastModifiedBy>
  <dcterms:modified xsi:type="dcterms:W3CDTF">2022-05-08T05:46:55Z</dcterms:modified>
  <cp:revision>45</cp:revision>
  <dc:subject/>
  <dc:title>Слайд 1</dc:title>
</cp:coreProperties>
</file>