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FCCA-8C17-4C7F-8961-C3FD357F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4A78-46BC-485B-AC25-9272294C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0F00-FA59-4934-8596-B7106E98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58228-3A2C-4418-921B-A4454FA1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21C3-A399-4692-A061-E9208DB8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70D1-9A6A-4CB6-A691-29FE27B8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F38C-341F-45FB-AA2C-DA85D0C1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790B-1018-4453-9E0E-347AB8BA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D837-1142-409E-B99B-3C9B3F9A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97DF-3C66-47E7-904F-2790A267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68E4-0BE5-446E-A8CC-3A3F2FCC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6F0E-0455-47A5-84E6-63E2EB65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048A-6851-4EFF-8892-04860F1B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49FE-9F04-4B53-A026-A67FC433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7DDE-FAD8-454E-A3EE-CB10A29A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0094-60DE-4DC0-9273-DB293E9F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AA9F-5D1A-43B3-9BCD-E1EF3C4E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183E2-26BA-44BA-9C59-BA2AAB6A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7EDE-8E61-423F-A87E-381350D2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D194-9400-492D-AA80-405E788F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3CBD1-1CD0-4807-9E7A-32C50F9B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E6039-5DC3-44C3-9D97-978C9D95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E50BE-D31A-44C2-AB4D-439B8262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BCC10-10C4-43C2-A8A3-7769543E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9899E-2684-4872-8C11-A0FDD9AE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12D8B-8535-47D1-969F-176E3070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176A1-CC93-4ADA-AE91-71DBDADA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2F34-3510-4821-B95B-3B6B8B26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B071E-19AA-431F-BBAA-62DF8DEE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7CF84-B132-464C-B93B-9A911235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5A7D1-BC5F-42E6-AE56-41D4658F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37B23-BFE4-4CBD-9FFD-BA6EC574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5C4C8-F3FD-4E52-93FE-61670792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E2DE-D9F1-4C45-90B7-05D51808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10175-3581-4986-B90B-58F5AD24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4C438-6231-4961-B817-2F8303B8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C3BFB-B7EA-4BE9-9D95-5AFEEB83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FFC03-4C67-4360-986A-1D734506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77E0B-F580-4457-A25C-98D72676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F6066-57B3-4682-8A62-AC8B194F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BC655-A73A-405B-B4E8-C6020C87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A297A-E3C6-4D18-B0D4-8DA99C6F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48312-AC80-4E61-A027-43FF54D3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BC9CA-649B-46B5-B01D-3097B3C4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4D66-56C8-404E-AB9F-ED2E7215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EC36F-419C-410D-8608-CA5CFAA0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4D212-6F49-40A1-A89B-D24E9354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87B18-FC65-4470-9B3D-BD1831FF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949D0-7691-46C4-BF07-B685B703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F14F2-2B5B-4A1F-9811-89B2B21C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13001-AF32-4AD5-81D1-7CE253C1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DA7E3-D43B-4007-BDDD-B2D24D36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41A95-5AE7-4851-8A97-5B7E1395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9E008-1EEF-4886-9E95-37F4D2FF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2769E-CF1A-4B7D-BB91-008FED33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B949-F5D6-4698-B111-F9BD3744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C014E-7D72-4A75-89DE-51680A15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DF391-BC00-4552-A5A4-0F3B6684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75291-D9AD-4FB4-88EB-81072EFB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31602-9289-46BB-AF78-D6BA64C9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6"/>
          <p:cNvSpPr/>
          <p:nvPr/>
        </p:nvSpPr>
        <p:spPr>
          <a:xfrm>
            <a:off x="1127700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" name="Oval 7"/>
          <p:cNvSpPr/>
          <p:nvPr/>
        </p:nvSpPr>
        <p:spPr>
          <a:xfrm>
            <a:off x="75888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62960" cy="42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2f5897"/>
                </a:solidFill>
                <a:latin typeface="Palatino Linotype"/>
              </a:rPr>
              <a:t>Образец заголовка</a:t>
            </a:r>
            <a:endParaRPr b="0" lang="ru-RU" sz="8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8484480" y="6356520"/>
            <a:ext cx="27810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11391120" y="6356520"/>
            <a:ext cx="7488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D8A6CDB-06D9-43CB-9367-EA9B49530F65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878760" y="6356520"/>
            <a:ext cx="37969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1127700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75888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8484480" y="6356520"/>
            <a:ext cx="27810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878760" y="6356520"/>
            <a:ext cx="37969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11391120" y="6356520"/>
            <a:ext cx="7488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207FE9E-5A0D-4F88-932E-B3829055FDDE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6"/>
          <p:cNvSpPr/>
          <p:nvPr/>
        </p:nvSpPr>
        <p:spPr>
          <a:xfrm>
            <a:off x="1127700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87" name="Oval 7"/>
          <p:cNvSpPr/>
          <p:nvPr/>
        </p:nvSpPr>
        <p:spPr>
          <a:xfrm>
            <a:off x="75888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4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Четвер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484480" y="6356520"/>
            <a:ext cx="27810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878760" y="6356520"/>
            <a:ext cx="37969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391120" y="6356520"/>
            <a:ext cx="7488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1A80EA6-8FFD-4308-9177-E22D79CACC6B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6"/>
          <p:cNvSpPr/>
          <p:nvPr/>
        </p:nvSpPr>
        <p:spPr>
          <a:xfrm>
            <a:off x="1127700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75888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4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197760" y="1600200"/>
            <a:ext cx="53845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Четвер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8484480" y="6356520"/>
            <a:ext cx="27810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878760" y="6356520"/>
            <a:ext cx="37969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11391120" y="6356520"/>
            <a:ext cx="7488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DCC71C7-A177-44CB-9DC3-B88873BE28BB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body"/>
          </p:nvPr>
        </p:nvSpPr>
        <p:spPr>
          <a:xfrm>
            <a:off x="487800" y="1600200"/>
            <a:ext cx="538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Courier New"/>
              <a:buChar char="o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Четвер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6"/>
          <p:cNvSpPr/>
          <p:nvPr/>
        </p:nvSpPr>
        <p:spPr>
          <a:xfrm>
            <a:off x="1127700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758880" y="6499440"/>
            <a:ext cx="112680" cy="84240"/>
          </a:xfrm>
          <a:prstGeom prst="ellipse">
            <a:avLst/>
          </a:prstGeom>
          <a:solidFill>
            <a:schemeClr val="tx1">
              <a:lumMod val="50000"/>
              <a:lumOff val="50000"/>
            </a:schemeClr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alatino Linotyp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4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3"/>
          </p:nvPr>
        </p:nvSpPr>
        <p:spPr>
          <a:xfrm>
            <a:off x="8484480" y="6356520"/>
            <a:ext cx="27810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14"/>
          </p:nvPr>
        </p:nvSpPr>
        <p:spPr>
          <a:xfrm>
            <a:off x="878760" y="6356520"/>
            <a:ext cx="379692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5"/>
          </p:nvPr>
        </p:nvSpPr>
        <p:spPr>
          <a:xfrm>
            <a:off x="11391120" y="6356520"/>
            <a:ext cx="748800" cy="36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B34A8C1-0E64-432A-B1A8-257F27EE6973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4240" y="865800"/>
            <a:ext cx="9143640" cy="356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Palatino Linotype"/>
              </a:rPr>
              <a:t>Проект по теме: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Palatino Linotype"/>
              </a:rPr>
              <a:t>«Круг чтения учащихся моей школы»</a:t>
            </a:r>
            <a:endParaRPr b="0" lang="ru-RU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603080" y="4203720"/>
            <a:ext cx="628164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Выполнила : ученица 8 класса Гаськ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Руководитель: Дементьева Татьяна Генн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4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Результаты исследовани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              «Любите ли вы читать?»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8840"/>
            <a:ext cx="10972440" cy="5056920"/>
          </a:xfrm>
          <a:prstGeom prst="rect">
            <a:avLst/>
          </a:prstGeom>
          <a:noFill/>
          <a:ln w="0">
            <a:noFill/>
          </a:ln>
        </p:spPr>
        <p:txBody>
          <a:bodyPr numCol="2" spcCol="0" anchor="t">
            <a:normAutofit fontScale="22000"/>
          </a:bodyPr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1. Любите ли Вы читать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 – 91,2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 -8,8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2.Что Вы читаете чаще всего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художественную литературу – 78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газеты,  журналы – 22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3.Если вы не читаете ничего, то укажите почему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 нет времени – 16,6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 неинтересно – 33,3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есть развлечения, более приятные -50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4.Читаете ли Вы классическую литературу, которую проходите по программе в школе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 – 67,2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 -  8,8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Частично – 24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5.Посещаете ли Вы библиотеку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 – 78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 – 22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6.Покупаете ли Вы художественную литературу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 – 40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 – 60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7.Если не покупаете, то почему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орогое удовольствие – 47,6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практично  – 23,8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интересно – 28,5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8.Интересуетесь ли Вы новинками литературы в сетях Интернет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 – 6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 – 94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30168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9.Хотели ли Вы получить в подарок электронную книгу?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 -80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marL="603360" indent="-301680" algn="just">
              <a:lnSpc>
                <a:spcPct val="150000"/>
              </a:lnSpc>
              <a:spcBef>
                <a:spcPts val="1120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</a:t>
            </a:r>
            <a:r>
              <a:rPr b="0" lang="ru-RU" sz="56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 -20%</a:t>
            </a:r>
            <a:endParaRPr b="0" lang="ru-RU" sz="56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1201680" y="-69480"/>
            <a:ext cx="10067760" cy="69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Palatino Linotype"/>
              </a:rPr>
              <a:t>Результаты исследования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Какие же книги предпочитают читать мои сверстники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шено 45 человек. Результаты распределились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нтастика – 16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 – 4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люченческие произведения – 11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отворения – 4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 – 3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ческие произведения – 10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ученных данных мы видим, что наибольшее предпочтение ученики отдают таким жанрам как фантастика – 32%, классические произведения – 20%, приключенческие произведения – 2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4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Результаты анкетирования библиотекарей школьной библиотеки, пос. Николаевский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9320" y="-165240"/>
            <a:ext cx="10972440" cy="126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Palatino Linotype"/>
              </a:rPr>
              <a:t>Вывод</a:t>
            </a:r>
            <a:endParaRPr b="0" lang="ru-RU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9320" y="11016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Из данных диаграмм видно, что большинство школьников не прочитывают все книги по школьной программе. И хотя им нравится много книг из нее, все равно их увлекает другая литература. Из дальнейших результатов исследования можно увидеть, что списки школьной программы не совпадают с интересами учащихся.</a:t>
            </a:r>
            <a:endParaRPr b="0" lang="ru-RU" sz="28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248" name="Рисунок 2" descr=""/>
          <p:cNvPicPr/>
          <p:nvPr/>
        </p:nvPicPr>
        <p:blipFill>
          <a:blip r:embed="rId1"/>
          <a:stretch/>
        </p:blipFill>
        <p:spPr>
          <a:xfrm>
            <a:off x="3138480" y="3688920"/>
            <a:ext cx="569448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62960" cy="42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8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828800" y="495288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8b8b8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623880" y="272520"/>
            <a:ext cx="118321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Palatino Linotype"/>
              </a:rPr>
              <a:t>Причины, по которым школьники редко чита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3" descr=""/>
          <p:cNvPicPr/>
          <p:nvPr/>
        </p:nvPicPr>
        <p:blipFill>
          <a:blip r:embed="rId1"/>
          <a:stretch/>
        </p:blipFill>
        <p:spPr>
          <a:xfrm>
            <a:off x="7298280" y="2427120"/>
            <a:ext cx="4898880" cy="44305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2"/>
          <p:cNvSpPr/>
          <p:nvPr/>
        </p:nvSpPr>
        <p:spPr>
          <a:xfrm>
            <a:off x="316080" y="1527120"/>
            <a:ext cx="750312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Нехватка времени (большие нагрузки в школе и много дополнительных занят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Нет жел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Сложно найти подходящую кни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Есть вещи, которые увлекают больше, чем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196560"/>
            <a:ext cx="10972440" cy="126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Palatino Linotype"/>
              </a:rPr>
              <a:t>Вывод</a:t>
            </a:r>
            <a:endParaRPr b="0" lang="ru-RU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92560" y="17028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По данным диаграммам мы видим, что школьники с 7 по 9 класс любят читать меньше, чем учащиеся в 6 и 10 классах. Это вполне объяснимо, ведь 7-9 классы-период взросления. Это ребята в возрасте с 13 до 16 лет. Именно в это время дети вырастают и им не до книжек.  Но в целом любовь к чтению не потеряна. К сожалению, несмотря на то, что читать нравится многим, времени на это занятие не хватает. Меньше всего читают 9 и 11 классы, и в основном это связано с подготовкой и сдачей экзаменов. </a:t>
            </a:r>
            <a:endParaRPr b="0" lang="ru-RU" sz="28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328320"/>
            <a:ext cx="12191760" cy="132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Palatino Linotype"/>
              </a:rPr>
              <a:t>Список интересных книг, по мнению учеников 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еленый цвет  -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ниги из школьной программы)</a:t>
            </a:r>
            <a:endParaRPr b="0" lang="ru-RU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97560"/>
            <a:ext cx="361764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Гарри Поттер», Джоан Роулинг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Метро 2033», Д.А. Глуховский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451 градус по Фаренгейту», Рэй Брэдбери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Над пропастью во ржи», </a:t>
            </a:r>
            <a:r>
              <a:rPr b="0" lang="vi-VN" sz="1600" spc="-1" strike="noStrike">
                <a:solidFill>
                  <a:srgbClr val="000000"/>
                </a:solidFill>
                <a:latin typeface="Calibri"/>
              </a:rPr>
              <a:t>Джером Дэвид Сэлинджер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20 000 лье под водой», Жюль Верн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риключения Шерлока Холмса», Артур Конан Дойл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Хоббит, туда и обратно», Джон Толкин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Мастер и Маргарита», М.А. Булгаков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Вино из одуванчиков», Рэй Брэдбери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овесть о настоящем человеке»,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Гордость и предупреждения», Джейн Остин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marL="340920" indent="-34092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Century Gothic"/>
              <a:buAutoNum type="arabicPeriod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ортрет Дориана Грея», Оскар Уайльд</a:t>
            </a:r>
            <a:endParaRPr b="0" lang="ru-RU" sz="16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5364000" y="1899720"/>
            <a:ext cx="4285800" cy="54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3.     «Повелитель мух», Уильям Голд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4.     «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.T.A.L.K.E.R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 (разные автор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5.     «Хроники Нарнии», Клайв Стейплз Лью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6.     «Властелин колец», Джон Толк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7.     «Голодные игры», Сьюзен Коллин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8.     «Там, где заканчивается радуга», Сесилия Ахер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9.     «Правда или последствия», Анника 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.     «Дети капитана Гранта», Жюль Вер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1.     «Собачье сердце», М.А. Булг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2.     «Пикник на обочине», братья Стругац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3.     «Время всегда хорошее», А.В. Жвалевский, Б.Л. Пастерн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4.     «Таинственный остров», Жюль Вер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5.     «Алые паруса», А.С. Гр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6.     «Граф Монте Кристо», Александр Дю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8120" y="444240"/>
            <a:ext cx="10972440" cy="100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0" lang="ru-RU" sz="5400" spc="-1" strike="noStrike">
                <a:solidFill>
                  <a:srgbClr val="000000"/>
                </a:solidFill>
                <a:latin typeface="Palatino Linotype"/>
              </a:rPr>
              <a:t>Вывод</a:t>
            </a:r>
            <a:endParaRPr b="0" lang="ru-RU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1059840" y="1627200"/>
            <a:ext cx="9955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По списку литературы понятно, что дети любят читать книги не по программе. Они ищут что-то интересное для себя, то, что соответствует их интересам и увлечениям. Как правило для желаний большинства детей подходят современные зарубежные писатели. Чаще всего они говорят о настоящем, о том, что происходит сейчас. Но говорят они об этом легко, не пытаясь найти какой-то очень  глубокий смыс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3" descr=""/>
          <p:cNvPicPr/>
          <p:nvPr/>
        </p:nvPicPr>
        <p:blipFill>
          <a:blip r:embed="rId1"/>
          <a:stretch/>
        </p:blipFill>
        <p:spPr>
          <a:xfrm>
            <a:off x="2383920" y="3516480"/>
            <a:ext cx="688284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6"/>
          <p:cNvSpPr/>
          <p:nvPr/>
        </p:nvSpPr>
        <p:spPr>
          <a:xfrm>
            <a:off x="441000" y="406440"/>
            <a:ext cx="1235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Пути решения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653040" y="1746000"/>
            <a:ext cx="1030752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ю данную проблему решить следующим способ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 средствах массовой информации необходимо рассказывать подросткам о том, книги каких писателей следует выбирать для чт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обходимо чтение ввести в моду, сделать начитанность признаком хорошего 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пустить интернет – ресурсы, посвященные молодежи и чтению, где подростки могли бы общаться, делиться отзывами, комментировать рецензии, знакомиться с текстами произвед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одителям необходимо воспитывать у подростков культуру чтения: если начал, дочитай до конца; книгу нужно читать последовательно, не перескакивая со страницы на страницу и не заглядывая в ее коне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Подростки должны видеть родителей читающими. Их подражательная способность «сработает» в такой ситуации на результ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доме обязательно должна быть библиотека, которая периодически пополняется. Домашняя библиотека должна быть ориентирована на интересы подрост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 школе проводить беседы на тему: «Зачем человеку необходимо чтение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В библиотеках иметь сменный стенд «Что читать современному подростку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6074280" y="0"/>
            <a:ext cx="6117480" cy="68576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2"/>
          <p:cNvSpPr/>
          <p:nvPr/>
        </p:nvSpPr>
        <p:spPr>
          <a:xfrm>
            <a:off x="711360" y="692280"/>
            <a:ext cx="7081200" cy="54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3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Что такое кни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Актуальность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Задачи, которые мы должны   реш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Цель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Методы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Исслед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а) наша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б) результаты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в) 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г) прич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7.    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8.    Наши способы решения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9.    Итог проделан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1158120" y="284400"/>
            <a:ext cx="903204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500" spc="-1" strike="noStrike">
                <a:solidFill>
                  <a:srgbClr val="000000"/>
                </a:solidFill>
                <a:latin typeface="Palatino Linotype"/>
              </a:rPr>
              <a:t>План работы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/>
          <p:cNvSpPr/>
          <p:nvPr/>
        </p:nvSpPr>
        <p:spPr>
          <a:xfrm>
            <a:off x="776160" y="289800"/>
            <a:ext cx="10639080" cy="1918440"/>
          </a:xfrm>
          <a:prstGeom prst="rect">
            <a:avLst/>
          </a:prstGeom>
          <a:solidFill>
            <a:schemeClr val="bg2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d4ecaa"/>
                </a:solidFill>
                <a:latin typeface="Palatino Linotype"/>
              </a:rPr>
              <a:t>Итог проделанной рабо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1175760" y="1628280"/>
            <a:ext cx="955188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Мы считаем, что наша работа прошла не зря. Мы выявили причины потери интереса к чтению и предложили список литературы, который возможно способствует решению какой-то части данной проблемы в нашей школе. Поэтому мы думаем, что наша работа успешно заверше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"/>
          <p:cNvPicPr/>
          <p:nvPr/>
        </p:nvPicPr>
        <p:blipFill>
          <a:blip r:embed="rId1"/>
          <a:stretch/>
        </p:blipFill>
        <p:spPr>
          <a:xfrm>
            <a:off x="3246120" y="2400120"/>
            <a:ext cx="5374080" cy="39528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473400" y="383760"/>
            <a:ext cx="8792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Palatino Linotype"/>
              </a:rPr>
              <a:t>Что такое книг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473400" y="1281960"/>
            <a:ext cx="932328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Вообще, книга- это вид печатной продукции, листы бумаги, имеющие общий твердый переплет. Но мы подразумеваем не просто какой-то скомпонованный материал, а книгу  как источник художественной литературы. Ни учебник, ни энциклопедию, ни чей-то ежедневник, а произведения, написанные различными авто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5" descr=""/>
          <p:cNvPicPr/>
          <p:nvPr/>
        </p:nvPicPr>
        <p:blipFill>
          <a:blip r:embed="rId1"/>
          <a:stretch/>
        </p:blipFill>
        <p:spPr>
          <a:xfrm>
            <a:off x="6337800" y="1384560"/>
            <a:ext cx="4814280" cy="43365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2560" y="230760"/>
            <a:ext cx="10972440" cy="88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Актуальность темы:</a:t>
            </a:r>
            <a:endParaRPr b="0" lang="ru-RU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85600" y="1264680"/>
            <a:ext cx="5736960" cy="521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Все мы знаем, что книги приносят огромную пользу. Но, к сожалению, большинство современных школьников все меньше и меньше берут их в руки. В результате своего исследования мы хотели бы узнать, почему так происходит и найти книги, интересные учащимся нашей школы.</a:t>
            </a:r>
            <a:endParaRPr b="0" lang="ru-RU" sz="28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12190320" cy="68576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4"/>
          <p:cNvSpPr/>
          <p:nvPr/>
        </p:nvSpPr>
        <p:spPr>
          <a:xfrm>
            <a:off x="2408760" y="389880"/>
            <a:ext cx="77770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000" spc="-1" strike="noStrike">
                <a:solidFill>
                  <a:srgbClr val="000000"/>
                </a:solidFill>
                <a:latin typeface="Palatino Linotype"/>
              </a:rPr>
              <a:t>Задачи проекта: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1562760" y="1796040"/>
            <a:ext cx="962352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анализировать отношение учеников к чтению художественн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ить перечень художественных произведений, которые интересны моим сверстн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ставить перечень «Любимых книг школьник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вести анкет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едставить полученную информацию в виде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614160" y="86400"/>
            <a:ext cx="642816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7000" spc="-1" strike="noStrike">
                <a:solidFill>
                  <a:srgbClr val="000000"/>
                </a:solidFill>
                <a:latin typeface="Palatino Linotype"/>
              </a:rPr>
              <a:t>Цель работы: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077120" y="1537920"/>
            <a:ext cx="473400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круг читательских интересов моих сверстников, составить читательское досье школьни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5" descr=""/>
          <p:cNvPicPr/>
          <p:nvPr/>
        </p:nvPicPr>
        <p:blipFill>
          <a:blip r:embed="rId1"/>
          <a:stretch/>
        </p:blipFill>
        <p:spPr>
          <a:xfrm>
            <a:off x="6579000" y="1348560"/>
            <a:ext cx="445320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Users\Public\Pictures\Sample Pictures\Книги.jpg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81040" y="192672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5400" spc="-1" strike="noStrike">
                <a:solidFill>
                  <a:srgbClr val="ffffff"/>
                </a:solidFill>
                <a:latin typeface="Palatino Linotype"/>
              </a:rPr>
              <a:t>Анкетирование</a:t>
            </a:r>
            <a:endParaRPr b="0" lang="ru-RU" sz="5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80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5400" spc="-1" strike="noStrike">
                <a:solidFill>
                  <a:srgbClr val="ffffff"/>
                </a:solidFill>
                <a:latin typeface="Palatino Linotype"/>
              </a:rPr>
              <a:t>Анализ результатов</a:t>
            </a:r>
            <a:endParaRPr b="0" lang="ru-RU" sz="5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264960" y="375840"/>
            <a:ext cx="10117800" cy="180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</a:pPr>
            <a:r>
              <a:rPr b="1" lang="ru-RU" sz="6600" spc="-1" strike="noStrike">
                <a:solidFill>
                  <a:srgbClr val="ffffff"/>
                </a:solidFill>
                <a:latin typeface="Palatino Linotype"/>
              </a:rPr>
              <a:t>Методы исследования</a:t>
            </a:r>
            <a:r>
              <a:rPr b="1" lang="en-US" sz="6600" spc="-1" strike="noStrike">
                <a:solidFill>
                  <a:srgbClr val="ffffff"/>
                </a:solidFill>
                <a:latin typeface="Palatino Linotype"/>
              </a:rPr>
              <a:t>:</a:t>
            </a:r>
            <a:br>
              <a:rPr sz="6000"/>
            </a:br>
            <a:endParaRPr b="0" lang="ru-RU" sz="6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6880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2"/>
          <p:cNvSpPr/>
          <p:nvPr/>
        </p:nvSpPr>
        <p:spPr>
          <a:xfrm>
            <a:off x="1666080" y="2499480"/>
            <a:ext cx="869652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cfdcf0"/>
                </a:solidFill>
                <a:latin typeface="Palatino Linotype"/>
              </a:rPr>
              <a:t>Исследова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440" cy="15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Palatino Linotype"/>
              </a:rPr>
              <a:t>Наша работа</a:t>
            </a:r>
            <a:endParaRPr b="0" lang="ru-RU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97760" y="736200"/>
            <a:ext cx="538452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337680" indent="-337680" algn="ctr">
              <a:lnSpc>
                <a:spcPct val="150000"/>
              </a:lnSpc>
              <a:spcBef>
                <a:spcPts val="479"/>
              </a:spcBef>
              <a:buClr>
                <a:srgbClr val="003399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Анкет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 algn="ctr">
              <a:lnSpc>
                <a:spcPct val="150000"/>
              </a:lnSpc>
              <a:spcBef>
                <a:spcPts val="479"/>
              </a:spcBef>
              <a:buClr>
                <a:srgbClr val="003399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Что читают современные подростки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1. Любите ли Вы читать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,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2.Что Вы читаете чаще всего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художественную литературу,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газеты,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-журналы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3.Если вы не читаете ничего, то укажите почему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4.Читаете ли Вы классическую литературу, которую проходите по программе в школе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,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, 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Частично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5.Посещаете ли Вы библиотеку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,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6.Покупаете ли Вы художественную литературу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,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7.Если не покупаете, то почему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8.Интересуетесь ли Вы новинками литературы в сетях Интернет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,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33768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9.Хотели ли Вы получить в подарок электронную книгу?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Да, 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marL="675000" indent="-337680">
              <a:lnSpc>
                <a:spcPct val="150000"/>
              </a:lnSpc>
              <a:spcBef>
                <a:spcPts val="479"/>
              </a:spcBef>
              <a:buClr>
                <a:srgbClr val="80808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Нет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7800" y="1600200"/>
            <a:ext cx="538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Чтобы сделать нашу работу, мы составили анкеты и провели исследование с 6 по 10 класс. Мы обошли школьников различного возраста и разнообразных интересов. В итоге получили определенные результаты.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Здесь вы можете наблюдать пример анкеты для 9 класса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                                                  </a:t>
            </a: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80808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Исполнительная">
  <a:themeElements>
    <a:clrScheme name="Исполнительная">
      <a:dk1>
        <a:srgbClr val="000000"/>
      </a:dk1>
      <a:lt1>
        <a:srgbClr val="ffffff"/>
      </a:lt1>
      <a:dk2>
        <a:srgbClr val="2f5897"/>
      </a:dk2>
      <a:lt2>
        <a:srgbClr val="e4e9ef"/>
      </a:lt2>
      <a:accent1>
        <a:srgbClr val="6076b4"/>
      </a:accent1>
      <a:accent2>
        <a:srgbClr val="9c5252"/>
      </a:accent2>
      <a:accent3>
        <a:srgbClr val="e68422"/>
      </a:accent3>
      <a:accent4>
        <a:srgbClr val="846648"/>
      </a:accent4>
      <a:accent5>
        <a:srgbClr val="63891f"/>
      </a:accent5>
      <a:accent6>
        <a:srgbClr val="758085"/>
      </a:accent6>
      <a:hlink>
        <a:srgbClr val="3399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xecutive</Template>
  <TotalTime>1590</TotalTime>
  <Application>LibreOffice/7.4.7.2$Linux_X86_64 LibreOffice_project/40$Build-2</Application>
  <AppVersion>15.0000</AppVersion>
  <Words>1404</Words>
  <Paragraphs>1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15:20:26Z</dcterms:created>
  <dc:creator>Машурсик</dc:creator>
  <dc:description/>
  <dc:language>en-US</dc:language>
  <cp:lastModifiedBy>Библиотека</cp:lastModifiedBy>
  <dcterms:modified xsi:type="dcterms:W3CDTF">2022-05-06T08:49:13Z</dcterms:modified>
  <cp:revision>102</cp:revision>
  <dc:subject/>
  <dc:title>Проект по теме:  «Почему школьники перестали читать книги?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20</vt:r8>
  </property>
</Properties>
</file>