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DA09-59F4-496D-9A23-4E99B756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42B7-05BE-4389-888B-C8F0D7E8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9673-D759-4572-9BCE-FF9689EE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C311-4C22-406B-8DDF-9C018309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F887-642E-47AC-8035-A0F548AF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5156-9596-4A4D-819D-6EB9075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B88-BDAF-4E51-92AA-A098C4C2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5D8-BEDA-4593-B155-DB1E4403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677-A0A0-43BA-B7F3-50014CF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2442-E054-4535-896A-00457D4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62AD-08E8-4AB9-8204-77D91AF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25F8-9263-4183-9B6B-CB4632E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6C4-CE37-47E3-924A-ED1EF0F7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5999-EDD5-4DC7-AE77-97C4DB8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A2A3-6341-4ECE-B396-84050851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AA0-7F3B-4310-8A0C-3EE24000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0A5-DE5A-44ED-900C-2DA18898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CBE2-2299-42AF-8CC3-26C7D1D1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AC28-C1B8-49A9-A11D-1CA26B7E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85BC-E0A0-4729-BDDA-934E4FA4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6D19-F98D-4BCA-BE1F-3CB6E44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9270-ECC4-412D-B813-F982AC9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E886-5A3E-4599-B08E-620EDD6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AE64-AAD3-4B06-83E6-7360EBF4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137D-596C-4A2F-960B-21D9972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0EB6-0B9E-4FE3-BB5D-47C0E2E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EC9C-B124-4700-B857-E28D9E95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5F06-6A60-4B38-BBCB-11F08783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9485-BC8D-4C9C-B57C-BD58B21E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FB98-C780-416A-A655-011649F8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CEEC-5588-4F68-8E03-9745CB8F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AEA6B-F0AB-4827-A0AC-F83AFD1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603A-9BE0-4F94-9F07-5C3FF839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4C5A-5FA9-4830-A4F6-991687E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0803-73F6-4C5A-A1ED-2AA4951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B2643-E41C-406D-A11E-507AB2F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7E45-1816-47BC-B270-6F99B75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6867-3EC8-4937-83DD-0466F90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FA09-0BC9-4BB1-AAE3-2021488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FA3D-58A2-4EA8-9C03-A64CEC5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6FE9-2549-4A31-A722-A02B44F9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5080-2AC2-4F36-8753-968D9F47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3AF0-4D17-4FA7-89B5-CFF82777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9F75-E2BB-4755-82DC-7675CEE4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7A47-99DA-42B5-B139-EFD0A9D7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95753-3DD1-4A25-9580-644868B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7ADC-F55C-45B6-A0BD-1D42F332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F276-05AC-4C8B-86D5-0C20D9C8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49485-942D-424F-B283-D77ED5C1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543F-D862-4EBF-80EB-64FF22A8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25DE-F104-4BCF-A62B-853FD22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973E6-DA80-4123-9336-3A196FEC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EB94-3E5D-4728-8432-F2903E4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BEF1-D941-4AB2-B3B1-F67D56C8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E069-DF5B-4739-BBC8-A05767C7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7BD3-CA6B-407A-8EDC-85D07B63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733B1-F67D-4BD3-BE84-6C396229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00E3-AB87-4835-91BB-EABF37E5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F66C-E897-442C-A931-774A9B8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EC78-4339-463E-BC33-95314AF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6296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0BE876A-7F6A-45AD-ACCB-F86BF7DE069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94CF076-BDA2-420E-8642-920244FC5C6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7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8903B5-ED94-4B60-ABD9-45011A7789A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197760" y="1600200"/>
            <a:ext cx="5384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0B8E40-BCD8-4713-BAC4-5B26965BA73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body"/>
          </p:nvPr>
        </p:nvSpPr>
        <p:spPr>
          <a:xfrm>
            <a:off x="487800" y="1600200"/>
            <a:ext cx="538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5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35C4A9-3F0C-48D2-A081-1F118D20641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4240" y="865800"/>
            <a:ext cx="9143640" cy="356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Проект по теме: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«Круг чтения учащихся моей школы»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603080" y="4203720"/>
            <a:ext cx="62816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Выполнила : ученица 8 класса Гась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уководитель: Дементьева Татья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езультаты исследова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           «Любите ли вы читать?»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8840"/>
            <a:ext cx="10972440" cy="5056920"/>
          </a:xfrm>
          <a:prstGeom prst="rect">
            <a:avLst/>
          </a:prstGeom>
          <a:noFill/>
          <a:ln w="0">
            <a:noFill/>
          </a:ln>
        </p:spPr>
        <p:txBody>
          <a:bodyPr numCol="2" spcCol="0" anchor="t">
            <a:normAutofit fontScale="22000"/>
          </a:bodyPr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1. Любите ли Вы читать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91,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8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2.Что Вы читаете чаще всего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художественную литературу – 7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газеты,  журналы – 2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3.Если вы не читаете ничего, то укажите почем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нет времени – 16,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неинтересно – 33,3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есть развлечения, более приятные -5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4.Читаете ли Вы классическую литературу, которую проходите по программе в школе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67,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  8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Частично – 24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5.Посещаете ли Вы библиотек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7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2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6.Покупаете ли Вы художественную литератур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4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6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7.Если не покупаете, то почем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орогое удовольствие – 47,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практично  – 23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интересно – 28,5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8.Интересуетесь ли Вы новинками литературы в сетях Интернет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94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9.Хотели ли Вы получить в подарок электронную книг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-8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2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201680" y="-69480"/>
            <a:ext cx="1006776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Результаты исследования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акие же книги предпочитают читать мои сверстники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шено 45 человек. Результаты распределилис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стика – 1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– 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юченческие произведения – 11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я – 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– 3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е произведения – 1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ученных данных мы видим, что наибольшее предпочтение ученики отдают таким жанрам как фантастика – 32%, классические произведения – 20%, приключенческие произведения – 2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езультаты анкетирования библиотекарей школьной библиотеки, пос. Николаевский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320" y="-165240"/>
            <a:ext cx="10972440" cy="126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9320" y="11016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Из данных диаграмм видно, что большинство школьников не прочитывают все книги по школьной программе. И хотя им нравится много книг из нее, все равно их увлекает другая литература. Из дальнейших результатов исследования можно увидеть, что списки школьной программы не совпадают с интересами учащихся.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3138480" y="3688920"/>
            <a:ext cx="56944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6296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828800" y="495288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23880" y="272520"/>
            <a:ext cx="11832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Причины, по которым школьники редко чит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1"/>
          <a:stretch/>
        </p:blipFill>
        <p:spPr>
          <a:xfrm>
            <a:off x="7298280" y="2427120"/>
            <a:ext cx="4898880" cy="4430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316080" y="1527120"/>
            <a:ext cx="75031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ехватка времени (большие нагрузки в школе и много дополнительных заня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ет жел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Сложно найти подходящую кни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Есть вещи, которые увлекают больше, чем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96560"/>
            <a:ext cx="10972440" cy="126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92560" y="17028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 данным диаграммам мы видим, что школьники с 7 по 9 класс любят читать меньше, чем учащиеся в 6 и 10 классах. Это вполне объяснимо, ведь 7-9 классы-период взросления. Это ребята в возрасте с 13 до 16 лет. Именно в это время дети вырастают и им не до книжек.  Но в целом любовь к чтению не потеряна. К сожалению, несмотря на то, что читать нравится многим, времени на это занятие не хватает. Меньше всего читают 9 и 11 классы, и в основном это связано с подготовкой и сдачей экзаменов. 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12191760" cy="13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Список интересных книг, по мнению учеников 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леный цвет  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ниги из школьной программы)</a:t>
            </a:r>
            <a:endParaRPr b="0" lang="ru-RU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97560"/>
            <a:ext cx="361764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Гарри Поттер», Джоан Роулинг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етро 2033», Д.А. Глуховский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451 градус по Фаренгейту», Рэй Брэдбери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Над пропастью во ржи»,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Джером Дэвид Сэлинджер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20 000 лье под водой», Жюль Вер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иключения Шерлока Холмса», Артур Конан Дойл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Хоббит, туда и обратно», Джон Толки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Вино из одуванчиков», Рэй Брэдбери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весть о настоящем человеке»,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Гордость и предупреждения», Джейн Ости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ртрет Дориана Грея», Оскар Уайльд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364000" y="1899720"/>
            <a:ext cx="428580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3.     «Повелитель мух», Уильям Голд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4.    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.T.A.L.K.E.R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(разные авто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5.     «Хроники Нарнии», Клайв Стейплз Лью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6.     «Властелин колец», Джон Тол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7.     «Голодные игры», Сьюзен Коллин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8.     «Там, где заканчивается радуга», Сесилия Ах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9.     «Правда или последствия», Анника 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.     «Дети капитана Гранта», Жюль В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.     «Собачье сердце», М.А. Булг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2.     «Пикник на обочине», братья Стругац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3.     «Время всегда хорошее», А.В. Жвалевский, Б.Л. 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4.     «Таинственный остров», Жюль В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5.     «Алые паруса», А.С. Г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6.     «Граф Монте Кристо», Александр Дю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8120" y="444240"/>
            <a:ext cx="10972440" cy="100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059840" y="1627200"/>
            <a:ext cx="9955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о списку литературы понятно, что дети любят читать книги не по программе. Они ищут что-то интересное для себя, то, что соответствует их интересам и увлечениям. Как правило для желаний большинства детей подходят современные зарубежные писатели. Чаще всего они говорят о настоящем, о том, что происходит сейчас. Но говорят они об этом легко, не пытаясь найти какой-то очень  глубокий смыс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3" descr=""/>
          <p:cNvPicPr/>
          <p:nvPr/>
        </p:nvPicPr>
        <p:blipFill>
          <a:blip r:embed="rId1"/>
          <a:stretch/>
        </p:blipFill>
        <p:spPr>
          <a:xfrm>
            <a:off x="2383920" y="3516480"/>
            <a:ext cx="68828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441000" y="406440"/>
            <a:ext cx="1235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ути реш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53040" y="1746000"/>
            <a:ext cx="1030752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данную проблему решить следующим способ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средствах массовой информации необходимо рассказывать подросткам о том, книги каких писателей следует выбирать для чт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обходимо чтение ввести в моду, сделать начитанность признаком хорошего 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устить интернет – ресурсы, посвященные молодежи и чтению, где подростки могли бы общаться, делиться отзывами, комментировать рецензии, знакомиться с текстами произве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дителям необходимо воспитывать у подростков культуру чтения: если начал, дочитай до конца; книгу нужно читать последовательно, не перескакивая со страницы на страницу и не заглядывая в ее ко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ростки должны видеть родителей читающими. Их подражательная способность «сработает» в такой ситуации на резуль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доме обязательно должна быть библиотека, которая периодически пополняется. Домашняя библиотека должна быть ориентирована на интересы подрост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школе проводить беседы на тему: «Зачем человеку необходимо чтение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библиотеках иметь сменный стенд «Что читать современному подростку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6074280" y="0"/>
            <a:ext cx="6117480" cy="68576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2"/>
          <p:cNvSpPr/>
          <p:nvPr/>
        </p:nvSpPr>
        <p:spPr>
          <a:xfrm>
            <a:off x="711360" y="692280"/>
            <a:ext cx="708120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3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то такое кни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ктуальность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адачи, которые мы должны   р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Цель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ссле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) наша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б) результат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)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г)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7.    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8.    Наши способы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9.    Итог продела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1158120" y="284400"/>
            <a:ext cx="90320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500" spc="-1" strike="noStrike">
                <a:solidFill>
                  <a:srgbClr val="000000"/>
                </a:solidFill>
                <a:latin typeface="Palatino Linotype"/>
              </a:rPr>
              <a:t>План работ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76160" y="289800"/>
            <a:ext cx="10639080" cy="1918440"/>
          </a:xfrm>
          <a:prstGeom prst="rect">
            <a:avLst/>
          </a:prstGeom>
          <a:solidFill>
            <a:schemeClr val="bg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d4ecaa"/>
                </a:solidFill>
                <a:latin typeface="Palatino Linotype"/>
              </a:rPr>
              <a:t>Итог проделанной раб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1175760" y="1628280"/>
            <a:ext cx="95518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Мы считаем, что наша работа прошла не зря. Мы выявили причины потери интереса к чтению и предложили список литературы, который возможно способствует решению какой-то части данной проблемы в нашей школе. Поэтому мы думаем, что наша работа успешно заверш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3246120" y="2400120"/>
            <a:ext cx="5374080" cy="3952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73400" y="383760"/>
            <a:ext cx="8792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Что такое книг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473400" y="1281960"/>
            <a:ext cx="93232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ообще, книга- это вид печатной продукции, листы бумаги, имеющие общий твердый переплет. Но мы подразумеваем не просто какой-то скомпонованный материал, а книгу  как источник художественной литературы. Ни учебник, ни энциклопедию, ни чей-то ежедневник, а произведения, написанные различными ав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5" descr=""/>
          <p:cNvPicPr/>
          <p:nvPr/>
        </p:nvPicPr>
        <p:blipFill>
          <a:blip r:embed="rId1"/>
          <a:stretch/>
        </p:blipFill>
        <p:spPr>
          <a:xfrm>
            <a:off x="6337800" y="1384560"/>
            <a:ext cx="4814280" cy="4336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2560" y="230760"/>
            <a:ext cx="10972440" cy="88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Актуальность темы: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5600" y="1264680"/>
            <a:ext cx="57369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се мы знаем, что книги приносят огромную пользу. Но, к сожалению, большинство современных школьников все меньше и меньше берут их в руки. В результате своего исследования мы хотели бы узнать, почему так происходит и найти книги, интересные учащимся нашей школы.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2408760" y="389880"/>
            <a:ext cx="7777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0" spc="-1" strike="noStrike">
                <a:solidFill>
                  <a:srgbClr val="000000"/>
                </a:solidFill>
                <a:latin typeface="Palatino Linotype"/>
              </a:rPr>
              <a:t>Задачи проекта: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1562760" y="1796040"/>
            <a:ext cx="962352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отношение учеников к чтению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перечень художественных произведений, которые интересны моим сверст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перечень «Любимых книг школьник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вести анке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едставить полученную информацию в вид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614160" y="86400"/>
            <a:ext cx="6428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0" spc="-1" strike="noStrike">
                <a:solidFill>
                  <a:srgbClr val="000000"/>
                </a:solidFill>
                <a:latin typeface="Palatino Linotype"/>
              </a:rPr>
              <a:t>Цель работы: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077120" y="1537920"/>
            <a:ext cx="4734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круг читательских интересов моих сверстников, составить читательское досье школь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"/>
          <p:cNvPicPr/>
          <p:nvPr/>
        </p:nvPicPr>
        <p:blipFill>
          <a:blip r:embed="rId1"/>
          <a:stretch/>
        </p:blipFill>
        <p:spPr>
          <a:xfrm>
            <a:off x="6579000" y="1348560"/>
            <a:ext cx="44532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Public\Pictures\Sample Pictures\Книги.jp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81040" y="192672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Анкетирование</a:t>
            </a:r>
            <a:endParaRPr b="0" lang="ru-RU" sz="5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Анализ результатов</a:t>
            </a:r>
            <a:endParaRPr b="0" lang="ru-RU" sz="5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4960" y="375840"/>
            <a:ext cx="10117800" cy="180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ru-RU" sz="6600" spc="-1" strike="noStrike">
                <a:solidFill>
                  <a:srgbClr val="ffffff"/>
                </a:solidFill>
                <a:latin typeface="Palatino Linotype"/>
              </a:rPr>
              <a:t>Методы исследования</a:t>
            </a:r>
            <a:r>
              <a:rPr b="1" lang="en-US" sz="6600" spc="-1" strike="noStrike">
                <a:solidFill>
                  <a:srgbClr val="ffffff"/>
                </a:solidFill>
                <a:latin typeface="Palatino Linotype"/>
              </a:rPr>
              <a:t>:</a:t>
            </a:r>
            <a:br>
              <a:rPr sz="6000"/>
            </a:br>
            <a:endParaRPr b="0" lang="ru-RU" sz="6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6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1666080" y="2499480"/>
            <a:ext cx="8696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cfdcf0"/>
                </a:solidFill>
                <a:latin typeface="Palatino Linotype"/>
              </a:rPr>
              <a:t>Исследов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Наша работа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97760" y="736200"/>
            <a:ext cx="53845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337680" indent="-337680" algn="ctr">
              <a:lnSpc>
                <a:spcPct val="150000"/>
              </a:lnSpc>
              <a:spcBef>
                <a:spcPts val="479"/>
              </a:spcBef>
              <a:buClr>
                <a:srgbClr val="003399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нке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 algn="ctr">
              <a:lnSpc>
                <a:spcPct val="150000"/>
              </a:lnSpc>
              <a:spcBef>
                <a:spcPts val="479"/>
              </a:spcBef>
              <a:buClr>
                <a:srgbClr val="003399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читают современные подростки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1. Любите ли Вы читать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2.Что Вы читаете чаще всего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художественную литературу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газеты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журналы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3.Если вы не читаете ничего, то укажите почем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4.Читаете ли Вы классическую литературу, которую проходите по программе в школе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,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Частично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5.Посещаете ли Вы библиотек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6.Покупаете ли Вы художественную литератур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7.Если не покупаете, то почем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8.Интересуетесь ли Вы новинками литературы в сетях Интернет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9.Хотели ли Вы получить в подарок электронную книг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7800" y="1600200"/>
            <a:ext cx="538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тобы сделать нашу работу, мы составили анкеты и провели исследование с 6 по 10 класс. Мы обошли школьников различного возраста и разнообразных интересов. В итоге получили определенные результаты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есь вы можете наблюдать пример анкеты для 9 класс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1590</TotalTime>
  <Application>LibreOffice/7.4.7.2$Linux_X86_64 LibreOffice_project/40$Build-2</Application>
  <AppVersion>15.0000</AppVersion>
  <Words>1404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20:26Z</dcterms:created>
  <dc:creator>Машурсик</dc:creator>
  <dc:description/>
  <dc:language>en-US</dc:language>
  <cp:lastModifiedBy>Библиотека</cp:lastModifiedBy>
  <dcterms:modified xsi:type="dcterms:W3CDTF">2022-05-06T08:49:13Z</dcterms:modified>
  <cp:revision>102</cp:revision>
  <dc:subject/>
  <dc:title>Проект по теме:  «Почему школьники перестали читать книг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0</vt:r8>
  </property>
</Properties>
</file>