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A28-5B4F-4ADB-BFAE-C5A743ED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DC5-E15B-4C45-9640-68DE92FA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508-9BE6-4A13-B766-4F8469D7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C9A-6A13-46F4-BF62-42502AED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4CC-21E9-435F-BBB9-A1824E7A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0CB6-F881-41AC-A29A-91AD663B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1D5-7C32-404E-99DA-C620D7A6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F75-70E2-448A-9640-1EB025F7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8AA-2D81-45B3-8D5D-0DAFCB90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809-6ECE-47A8-A432-507693CC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B63-A9CA-499D-80AC-2FA98B4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69C-1599-4CF5-AF9A-C6BD88E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8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EBD-70D6-4CCC-A320-FD17FD8E91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54936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Урок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4660920"/>
            <a:ext cx="2376360" cy="219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6662880" y="0"/>
            <a:ext cx="2481120" cy="331308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900000" y="1557360"/>
            <a:ext cx="676908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Основное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войство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роби.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2987640" y="3500280"/>
            <a:ext cx="367344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28440" y="2324160"/>
            <a:ext cx="9087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2" descr=""/>
          <p:cNvPicPr/>
          <p:nvPr/>
        </p:nvPicPr>
        <p:blipFill>
          <a:blip r:embed="rId1"/>
          <a:stretch/>
        </p:blipFill>
        <p:spPr>
          <a:xfrm>
            <a:off x="166680" y="2981160"/>
            <a:ext cx="88106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Объект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" descr=""/>
          <p:cNvPicPr/>
          <p:nvPr/>
        </p:nvPicPr>
        <p:blipFill>
          <a:blip r:embed="rId2"/>
          <a:stretch/>
        </p:blipFill>
        <p:spPr>
          <a:xfrm>
            <a:off x="4114800" y="2975040"/>
            <a:ext cx="238932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Объект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Объект 2" descr=""/>
          <p:cNvPicPr/>
          <p:nvPr/>
        </p:nvPicPr>
        <p:blipFill>
          <a:blip r:embed="rId1"/>
          <a:stretch/>
        </p:blipFill>
        <p:spPr>
          <a:xfrm>
            <a:off x="324000" y="1560600"/>
            <a:ext cx="836280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166680" y="2981160"/>
            <a:ext cx="88106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21 в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826920" y="1125360"/>
            <a:ext cx="15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72: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5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419640" y="1052640"/>
            <a:ext cx="129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95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796000" y="981000"/>
            <a:ext cx="16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96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: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35120" y="5037120"/>
            <a:ext cx="44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2"/>
          <p:cNvSpPr txBox="1"/>
          <p:nvPr/>
        </p:nvSpPr>
        <p:spPr>
          <a:xfrm>
            <a:off x="684360" y="26028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стн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>
            <a:off x="0" y="2629080"/>
            <a:ext cx="914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>
            <a:off x="179280" y="160200"/>
            <a:ext cx="5292720" cy="2492640"/>
          </a:xfrm>
          <a:prstGeom prst="cloudCallout">
            <a:avLst>
              <a:gd name="adj1" fmla="val 68148"/>
              <a:gd name="adj2" fmla="val 4993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344600" y="21276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Дом.  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.8 № 238,239 б,240 абв, 241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сновное свойство дроб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0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числитель и знаменатель дроби умножить или разделить на одно и то же число, отличное от нуля, то получится дробь, равная д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6181560" y="2550960"/>
                <a:ext cx="978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268360" y="3500280"/>
                <a:ext cx="4402440" cy="282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сновное свойство дроби на математическом язы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468360" y="1916280"/>
                <a:ext cx="3743280" cy="17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num>
                      <m:den>
                        <m:r>
                          <m:t xml:space="preserve">в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2700360" y="4724280"/>
                <a:ext cx="35100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с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5148360" y="1916280"/>
                <a:ext cx="367164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а</m:t>
                        </m:r>
                        <m:r>
                          <m:t xml:space="preserve">:</m:t>
                        </m:r>
                        <m:r>
                          <m:t xml:space="preserve">с</m:t>
                        </m:r>
                      </m:num>
                      <m:den>
                        <m:r>
                          <m:t xml:space="preserve">в</m:t>
                        </m:r>
                        <m:r>
                          <m:t xml:space="preserve">: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Rectangle 9"/>
          <p:cNvSpPr/>
          <p:nvPr/>
        </p:nvSpPr>
        <p:spPr>
          <a:xfrm>
            <a:off x="324000" y="1844640"/>
            <a:ext cx="4248000" cy="216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572000" y="1844640"/>
            <a:ext cx="4248000" cy="216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Содержимое 2"/>
          <p:cNvSpPr/>
          <p:nvPr/>
        </p:nvSpPr>
        <p:spPr>
          <a:xfrm>
            <a:off x="457200" y="549360"/>
            <a:ext cx="76438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ведите дроб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 знаменателю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 знаменателю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 числителю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4716360" y="333360"/>
                <a:ext cx="72072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364000" y="3141720"/>
                <a:ext cx="21607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: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5364000" y="1413000"/>
                <a:ext cx="244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5364000" y="4724280"/>
                <a:ext cx="230364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2 в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2" descr="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упраж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3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95400" y="2633760"/>
            <a:ext cx="89532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8:47:12Z</dcterms:created>
  <dc:creator>мама</dc:creator>
  <dc:description/>
  <dc:language>en-US</dc:language>
  <cp:lastModifiedBy>HOME</cp:lastModifiedBy>
  <dcterms:modified xsi:type="dcterms:W3CDTF">2022-05-08T08:23:45Z</dcterms:modified>
  <cp:revision>20</cp:revision>
  <dc:subject/>
  <dc:title>Слайд 1</dc:title>
</cp:coreProperties>
</file>