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BFA-21AA-43B4-8F60-2F47A47C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8F2-9985-4656-B063-2579E5F5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8EF-618A-4CE2-BBA5-3466D7A6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2EB-FB03-4C9E-8BF5-BFB6DCBA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B7D-2478-472F-A16A-01A2AD34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D93-7197-4283-A094-5598CEBD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02C-22E3-4481-B30E-9246D28C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1B4-AC1D-4C85-A501-E6B4113F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610-E040-4764-86EE-A41D2E3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AD0-DF83-4C7C-9FC9-E7A80B84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061-715E-4269-B4DE-49B16352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6FF-F8E4-43A6-B984-830FCD20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B66B-B708-4451-95E0-BA887A005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54936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Урок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4660920"/>
            <a:ext cx="2376360" cy="219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662880" y="0"/>
            <a:ext cx="2481120" cy="331308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900000" y="1557360"/>
            <a:ext cx="6769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Основное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войство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роби.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2987640" y="3500280"/>
            <a:ext cx="367344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28440" y="2324160"/>
            <a:ext cx="9087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166680" y="2981160"/>
            <a:ext cx="88106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3" descr=""/>
          <p:cNvPicPr/>
          <p:nvPr/>
        </p:nvPicPr>
        <p:blipFill>
          <a:blip r:embed="rId2"/>
          <a:stretch/>
        </p:blipFill>
        <p:spPr>
          <a:xfrm>
            <a:off x="4114800" y="2975040"/>
            <a:ext cx="238932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бъект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Объект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"/>
          <p:cNvPicPr/>
          <p:nvPr/>
        </p:nvPicPr>
        <p:blipFill>
          <a:blip r:embed="rId1"/>
          <a:stretch/>
        </p:blipFill>
        <p:spPr>
          <a:xfrm>
            <a:off x="166680" y="2981160"/>
            <a:ext cx="88106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21 в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826920" y="1125360"/>
            <a:ext cx="15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72: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5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419640" y="1052640"/>
            <a:ext cx="129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95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796000" y="981000"/>
            <a:ext cx="16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96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535120" y="5037120"/>
            <a:ext cx="44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684360" y="26028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тн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"/>
          <p:cNvPicPr/>
          <p:nvPr/>
        </p:nvPicPr>
        <p:blipFill>
          <a:blip r:embed="rId1"/>
          <a:stretch/>
        </p:blipFill>
        <p:spPr>
          <a:xfrm>
            <a:off x="0" y="262908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>
            <a:off x="179280" y="160200"/>
            <a:ext cx="5292720" cy="2492640"/>
          </a:xfrm>
          <a:prstGeom prst="cloudCallout">
            <a:avLst>
              <a:gd name="adj1" fmla="val 68148"/>
              <a:gd name="adj2" fmla="val 4993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344600" y="21276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Дом.  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.8 № 238,239 б,240 абв, 241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сновное свойство дроб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0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числитель и знаменатель дроби умножить или разделить на одно и то же число, отличное от нуля, то получится дробь, равная д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6181560" y="2550960"/>
                <a:ext cx="978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268360" y="3500280"/>
                <a:ext cx="4402440" cy="282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сновное свойство дроби на математическом язы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468360" y="1916280"/>
                <a:ext cx="3743280" cy="17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num>
                      <m:den>
                        <m:r>
                          <m:t xml:space="preserve">в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2700360" y="4724280"/>
                <a:ext cx="35100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с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5148360" y="1916280"/>
                <a:ext cx="367164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:</m:t>
                        </m:r>
                        <m:r>
                          <m:t xml:space="preserve">с</m:t>
                        </m:r>
                      </m:num>
                      <m:den>
                        <m:r>
                          <m:t xml:space="preserve">в</m:t>
                        </m:r>
                        <m:r>
                          <m:t xml:space="preserve">: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Rectangle 9"/>
          <p:cNvSpPr/>
          <p:nvPr/>
        </p:nvSpPr>
        <p:spPr>
          <a:xfrm>
            <a:off x="324000" y="1844640"/>
            <a:ext cx="4248000" cy="216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572000" y="1844640"/>
            <a:ext cx="4248000" cy="216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Содержимое 2"/>
          <p:cNvSpPr/>
          <p:nvPr/>
        </p:nvSpPr>
        <p:spPr>
          <a:xfrm>
            <a:off x="457200" y="549360"/>
            <a:ext cx="76438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ведите дроб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 знаменателю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 знаменателю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 числителю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4716360" y="333360"/>
                <a:ext cx="720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364000" y="3141720"/>
                <a:ext cx="21607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5364000" y="1413000"/>
                <a:ext cx="244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5364000" y="4724280"/>
                <a:ext cx="230364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2 в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3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95400" y="2633760"/>
            <a:ext cx="89532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8:47:12Z</dcterms:created>
  <dc:creator>мама</dc:creator>
  <dc:description/>
  <dc:language>en-US</dc:language>
  <cp:lastModifiedBy>HOME</cp:lastModifiedBy>
  <dcterms:modified xsi:type="dcterms:W3CDTF">2022-05-08T08:23:45Z</dcterms:modified>
  <cp:revision>20</cp:revision>
  <dc:subject/>
  <dc:title>Слайд 1</dc:title>
</cp:coreProperties>
</file>