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EE1-E823-4B6D-9C37-D869B8F0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240-893C-4260-AEA5-88176AA2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B33-E806-4A49-95C3-C260A5C4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11D-A71A-4BC3-95B7-D64E2A38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B745-C289-4595-AB78-A5EDA592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C67D-4B05-48D3-AEEB-6BA1C0EA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8A8A-1DF3-4509-980E-F214AEA7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80B0-61E1-4FEB-B8A5-1F6619CD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191E-0AD1-4BC8-B6F8-E8E06718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C3B9-F202-4CFF-9FCC-2F5A4AA5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5F5B-D240-49B0-A32D-E519D7CA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B03-C766-4E37-84D3-E3B9B7F7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AB52-7F34-47D4-AD7D-F9CD57D5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0E72-7B4B-42E1-8E6C-A9F5B947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80BF-8278-4C27-94AA-69F61973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E68C-6ECA-4860-A967-61383055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A249-0471-4A6A-A46A-CCC729DC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5A5D-955B-416A-B5FA-F004CF4C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ADE5C-9635-4A1E-9F71-60BA64A0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A057D-490B-4D0E-9580-6D2565AD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10BAA-34FF-4D84-BB5A-5A5688E5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4B334-8621-4CD6-AE31-F89A8988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08C-6213-432A-A9CE-C088D608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5DB84-A172-41EA-89C4-B254C6BA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3B84-71B6-464A-9A4C-E35078DF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02C9F-1304-485D-A9A2-E8D781B1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15EE3-757B-4FE0-8F37-018F4A1C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9E850-C974-48E4-9213-ADA63A41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2F0CB-BA60-45AB-8F93-B7F3A88A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811D-4897-4119-901D-25287E7C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9DFBA-2948-40AD-9E34-2E2CBDCA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1ECC6-9D81-44B2-9E4F-BA555308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4B2CE-BCFB-4127-B10C-F1622179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A27-6927-4748-8527-B92E2B83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D765B-A4C7-42F0-9E70-126B7300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67960-76ED-4B5A-8E07-C029CAB2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DCF0D-8F6B-40A9-9B7A-61A4A234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656E2-B47B-41A3-A35F-1179ECA4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091F9-3839-463E-94FB-F34FE52F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042C1-DC8C-4C0A-9170-4D570A9E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14489-863E-40CD-B905-FDDFE8A7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2C73A-FD9F-49F4-BC8D-5E146493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23B1C-0105-4E66-81D4-8513F4DD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1A5-8E92-43AB-8BD8-367423F8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2FF-FC76-4C74-A5EA-524291DA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0D7-0C80-484E-9E7F-FE6B8AB4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8C0-8F5F-4685-8944-5BEE9B29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260-86B2-441F-B467-6F8869DD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3454-2DC0-40E1-A1E2-014FC082DD9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4809-7F91-49FE-8A39-552CA9CB421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5673-CF9C-458C-AF4E-6684A83E8A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4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91C5-54A9-4E89-9ACF-C96A1442DB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ibrary.saransk.ru/upload/newdirectory/vich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pidemiolog.ru/upload/medialibrary/25c/fdq-apocdbz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vylya.org/wp-content/uploads/2013/02/Spid-foto-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900igr.net/datai/biologija/Nekletochnye-formy-zhizni/0016-017-A-ty-znaesh-vraga-v-litso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1.bp.blogspot.com/_kUXbb6d-WS4/R1CrHd9VIQI/AAAAAAAAAkY/CuhTDLGBiUo/s1600-R/Aids%2Bposter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019.radikal.ru/i643/1205/bc/3abe10d2d06d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.azh.kz/news/9054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gymnasium12.tyumen-edu.ru/Novost_2013/foto/30_11_12/1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ladnews.ru/uploads/2009/10/09/17029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nm.uz/uploads/posts/2011-12/1324044027_spid_722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900igr.net/datai/biologija/Nekletochnye-formy-zhizni/0016-017-A-ty-znaesh-vraga-v-litso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itomedicine.ru/wp-content/uploads/2012/09/12865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tr-vlad.ru/uploads/posts/2011-12/1322703001_kadr-spid-02.12.06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6000" y="2924280"/>
            <a:ext cx="721044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333360"/>
            <a:ext cx="632628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71640" y="5950080"/>
            <a:ext cx="6912000" cy="1268280"/>
          </a:xfrm>
          <a:prstGeom prst="rect">
            <a:avLst/>
          </a:prstGeom>
          <a:solidFill>
            <a:srgbClr val="720000"/>
          </a:solidFill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66"/>
                </a:solidFill>
                <a:latin typeface="Tahoma"/>
              </a:rPr>
              <a:t>1987</a:t>
            </a: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 г. – в Советском Союзе официально объявлено о первом случае заболеван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ffff66"/>
                </a:solidFill>
                <a:latin typeface="Tahoma"/>
              </a:rPr>
              <a:t>СПИД</a:t>
            </a: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ом мужчины, ранее работавшего переводчиком в одной из стран Африки (умер в 1992 г.);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4149720"/>
            <a:ext cx="3240000" cy="232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66"/>
                </a:solidFill>
                <a:latin typeface="Tahoma"/>
              </a:rPr>
              <a:t>1988 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г. – охвачено 136 стран мира на всех континентах; число больных – 250 тыс. человек, ещё 5 -10 млн. – носители;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781360"/>
            <a:ext cx="7272360" cy="391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7129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66"/>
                </a:solidFill>
                <a:latin typeface="Tahoma"/>
              </a:rPr>
              <a:t>1989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 г. – в России заражается – 250 детей при переливании крови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66"/>
                </a:solidFill>
                <a:latin typeface="Tahoma"/>
              </a:rPr>
              <a:t>спустя 10 лет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 – СПИДом охвачено уже 190 стран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по данным ВОЗ число случаев </a:t>
            </a:r>
            <a:r>
              <a:rPr b="1" lang="ru-RU" sz="3300" spc="-1" strike="noStrike">
                <a:solidFill>
                  <a:srgbClr val="ffff66"/>
                </a:solidFill>
                <a:latin typeface="Tahoma"/>
              </a:rPr>
              <a:t>СПИД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а, зарегистрированное на данный момент, превысило более чем в </a:t>
            </a:r>
            <a:r>
              <a:rPr b="1" lang="ru-RU" sz="3300" spc="-1" strike="noStrike">
                <a:solidFill>
                  <a:srgbClr val="ffff66"/>
                </a:solidFill>
                <a:latin typeface="Tahoma"/>
              </a:rPr>
              <a:t>5 раз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 число заболевших в 2000 году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Рисунок 3" descr="1B50D831-344E-49B5-9E70-8BDA8A1EFADA_mw800_mh600_s.jpg"/>
          <p:cNvPicPr/>
          <p:nvPr/>
        </p:nvPicPr>
        <p:blipFill>
          <a:blip r:embed="rId1"/>
          <a:stretch/>
        </p:blipFill>
        <p:spPr>
          <a:xfrm>
            <a:off x="6156360" y="1052640"/>
            <a:ext cx="2663640" cy="2031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Природа вируса и механизм его действ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ИЧ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это РНК-содержащий вирус (иначе говоря, ретровирус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личие от онковирусов он вызывает не рост инфицированных клеток, а их гибел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Рисунок 7" descr="http://festival.1september.ru/articles/310411/img3.gif"/>
          <p:cNvPicPr/>
          <p:nvPr/>
        </p:nvPicPr>
        <p:blipFill>
          <a:blip r:embed="rId1"/>
          <a:stretch/>
        </p:blipFill>
        <p:spPr>
          <a:xfrm>
            <a:off x="1908000" y="3429000"/>
            <a:ext cx="576108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ирус, попадая в кровь человека, поражает специфические лимфатические клетки, преимущественно Т-4 лимфоци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елок вируса, оставшийся на поверхности клетки, изменяет её так, что она становится мишенью для клеток-убийц (Т-киллеров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3357720"/>
            <a:ext cx="4249800" cy="3257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748720" cy="6310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етка погибает, а размножившиеся внутри неё вирусы попадают в кровоток, и процесс повторяется сно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крофаги, зараженные ВИЧ, не погибают, а становятся местом размножения вируса, его резервуа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имфоциты, зараженные ВИЧ, разрушаются, наступает момент, когда количество лимфоцитов резко снижается, это и приводит к иммунодефициту организ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Рисунок 6" descr="http://festival.1september.ru/articles/310411/img1.gif"/>
          <p:cNvPicPr/>
          <p:nvPr/>
        </p:nvPicPr>
        <p:blipFill>
          <a:blip r:embed="rId1"/>
          <a:stretch/>
        </p:blipFill>
        <p:spPr>
          <a:xfrm>
            <a:off x="539640" y="5445000"/>
            <a:ext cx="8001000" cy="928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Стадии болезни СПИ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Заражение инфекцией ВИЧ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едельная лихорадка, увеличение лимфатических узлов, сыпь. Через месяц в крови обнаруживаются антитела к ВИ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Скрытый период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нескольких недель до нескольких лет. Изъязвления слизистой, грибковые поражения кожи, похудание, диарея, повышенная температура те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ahoma"/>
              </a:rPr>
              <a:t>СПИД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оспаление легких, опухоли (саркома Капоши), сепсис и другие инфекционные заболе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Рисунок 3" descr="f_18944686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5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Пути передачи ВИЧ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4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половом контакт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непостоянном половом партнёр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искусственном оплодотворе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рез зараженную кров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вместное пользование загрязненными иглами для внутривенного введения наркоти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Рисунок 5" descr="ua_aids_04.jpg"/>
          <p:cNvPicPr/>
          <p:nvPr/>
        </p:nvPicPr>
        <p:blipFill>
          <a:blip r:embed="rId1"/>
          <a:stretch/>
        </p:blipFill>
        <p:spPr>
          <a:xfrm>
            <a:off x="5940360" y="4724280"/>
            <a:ext cx="2879640" cy="17067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457853_internet-portal-rubxp37953h.jpg"/>
          <p:cNvPicPr/>
          <p:nvPr/>
        </p:nvPicPr>
        <p:blipFill>
          <a:blip r:embed="rId2"/>
          <a:stretch/>
        </p:blipFill>
        <p:spPr>
          <a:xfrm>
            <a:off x="5940360" y="1484280"/>
            <a:ext cx="283536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622764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учайный контакт медицинских работников       с зараженной кровью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ливание непроверен- ной кров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передаче инфекции от матери плоду во время беременности и новорожденному во время род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рез молоко мате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688000" y="0"/>
            <a:ext cx="3456000" cy="2585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796000" y="3500280"/>
            <a:ext cx="3348000" cy="243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ой фактор риска заражения ВИЧ в нашей стране –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внутривенное введение наркотических препарат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Наркоманы на сегодняшний день составляют абсолютное большинство всех инфицированных в нашей стран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124000" y="3552840"/>
            <a:ext cx="439272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10920" y="692280"/>
            <a:ext cx="784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ем мире сегодня                         говорят о 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СПИД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, о том, какую угрозу существованию человечества несет эта глобальная эпидем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но вспоминать и оплакивать тех, кто уже умер или смертельно болен, можно говорить о масштабах трагедии и о том, что эта чума 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Х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а теперь уже и 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ХХ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ка угрожает существованию человечества…</a:t>
            </a:r>
            <a:br>
              <a:rPr sz="32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4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68000" y="691920"/>
            <a:ext cx="7559640" cy="5662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ПИД в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гда-то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ПИД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ыл для России признаком "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разложения Запад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, от которого нас охраняла одна из лучших в мире систем здравоохран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учаи ВИЧ-инфекции списали на моральный облик тех, кому был поставлен диагноз, продолжая считать, что большинство населения эта проблема не касаетс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Рисунок 4" descr="1828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м не менее, время идет, и эпидемия нараста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В 2002 году ее темпы уже были одними из самых высоких в мир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больше наших соотечественников учатся жить с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ВИЧ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все большее количество российских семей, оказалось затронуто эпидемией, страдая не только от самого заболевания, но и от предрассудков и дискриминации общества, упорствующего в своем желании закрывать на проблему глаза и обвинять во всем тех, кого она коснула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1128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Как жить, зная, что у тебя СПИД</a:t>
            </a: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ллионы людей во всем мире живут с ВИЧ и стремятся к тому, чтобы их жизнь была долгой и качественн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деемся, что информация на этих страницах поможет вам сохранить здоровье, преодолеть кризисы, избежать опасных ошибок и создать благоприятное окружение, которое особенно необходимо тем, кто ежедневно борется с ВИЧ-инфекц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Рисунок 5" descr="CP4.jpg"/>
          <p:cNvPicPr/>
          <p:nvPr/>
        </p:nvPicPr>
        <p:blipFill>
          <a:blip r:embed="rId1"/>
          <a:stretch/>
        </p:blipFill>
        <p:spPr>
          <a:xfrm>
            <a:off x="7236000" y="4292640"/>
            <a:ext cx="1908000" cy="1428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Перемены возможн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меняется характер эпидемии, но также меняется отношение правительства, специалистов, подходы к профилактике и уход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степенно изменяется отношение отдельного человека, живущего в России - стране, где есть СПИ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Рисунок 4" descr="post-19-1101916714.gif"/>
          <p:cNvPicPr/>
          <p:nvPr/>
        </p:nvPicPr>
        <p:blipFill>
          <a:blip r:embed="rId1"/>
          <a:stretch/>
        </p:blipFill>
        <p:spPr>
          <a:xfrm>
            <a:off x="5292720" y="1557360"/>
            <a:ext cx="354168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ПОМНИТ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292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ы жить долгие годы и дожить до биологической старости важно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заботиться о своем здоровь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при обнаружении болезни своевременно начать противовирусное лечение и приложить максимум усилий, чтобы не допустить развития вторичных заболевани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Рисунок 5" descr="1.jpg"/>
          <p:cNvPicPr/>
          <p:nvPr/>
        </p:nvPicPr>
        <p:blipFill>
          <a:blip r:embed="rId1"/>
          <a:stretch/>
        </p:blipFill>
        <p:spPr>
          <a:xfrm>
            <a:off x="5292720" y="1268280"/>
            <a:ext cx="3564000" cy="4581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0"/>
            <a:ext cx="45612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268360" y="6165720"/>
            <a:ext cx="453564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612144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Всемирный день борьбы со СПИД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5267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раз в году -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1 декабр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наступает день – когда о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СПИ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 вспоминают в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день, когда люди вс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планеты объединяются для единой цели остановить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СПИД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ИЧ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ый год в мире свыше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5 миллион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человек заражаются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ВИ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981000"/>
            <a:ext cx="2879640" cy="2157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3716280"/>
            <a:ext cx="330192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382752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Всемирный день борьбы со </a:t>
            </a:r>
            <a:r>
              <a:rPr b="1" lang="ru-RU" sz="3300" spc="-1" strike="noStrike">
                <a:solidFill>
                  <a:srgbClr val="ffff66"/>
                </a:solidFill>
                <a:latin typeface="Tahoma"/>
              </a:rPr>
              <a:t>СПИД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ом это ещё один шанс заявить: «</a:t>
            </a:r>
            <a:r>
              <a:rPr b="1" lang="ru-RU" sz="3300" spc="-1" strike="noStrike">
                <a:solidFill>
                  <a:srgbClr val="ffff66"/>
                </a:solidFill>
                <a:latin typeface="Tahoma"/>
              </a:rPr>
              <a:t>Спид есть в мире где мы живем. Но он не должен быть среди нас</a:t>
            </a:r>
            <a:r>
              <a:rPr b="0" lang="ru-RU" sz="3300" spc="-1" strike="noStrike">
                <a:solidFill>
                  <a:srgbClr val="ffffff"/>
                </a:solidFill>
                <a:latin typeface="Tahoma"/>
              </a:rPr>
              <a:t>.»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1197000"/>
            <a:ext cx="355284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5410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5 июня 198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Американский Центр контроля над заболеваниями зарегистрировал      новую болезнь —    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СПИ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Синдром приобретенного иммунодефицита)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557360"/>
            <a:ext cx="4381560" cy="48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3280" y="6093000"/>
            <a:ext cx="108108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6093000"/>
            <a:ext cx="4321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4211640" y="0"/>
            <a:ext cx="8182080" cy="9144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85520" y="1916280"/>
            <a:ext cx="8034120" cy="390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82 году ученым удалось выяснить, что причиной </a:t>
            </a:r>
            <a:r>
              <a:rPr b="1" lang="ru-RU" sz="3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СПИД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является вирус, который поражает клетки иммунной системы человека, делая их неспособными защищать организм от заболеваний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т уже третье десятилетие человечество пытается обуздать этот примитивный, но коварный микроорганизм - вирус иммунодефицита человека.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Рисунок 3" descr="cam14.jpg"/>
          <p:cNvPicPr/>
          <p:nvPr/>
        </p:nvPicPr>
        <p:blipFill>
          <a:blip r:embed="rId2"/>
          <a:stretch/>
        </p:blipFill>
        <p:spPr>
          <a:xfrm>
            <a:off x="0" y="0"/>
            <a:ext cx="3203640" cy="2019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2349360"/>
            <a:ext cx="85075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ая вирусная инфекция, распространившаяся по всему мир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ffff66"/>
                </a:solidFill>
                <a:latin typeface="Tahoma"/>
              </a:rPr>
              <a:t>979-198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г.г. – врачи в Нью-Йорке и Лос-Анджелесе заметили необычные иммунные нарушения у ряда пациенток: рак кровеносных сосудов (саркома Капоши) и редкую форму пневмонии (пневмоцистная пневмония). Заболевание закончилось смер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Почему          “Чума XX века”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89000"/>
            <a:ext cx="2952720" cy="226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en-US" sz="3700" spc="-1" strike="noStrike">
                <a:solidFill>
                  <a:srgbClr val="ffff66"/>
                </a:solidFill>
                <a:latin typeface="Tahoma"/>
              </a:rPr>
              <a:t>1982 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г. центры по контролю заболеваний ввели в реестр болезней новое заболевание - </a:t>
            </a:r>
            <a:r>
              <a:rPr b="1" lang="en-US" sz="3900" spc="-1" strike="noStrike">
                <a:solidFill>
                  <a:srgbClr val="ffff66"/>
                </a:solidFill>
                <a:latin typeface="Tahoma"/>
              </a:rPr>
              <a:t>СПИД;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66"/>
                </a:solidFill>
                <a:latin typeface="Tahoma"/>
              </a:rPr>
              <a:t>1983 г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. – появились первые сведения о возбудителе болезни;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96072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66"/>
                </a:solidFill>
                <a:latin typeface="Tahoma"/>
              </a:rPr>
              <a:t>1984 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г. - возбудитель выделен в чистой культуре, созданы тест-системы для его обнаружения;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916280"/>
            <a:ext cx="599436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04:02Z</dcterms:created>
  <dc:creator>Demonice</dc:creator>
  <dc:description/>
  <dc:language>en-US</dc:language>
  <cp:lastModifiedBy>Елена</cp:lastModifiedBy>
  <dcterms:modified xsi:type="dcterms:W3CDTF">2013-12-04T06:07:17Z</dcterms:modified>
  <cp:revision>34</cp:revision>
  <dc:subject/>
  <dc:title>Слайд 1</dc:title>
</cp:coreProperties>
</file>