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9725-94D2-4F41-855D-94401E9E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740-930A-441D-B3BA-BDF1082B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9C57-4A00-47FB-A3ED-875148FB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980B-007A-440E-8631-C97B3EC7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C518-C978-445C-AED4-EC364CA0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0FBF-1CD3-49C1-8367-3A12FA2B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1DC1-6EAF-45B8-96A3-C0FF3793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DADC-243D-44DC-8AB5-6D2DD9B9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0553-AE1C-417D-8339-7FBB7E08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1CAB-CA84-4A11-AFBE-1D73B17A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4BBE-1384-43FB-891A-F5DC941F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D5C1-4948-491C-BCF3-D2D85FF3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8914-2BC9-4A42-A12C-C2025BA1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0EC8-3E68-42AD-A2E3-844706DB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7266-5A7E-4FE3-97F4-78E47FFB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1060-C626-4DCD-9FA9-5F1CF136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1582-C6B5-40F3-BFF9-076A11D9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81E6C-418A-4781-B06C-041F2F0B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943C8-55CC-4CB0-9519-0626020E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1E5C6-E3B6-4B6C-90B3-C580D03E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A650B-A085-40CA-B6AC-86267DD5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8C5FE-7EB0-4717-A755-11911EC9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659A-C1B4-4532-98D3-C11D7047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163B-E45F-45ED-8FD0-5DBBEA41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7003A-4643-4FD3-B4D3-F4166720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E7975-6465-4351-A1E8-18570EA9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81827-D20C-44DF-ACF9-9E16F334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33BB-2598-48A0-A2BD-54F10861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F181B-F152-44D9-9952-68A6847A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5E254-FEFA-43FA-B75D-D4DBEDFF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0DF6F-4100-4A28-9C12-CF26B515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5B1DA-ED46-4765-B5C5-AEB91251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42B14-86FA-4DB5-82AA-4B91F47F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5804-6412-4B12-8FDF-23AE6AF1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99727-C698-4854-A379-BBC03A7B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D10A6-82C8-4912-B8EE-7F38180A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5C9B4-8148-4F05-AD25-29F669E2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07A07-821C-48F9-AB02-4AAEB58F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03A75-93FD-40C7-B0F0-5DC3BC8B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B4522-0258-440D-AC0F-6CF15839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75574-21EE-44A6-8718-97C588FA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538C8-AC3C-40D9-A9B0-10B68A33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42A9B-3230-4747-A929-5DCEF112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46D8-8283-4F00-A116-0302FDB4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547-F3AD-4952-89DD-6493EA14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07E-1973-458B-B5F8-FD890DB3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9AB-2982-49C1-A506-33DC2A97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5D0-E224-4E19-8896-5280CC80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E367-A386-442E-8B3A-081E6DA5884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31B6-6BAA-4CF5-8687-8B73C950B32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9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66EF-3914-4B47-AC33-EECBEA617D6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4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A040-0058-4400-AE08-BEFEFE02417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brary.saransk.ru/upload/newdirectory/vich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pidemiolog.ru/upload/medialibrary/25c/fdq-apocdbzt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vylya.org/wp-content/uploads/2013/02/Spid-foto-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900igr.net/datai/biologija/Nekletochnye-formy-zhizni/0016-017-A-ty-znaesh-vraga-v-litso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1.bp.blogspot.com/_kUXbb6d-WS4/R1CrHd9VIQI/AAAAAAAAAkY/CuhTDLGBiUo/s1600-R/Aids%2Bposter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s019.radikal.ru/i643/1205/bc/3abe10d2d06d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.azh.kz/news/9054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gymnasium12.tyumen-edu.ru/Novost_2013/foto/30_11_12/1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ladnews.ru/uploads/2009/10/09/17029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nm.uz/uploads/posts/2011-12/1324044027_spid_7221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900igr.net/datai/biologija/Nekletochnye-formy-zhizni/0016-017-A-ty-znaesh-vraga-v-litso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itomedicine.ru/wp-content/uploads/2012/09/128654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tr-vlad.ru/uploads/posts/2011-12/1322703001_kadr-spid-02.12.06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6000" y="2924280"/>
            <a:ext cx="721044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333360"/>
            <a:ext cx="632628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71640" y="5950080"/>
            <a:ext cx="6912000" cy="1268280"/>
          </a:xfrm>
          <a:prstGeom prst="rect">
            <a:avLst/>
          </a:prstGeom>
          <a:solidFill>
            <a:srgbClr val="720000"/>
          </a:solidFill>
          <a:ln w="936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66"/>
                </a:solidFill>
                <a:latin typeface="Tahoma"/>
              </a:rPr>
              <a:t>1987</a:t>
            </a: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 г. – в Советском Союзе официально объявлено о первом случае заболеван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ffff66"/>
                </a:solidFill>
                <a:latin typeface="Tahoma"/>
              </a:rPr>
              <a:t>СПИД</a:t>
            </a: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ом мужчины, ранее работавшего переводчиком в одной из стран Африки (умер в 1992 г.);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4149720"/>
            <a:ext cx="3240000" cy="232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66"/>
                </a:solidFill>
                <a:latin typeface="Tahoma"/>
              </a:rPr>
              <a:t>1988 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г. – охвачено 136 стран мира на всех континентах; число больных – 250 тыс. человек, ещё 5 -10 млн. – носители;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781360"/>
            <a:ext cx="7272360" cy="391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7129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66"/>
                </a:solidFill>
                <a:latin typeface="Tahoma"/>
              </a:rPr>
              <a:t>1989</a:t>
            </a: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 г. – в России заражается – 250 детей при переливании крови;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66"/>
                </a:solidFill>
                <a:latin typeface="Tahoma"/>
              </a:rPr>
              <a:t>спустя 10 лет</a:t>
            </a: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 – СПИДом охвачено уже 190 стран;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по данным ВОЗ число случаев </a:t>
            </a:r>
            <a:r>
              <a:rPr b="1" lang="ru-RU" sz="3300" spc="-1" strike="noStrike">
                <a:solidFill>
                  <a:srgbClr val="ffff66"/>
                </a:solidFill>
                <a:latin typeface="Tahoma"/>
              </a:rPr>
              <a:t>СПИД</a:t>
            </a: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а, зарегистрированное на данный момент, превысило более чем в </a:t>
            </a:r>
            <a:r>
              <a:rPr b="1" lang="ru-RU" sz="3300" spc="-1" strike="noStrike">
                <a:solidFill>
                  <a:srgbClr val="ffff66"/>
                </a:solidFill>
                <a:latin typeface="Tahoma"/>
              </a:rPr>
              <a:t>5 раз</a:t>
            </a: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 число заболевших в 2000 году;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Рисунок 3" descr="1B50D831-344E-49B5-9E70-8BDA8A1EFADA_mw800_mh600_s.jpg"/>
          <p:cNvPicPr/>
          <p:nvPr/>
        </p:nvPicPr>
        <p:blipFill>
          <a:blip r:embed="rId1"/>
          <a:stretch/>
        </p:blipFill>
        <p:spPr>
          <a:xfrm>
            <a:off x="6156360" y="1052640"/>
            <a:ext cx="2663640" cy="2031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Природа вируса и механизм его действ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ВИЧ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это РНК-содержащий вирус (иначе говоря, ретровирус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личие от онковирусов он вызывает не рост инфицированных клеток, а их гибел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Рисунок 7" descr="http://festival.1september.ru/articles/310411/img3.gif"/>
          <p:cNvPicPr/>
          <p:nvPr/>
        </p:nvPicPr>
        <p:blipFill>
          <a:blip r:embed="rId1"/>
          <a:stretch/>
        </p:blipFill>
        <p:spPr>
          <a:xfrm>
            <a:off x="1908000" y="3429000"/>
            <a:ext cx="576108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ирус, попадая в кровь человека, поражает специфические лимфатические клетки, преимущественно Т-4 лимфоци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елок вируса, оставшийся на поверхности клетки, изменяет её так, что она становится мишенью для клеток-убийц (Т-киллеров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3357720"/>
            <a:ext cx="4249800" cy="3257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748720" cy="6310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летка погибает, а размножившиеся внутри неё вирусы попадают в кровоток, и процесс повторяется сно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крофаги, зараженные ВИЧ, не погибают, а становятся местом размножения вируса, его резервуа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имфоциты, зараженные ВИЧ, разрушаются, наступает момент, когда количество лимфоцитов резко снижается, это и приводит к иммунодефициту организ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Рисунок 6" descr="http://festival.1september.ru/articles/310411/img1.gif"/>
          <p:cNvPicPr/>
          <p:nvPr/>
        </p:nvPicPr>
        <p:blipFill>
          <a:blip r:embed="rId1"/>
          <a:stretch/>
        </p:blipFill>
        <p:spPr>
          <a:xfrm>
            <a:off x="539640" y="5445000"/>
            <a:ext cx="8001000" cy="9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Стадии болезни СПИ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ahoma"/>
              </a:rPr>
              <a:t>Заражение инфекцией ВИЧ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едельная лихорадка, увеличение лимфатических узлов, сыпь. Через месяц в крови обнаруживаются антитела к ВИ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ahoma"/>
              </a:rPr>
              <a:t>Скрытый период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 нескольких недель до нескольких лет. Изъязвления слизистой, грибковые поражения кожи, похудание, диарея, повышенная температура те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ahoma"/>
              </a:rPr>
              <a:t>СПИД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оспаление легких, опухоли (саркома Капоши), сепсис и другие инфекционные заболе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Рисунок 3" descr="f_18944686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5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Пути передачи ВИЧ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9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половом контакт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непостоянном половом партнёре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искусственном оплодотворен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рез зараженную кров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вместное пользование загрязненными иглами для внутривенного введения наркоти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Рисунок 5" descr="ua_aids_04.jpg"/>
          <p:cNvPicPr/>
          <p:nvPr/>
        </p:nvPicPr>
        <p:blipFill>
          <a:blip r:embed="rId1"/>
          <a:stretch/>
        </p:blipFill>
        <p:spPr>
          <a:xfrm>
            <a:off x="5940360" y="4724280"/>
            <a:ext cx="2879640" cy="17067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457853_internet-portal-rubxp37953h.jpg"/>
          <p:cNvPicPr/>
          <p:nvPr/>
        </p:nvPicPr>
        <p:blipFill>
          <a:blip r:embed="rId2"/>
          <a:stretch/>
        </p:blipFill>
        <p:spPr>
          <a:xfrm>
            <a:off x="5940360" y="1484280"/>
            <a:ext cx="283536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622764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учайный контакт медицинских работников       с зараженной кровью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ливание непроверен- ной кров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передаче инфекции от матери плоду во время беременности и новорожденному во время род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рез молоко матер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688000" y="0"/>
            <a:ext cx="3456000" cy="25858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796000" y="3500280"/>
            <a:ext cx="3348000" cy="243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ной фактор риска заражения ВИЧ в нашей стране –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внутривенное введение наркотических препарат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Наркоманы на сегодняшний день составляют абсолютное большинство всех инфицированных в нашей стран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124000" y="3552840"/>
            <a:ext cx="4392720" cy="3305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10920" y="692280"/>
            <a:ext cx="7848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сем мире сегодня                         говорят о 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СПИД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, о том, какую угрозу существованию человечества несет эта глобальная эпидем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жно вспоминать и оплакивать тех, кто уже умер или смертельно болен, можно говорить о масштабах трагедии и о том, что эта чума 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Х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а теперь уже и 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ХХ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ка угрожает существованию человечества…</a:t>
            </a:r>
            <a:br>
              <a:rPr sz="32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40"/>
            <a:ext cx="9144000" cy="684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68000" y="691920"/>
            <a:ext cx="7559640" cy="5662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ПИД в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гда-то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ПИД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ыл для России признаком "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разложения Запад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, от которого нас охраняла одна из лучших в мире систем здравоохран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ые случаи ВИЧ-инфекции списали на моральный облик тех, кому был поставлен диагноз, продолжая считать, что большинство населения эта проблема не касаетс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Рисунок 4" descr="1828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м не менее, время идет, и эпидемия нарастае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В 2002 году ее темпы уже были одними из самых высоких в мир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 больше наших соотечественников учатся жить с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ВИЧ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все большее количество российских семей, оказалось затронуто эпидемией, страдая не только от самого заболевания, но и от предрассудков и дискриминации общества, упорствующего в своем желании закрывать на проблему глаза и обвинять во всем тех, кого она коснула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1128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Как жить, зная, что у тебя СПИД</a:t>
            </a: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06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иллионы людей во всем мире живут с ВИЧ и стремятся к тому, чтобы их жизнь была долгой и качественн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деемся, что информация на этих страницах поможет вам сохранить здоровье, преодолеть кризисы, избежать опасных ошибок и создать благоприятное окружение, которое особенно необходимо тем, кто ежедневно борется с ВИЧ-инфекци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Рисунок 5" descr="CP4.jpg"/>
          <p:cNvPicPr/>
          <p:nvPr/>
        </p:nvPicPr>
        <p:blipFill>
          <a:blip r:embed="rId1"/>
          <a:stretch/>
        </p:blipFill>
        <p:spPr>
          <a:xfrm>
            <a:off x="7236000" y="4292640"/>
            <a:ext cx="1908000" cy="1428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1487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Перемены возможн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меняется характер эпидемии, но также меняется отношение правительства, специалистов, подходы к профилактике и уход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степенно изменяется отношение отдельного человека, живущего в России - стране, где есть СПИ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Рисунок 4" descr="post-19-1101916714.gif"/>
          <p:cNvPicPr/>
          <p:nvPr/>
        </p:nvPicPr>
        <p:blipFill>
          <a:blip r:embed="rId1"/>
          <a:stretch/>
        </p:blipFill>
        <p:spPr>
          <a:xfrm>
            <a:off x="5292720" y="1557360"/>
            <a:ext cx="3541680" cy="4317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ПОМНИТ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5292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ы жить долгие годы и дожить до биологической старости важно 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заботиться о своем здоровь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при обнаружении болезни своевременно начать противовирусное лечение и приложить максимум усилий, чтобы не допустить развития вторичных заболевани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Рисунок 5" descr="1.jpg"/>
          <p:cNvPicPr/>
          <p:nvPr/>
        </p:nvPicPr>
        <p:blipFill>
          <a:blip r:embed="rId1"/>
          <a:stretch/>
        </p:blipFill>
        <p:spPr>
          <a:xfrm>
            <a:off x="5292720" y="1268280"/>
            <a:ext cx="3564000" cy="4581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0"/>
            <a:ext cx="45612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268360" y="6165720"/>
            <a:ext cx="453564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612144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Всемирный день борьбы со СПИД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5267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 раз в году -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1 декабр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аступает день – когда о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СПИ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 вспоминают в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день, когда люди вс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ланеты объединяются для единой цели остановить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СПИ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ВИЧ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ый год в мире свыше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5 миллион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человек заражаются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ВИ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98100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3716280"/>
            <a:ext cx="330192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3827520" cy="56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Всемирный день борьбы со </a:t>
            </a:r>
            <a:r>
              <a:rPr b="1" lang="ru-RU" sz="3300" spc="-1" strike="noStrike">
                <a:solidFill>
                  <a:srgbClr val="ffff66"/>
                </a:solidFill>
                <a:latin typeface="Tahoma"/>
              </a:rPr>
              <a:t>СПИД</a:t>
            </a: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ом это ещё один шанс заявить: «</a:t>
            </a:r>
            <a:r>
              <a:rPr b="1" lang="ru-RU" sz="3300" spc="-1" strike="noStrike">
                <a:solidFill>
                  <a:srgbClr val="ffff66"/>
                </a:solidFill>
                <a:latin typeface="Tahoma"/>
              </a:rPr>
              <a:t>Спид есть в мире где мы живем. Но он не должен быть среди нас</a:t>
            </a: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.»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1197000"/>
            <a:ext cx="355284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54100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5 июня 198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года Американский Центр контроля над заболеваниями зарегистрировал      новую болезнь —     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ПИ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Синдром приобретенного иммунодефицита)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557360"/>
            <a:ext cx="4381560" cy="48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43280" y="6093000"/>
            <a:ext cx="108108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6093000"/>
            <a:ext cx="4321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4211640" y="0"/>
            <a:ext cx="8182080" cy="9144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785520" y="1916280"/>
            <a:ext cx="8034120" cy="3906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82 году ученым удалось выяснить, что причиной </a:t>
            </a:r>
            <a:r>
              <a:rPr b="1" lang="ru-RU" sz="3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СПИД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является вирус, который поражает клетки иммунной системы человека, делая их неспособными защищать организм от заболеваний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т уже третье десятилетие человечество пытается обуздать этот примитивный, но коварный микроорганизм - вирус иммунодефицита человека.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Рисунок 3" descr="cam14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019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9280" y="2349360"/>
            <a:ext cx="85075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ая вирусная инфекция, распространившаяся по всему мир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979-198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г.г. – врачи в Нью-Йорке и Лос-Анджелесе заметили необычные иммунные нарушения у ряда пациенток: рак кровеносных сосудов (саркома Капоши) и редкую форму пневмонии (пневмоцистная пневмония). Заболевание закончилось смер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548316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Почему          “Чума XX века”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189000"/>
            <a:ext cx="2952720" cy="226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en-US" sz="3700" spc="-1" strike="noStrike">
                <a:solidFill>
                  <a:srgbClr val="ffff66"/>
                </a:solidFill>
                <a:latin typeface="Tahoma"/>
              </a:rPr>
              <a:t>1982 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г. центры по контролю заболеваний ввели в реестр болезней новое заболевание - </a:t>
            </a:r>
            <a:r>
              <a:rPr b="1" lang="en-US" sz="3900" spc="-1" strike="noStrike">
                <a:solidFill>
                  <a:srgbClr val="ffff66"/>
                </a:solidFill>
                <a:latin typeface="Tahoma"/>
              </a:rPr>
              <a:t>СПИД;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66"/>
                </a:solidFill>
                <a:latin typeface="Tahoma"/>
              </a:rPr>
              <a:t>1983 г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. – появились первые сведения о возбудителе болезни;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789360"/>
            <a:ext cx="396072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66"/>
                </a:solidFill>
                <a:latin typeface="Tahoma"/>
              </a:rPr>
              <a:t>1984 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г. - возбудитель выделен в чистой культуре, созданы тест-системы для его обнаружения;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916280"/>
            <a:ext cx="599436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3:04:02Z</dcterms:created>
  <dc:creator>Demonice</dc:creator>
  <dc:description/>
  <dc:language>en-US</dc:language>
  <cp:lastModifiedBy>Елена</cp:lastModifiedBy>
  <dcterms:modified xsi:type="dcterms:W3CDTF">2013-12-04T06:07:17Z</dcterms:modified>
  <cp:revision>34</cp:revision>
  <dc:subject/>
  <dc:title>Слайд 1</dc:title>
</cp:coreProperties>
</file>