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60D4-71E5-44D1-B5B6-78A81D3C6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BD47-8896-4B7D-8440-731647F6C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381B-F9C7-4F47-A210-6582A76A6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1BC4-FF9A-474C-AA06-6ED798D5A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6704A-8813-42BE-91E9-EA3817140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A8E52-CA30-4987-A4F8-A020F1CE1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F8587-1FFA-4E26-BB24-DCB4C22F2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104D8-15AB-4D08-BE4E-A3DECA2F7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D78E2-C8CF-42C0-A0F0-9D5C6DD1B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CDD23-9D30-4287-A21D-0CAEC3784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25FF3-3495-40B4-B5DB-1A0E77D2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D501-78E8-4B04-8CA2-F4EE01750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B7157-FD43-45B2-84CA-E8D3D7A7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2660E-A6FE-41CF-87FE-591E3F8F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5BF49-265D-4467-B372-5B9A79DE4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CB2AE-AB1C-44A4-9C49-E9293C853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26633-9E83-4754-8F74-C7E75BB2E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32892-4935-438A-BCCB-67E7E49F2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535D1-E25F-4AE2-A0A3-002DB449D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EC44C-6A44-4A46-9AFE-CC3358044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A9D7B-D46A-4765-8601-3C099C9A6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9C650-903E-4978-8EF3-C45475E33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ADD5-C4D6-45E9-8D82-47A7EF866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710AD-017B-49C0-B078-6D6CA0783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AD698-8546-4221-A4B0-1FEFD63B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AC697-7308-4B33-BC6C-6BE954BC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6BD28-F563-44B4-BF30-37FFF7F0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2E7B2-92E5-433B-A9B7-0829C196F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339E1-8EA3-4E59-B748-CEC33769D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23107-E567-4CA5-B862-CC593F82E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8BD93-B0B6-482F-B88F-73601A479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2A0C2-09AC-454E-A759-DE791F560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CDFB1-B473-4132-8F82-0AD75F61E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9569-C2B7-440C-8758-3CED39B60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1E736-6C56-4CFB-B9FF-29FE7A11E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B8F82-FDAD-4453-A91A-7D91F2B8F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65E34-140C-4C3E-8A70-A73E4486E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CAC81-A028-41C0-B6A9-273C7643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5FDDA-0908-423A-8681-B42A9D35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2FF65-21EC-434F-8F53-73CF89D69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2D338-C8BB-47F0-A58C-63811DDFC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1E21D-FC8A-4CF2-AF13-CF16BA6A3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30611-74A6-4545-9771-D864A206F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45457-C6D1-4530-85FB-1C3420A4F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9CC0-C1EF-4F3F-A3D8-EF41FF044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2FBA6-CEFA-4574-973A-752E30BE3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89119-D5CD-4A5C-BA45-7844C885A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A2ADB-F8C7-45AA-9FE2-F0664CE20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49593-0669-4FAC-A512-0F45D0E62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108E6-E977-49E7-9FA0-1E715F4F7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4EF3D-B600-4BFB-A61B-5CEFAED8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E69B5-573D-4055-B0C6-E30B9C04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5542E-B8D6-4859-BCA2-2ED6E673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ACDE8-BC95-4B2A-B71C-78DCB70F1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321DA-0FC8-4980-B67B-B1DD5BE43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43AD-8F90-4477-86F5-9213F5B9B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EFD26-E100-45E5-83EB-D8EBB2AA4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BF4AA-5A7A-46BF-8A83-D95B74CDF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D711D-EB47-40AC-A3C3-CB42D62BE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D6BF3F-2694-4B2C-8CDC-008BA491D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2F061-1340-43CE-A2A9-1FAC12E7F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46651-E54F-4837-AFE9-08372EEED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24DED0-83F5-4A2D-A69F-63065A372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C3534-E692-4E6B-98B5-B5AEA34F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22C23-3915-463C-892C-697EE0F8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F9B6D-FD7C-4BE8-B0FF-9D9F197C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F5DC-98AA-4CD7-87AC-DA234B5E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2C0FC3-4EFB-4DF0-913B-4C2492275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57F6E-FC12-42DD-92FC-EC0176845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5D5EB-B3FA-48D4-B3CD-BD000F34A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28AE24-C0CC-4894-A3E3-0E4064BC1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EF30A-8598-42E7-BB05-6CCDC73B6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8B631-548F-453A-ADA5-6CDAA80E2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592FA3-CCDA-4511-9B2B-15A796DBD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07D917-18A3-40D3-B1F7-0CA71CE1C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34E6D-8A94-48A7-95F7-2C570AD0D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C68F05-1A11-4E43-A339-7621D919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CAEF-8AC0-4256-8C4A-0D886E03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11839-ACDB-428A-AA1B-EAA9AC28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C87A9F-7E6C-4F43-BAB9-445D4E45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BF44BE-2790-4211-B454-43BB852D9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7952E3-5D09-4047-9422-4B6A777F1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CAAF0-66E1-4BDC-8DB9-212A8821F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0E3B-A14E-45B7-80B8-7A3F8273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>
                <a:gd name="textAreaLeft" fmla="*/ 0 w 5543640"/>
                <a:gd name="textAreaRight" fmla="*/ 5544000 w 554364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>
                <a:gd name="textAreaLeft" fmla="*/ 0 w 3308400"/>
                <a:gd name="textAreaRight" fmla="*/ 3308760 w 330840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3EC1B-836F-4B0C-9395-180373DD5EAD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DB313-734E-4AB5-8789-93F4F9A6E0FB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>
              <a:gd name="textAreaLeft" fmla="*/ 0 w 2876400"/>
              <a:gd name="textAreaRight" fmla="*/ 2876760 w 287640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>
              <a:gd name="textAreaLeft" fmla="*/ 0 w 5545080"/>
              <a:gd name="textAreaRight" fmla="*/ 5545440 w 554508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>
              <a:gd name="textAreaLeft" fmla="*/ 0 w 5467320"/>
              <a:gd name="textAreaRight" fmla="*/ 5467680 w 546732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>
              <a:gd name="textAreaLeft" fmla="*/ 0 w 3306600"/>
              <a:gd name="textAreaRight" fmla="*/ 3306960 w 3306600"/>
              <a:gd name="textAreaTop" fmla="*/ 0 h 652680"/>
              <a:gd name="textAreaBottom" fmla="*/ 653040 h 652680"/>
            </a:gdLst>
            <a:ahLst/>
            <a:rect l="textAreaLeft" t="textAreaTop" r="textAreaRight" b="textAreaBottom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>
              <a:gd name="textAreaLeft" fmla="*/ 0 w 8723520"/>
              <a:gd name="textAreaRight" fmla="*/ 8723880 w 8723520"/>
              <a:gd name="textAreaTop" fmla="*/ 0 h 1328760"/>
              <a:gd name="textAreaBottom" fmla="*/ 1329120 h 1328760"/>
            </a:gdLst>
            <a:ahLst/>
            <a:rect l="textAreaLeft" t="textAreaTop" r="textAreaRight" b="textAreaBottom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6631E-5AC5-47E4-B7E9-CF4B72BCB90D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custGeom>
              <a:avLst/>
              <a:gdLst>
                <a:gd name="textAreaLeft" fmla="*/ 0 w 5543640"/>
                <a:gd name="textAreaRight" fmla="*/ 5544000 w 554364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custGeom>
              <a:avLst/>
              <a:gdLst>
                <a:gd name="textAreaLeft" fmla="*/ 0 w 3308400"/>
                <a:gd name="textAreaRight" fmla="*/ 3308760 w 330840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96874-5C1F-4AA6-9E82-E0EDF867C6BE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6520"/>
                <a:gd name="textAreaBottom" fmla="*/ 776880 h 7765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D9AA4-54D7-4C6E-83F0-17E09066C032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960E9-83B2-488F-9C16-43A6BCBC68C0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6520"/>
                <a:gd name="textAreaBottom" fmla="*/ 776880 h 7765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8EE86-A58F-4392-956C-625461496E81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https://fs.znanio.ru/d5af0e/84/6f/dc1953861d284db29dbc2d87521a331abf.jpg"/>
          <p:cNvPicPr/>
          <p:nvPr/>
        </p:nvPicPr>
        <p:blipFill>
          <a:blip r:embed="rId1"/>
          <a:stretch/>
        </p:blipFill>
        <p:spPr>
          <a:xfrm>
            <a:off x="0" y="-19080"/>
            <a:ext cx="9153360" cy="68770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2" descr="https://fs.znanio.ru/d5af0e/84/6f/dc1953861d284db29dbc2d87521a331abf.jpg"/>
          <p:cNvPicPr/>
          <p:nvPr/>
        </p:nvPicPr>
        <p:blipFill>
          <a:blip r:embed="rId2"/>
          <a:stretch/>
        </p:blipFill>
        <p:spPr>
          <a:xfrm>
            <a:off x="0" y="-19080"/>
            <a:ext cx="9153360" cy="68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6836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24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0" lang="ru-RU" sz="9600" spc="-1" strike="noStrike">
                <a:solidFill>
                  <a:srgbClr val="7030a0"/>
                </a:solidFill>
                <a:latin typeface="Candara"/>
              </a:rPr>
              <a:t>  </a:t>
            </a:r>
            <a:r>
              <a:rPr b="0" lang="ru-RU" sz="9600" spc="-1" strike="noStrike">
                <a:solidFill>
                  <a:srgbClr val="7030a0"/>
                </a:solidFill>
                <a:latin typeface="Candara"/>
              </a:rPr>
              <a:t>Спасибо</a:t>
            </a:r>
            <a:endParaRPr b="0" lang="en-US" sz="9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7030a0"/>
                </a:solidFill>
                <a:latin typeface="Candara"/>
              </a:rPr>
              <a:t>       </a:t>
            </a:r>
            <a:r>
              <a:rPr b="0" lang="ru-RU" sz="9600" spc="-1" strike="noStrike">
                <a:solidFill>
                  <a:srgbClr val="7030a0"/>
                </a:solidFill>
                <a:latin typeface="Candara"/>
              </a:rPr>
              <a:t>за урок!</a:t>
            </a:r>
            <a:endParaRPr b="0" lang="en-US" sz="9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4" name="Picture 2" descr="C:\Users\USER\Desktop\a7c9a6b71ba39fccb1b4e813c4ac9356.jpg"/>
          <p:cNvPicPr/>
          <p:nvPr/>
        </p:nvPicPr>
        <p:blipFill>
          <a:blip r:embed="rId1"/>
          <a:stretch/>
        </p:blipFill>
        <p:spPr>
          <a:xfrm>
            <a:off x="6156360" y="4005360"/>
            <a:ext cx="2732040" cy="28526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2" descr="C:\Users\USER\Desktop\3aklass_1348153126.jpg"/>
          <p:cNvPicPr/>
          <p:nvPr/>
        </p:nvPicPr>
        <p:blipFill>
          <a:blip r:embed="rId2"/>
          <a:stretch/>
        </p:blipFill>
        <p:spPr>
          <a:xfrm>
            <a:off x="130320" y="4025880"/>
            <a:ext cx="2352600" cy="213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684360" y="4941720"/>
            <a:ext cx="12952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896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9528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зовите числа в порядке увеличения.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TextBox 3"/>
          <p:cNvSpPr/>
          <p:nvPr/>
        </p:nvSpPr>
        <p:spPr>
          <a:xfrm>
            <a:off x="1692360" y="494172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e65"/>
                </a:solidFill>
                <a:latin typeface="Times New Roman"/>
                <a:ea typeface="Times New Roman"/>
              </a:rPr>
              <a:t>, </a:t>
            </a:r>
            <a:r>
              <a:rPr b="1" lang="ru-RU" sz="3600" spc="-1" strike="noStrike">
                <a:solidFill>
                  <a:srgbClr val="052e65"/>
                </a:solidFill>
                <a:latin typeface="Times New Roman"/>
                <a:ea typeface="Times New Roman"/>
              </a:rPr>
              <a:t>20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4"/>
          <p:cNvSpPr/>
          <p:nvPr/>
        </p:nvSpPr>
        <p:spPr>
          <a:xfrm>
            <a:off x="2771640" y="494172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e65"/>
                </a:solidFill>
                <a:latin typeface="Times New Roman"/>
                <a:ea typeface="Times New Roman"/>
              </a:rPr>
              <a:t>,  </a:t>
            </a:r>
            <a:r>
              <a:rPr b="1" lang="ru-RU" sz="3600" spc="-1" strike="noStrike">
                <a:solidFill>
                  <a:srgbClr val="052e65"/>
                </a:solidFill>
                <a:latin typeface="Times New Roman"/>
                <a:ea typeface="Times New Roman"/>
              </a:rPr>
              <a:t>388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5"/>
          <p:cNvSpPr/>
          <p:nvPr/>
        </p:nvSpPr>
        <p:spPr>
          <a:xfrm>
            <a:off x="3995640" y="494172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52e65"/>
                </a:solidFill>
                <a:latin typeface="Candara"/>
              </a:rPr>
              <a:t> </a:t>
            </a:r>
            <a:r>
              <a:rPr b="0" lang="ru-RU" sz="3200" spc="-1" strike="noStrike">
                <a:solidFill>
                  <a:srgbClr val="052e65"/>
                </a:solidFill>
                <a:latin typeface="Times New Roman"/>
                <a:ea typeface="Times New Roman"/>
              </a:rPr>
              <a:t>, </a:t>
            </a:r>
            <a:r>
              <a:rPr b="1" lang="ru-RU" sz="3600" spc="-1" strike="noStrike">
                <a:solidFill>
                  <a:srgbClr val="052e65"/>
                </a:solidFill>
                <a:latin typeface="Times New Roman"/>
                <a:ea typeface="Times New Roman"/>
              </a:rPr>
              <a:t>40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оугольник 6"/>
          <p:cNvSpPr/>
          <p:nvPr/>
        </p:nvSpPr>
        <p:spPr>
          <a:xfrm>
            <a:off x="1763640" y="260280"/>
            <a:ext cx="727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очитайте  числа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оугольник 7"/>
          <p:cNvSpPr/>
          <p:nvPr/>
        </p:nvSpPr>
        <p:spPr>
          <a:xfrm>
            <a:off x="250920" y="1484280"/>
            <a:ext cx="878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52e65"/>
                </a:solidFill>
                <a:latin typeface="Times New Roman"/>
                <a:ea typeface="Times New Roman"/>
              </a:rPr>
              <a:t>3888,  10097,  1896,  100978,  2035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52e65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52e65"/>
                </a:solidFill>
                <a:latin typeface="Times New Roman"/>
                <a:ea typeface="Times New Roman"/>
              </a:rPr>
              <a:t>6874,  100001,  200786,  405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9"/>
          <p:cNvSpPr/>
          <p:nvPr/>
        </p:nvSpPr>
        <p:spPr>
          <a:xfrm>
            <a:off x="5148360" y="494172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52e65"/>
                </a:solidFill>
                <a:latin typeface="Candara"/>
              </a:rPr>
              <a:t> </a:t>
            </a:r>
            <a:r>
              <a:rPr b="1" lang="ru-RU" sz="3600" spc="-1" strike="noStrike">
                <a:solidFill>
                  <a:srgbClr val="052e65"/>
                </a:solidFill>
                <a:latin typeface="Times New Roman"/>
                <a:ea typeface="Times New Roman"/>
              </a:rPr>
              <a:t>, 687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11"/>
          <p:cNvSpPr/>
          <p:nvPr/>
        </p:nvSpPr>
        <p:spPr>
          <a:xfrm>
            <a:off x="6372360" y="494172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52e65"/>
                </a:solidFill>
                <a:latin typeface="Candara"/>
              </a:rPr>
              <a:t> </a:t>
            </a:r>
            <a:r>
              <a:rPr b="1" lang="ru-RU" sz="3600" spc="-1" strike="noStrike">
                <a:solidFill>
                  <a:srgbClr val="052e65"/>
                </a:solidFill>
                <a:latin typeface="Times New Roman"/>
                <a:ea typeface="Times New Roman"/>
              </a:rPr>
              <a:t>, 10097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12"/>
          <p:cNvSpPr/>
          <p:nvPr/>
        </p:nvSpPr>
        <p:spPr>
          <a:xfrm>
            <a:off x="539640" y="5157720"/>
            <a:ext cx="15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ndara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00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13"/>
          <p:cNvSpPr/>
          <p:nvPr/>
        </p:nvSpPr>
        <p:spPr>
          <a:xfrm>
            <a:off x="1908000" y="5732640"/>
            <a:ext cx="18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52e65"/>
                </a:solidFill>
                <a:latin typeface="Times New Roman"/>
                <a:ea typeface="Times New Roman"/>
              </a:rPr>
              <a:t>, 10097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оугольник 15"/>
          <p:cNvSpPr/>
          <p:nvPr/>
        </p:nvSpPr>
        <p:spPr>
          <a:xfrm>
            <a:off x="3423600" y="5732640"/>
            <a:ext cx="212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52e65"/>
                </a:solidFill>
                <a:latin typeface="Candara"/>
              </a:rPr>
              <a:t> </a:t>
            </a:r>
            <a:r>
              <a:rPr b="1" lang="ru-RU" sz="3600" spc="-1" strike="noStrike">
                <a:solidFill>
                  <a:srgbClr val="052e65"/>
                </a:solidFill>
                <a:latin typeface="Times New Roman"/>
                <a:ea typeface="Times New Roman"/>
              </a:rPr>
              <a:t>, 200786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ndara"/>
              </a:rPr>
              <a:t>Тема урока: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1331640" y="2349000"/>
            <a:ext cx="655308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2060"/>
                </a:solidFill>
                <a:latin typeface="Candara"/>
              </a:rPr>
              <a:t> </a:t>
            </a:r>
            <a:r>
              <a:rPr b="1" lang="ru-RU" sz="5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умерация чисел больше 1000</a:t>
            </a:r>
            <a:endParaRPr b="0" lang="en-US" sz="55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повторение и обобщение)</a:t>
            </a:r>
            <a:endParaRPr b="0" lang="en-US" sz="55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95280" y="198900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2060"/>
                </a:solidFill>
                <a:latin typeface="Book Antiqua"/>
              </a:rPr>
              <a:t>1 декабря.</a:t>
            </a:r>
            <a:br>
              <a:rPr sz="6000"/>
            </a:br>
            <a:r>
              <a:rPr b="1" i="1" lang="ru-RU" sz="6000" spc="-1" strike="noStrike">
                <a:solidFill>
                  <a:srgbClr val="002060"/>
                </a:solidFill>
                <a:latin typeface="Book Antiqua"/>
              </a:rPr>
              <a:t>Классная работа.</a:t>
            </a:r>
            <a:endParaRPr b="0" lang="en-US" sz="6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71200" y="2674440"/>
            <a:ext cx="1036440" cy="9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01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оверим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5" name="TextBox 3"/>
          <p:cNvSpPr/>
          <p:nvPr/>
        </p:nvSpPr>
        <p:spPr>
          <a:xfrm>
            <a:off x="1627920" y="2637000"/>
            <a:ext cx="157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 397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5"/>
          <p:cNvSpPr/>
          <p:nvPr/>
        </p:nvSpPr>
        <p:spPr>
          <a:xfrm>
            <a:off x="3059280" y="263700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675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6"/>
          <p:cNvSpPr/>
          <p:nvPr/>
        </p:nvSpPr>
        <p:spPr>
          <a:xfrm>
            <a:off x="4284720" y="2637000"/>
            <a:ext cx="21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1453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7"/>
          <p:cNvSpPr/>
          <p:nvPr/>
        </p:nvSpPr>
        <p:spPr>
          <a:xfrm>
            <a:off x="6084720" y="263700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60500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684360" y="162828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 первый день продали 10 мешков муки по 45 кг в каждом, а во второй день 6 мешков по 35 кг . На сколько мешков больше продали в первый день, чем во второй?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ботаем с задачей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1" name="Picture 2" descr="C:\Users\USER\Desktop\article578.jpg"/>
          <p:cNvPicPr/>
          <p:nvPr/>
        </p:nvPicPr>
        <p:blipFill>
          <a:blip r:embed="rId1"/>
          <a:stretch/>
        </p:blipFill>
        <p:spPr>
          <a:xfrm>
            <a:off x="3768840" y="4540320"/>
            <a:ext cx="3324240" cy="219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468360" y="5084280"/>
            <a:ext cx="740880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76360" indent="-273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-603360"/>
            <a:ext cx="8229600" cy="258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ешение.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4" name="TextBox 4"/>
          <p:cNvSpPr/>
          <p:nvPr/>
        </p:nvSpPr>
        <p:spPr>
          <a:xfrm>
            <a:off x="1258920" y="2276640"/>
            <a:ext cx="68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)45 х 10 = 450 (кг) –  муки продали в 1 д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оугольник 6"/>
          <p:cNvSpPr/>
          <p:nvPr/>
        </p:nvSpPr>
        <p:spPr>
          <a:xfrm>
            <a:off x="1258920" y="278136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) 35 х 6 = 210 (кг) – муки продали во 2 д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9"/>
          <p:cNvSpPr/>
          <p:nvPr/>
        </p:nvSpPr>
        <p:spPr>
          <a:xfrm>
            <a:off x="1088640" y="3284640"/>
            <a:ext cx="746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) 450 – 210 =240 ( кг) – больше продали в 1 д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оугольник 10"/>
          <p:cNvSpPr/>
          <p:nvPr/>
        </p:nvSpPr>
        <p:spPr>
          <a:xfrm>
            <a:off x="1332000" y="3789360"/>
            <a:ext cx="69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вет: на 24о кг муки продали больше в 1 день, чем во 2д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оугольник 11"/>
          <p:cNvSpPr/>
          <p:nvPr/>
        </p:nvSpPr>
        <p:spPr>
          <a:xfrm>
            <a:off x="1059480" y="4724280"/>
            <a:ext cx="40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5х10 – 35 х 6 = 240 ( к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ценим свои достижения.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1042920" y="2565360"/>
          <a:ext cx="7129440" cy="1828800"/>
        </p:xfrm>
        <a:graphic>
          <a:graphicData uri="http://schemas.openxmlformats.org/drawingml/2006/table">
            <a:tbl>
              <a:tblPr/>
              <a:tblGrid>
                <a:gridCol w="1944720"/>
                <a:gridCol w="1619280"/>
                <a:gridCol w="1782720"/>
                <a:gridCol w="178272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ол- во (+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e7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-6 (+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e7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(+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e7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 (+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e7f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тметк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417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омашнее задание</a:t>
            </a:r>
            <a:r>
              <a:rPr b="0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</a:t>
            </a:r>
            <a:br>
              <a:rPr sz="5400"/>
            </a:br>
            <a:br>
              <a:rPr sz="5400"/>
            </a:b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тр. 69 № 7,10.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2T11:36:36Z</dcterms:created>
  <dc:creator>USER</dc:creator>
  <dc:description/>
  <dc:language>en-US</dc:language>
  <cp:lastModifiedBy>Пользователь</cp:lastModifiedBy>
  <dcterms:modified xsi:type="dcterms:W3CDTF">2021-11-28T15:42:34Z</dcterms:modified>
  <cp:revision>30</cp:revision>
  <dc:subject/>
  <dc:title>Урок математики</dc:title>
</cp:coreProperties>
</file>