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27-74E2-4ED1-8DA5-CFFAAD96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1FD-3ACA-4378-87BD-045FFC2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64E-F82E-44C0-B92B-0F4B7835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23D-3B0F-4404-B8EF-8762B2BB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D843-7CFB-4597-9B30-6A9175B2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133-8244-441E-B5F6-3761B5E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E584-D590-4564-B597-D6B1618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382-3B75-4F49-8189-026146A7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992F-2608-40BA-9648-3BD022A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4EE-BCEC-42AF-9E74-61ACF749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109D-1AD4-401E-B647-7BDB459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829-D38F-4A9A-B1FC-9601249A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A83-0229-4562-A4FD-E7A3616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306D-5611-4C3A-90E3-5F1FA78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DD6-2F52-4294-9B6E-4EF74B05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0E2-230C-4EB2-BBB5-EB1D779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5E65-745C-4E9C-B51C-38831533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DA34-2302-496F-A3EE-9DD4B148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D923-E8E4-48AC-BEEA-5B0E0EA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08CA-274A-4096-937F-4DEA430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AA44-AB46-4251-AA19-D8E43F54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F48B-BDA5-4A1B-B4D6-8CB6775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330-0F5D-488A-BE8D-05F7472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8B85-01D8-4E4D-8EC9-01EE009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5031-AAFF-4FD2-AA35-2BB547B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AF65-8949-425D-A0E7-31AB558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BFEF-9EB3-4D94-A7BD-060E26B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A2B5-B4A5-4A44-BFC3-12EA73B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D625-FBAA-4898-8A1F-985523E8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671C-5EE8-4BA5-A43D-2C152EF5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3684-71AB-4693-80B0-02F799D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2B35-4F4D-4D28-9D24-9775674C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A322-AAFC-4BC9-B5E5-9E10B59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ECB-6C61-42BC-9A84-B71DEF2D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1E9A-1BC9-4677-91B1-D0379F4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26F1-7911-4F2D-8743-C51A4177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6285-6093-4F0A-96C1-F084F8C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715B-44A7-4D48-B564-560F121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1ED18-AD16-44D6-A053-D1D3FD5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5D30-EA79-4493-A46A-A99353E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19AF-D9AC-40DE-8B41-4340D63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44D9-F290-42BA-97B8-23911661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78C0-BAA6-4461-B8E2-391AA8B7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20A3-F21C-4A76-8926-D265DF69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507-C896-489B-8B0B-5E7EA8C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A450F-D0DF-4C72-95B8-514D67B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1D2E-1430-4B9C-A05B-43FC3BA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CC16-6F18-44C5-BC9A-7AE18A3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4522-F8B6-4F16-8BA7-168F2B6E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1DD0-B075-48D7-84DA-4A4DDB7A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EAB3-A2EB-4677-8339-984D925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D6D9-62B5-43F4-9B1D-CA1B38E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8AF4-46B1-4E17-81EE-4F804F9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EA6D-A981-4EA0-8307-30F72ED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04DD-7FDA-4752-AA65-E5B0D1B2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CAE-A6FB-460F-AFE4-B20DDCA8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0465-E644-440E-96E7-9EBB6A55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93C6-B5AD-415B-93BD-547365B2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ED35-DF60-4BDF-A0CB-63A7A04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714C-12FE-4BC9-9DBB-B1982590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5C87-8BC1-42BF-A5AF-0B348D9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C7F75-A1E9-486B-A754-8389172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FCC6-5ED0-4169-BF0A-E288747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7044-B310-4491-A80C-0CA0BDD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E590-DFA7-4771-B90A-D902E66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67C1-A581-4A18-87BE-4910708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536-AEC5-49AB-B6F7-0D07A53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0F05-3484-48BD-A794-930A9C21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355F-E841-4967-A89C-3EFF4E1C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9527B-B159-4D81-8682-204C4A6A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F0363-C9F0-42F7-854D-C78A33E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C9BFF-4A1F-4BF9-AD4A-1755E0C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6FB0-551C-4D2D-ADFC-84A050D5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59C6-63A3-47CE-99DB-79A3FDF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1638-A537-4B33-9F68-7228B50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51DF-362A-45CA-9B72-1531823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2F35-5B66-442E-ACBD-C83142B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F9D-3BD9-4E60-AED3-DA56100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2826-330F-4E43-AD4F-CA5F1CD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676D8-F66E-4F36-8FAB-4BDA681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E081D-22E2-46A7-9421-73F744BC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D370-621F-44FA-9101-6BD9182E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54CA-AF9F-4FD3-8B0F-71CEB428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4B8-2166-4496-B1C2-B532B0E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3C87-4641-4A57-8B2F-ECF23CD0305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5BD-B96A-4618-90AB-169E5719764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6075-34A3-42CA-AB52-F8ABF76D128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9E2-4680-4CBF-9689-2F1D9ECC25A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5328-F460-4B89-BC1F-70330302263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459-9A6A-479B-8934-B2B5046CD66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9E3-A2BC-4FC0-BB4F-6BE5C13C30A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fs.znanio.ru/d5af0e/84/6f/dc1953861d284db29dbc2d87521a331abf.jpg"/>
          <p:cNvPicPr/>
          <p:nvPr/>
        </p:nvPicPr>
        <p:blipFill>
          <a:blip r:embed="rId1"/>
          <a:stretch/>
        </p:blipFill>
        <p:spPr>
          <a:xfrm>
            <a:off x="0" y="-19080"/>
            <a:ext cx="9153360" cy="6877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s://fs.znanio.ru/d5af0e/84/6f/dc1953861d284db29dbc2d87521a331abf.jpg"/>
          <p:cNvPicPr/>
          <p:nvPr/>
        </p:nvPicPr>
        <p:blipFill>
          <a:blip r:embed="rId2"/>
          <a:stretch/>
        </p:blipFill>
        <p:spPr>
          <a:xfrm>
            <a:off x="0" y="-19080"/>
            <a:ext cx="915336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Спасибо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     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за урок!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2" descr="C:\Users\USER\Desktop\a7c9a6b71ba39fccb1b4e813c4ac9356.jpg"/>
          <p:cNvPicPr/>
          <p:nvPr/>
        </p:nvPicPr>
        <p:blipFill>
          <a:blip r:embed="rId1"/>
          <a:stretch/>
        </p:blipFill>
        <p:spPr>
          <a:xfrm>
            <a:off x="6156360" y="4005360"/>
            <a:ext cx="2732040" cy="2852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USER\Desktop\3aklass_1348153126.jpg"/>
          <p:cNvPicPr/>
          <p:nvPr/>
        </p:nvPicPr>
        <p:blipFill>
          <a:blip r:embed="rId2"/>
          <a:stretch/>
        </p:blipFill>
        <p:spPr>
          <a:xfrm>
            <a:off x="130320" y="4025880"/>
            <a:ext cx="235260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4941720"/>
            <a:ext cx="1295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96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а в порядке увеличени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692360" y="4941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20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771640" y="4941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38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3995640" y="49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4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1763640" y="26028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читайте  числ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50920" y="14842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3888,  10097,  1896,  100978,  203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6874,  100001,  200786,  405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5148360" y="49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68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6372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1009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539640" y="5157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908000" y="5732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1009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5"/>
          <p:cNvSpPr/>
          <p:nvPr/>
        </p:nvSpPr>
        <p:spPr>
          <a:xfrm>
            <a:off x="3423600" y="573264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20078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ndara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31640" y="2349000"/>
            <a:ext cx="655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мерация чисел больше 1000</a:t>
            </a:r>
            <a:endParaRPr b="0" lang="en-US" sz="5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вторение и обобщение)</a:t>
            </a:r>
            <a:endParaRPr b="0" lang="en-US" sz="5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Book Antiqua"/>
              </a:rPr>
              <a:t>1 декабря.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Book Antiqua"/>
              </a:rPr>
              <a:t>Классная работа.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200" y="2674440"/>
            <a:ext cx="1036440" cy="9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01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им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1627920" y="2637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 39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3059280" y="263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7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4284720" y="26370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453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6084720" y="2637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05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84360" y="1628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первый день продали 10 мешков муки по 45 кг в каждом, а во второй день 6 мешков по 35 кг . На сколько мешков больше продали в первый день, чем во второй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ем с задаче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USER\Desktop\article578.jpg"/>
          <p:cNvPicPr/>
          <p:nvPr/>
        </p:nvPicPr>
        <p:blipFill>
          <a:blip r:embed="rId1"/>
          <a:stretch/>
        </p:blipFill>
        <p:spPr>
          <a:xfrm>
            <a:off x="3768840" y="4540320"/>
            <a:ext cx="332424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360" y="508428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603360"/>
            <a:ext cx="8229600" cy="25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шени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258920" y="2276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45 х 10 = 450 (кг) –  муки продали в 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1258920" y="278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35 х 6 = 210 (кг) – муки продали во 2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1088640" y="3284640"/>
            <a:ext cx="74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450 – 210 =240 ( кг) – больше продали в 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0"/>
          <p:cNvSpPr/>
          <p:nvPr/>
        </p:nvSpPr>
        <p:spPr>
          <a:xfrm>
            <a:off x="133200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на 24о кг муки продали больше в 1 день, чем во 2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1"/>
          <p:cNvSpPr/>
          <p:nvPr/>
        </p:nvSpPr>
        <p:spPr>
          <a:xfrm>
            <a:off x="1059480" y="472428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5х10 – 35 х 6 = 240 ( к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еним свои достижени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42920" y="2565360"/>
          <a:ext cx="7129440" cy="1828800"/>
        </p:xfrm>
        <a:graphic>
          <a:graphicData uri="http://schemas.openxmlformats.org/drawingml/2006/table">
            <a:tbl>
              <a:tblPr/>
              <a:tblGrid>
                <a:gridCol w="1944720"/>
                <a:gridCol w="1619280"/>
                <a:gridCol w="1782720"/>
                <a:gridCol w="178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- во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-6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. 69 № 7,10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1:36:36Z</dcterms:created>
  <dc:creator>USER</dc:creator>
  <dc:description/>
  <dc:language>en-US</dc:language>
  <cp:lastModifiedBy>Пользователь</cp:lastModifiedBy>
  <dcterms:modified xsi:type="dcterms:W3CDTF">2021-11-28T15:42:34Z</dcterms:modified>
  <cp:revision>30</cp:revision>
  <dc:subject/>
  <dc:title>Урок математики</dc:title>
</cp:coreProperties>
</file>