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75EC-4633-4C72-BEC5-32696303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023-DF71-4518-9666-57B672B9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849D-D117-4C04-A636-4613B409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8B5-C07E-4423-8AB9-D11B04B8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A0DD-2AC2-4E14-9267-61CF3283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6202-7F2E-4530-A256-86BDF93C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0B4E-EB80-41D0-B756-37004715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7348-B62D-4E57-A200-B7787585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3E0F-AAD1-42AA-8AA1-8468CD0E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0FFC-BC73-4923-9027-3C4F0620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AED6-9A45-45A9-A8BD-4C4C165E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DA1B-C64E-4912-8337-004EB359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674A-36C3-4D39-9C86-27B20464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B042-1F97-4E54-9B41-89427EBC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D7AE-1F97-47A9-9065-3C933E07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A949-F2BE-4B4E-8FBB-F3036030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A5BB-6947-41C3-B6D4-E20ED4A7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86FE3-6F1F-4FC8-852C-6662905A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B1D55-44C4-4E9E-9674-30B398B6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3355A-CBB4-45E7-B199-5DE4A3AA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83423-194B-4380-B3F1-DE40B52D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16338-4886-4D19-9EDE-80DC0EA9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812-C6CD-4488-A48A-E2D30EFA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221AD-45CD-48B9-85D7-61D2D0B1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0918F-5A39-42E1-955D-99F32F1F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8370B-2529-42C7-B268-62BC0CAE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4CEA5-044C-4440-85B2-9A19FBB8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A14E3-D1C5-4B96-AA68-0E9612E0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243FF-7EB6-4E36-84E9-645D0512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B9098-174D-4E1D-8B48-DCAC5030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39A68-381A-4890-9FCD-F3AB84EB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A8591-0B32-44DC-B4AD-58D1068A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F4D7F-CAE0-4DDB-A191-FAA3B02B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02DC-903B-400B-ABE8-AC17A3D3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3DCBF-BED3-4F0B-8D39-02BF4807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C3C01-9534-407C-9DDD-15D427E4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DF6A8-6052-491A-BCC4-DFA3F1F1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61B1F-59D0-4792-A5B6-FB89EA1F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10293-D6DE-47FE-92EA-FFC44483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01E80-52E1-40B2-BF4E-03172515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DA886-25A5-41E3-B8C8-50531D67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59ABC-9A55-4AB3-9F1B-E24F0DEE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BCB67-CF57-4CC2-AC65-D2166049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FF61-1891-4ECD-BD4B-A4A4A357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BFAE-5CBB-42F2-BF92-434A7037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13E2-6876-4D5D-9259-D9A70100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BA96-5EC3-4B20-8BB5-199CBBD8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92FA-1F55-45E0-96FA-945913EC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F77A-3967-4485-B9D9-199D9ABF41F2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449F-EF1C-4D52-A93C-331C52CB17D0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BE95-B988-4840-ABF9-94EBA3AEEDF3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2AA2-69FF-418C-BCBD-63D6107ED294}" type="slidenum">
              <a:rPr b="0" lang="ru-RU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МБДОУ «ЦРР – детский сад № 122»</a:t>
            </a:r>
            <a:br>
              <a:rPr sz="1800"/>
            </a:br>
            <a:br>
              <a:rPr sz="2400"/>
            </a:br>
            <a:r>
              <a:rPr b="0" lang="ru-RU" sz="24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Семинар – практикум </a:t>
            </a:r>
            <a:br>
              <a:rPr sz="2400"/>
            </a:br>
            <a:r>
              <a:rPr b="0" lang="ru-RU" sz="24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«Формирование связной речи у детей дошкольного возраста»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bc80e0"/>
                </a:solidFill>
                <a:latin typeface="Times New Roman"/>
                <a:ea typeface="Times New Roman"/>
              </a:rPr>
              <a:t>Теоретическая часть.</a:t>
            </a: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Организация и методы обучения дошкольников развитию связной речи – обучение рассказыванию»</a:t>
            </a:r>
            <a:br>
              <a:rPr sz="3200"/>
            </a:b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61760" y="51051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Зубкова Е. Н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урск – 2022г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При составлении описательных рассказов очень удобно пользоваться методом мнемотаблиц.  </a:t>
            </a:r>
            <a:endParaRPr b="0" lang="en-US" sz="22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32" name="Объект 3" descr=""/>
          <p:cNvPicPr/>
          <p:nvPr/>
        </p:nvPicPr>
        <p:blipFill>
          <a:blip r:embed="rId1"/>
          <a:stretch/>
        </p:blipFill>
        <p:spPr>
          <a:xfrm>
            <a:off x="334800" y="1355760"/>
            <a:ext cx="713268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тановлюсь подробнее на наглядном методе – </a:t>
            </a:r>
            <a:r>
              <a:rPr b="1" lang="ru-RU" sz="20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рассматривание картин в целом и детальн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соответствии с «Программой воспитания в детском саду» занятия по рассматриванию картин проводятся во всех возрастных группах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о если дети младшего и среднего возраста учатся описывать картины, опираясь на вопросы педагога, то в старшей и подготовительной к школе группах основное внимание уделяется самостоятельному рассказыванию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егодня я хочу вас познакомить с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</a:t>
            </a: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тодик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й рассказа по картине </a:t>
            </a: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</a:t>
            </a: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ртинка без запинки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», </a:t>
            </a: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работан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ой преподавателями ТРИЗ г. Елгава (Латвия)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гридой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колаевной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урашковска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деждой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тровной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алюмс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тодика разработана с использованием теории решения изобретательских задач (ТРИЗ)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eb3d9f"/>
                </a:solidFill>
                <a:uFillTx/>
                <a:latin typeface="Times New Roman"/>
                <a:ea typeface="Times New Roman"/>
              </a:rPr>
              <a:t>ЗАДАЧА ОБУЧЕНИЯ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исать картинку без запинки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0556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« Картинка без запинки приучает детей видеть главное,     оживляет образовательную деятельность.</a:t>
            </a:r>
            <a:endParaRPr b="0" lang="en-US" sz="2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480" y="1219320"/>
            <a:ext cx="792504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Основные требования методики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лостность за счет полноты методических шаго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струментальность каждого шага и методики в целом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отивированность каждого шага с точки зрения детей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имулирование индивидуального восприятия картинки каждым ребенком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зультативность, достижение целей курс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едаваемость – возможность использовать в работе с другими картинк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med"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696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Методические шаги и инструментарий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838080"/>
            <a:ext cx="76964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став картинки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аг 1: «Дели»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определение состава)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водим глазок камеры на картинку так, чтобы в ней был виден только один объект. Называем все объекты и схематически фиксируем в кружочках на доск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язи и взаимодействи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аг 2: «Давай»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нахождение связей)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единим два кружочка на доске и объясним, почему мы так сделали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скажем, как связаны между собой объекты в этих кружочках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арактеристика объектов действий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аг 3: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иление образности характеристиками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ьзуется прием вхождения в картину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тивно исследуем картину с помощью каждого органа чувств поочередн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лка образных характеристик:</a:t>
            </a:r>
            <a:endParaRPr b="0" lang="en-US" sz="2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9907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аг 4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лка образных характеристик.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делается не для рассказа, а параллельно ему). Узнаем значение новых слов. Вспоминаем их, рассматривая предметы на рисунках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бытия предшествующие и последующие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аг 5: «Отставай -забегай»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бираем одного из героев и представляем пошагово, что он делал раньше – до появления на картинке, что будет делать потом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ные точки зрени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аг 6: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еходим на разные точки зрения. Определяем состояние одного из героев. Входим в его состояние и описываем окружение или события с точки зрения этого героя. Затем находим другого героя в ином состоянии или берём этого же героя в другое время и в другом состояни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Достоинства метода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09480" y="1294920"/>
            <a:ext cx="77724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то даёт работа по этой методике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является большая активность детей, дети хотят отвечать, им интересн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перь рассказать по картинке могут не только отдельные, хорошо подготовленные дети, но и те, кто почти всегда молчи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ораздо легче готовиться к занятию самому педагогу. Не надо придумывать множество вопросов к картинке. Вместо этого планируем состав, связи, характеристики, точки зрения и передвижения по времен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Репродукция картины Фредерика Моргана </a:t>
            </a:r>
            <a:br>
              <a:rPr sz="2200"/>
            </a:br>
            <a:r>
              <a:rPr b="0" lang="ru-RU" sz="22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«Девочка кормит уток» ( англ. художник 19 в.)</a:t>
            </a:r>
            <a:endParaRPr b="0" lang="en-US" sz="22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44" name="Объект 6" descr=""/>
          <p:cNvPicPr/>
          <p:nvPr/>
        </p:nvPicPr>
        <p:blipFill>
          <a:blip r:embed="rId1"/>
          <a:stretch/>
        </p:blipFill>
        <p:spPr>
          <a:xfrm>
            <a:off x="609480" y="1123920"/>
            <a:ext cx="76201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Работа с репродукцией: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17400" y="1447920"/>
            <a:ext cx="8221680" cy="45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аг 1.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водим глазок «камеры» на картинку так, чтобы в ней был виден только один объект. Называем объекты и схематически фиксируем их в кружочках на доск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могать в этом деле нам будут тризовские волшебники по имени «Дели и Давай» из книги "Когда я стану волшебником". Дели и Давай могут все, что угодно, разделить на части или объединить с чем-нибудь другим. Например, разделить хлеб на кусочки или объединить его с маслом, чтобы получился бутерброд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Волшебник, с соответствующим символом, будет зваться «Дели» и «Давай"( нарисовать два отдельных пазла) или «Собирай» и «Давай!( два пазла сложены), «Отставай!»( циферблат 11:45) или «Забегай!» (12:15)</a:t>
            </a:r>
            <a:endParaRPr b="0" lang="en-US" sz="18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48" name="Объект 3" descr=""/>
          <p:cNvPicPr/>
          <p:nvPr/>
        </p:nvPicPr>
        <p:blipFill>
          <a:blip r:embed="rId1"/>
          <a:stretch/>
        </p:blipFill>
        <p:spPr>
          <a:xfrm>
            <a:off x="2233440" y="1614600"/>
            <a:ext cx="348156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ть картинку полезно и весело через объектив- картонную втулку (имитация фотоаппарата)</a:t>
            </a:r>
            <a:endParaRPr b="0" lang="en-US" sz="2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120" y="1676520"/>
            <a:ext cx="8077320" cy="43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тараемся найти, как можно больше деталей. Можно все детали нарисовать на кружках, а на следующем этапе, можно будет прокладывать между ними связи - ниточки. Стоит обратить внимание, что детали вроде "платье" - это часть объекта "девочка", так же и "клюв", "лапы"- части уточки. Тут волшебник Дели поработал подольше. Эти картинки тоже можно нарисовать на кружках -они пригодятся для детального описания объекта.</a:t>
            </a:r>
            <a:br>
              <a:rPr sz="1800"/>
            </a:b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лично! Картину на части разобрали, зарисовали, теперь можно двигаться дальше.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зовём волшебника по имени Дава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Актуальность выбранной темы: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4479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обучения детей рассказыванию достаточно актуальна. Для успешного освоения программы обучения в школе у выпускника детского сада должно быть сформировано умение связно высказывать свои мысли, строить диалог и составлять небольшой рассказ на определенную тему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5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  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Цель работы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ь содержание видов рассказов детей дошкольного возраста и особенностей приемов обучения рассказыванию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Прямоугольник 1"/>
          <p:cNvSpPr/>
          <p:nvPr/>
        </p:nvSpPr>
        <p:spPr>
          <a:xfrm>
            <a:off x="457200" y="2133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9250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2. </a:t>
            </a:r>
            <a:r>
              <a:rPr b="0" lang="ru-RU" sz="1800" spc="-1" strike="noStrike">
                <a:solidFill>
                  <a:srgbClr val="eb3d9f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же соберем картину обратно. Между нашими кружками - деталям картинки нужно найти связи. Самое простое: девочка кормит уток, соединяем девочку и утку. Дальше, девочка держит в руках хлеб, соединяем девочку и хлеб. На девочке надето платье… Утки сидят в траве... Девочка-хлеб, утки-хлеб, утки-песок... Если ребёнок объединил картинки, а объяснить свой выбор не может, спросим, что делает один объект с другим.</a:t>
            </a:r>
            <a:br>
              <a:rPr sz="1800"/>
            </a:br>
            <a:r>
              <a:rPr b="0" lang="ru-RU" sz="1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Второй шаг собирает детали картинки с помощью глаголов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важно говорить ребенку названия шагов, так быстрее запоминается последовательность рассмотрения и описания картин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или, собрали и перешли к третьему шагу</a:t>
            </a:r>
            <a:endParaRPr b="0" lang="en-US" sz="1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373356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аг 3.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ассказ вплетаются  признаки, свойства, которые мы можем увидеть, т. е к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 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ждому кружку (существительному) находим прилагательное. Трава высокая, мягкая или жёсткая. Вода спокойная. Озеро (река) - теплая или холодная. Земля - грязная, песчаная, мягкая. Но человек имеет и другие органы восприятия. Закройте глаза и представьте, что вы может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лышать?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Шагните в картинку! ("Я слышу, как утки крякают. Я слышу, как растёт трава.«) Осторожно походите в картинке. Что вы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увствует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когда касаетесь рукой травы, воды, песка.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жуйт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что-то, если это не вредно!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дохнит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запах того, что вас окружает!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"Я чувствую, как трава колет ноги. Я чувствую тепло и надо дорисовать солнышко."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543800" cy="12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ваем о полученных ощущениях, используя 5 чувств: зрение (глаза), слух (уши), обоняние (нос), осязание (кожа), вкус (язык). 5 действий: увидеть, услышать, понюхать, потрогать, попробовать на вкус.</a:t>
            </a:r>
            <a:br>
              <a:rPr sz="1800"/>
            </a:br>
            <a:endParaRPr b="0" lang="en-US" sz="1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62120" y="2133360"/>
            <a:ext cx="761976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Объект 2"/>
          <p:cNvSpPr/>
          <p:nvPr/>
        </p:nvSpPr>
        <p:spPr>
          <a:xfrm>
            <a:off x="762120" y="2135160"/>
            <a:ext cx="761976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бъект 2"/>
          <p:cNvSpPr/>
          <p:nvPr/>
        </p:nvSpPr>
        <p:spPr>
          <a:xfrm>
            <a:off x="457200" y="2057400"/>
            <a:ext cx="79246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тивно исследуем картинку с помощью каждого органа чувств поочередно. Можем при этом последовательно передвигаться по кружочкам и линиям схематического рисунк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ем предложения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светлая утка схватила хлебушек прямо из рук девочки. Ближе к воде растет высокая трава. Девочка не стала подходить близко к воде, потому что там мокрая и грязная трава. На девочке красивое белое платье и ободок с бантиком. </a:t>
            </a:r>
            <a:r>
              <a:rPr b="0" lang="ru-RU" sz="1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(Это примеры предложений. Старайтесь дать ребенку время подумать, не спешите с ответами и он сам придумает много красивых и интересных прилагательных и предложений).</a:t>
            </a:r>
            <a:endParaRPr b="0" lang="en-US" sz="1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2514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аг 4.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Продолжаем фантазировать. И зовем для этого волшебников «Отставай» и «Забегай» и переместимся с ними во времени. Нарисуем линию времени и будем перемещать нашего волшебника на разные временные промежутки вперёд или назад: Что вы делали утром? Проснулись. А потом? Позавтракали( переставляйте волшебника немного вперёд) Куда пойдёте после занятий? Как закончится ваш вечер?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ети отмечают без какого события не могло возникнуть следующее. В результате мы строим временную последовательность событий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ак, девочка кормит уток. А где она, «Отставай», была раньше? Дома? Между этими большими следами: «река»- «девочка» можно нарисовать несколько маленьких следов. Пусть дети выяснят, что произошло, например, между моментом, когда девочка пришла на реку и покормила птиц.( Девочка увидела уток. Она их позвала. Утки подбежали и начали клевать хлеб. Девочка радовалась, глядя на пушистых птичек.)</a:t>
            </a:r>
            <a:br>
              <a:rPr sz="1800"/>
            </a:b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«Отставай», что могла девочка делать до того, как пришла на пруд кормить уток?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тпроситься у мамы гулять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ложить хлеб в корзину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дти по лесу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Что она, «Забегай», будет делать после?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йдет с пруда, потому что кончился хлеб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йдет с пруда, потому что подул холодный ветер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ставшая пойдет по тропинке и будет спотыкаться о каму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асскажет маме, какие милые утки на пруду.</a:t>
            </a:r>
            <a:endParaRPr b="0" lang="en-US" sz="1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0480" y="4343400"/>
            <a:ext cx="8010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Что делали и делают утки?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Плавали в теплой воде;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Чистили перья;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После ухода девочки, нырнули обратно в воду и поплыли ночевать.</a:t>
            </a:r>
            <a:br>
              <a:rPr sz="1800"/>
            </a:b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ожно рассказать какой был день, какой будет вечер.</a:t>
            </a:r>
            <a:br>
              <a:rPr sz="1800"/>
            </a:b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769644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5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нируемся активизировать наш словарь - научимся пополнять словарь новыми словами, подбирать синонимы и придумывать метафоры, чтобы наши рассказы были ещё полнее и красивее.</a:t>
            </a:r>
            <a:endParaRPr b="0" lang="en-US" sz="1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33240" y="1941480"/>
            <a:ext cx="7467840" cy="39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лка образных характеристик.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знаем значение новых слов в толковом словаре. Вспоминаем их, рассматривая предметы на рисунках. Используем их для составления сравнений, загадо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6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очень загадочный и волшебный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снова  войдем в картинку! Постарайтесь сказать детям такие слова, чтобы они действительно представили себя внутри картинки. Причем в разных ракурсах. На месте девочки, на месте уточек и можно даже представить себя камышом. Это очень увлекательное и интересно занятие для детей. Кроме того, это развивает фантазию, можете услышать много интересного.  </a:t>
            </a:r>
            <a:endParaRPr b="0" lang="en-US" sz="1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880" y="2742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Итак, маленький рассказчик вместо девочки кормит уточек. Что он видит, слышит, чувствует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Слышу, как крякают утк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Слышу, как ветер шуршит камышам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Чувствую, как дует теплый ветер с озер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Уточка дотронулась до меня своим клювом, он такой шершавый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Хлеб вкусно пахнет, так и хочется самому съесть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Под ногами шуршит песо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й, наступил на камень, чуть не подвернул ногу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Теперь ребенок - уточка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, пришла девочка, которая нас кормит! Страшно выходить из воды, но и хлеб вкусно пахнет, хочется его съесть. Вода теплая, так приятно плавать. Хлеб вкусный, мягкий. Сейчас кину его в воду, размочу и съем! Берег мокрый, скользкий, еще надо постараться на него выбраться!</a:t>
            </a:r>
            <a:endParaRPr b="0" lang="en-US" sz="1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9120" y="27432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Ребенок - камыш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кая приятная погода, теплый ветерок! Волны из озера стали плескаться сильнее - видно, утки подплыли. Кто меня задел? Пришел какой-то челове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В заключение хочу сказать, что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480" y="2285640"/>
            <a:ext cx="746784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ы обучения дошкольников рассказыванию многообразны. Методика их использования изменяется на разных этапах обучения и зависит от вида рассказывания, от стоящих задач, от уровня умений детей, от их активности, самостоятельност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Спасибо 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за внимание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eb3d9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2680" y="533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тие связной речи ребенка-дошкольника осуществляется в процессе повседневной жизни, а также на занятиях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соответствии с программными требованиями в группах систематически проводятся занятия по рассказыванию, содержание которых неразрывно связано со всеми аспектами жизни детей: наблюдениями, играми, трудом, чтением книг, показом мультфильмов и  т.д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ольшое значение имеет взаимосвязь обучения рассказыванию и других видов работы по развитию речи —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огащения словаря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ормирования грамматических навыков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спитания звуковой культуры реч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«Программа воспитания в детском саду» ставит перед педагогом такие задачи: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2949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ь детей связно рассказывать об увиденном и услышанном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авильно отражать в речи воспринятое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сказывать последовательно, с достаточной полнотой и законченностью, не отвлекаясь от темы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учать дошкольников рассказывать не торопясь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могать им находить нужные слова, выражения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ощрять использование точных названий предметов, действий, качеств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вать образную речь, учить рассказывать живо, выразительно.</a:t>
            </a: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Специальная задача рассказа - развитие монологической речи детей.</a:t>
            </a:r>
            <a:br>
              <a:rPr sz="2800"/>
            </a:br>
            <a:r>
              <a:rPr b="0" lang="ru-RU" sz="36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2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Учить ребенка рассказывать 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это значит формировать его связную речь.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программе нет специального раздела по обучению рассказыванию </a:t>
            </a: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младших группах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с детьми этого возраста проводится только подготовительная работа, на которой дети учатся слушать воспитателя, высказываться в присутствии товарищей. Занятия проводятся в игровой форме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</a:t>
            </a: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средней, старшей и подготовительной к школе группах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дети уже начинают овладевать основными видами монологической речи. Начиная со старшей группы проводят специальные занятия - по рассказыванию на темы из личного опыта. В подготовительной к школе группе - занятия по творческому рассказыванию на предложенный педагогом сюжет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9250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Виды рассказов:</a:t>
            </a:r>
            <a:br>
              <a:rPr sz="2400"/>
            </a:b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4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Фактические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(к ним относятся рассказы по восприятию, а также по памяти - на темы из личного опыта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ворческие</a:t>
            </a: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они создаются при активной работе воображения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                                  </a:t>
            </a:r>
            <a:r>
              <a:rPr b="1" lang="ru-RU" sz="24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По форме рассказы делятся н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Описательные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(объектом для описания служат предметные картинки, вещи, игрушки, растения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южетные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составлении сюжетных рассказов у детей формируют умение передавать события во временной последовательности. При этом они осваивают построение рассказа — в простейшей форме передают завязку, развитие действия и его кульминацию, развязку). 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Овладение воспитателем </a:t>
            </a:r>
            <a:r>
              <a:rPr b="0" lang="ru-RU" sz="2000" spc="-1" strike="noStrike" u="sng">
                <a:solidFill>
                  <a:srgbClr val="eb3d9f"/>
                </a:solidFill>
                <a:uFillTx/>
                <a:latin typeface="Times New Roman"/>
                <a:ea typeface="Times New Roman"/>
              </a:rPr>
              <a:t>методами и приемами </a:t>
            </a:r>
            <a:r>
              <a:rPr b="0" lang="ru-RU" sz="20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обучения рассказыванию - одно из важнейших условий успешной работы по развитию речи дошкольников.</a:t>
            </a:r>
            <a:endParaRPr b="0" lang="en-US" sz="20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тод обучения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(от др.-греч. μέθοδος - путь) – процесс взаимодействия между воспитателем и детьми, в результате которого происходит передача и усвоение знаний, умений и навыко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По источнику получения информации методы классифицируют: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овесны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глядны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актически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Требования к методам обучени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учность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язь цели и задач обучения с темой занят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язь нового материала с ранее изученным и усвоенны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ет индивидуальных особенностей детей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ответствие возрасту дет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6348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Приемы обучения рассказыванию: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837720"/>
            <a:ext cx="769644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вместное рассказыва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разец рассказ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астичный образец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лан рассказ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ллективное составление рассказа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ставление рассказа по частям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оделирова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В процессе обучения монологической речи используются и другие приемы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спомогательные вопрос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каза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равление ошибок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сказ нужных слов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слушивание детьми своих рассказов, записанных на диктофон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eb3d9f"/>
                </a:solidFill>
                <a:latin typeface="Times New Roman"/>
                <a:ea typeface="Times New Roman"/>
              </a:rPr>
              <a:t>Основные требования к методам и приемам обучения детей дошкольного возраста рассказыванию: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480" y="1930320"/>
            <a:ext cx="79250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ение рассказыванию с использованием предметов и игруше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занятиях дети внимательно рассматривают предметы, игрушки, действуют с ними и учатся передавать в речи (в описательной форме) свои восприятия — зрительные, слуховые, осязательные и др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. Д. Ушинский писал: «Учите ребёнка каким-нибудь неизвестным ему пяти словам – он будет долго и напрасно мучиться, но свяжите двадцать таких слов с картинками, и он их усвоит на лету»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исательный рассказ - это наиболее трудный вид в монологической речи. Дети не располагают теми знаниями, которые приобретают в течение жизни. Чтобы описать предмет, его надо осознать, а осознание - это анализ. Что ребенку очень трудно. Здесь важно научить ребенка сначала выделять признаки предмет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77777</cp:lastModifiedBy>
  <dcterms:modified xsi:type="dcterms:W3CDTF">2022-04-08T17:55:00Z</dcterms:modified>
  <cp:revision>2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