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04B-D483-41FB-973C-7A6A4CBF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BCC-4340-473D-A044-1A6C8C44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EC8-0D8F-4F5F-910D-8E9DE367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48E-84D7-4A97-86CE-D7B587F3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C6AB-ADEE-4E1C-AF08-102005C8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FEF9-CF6D-4C51-8A78-88D7461B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5941-CA0C-425C-BE4D-17BEBC7C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4F7-F3C4-46EB-A512-DF9E7699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E7AE-1080-447E-9C1B-5140C459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853A-44C3-450B-BAD8-52C4E298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1E3E-CCA6-46DA-A3F1-C4878A3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282-7895-44ED-8CB7-6D4277D2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6607-C392-4BD7-9518-87C592B9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8CFA-BACE-413A-AD08-E91F455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9ADE-F6FA-4515-9598-C32E8FDD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3CAF-9A89-425B-A730-7A177B50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36B5-12B8-490B-A6BC-AE3673F9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DFCC-FCDF-40BB-BC6E-85BDCD25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CF30-8F07-4F21-890B-228E1D3A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7B76-DAF7-4BC4-B749-7B40BBFF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90F0-8BA9-47F4-9B3A-A12F854D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03B5-D5C1-4B2B-955D-2BD0840F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7FE-5C9E-4BC5-8DA4-5E97AB3C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8493-013D-41A6-933E-7E5A1A07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A883-3EE2-4C48-8F9D-463AC654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929D-3869-4CBA-B34D-21D5A28C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4891-5F3F-4662-859C-6F23C94E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8CF1-9BD3-491F-9870-C7DF1B88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DA7B-70F3-4B6F-A6D3-83618531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F58D4-B953-437D-B70F-72808974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DB6F-A71D-4DCD-A3D0-835AF836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CCB5-53F1-4F2A-A71C-23EAB3EA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122D-8217-4961-9D71-7A3685FB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353-186A-4D7A-881D-93C038A5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A0BDB-5CF9-4F3F-A8BB-F1D1FC3D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D521-E519-4C0B-AF92-9F1C04D6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9B77-9F12-4997-832E-3414CC7E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84C3-20C6-42A8-967E-0E2DD113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C4CF6-3FA1-4FB9-A767-9F460E46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DC1D2-70EB-4843-A989-84716981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167E-A7E8-4820-880B-C8204180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EA759-FEBB-45F9-92E0-7262EC39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4B65-B056-4937-A5F5-15D314FF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E90-C0CE-429A-8DED-75EF1BCE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1E9-0C15-4907-8EAE-3FD2F68F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123-F43A-4C90-9076-08A0D392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916-5A7D-4B98-BC74-5D97D3FB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A0F-7F97-41B7-B2E7-C323D513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C044-E028-4E98-8340-273551DC6014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43B8-1C88-4A06-A4A9-3895B187ECCC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35C1-3AA1-418D-B64A-7770397F688F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2E72-7D8D-42D9-8235-7BF2FF8AC258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МБДОУ «ЦРР – детский сад № 122»</a:t>
            </a:r>
            <a:br>
              <a:rPr sz="1800"/>
            </a:br>
            <a:br>
              <a:rPr sz="2400"/>
            </a:b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Семинар – практикум </a:t>
            </a:r>
            <a:br>
              <a:rPr sz="2400"/>
            </a:b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«Формирование связной речи у детей дошкольного возраста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bc80e0"/>
                </a:solidFill>
                <a:latin typeface="Times New Roman"/>
                <a:ea typeface="Times New Roman"/>
              </a:rPr>
              <a:t>Теоретическая часть.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Организация и методы обучения дошкольников развитию связной речи – обучение рассказыванию»</a:t>
            </a:r>
            <a:br>
              <a:rPr sz="3200"/>
            </a:b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61760" y="51051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Зубкова Е. Н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урск – 2022г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При составлении описательных рассказов очень удобно пользоваться методом мнемотаблиц.  </a:t>
            </a:r>
            <a:endParaRPr b="0" lang="en-US" sz="2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334800" y="1355760"/>
            <a:ext cx="713268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тановлюсь подробнее на наглядном методе – </a:t>
            </a:r>
            <a:r>
              <a:rPr b="1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рассматривание картин в целом и детальн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оответствии с «Программой воспитания в детском саду» занятия по рассматриванию картин проводятся во всех возрастных группа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 если дети младшего и среднего возраста учатся описывать картины, опираясь на вопросы педагога, то в старшей и подготовительной к школе группах основное внимание уделяется самостоятельному рассказывани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годня я хочу вас познакомить с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тодик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й рассказа по картине 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тинка без запинки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», 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отан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й преподавателями ТРИЗ г. Елгава (Латвия)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гридой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колаевной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урашковска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деждой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тровной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люмс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ка разработана с использованием теории решения изобретательских задач (ТРИЗ)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eb3d9f"/>
                </a:solidFill>
                <a:uFillTx/>
                <a:latin typeface="Times New Roman"/>
                <a:ea typeface="Times New Roman"/>
              </a:rPr>
              <a:t>ЗАДАЧА ОБУЧЕНИЯ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исать картинку без запинки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055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« Картинка без запинки приучает детей видеть главное,     оживляет образовательную деятельность.</a:t>
            </a:r>
            <a:endParaRPr b="0" lang="en-US" sz="2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480" y="1219320"/>
            <a:ext cx="792504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Основные требования методики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остность за счет полноты методических шаг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струментальность каждого шага и методики в цело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тивированность каждого шага с точки зрения детей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имулирование индивидуального восприятия картинки каждым ребенко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зультативность, достижение целей курс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даваемость – возможность использовать в работе с другими картинк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Методические шаги и инструментарий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 картинки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1: «Дели»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определение состава)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водим глазок камеры на картинку так, чтобы в ней был виден только один объект. Называем все объекты и схематически фиксируем в кружочках на дос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язи и взаимодействи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2: «Давай»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нахождение связей)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единим два кружочка на доске и объясним, почему мы так сделали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кажем, как связаны между собой объекты в этих кружочка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арактеристика объектов действий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3: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образности характеристиками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уется прием вхождения в картину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ивно исследуем картину с помощью каждого органа чувств поочеред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лка образных характеристик:</a:t>
            </a:r>
            <a:endParaRPr b="0" lang="en-US" sz="2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9907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4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лка образных характеристик.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делается не для рассказа, а параллельно ему). Узнаем значение новых слов. Вспоминаем их, рассматривая предметы на рисунка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ытия предшествующие и последующие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5: «Отставай -забегай»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бираем одного из героев и представляем пошагово, что он делал раньше – до появления на картинке, что будет делать пот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ные точки зрени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6: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ходим на разные точки зрения. Определяем состояние одного из героев. Входим в его состояние и описываем окружение или события с точки зрения этого героя. Затем находим другого героя в ином состоянии или берём этого же героя в другое время и в другом состоян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Достоинства метода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480" y="129492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даёт работа по этой методике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является большая активность детей, дети хотят отвечать, им интерес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перь рассказать по картинке могут не только отдельные, хорошо подготовленные дети, но и те, кто почти всегда молчи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раздо легче готовиться к занятию самому педагогу. Не надо придумывать множество вопросов к картинке. Вместо этого планируем состав, связи, характеристики, точки зрения и передвижения по времен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Репродукция картины Фредерика Моргана </a:t>
            </a:r>
            <a:br>
              <a:rPr sz="2200"/>
            </a:br>
            <a:r>
              <a:rPr b="0" lang="ru-RU" sz="22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«Девочка кормит уток» ( англ. художник 19 в.)</a:t>
            </a:r>
            <a:endParaRPr b="0" lang="en-US" sz="2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4" name="Объект 6" descr=""/>
          <p:cNvPicPr/>
          <p:nvPr/>
        </p:nvPicPr>
        <p:blipFill>
          <a:blip r:embed="rId1"/>
          <a:stretch/>
        </p:blipFill>
        <p:spPr>
          <a:xfrm>
            <a:off x="609480" y="1123920"/>
            <a:ext cx="76201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Работа с репродукцией: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17400" y="1447920"/>
            <a:ext cx="822168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1.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водим глазок «камеры» на картинку так, чтобы в ней был виден только один объект. Называем объекты и схематически фиксируем их в кружочках на дос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могать в этом деле нам будут тризовские волшебники по имени «Дели и Давай» из книги "Когда я стану волшебником". Дели и Давай могут все, что угодно, разделить на части или объединить с чем-нибудь другим. Например, разделить хлеб на кусочки или объединить его с маслом, чтобы получился бутерброд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Волшебник, с соответствующим символом, будет зваться «Дели» и «Давай"( нарисовать два отдельных пазла) или «Собирай» и «Давай!( два пазла сложены), «Отставай!»( циферблат 11:45) или «Забегай!» (12:15)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8" name="Объект 3" descr=""/>
          <p:cNvPicPr/>
          <p:nvPr/>
        </p:nvPicPr>
        <p:blipFill>
          <a:blip r:embed="rId1"/>
          <a:stretch/>
        </p:blipFill>
        <p:spPr>
          <a:xfrm>
            <a:off x="2233440" y="1614600"/>
            <a:ext cx="34815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ть картинку полезно и весело через объектив- картонную втулку (имитация фотоаппарата)</a:t>
            </a:r>
            <a:endParaRPr b="0" lang="en-US" sz="2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1676520"/>
            <a:ext cx="807732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араемся найти, как можно больше деталей. Можно все детали нарисовать на кружках, а на следующем этапе, можно будет прокладывать между ними связи - ниточки. Стоит обратить внимание, что детали вроде "платье" - это часть объекта "девочка", так же и "клюв", "лапы"- части уточки. Тут волшебник Дели поработал подольше. Эти картинки тоже можно нарисовать на кружках -они пригодятся для детального описания объекта.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лично! Картину на части разобрали, зарисовали, теперь можно двигаться дальше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овём волшебника по имени Дава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Актуальность выбранной темы: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обучения детей рассказыванию достаточно актуальна. Для успешного освоения программы обучения в школе у выпускника детского сада должно быть сформировано умение связно высказывать свои мысли, строить диалог и составлять небольшой рассказ на определенную тему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5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  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Цель работы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содержание видов рассказов детей дошкольного возраста и особенностей приемов обучения рассказыванию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45720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 </a:t>
            </a:r>
            <a:r>
              <a:rPr b="0" lang="ru-RU" sz="1800" spc="-1" strike="noStrike">
                <a:solidFill>
                  <a:srgbClr val="eb3d9f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же соберем картину обратно. Между нашими кружками - деталям картинки нужно найти связи. Самое простое: девочка кормит уток, соединяем девочку и утку. Дальше, девочка держит в руках хлеб, соединяем девочку и хлеб. На девочке надето платье… Утки сидят в траве... Девочка-хлеб, утки-хлеб, утки-песок... Если ребёнок объединил картинки, а объяснить свой выбор не может, спросим, что делает один объект с другим.</a:t>
            </a:r>
            <a:br>
              <a:rPr sz="1800"/>
            </a:b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Второй шаг собирает детали картинки с помощью глаголов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о говорить ребенку названия шагов, так быстрее запоминается последовательность рассмотрения и описания картин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ли, собрали и перешли к третьему шагу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37335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3.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ассказ вплетаются  признаки, свойства, которые мы можем увидеть, т. е к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ждому кружку (существительному) находим прилагательное. Трава высокая, мягкая или жёсткая. Вода спокойная. Озеро (река) - теплая или холодная. Земля - грязная, песчаная, мягкая. Но человек имеет и другие органы восприятия. Закройте глаза и представьте, что вы может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лышать?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Шагните в картинку! ("Я слышу, как утки крякают. Я слышу, как растёт трава.«) Осторожно походите в картинке. Что вы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увствует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огда касаетесь рукой травы, воды, песка.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жуйт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что-то, если это не вредно!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дохнит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запах того, что вас окружает!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Я чувствую, как трава колет ноги. Я чувствую тепло и надо дорисовать солнышко."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543800" cy="12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ем о полученных ощущениях, используя 5 чувств: зрение (глаза), слух (уши), обоняние (нос), осязание (кожа), вкус (язык). 5 действий: увидеть, услышать, понюхать, потрогать, попробовать на вкус.</a:t>
            </a:r>
            <a:br>
              <a:rPr sz="1800"/>
            </a:b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2133360"/>
            <a:ext cx="76197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Объект 2"/>
          <p:cNvSpPr/>
          <p:nvPr/>
        </p:nvSpPr>
        <p:spPr>
          <a:xfrm>
            <a:off x="762120" y="2135160"/>
            <a:ext cx="761976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57200" y="2057400"/>
            <a:ext cx="79246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ивно исследуем картинку с помощью каждого органа чувств поочередно. Можем при этом последовательно передвигаться по кружочкам и линиям схематического рисунк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м предложени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светлая утка схватила хлебушек прямо из рук девочки. Ближе к воде растет высокая трава. Девочка не стала подходить близко к воде, потому что там мокрая и грязная трава. На девочке красивое белое платье и ободок с бантиком. </a:t>
            </a: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(Это примеры предложений. Старайтесь дать ребенку время подумать, не спешите с ответами и он сам придумает много красивых и интересных прилагательных и предложений).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2514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4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Продолжаем фантазировать. И зовем для этого волшебников «Отставай» и «Забегай» и переместимся с ними во времени. Нарисуем линию времени и будем перемещать нашего волшебника на разные временные промежутки вперёд или назад: Что вы делали утром? Проснулись. А потом? Позавтракали( переставляйте волшебника немного вперёд) Куда пойдёте после занятий? Как закончится ваш вечер?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ти отмечают без какого события не могло возникнуть следующее. В результате мы строим временную последовательность событи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ак, девочка кормит уток. А где она, «Отставай», была раньше? Дома? Между этими большими следами: «река»- «девочка» можно нарисовать несколько маленьких следов. Пусть дети выяснят, что произошло, например, между моментом, когда девочка пришла на реку и покормила птиц.( Девочка увидела уток. Она их позвала. Утки подбежали и начали клевать хлеб. Девочка радовалась, глядя на пушистых птичек.)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«Отставай», что могла девочка делать до того, как пришла на пруд кормить уток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проситься у мамы гулят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ложить хлеб в корзин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дти по лес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Что она, «Забегай», будет делать после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йдет с пруда, потому что кончился хлеб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йдет с пруда, потому что подул холодный ветер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ставшая пойдет по тропинке и будет спотыкаться о каму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сскажет маме, какие милые утки на пруду.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0480" y="4343400"/>
            <a:ext cx="8010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Что делали и делают утки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Плавали в теплой воде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Чистили перья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После ухода девочки, нырнули обратно в воду и поплыли ночевать.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жно рассказать какой был день, какой будет вечер.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769644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нируемся активизировать наш словарь - научимся пополнять словарь новыми словами, подбирать синонимы и придумывать метафоры, чтобы наши рассказы были ещё полнее и красивее.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33240" y="1941480"/>
            <a:ext cx="746784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лка образных характеристик.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знаем значение новых слов в толковом словаре. Вспоминаем их, рассматривая предметы на рисунках. Используем их для составления сравнений, загад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6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очень загадочный и волшебны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снова  войдем в картинку! Постарайтесь сказать детям такие слова, чтобы они действительно представили себя внутри картинки. Причем в разных ракурсах. На месте девочки, на месте уточек и можно даже представить себя камышом. Это очень увлекательное и интересно занятие для детей. Кроме того, это развивает фантазию, можете услышать много интересного.  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880" y="2742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Итак, маленький рассказчик вместо девочки кормит уточек. Что он видит, слышит, чувствует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лышу, как крякают ут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лышу, как ветер шуршит камыша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Чувствую, как дует теплый ветер с озер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Уточка дотронулась до меня своим клювом, он такой шершавый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Хлеб вкусно пахнет, так и хочется самому съесть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д ногами шуршит пес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й, наступил на камень, чуть не подвернул ногу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Теперь ребенок - уточк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, пришла девочка, которая нас кормит! Страшно выходить из воды, но и хлеб вкусно пахнет, хочется его съесть. Вода теплая, так приятно плавать. Хлеб вкусный, мягкий. Сейчас кину его в воду, размочу и съем! Берег мокрый, скользкий, еще надо постараться на него выбраться!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743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Ребенок - камыш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ая приятная погода, теплый ветерок! Волны из озера стали плескаться сильнее - видно, утки подплыли. Кто меня задел? Пришел какой-то челове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В заключение хочу сказать, что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480" y="2285640"/>
            <a:ext cx="746784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обучения дошкольников рассказыванию многообразны. Методика их использования изменяется на разных этапах обучения и зависит от вида рассказывания, от стоящих задач, от уровня умений детей, от их активности, самостоятельност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за внимание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eb3d9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2680" y="533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связной речи ребенка-дошкольника осуществляется в процессе повседневной жизни, а также на занятия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оответствии с программными требованиями в группах систематически проводятся занятия по рассказыванию, содержание которых неразрывно связано со всеми аспектами жизни детей: наблюдениями, играми, трудом, чтением книг, показом мультфильмов и  т.д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ольшое значение имеет взаимосвязь обучения рассказыванию и других видов работы по развитию речи —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огащения словаря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ния грамматических навыков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спитания звуковой культуры реч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«Программа воспитания в детском саду» ставит перед педагогом такие задачи: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94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ь детей связно рассказывать об увиденном и услышанном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вильно отражать в речи воспринятое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казывать последовательно, с достаточной полнотой и законченностью, не отвлекаясь от тем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учать дошкольников рассказывать не торопясь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могать им находить нужные слова, выраже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ощрять использование точных названий предметов, действий, качеств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ть образную речь, учить рассказывать живо, выразительно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Специальная задача рассказа - развитие монологической речи детей.</a:t>
            </a:r>
            <a:br>
              <a:rPr sz="2800"/>
            </a:br>
            <a:r>
              <a:rPr b="0" lang="ru-RU" sz="36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чить ребенка рассказывать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это значит формировать его связную речь.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рограмме нет специального раздела по обучению рассказыванию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младших группах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с детьми этого возраста проводится только подготовительная работа, на которой дети учатся слушать воспитателя, высказываться в присутствии товарищей. Занятия проводятся в игровой форм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редней, старшей и подготовительной к школе группах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дети уже начинают овладевать основными видами монологической речи. Начиная со старшей группы проводят специальные занятия - по рассказыванию на темы из личного опыта. В подготовительной к школе группе - занятия по творческому рассказыванию на предложенный педагогом сюжет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Виды рассказов:</a:t>
            </a:r>
            <a:br>
              <a:rPr sz="2400"/>
            </a:b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актические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(к ним относятся рассказы по восприятию, а также по памяти - на темы из личного опыта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ворческие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они создаются при активной работе воображения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                          </a:t>
            </a:r>
            <a:r>
              <a:rPr b="1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По форме рассказы делятся н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Описательные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(объектом для описания служат предметные картинки, вещи, игрушки, растения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южетные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составлении сюжетных рассказов у детей формируют умение передавать события во временной последовательности. При этом они осваивают построение рассказа — в простейшей форме передают завязку, развитие действия и его кульминацию, развязку).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Овладение воспитателем </a:t>
            </a:r>
            <a:r>
              <a:rPr b="0" lang="ru-RU" sz="2000" spc="-1" strike="noStrike" u="sng">
                <a:solidFill>
                  <a:srgbClr val="eb3d9f"/>
                </a:solidFill>
                <a:uFillTx/>
                <a:latin typeface="Times New Roman"/>
                <a:ea typeface="Times New Roman"/>
              </a:rPr>
              <a:t>методами и приемами </a:t>
            </a:r>
            <a:r>
              <a:rPr b="0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обучения рассказыванию - одно из важнейших условий успешной работы по развитию речи дошкольников.</a:t>
            </a:r>
            <a:endParaRPr b="0" lang="en-US" sz="2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 обучени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(от др.-греч. μέθοδος - путь) – процесс взаимодействия между воспитателем и детьми, в результате которого происходит передача и усвоение знаний, умений и навыко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По источнику получения информации методы классифицируют: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овес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гляд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кти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Требования к методам обучени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учн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язь цели и задач обучения с темой занят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язь нового материала с ранее изученным и усвоенны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ет индивидуальных особенностей дете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ответствие возрасту дет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6348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Приемы обучения рассказыванию: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837720"/>
            <a:ext cx="769644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местное рассказы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разец рассказ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астичный образец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ан рассказ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лективное составление рассказ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ление рассказа по частя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делир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В процессе обучения монологической речи используются и другие приемы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помогательные вопро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каз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равление ошиб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сказ нужных сл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слушивание детьми своих рассказов, записанных на диктофон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Основные требования к методам и приемам обучения детей дошкольного возраста рассказыванию: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480" y="1930320"/>
            <a:ext cx="79250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ение рассказыванию с использованием предметов и игруше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нятиях дети внимательно рассматривают предметы, игрушки, действуют с ними и учатся передавать в речи (в описательной форме) свои восприятия — зрительные, слуховые, осязательные и д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. Д. Ушинский писал: «Учите ребёнка каким-нибудь неизвестным ему пяти словам – он будет долго и напрасно мучиться, но свяжите двадцать таких слов с картинками, и он их усвоит на лету»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исательный рассказ - это наиболее трудный вид в монологической речи. Дети не располагают теми знаниями, которые приобретают в течение жизни. Чтобы описать предмет, его надо осознать, а осознание - это анализ. Что ребенку очень трудно. Здесь важно научить ребенка сначала выделять признаки предмет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77</cp:lastModifiedBy>
  <dcterms:modified xsi:type="dcterms:W3CDTF">2022-04-08T17:55:00Z</dcterms:modified>
  <cp:revision>2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