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21.wmf" ContentType="image/x-wmf"/>
  <Override PartName="/ppt/media/image12.gif" ContentType="image/gif"/>
  <Override PartName="/ppt/media/image24.jpeg" ContentType="image/jpeg"/>
  <Override PartName="/ppt/media/image7.gif" ContentType="image/gif"/>
  <Override PartName="/ppt/media/image26.jpeg" ContentType="image/jpeg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23.gif" ContentType="image/gif"/>
  <Override PartName="/ppt/media/image17.gif" ContentType="image/gif"/>
  <Override PartName="/ppt/media/image25.jpeg" ContentType="image/jpeg"/>
  <Override PartName="/ppt/media/image22.gif" ContentType="image/gif"/>
  <Override PartName="/ppt/media/image19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7D7-6AD7-4681-9598-64517C56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401-0E44-4B19-A599-4469B241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82A-2B30-4A34-92AB-B552D358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341-A7F9-4AAA-868B-F76305D7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DADF-DE96-4A62-975D-03696DA7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03E2-D460-4E40-A4BF-77FEBA2E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6988-535D-4E17-B120-FB7B5150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2610-97ED-4D6C-8FF9-A488E37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DCC-5BB8-4798-AA01-9715A1ED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CA7-641A-442C-8139-2B16B5F5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FF4-7483-40E7-BA3E-15E12EC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D56-8BF7-4E63-B57B-FA1A9706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B392-7447-4651-8B07-F90A02B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2244-2C04-4DDF-9F53-71F5192C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3BE-041C-4F79-A322-C6062012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6C7-DF68-4908-BB3F-05C4D508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B5F8-AF1B-486A-AD28-5F0CD87C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09E-61A0-42BB-972A-4EDFDD2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32C-C7CB-4ADE-BDB9-CA3EA609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79A-9051-4091-B9C2-3C634763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09E-1486-4230-BCB4-93870D2A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B4E-5B7E-4450-9B5C-4BDD852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442-1363-4109-A52C-253E159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B0B-D425-43E6-B7EB-AC0BCE1E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4C11-8771-4136-B685-B5BC43D26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504-AF40-4CB3-A22A-394BE63DB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9.gif"/><Relationship Id="rId4" Type="http://schemas.openxmlformats.org/officeDocument/2006/relationships/image" Target="../media/image6.gif"/><Relationship Id="rId5" Type="http://schemas.openxmlformats.org/officeDocument/2006/relationships/image" Target="../media/image2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3"/>
          <p:cNvSpPr txBox="1"/>
          <p:nvPr/>
        </p:nvSpPr>
        <p:spPr>
          <a:xfrm>
            <a:off x="1258920" y="260280"/>
            <a:ext cx="7086600" cy="11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дром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ональног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5229360"/>
            <a:ext cx="2666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презентации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-психолог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КУ «Паникинская СОШ»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WordArt 8"/>
          <p:cNvSpPr txBox="1"/>
          <p:nvPr/>
        </p:nvSpPr>
        <p:spPr>
          <a:xfrm>
            <a:off x="6429240" y="5950080"/>
            <a:ext cx="2291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венкова Н. А.</a:t>
            </a:r>
            <a:endParaRPr b="0" lang="en-US" sz="24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10" descr="кар1"/>
          <p:cNvPicPr/>
          <p:nvPr/>
        </p:nvPicPr>
        <p:blipFill>
          <a:blip r:embed="rId1"/>
          <a:srcRect l="-5467" t="-3716" r="-5467" b="-3716"/>
          <a:stretch/>
        </p:blipFill>
        <p:spPr>
          <a:xfrm>
            <a:off x="2746440" y="1473120"/>
            <a:ext cx="487512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1066680" y="1752480"/>
            <a:ext cx="8077320" cy="510552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6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Организационные факторы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особенности профессиональной деятельности)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066680" y="1828800"/>
            <a:ext cx="3962520" cy="222804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В) Степень самостоятельности и независимости сотрудника в своей деятельности и возможность принимать важные решения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(отрицательная зависимость между этими переменными и выгорание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5257800" y="1828800"/>
            <a:ext cx="3886200" cy="24415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Г) Социально-психологические факторы (взаимоотношения в организации как по горизонтали, так и по вертикали)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ешающую роль при этом играет поддержка со стороны коллег, а также семьи, друзей, родственни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143000" y="4343400"/>
            <a:ext cx="3886200" cy="23191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Д)Достаточное вознаграждение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Вознаграждение (денежное или моральное) должно быть достаточным для предотвращения выгорания. При этом работникам важно соотносить свои усилия и усилия других (должно быть справедливое вознагражде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105520" y="4267080"/>
            <a:ext cx="40384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Е) Ролевой конфликт и ролевая двойственость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Ролевой конфликт - противоречие между функциями работника, которые он выполняет. Противоречие ролей снижает профессиональную эффективность и ведет к эмоциональному истощению и деперсонализа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1" descr="Eye"/>
          <p:cNvPicPr/>
          <p:nvPr/>
        </p:nvPicPr>
        <p:blipFill>
          <a:blip r:embed="rId1"/>
          <a:stretch/>
        </p:blipFill>
        <p:spPr>
          <a:xfrm>
            <a:off x="4643280" y="3573360"/>
            <a:ext cx="9050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380880" y="1773360"/>
            <a:ext cx="8763120" cy="1599840"/>
            <a:chOff x="380880" y="1773360"/>
            <a:chExt cx="8763120" cy="1599840"/>
          </a:xfrm>
        </p:grpSpPr>
        <p:sp>
          <p:nvSpPr>
            <p:cNvPr id="208" name="AutoShape 9"/>
            <p:cNvSpPr/>
            <p:nvPr/>
          </p:nvSpPr>
          <p:spPr>
            <a:xfrm>
              <a:off x="533520" y="1773360"/>
              <a:ext cx="8610480" cy="1599840"/>
            </a:xfrm>
            <a:custGeom>
              <a:avLst/>
              <a:gdLst>
                <a:gd name="textAreaLeft" fmla="*/ 2152440 w 8610480"/>
                <a:gd name="textAreaRight" fmla="*/ 6458040 w 8610480"/>
                <a:gd name="textAreaTop" fmla="*/ 199800 h 1599840"/>
                <a:gd name="textAreaBottom" fmla="*/ 1600200 h 159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11"/>
            <p:cNvSpPr/>
            <p:nvPr/>
          </p:nvSpPr>
          <p:spPr>
            <a:xfrm>
              <a:off x="380880" y="2073240"/>
              <a:ext cx="2210040" cy="459720"/>
            </a:xfrm>
            <a:prstGeom prst="rect">
              <a:avLst/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А) Возрас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Text Box 18"/>
          <p:cNvSpPr/>
          <p:nvPr/>
        </p:nvSpPr>
        <p:spPr>
          <a:xfrm>
            <a:off x="2819520" y="2133720"/>
            <a:ext cx="3962160" cy="1008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Наиболее склонны к выгоранию работники 19-25 лет и 40-50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304920" y="3200400"/>
            <a:ext cx="8839080" cy="1752120"/>
            <a:chOff x="304920" y="3200400"/>
            <a:chExt cx="8839080" cy="1752120"/>
          </a:xfrm>
        </p:grpSpPr>
        <p:grpSp>
          <p:nvGrpSpPr>
            <p:cNvPr id="212" name="Group 16"/>
            <p:cNvGrpSpPr/>
            <p:nvPr/>
          </p:nvGrpSpPr>
          <p:grpSpPr>
            <a:xfrm>
              <a:off x="304920" y="3200400"/>
              <a:ext cx="8839080" cy="1752120"/>
              <a:chOff x="304920" y="3200400"/>
              <a:chExt cx="8839080" cy="1752120"/>
            </a:xfrm>
          </p:grpSpPr>
          <p:sp>
            <p:nvSpPr>
              <p:cNvPr id="213" name="AutoShape 8"/>
              <p:cNvSpPr/>
              <p:nvPr/>
            </p:nvSpPr>
            <p:spPr>
              <a:xfrm>
                <a:off x="533520" y="3200400"/>
                <a:ext cx="8610480" cy="1752120"/>
              </a:xfrm>
              <a:custGeom>
                <a:avLst/>
                <a:gdLst>
                  <a:gd name="textAreaLeft" fmla="*/ 2152440 w 8610480"/>
                  <a:gd name="textAreaRight" fmla="*/ 6458040 w 8610480"/>
                  <a:gd name="textAreaTop" fmla="*/ 218880 h 1752120"/>
                  <a:gd name="textAreaBottom" fmla="*/ 1752480 h 175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0099cc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2"/>
              <p:cNvSpPr/>
              <p:nvPr/>
            </p:nvSpPr>
            <p:spPr>
              <a:xfrm>
                <a:off x="304920" y="3418920"/>
                <a:ext cx="2286000" cy="825480"/>
              </a:xfrm>
              <a:prstGeom prst="rect">
                <a:avLst/>
              </a:prstGeom>
              <a:solidFill>
                <a:srgbClr val="0099cc"/>
              </a:solidFill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c0099"/>
                    </a:solidFill>
                    <a:latin typeface="Times New Roman"/>
                  </a:rPr>
                  <a:t>Б) Семейное положение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19"/>
            <p:cNvSpPr/>
            <p:nvPr/>
          </p:nvSpPr>
          <p:spPr>
            <a:xfrm>
              <a:off x="2743200" y="3581280"/>
              <a:ext cx="4114800" cy="131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99"/>
                  </a:solidFill>
                  <a:latin typeface="Times New Roman"/>
                </a:rPr>
                <a:t>Более склонны к выгоранию неженатые (особенно мужчины), причем холостяки больше, чем разведенные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2"/>
          <p:cNvGrpSpPr/>
          <p:nvPr/>
        </p:nvGrpSpPr>
        <p:grpSpPr>
          <a:xfrm>
            <a:off x="304920" y="4838760"/>
            <a:ext cx="8610480" cy="1981080"/>
            <a:chOff x="304920" y="4838760"/>
            <a:chExt cx="8610480" cy="1981080"/>
          </a:xfrm>
        </p:grpSpPr>
        <p:sp>
          <p:nvSpPr>
            <p:cNvPr id="217" name="AutoShape 6"/>
            <p:cNvSpPr/>
            <p:nvPr/>
          </p:nvSpPr>
          <p:spPr>
            <a:xfrm>
              <a:off x="533520" y="4838760"/>
              <a:ext cx="8381880" cy="1981080"/>
            </a:xfrm>
            <a:custGeom>
              <a:avLst/>
              <a:gdLst>
                <a:gd name="textAreaLeft" fmla="*/ 2095560 w 8381880"/>
                <a:gd name="textAreaRight" fmla="*/ 6286680 w 8381880"/>
                <a:gd name="textAreaTop" fmla="*/ 24768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304920" y="5334120"/>
              <a:ext cx="1904760" cy="459720"/>
            </a:xfrm>
            <a:prstGeom prst="rect">
              <a:avLst/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В) По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20"/>
            <p:cNvSpPr/>
            <p:nvPr/>
          </p:nvSpPr>
          <p:spPr>
            <a:xfrm>
              <a:off x="2666880" y="5079960"/>
              <a:ext cx="4267440" cy="17398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99"/>
                  </a:solidFill>
                  <a:latin typeface="Times New Roman"/>
                </a:rPr>
                <a:t>У мужчин больше выгорание, если от них требуется демонстрация мужских качеств:отвага, достижения в работе, эмоц. сдержанность, у женщин - если от них требуется сопереживание, воспитательные умения, подчинение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0" name="Picture 24" descr="!cid_image028"/>
          <p:cNvPicPr/>
          <p:nvPr/>
        </p:nvPicPr>
        <p:blipFill>
          <a:blip r:embed="rId1"/>
          <a:stretch/>
        </p:blipFill>
        <p:spPr>
          <a:xfrm>
            <a:off x="7164360" y="34290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Eye"/>
          <p:cNvPicPr/>
          <p:nvPr/>
        </p:nvPicPr>
        <p:blipFill>
          <a:blip r:embed="rId2"/>
          <a:stretch/>
        </p:blipFill>
        <p:spPr>
          <a:xfrm>
            <a:off x="7236000" y="1916280"/>
            <a:ext cx="904680" cy="904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6" descr="!cid_image010"/>
          <p:cNvPicPr/>
          <p:nvPr/>
        </p:nvPicPr>
        <p:blipFill>
          <a:blip r:embed="rId3"/>
          <a:stretch/>
        </p:blipFill>
        <p:spPr>
          <a:xfrm>
            <a:off x="7596360" y="53006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7" descr="!cid_image009"/>
          <p:cNvPicPr/>
          <p:nvPr/>
        </p:nvPicPr>
        <p:blipFill>
          <a:blip r:embed="rId4"/>
          <a:stretch/>
        </p:blipFill>
        <p:spPr>
          <a:xfrm>
            <a:off x="7020000" y="4941720"/>
            <a:ext cx="474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3"/>
          <p:cNvSpPr/>
          <p:nvPr/>
        </p:nvSpPr>
        <p:spPr>
          <a:xfrm>
            <a:off x="914400" y="3962520"/>
            <a:ext cx="358632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2. Индивидуальные стратегии сопротивления выгоранию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, активно противодействующие  стрессу, имеют низкий уровень выгорания. Женщины продуктивнее, чем мужчины, используют стратегию избегания стрессовых ситуа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181480" y="1700280"/>
            <a:ext cx="39625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3. Локус контроля.</a:t>
            </a:r>
            <a:r>
              <a:rPr b="0" lang="ru-RU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 с внешним локусом контроля чаще подвержены выгоранию (особенно таким его составляющим, как эмоциональному истощению и деперсонализаци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990720" y="1600200"/>
            <a:ext cx="3657600" cy="2462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1. Личностная выносливость.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Способность личности быть высокоактивной каждый день, осуществлять контроль за жизненными ситуациями, гибко реагировать на различного рода изменени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35280" y="3429000"/>
            <a:ext cx="2557440" cy="825480"/>
          </a:xfrm>
          <a:prstGeom prst="rect">
            <a:avLst/>
          </a:prstGeom>
          <a:solidFill>
            <a:srgbClr val="ff9933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Г) Личностные особ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5867280" y="41911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4. Самооценка</a:t>
            </a:r>
            <a:r>
              <a:rPr b="0" lang="ru-RU" sz="2400" spc="-1" strike="noStrike">
                <a:solidFill>
                  <a:srgbClr val="3366cc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ысокая самооценка хотя и предрасполагает к выгоранию,сама по себе может быть отражением факторов среды или даже отражением воздействия выгор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7" descr="!cid_image035"/>
          <p:cNvPicPr/>
          <p:nvPr/>
        </p:nvPicPr>
        <p:blipFill>
          <a:blip r:embed="rId1"/>
          <a:stretch/>
        </p:blipFill>
        <p:spPr>
          <a:xfrm>
            <a:off x="5148360" y="5084640"/>
            <a:ext cx="761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WordArt 3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066680" y="11430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 Индивидуальные характеристики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мих профессионалов.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6" name="Text Box 6"/>
          <p:cNvSpPr/>
          <p:nvPr/>
        </p:nvSpPr>
        <p:spPr>
          <a:xfrm flipV="1">
            <a:off x="762120" y="127728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85800" y="1905120"/>
            <a:ext cx="8458200" cy="1752480"/>
          </a:xfrm>
          <a:custGeom>
            <a:avLst/>
            <a:gdLst>
              <a:gd name="textAreaLeft" fmla="*/ 2114640 w 8458200"/>
              <a:gd name="textAreaRight" fmla="*/ 6343920 w 8458200"/>
              <a:gd name="textAreaTop" fmla="*/ 21888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33520" y="2209680"/>
            <a:ext cx="2209680" cy="8254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Д) Уровень образ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971800" y="2133720"/>
            <a:ext cx="3733920" cy="146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Чем выше уровень образования, тем более вероятна деперсонализация (это может быть связано с уровнем притязан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762120" y="3657600"/>
            <a:ext cx="8381880" cy="3200400"/>
          </a:xfrm>
          <a:custGeom>
            <a:avLst/>
            <a:gdLst>
              <a:gd name="textAreaLeft" fmla="*/ 2095560 w 8381880"/>
              <a:gd name="textAreaRight" fmla="*/ 6286680 w 8381880"/>
              <a:gd name="textAreaTop" fmla="*/ 39996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80880" y="4724280"/>
            <a:ext cx="2438640" cy="8254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Е) Поведение типа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3124080" y="4203720"/>
            <a:ext cx="358164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Люди, демонстрирующ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этот тип, предпочитают бурный темп жизни, имеют потребность все держать под контролем, преодолевать трудности. У женщин связь между поведением типа А и выгоранием сильнее, чем у мужч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3" descr="!cid_image030"/>
          <p:cNvPicPr/>
          <p:nvPr/>
        </p:nvPicPr>
        <p:blipFill>
          <a:blip r:embed="rId1"/>
          <a:stretch/>
        </p:blipFill>
        <p:spPr>
          <a:xfrm>
            <a:off x="7164360" y="198900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4" descr="!cid_image001"/>
          <p:cNvPicPr/>
          <p:nvPr/>
        </p:nvPicPr>
        <p:blipFill>
          <a:blip r:embed="rId2"/>
          <a:stretch/>
        </p:blipFill>
        <p:spPr>
          <a:xfrm>
            <a:off x="7236000" y="4437000"/>
            <a:ext cx="1455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0"/>
          <p:cNvSpPr/>
          <p:nvPr/>
        </p:nvSpPr>
        <p:spPr>
          <a:xfrm>
            <a:off x="1066680" y="3200400"/>
            <a:ext cx="4267440" cy="325764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Здоровый, активный, способный к решению трудных проблем, придающий работе высокое (но не экстремальное) значение, контролирующий свои энергетические затраты. Владеет конструктивными способами преодоления неудач и поражений, которые он воспринимает не как источник негативных эмоций, а как стимул для поиска активных стратегий их преодоления. </a:t>
            </a: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Тип </a:t>
            </a:r>
            <a:r>
              <a:rPr b="1" lang="en-US" sz="1600" spc="-1" strike="noStrike">
                <a:solidFill>
                  <a:srgbClr val="cc0099"/>
                </a:solidFill>
                <a:latin typeface="Times New Roman"/>
              </a:rPr>
              <a:t>G</a:t>
            </a:r>
            <a:r>
              <a:rPr b="1" lang="ru-RU" sz="1600" spc="-1" strike="noStrike">
                <a:solidFill>
                  <a:srgbClr val="cc0099"/>
                </a:solidFill>
                <a:latin typeface="Times New Roman"/>
              </a:rPr>
              <a:t>   можно представить как образец положительной установки на деятельность, усиленной положительными эмоци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5"/>
          <p:cNvSpPr txBox="1"/>
          <p:nvPr/>
        </p:nvSpPr>
        <p:spPr>
          <a:xfrm>
            <a:off x="114300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638680" y="1371600"/>
            <a:ext cx="2971800" cy="1618560"/>
          </a:xfrm>
          <a:prstGeom prst="rect">
            <a:avLst/>
          </a:prstGeom>
          <a:solidFill>
            <a:srgbClr val="ffcc66"/>
          </a:solidFill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66cc"/>
                </a:solidFill>
                <a:uFillTx/>
                <a:latin typeface="Times New Roman"/>
              </a:rPr>
              <a:t>Выделены 4 типа поведения и переживания в профессиональной сре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1523880" y="1295280"/>
            <a:ext cx="2514600" cy="1905120"/>
            <a:chOff x="1523880" y="1295280"/>
            <a:chExt cx="2514600" cy="1905120"/>
          </a:xfrm>
        </p:grpSpPr>
        <p:sp>
          <p:nvSpPr>
            <p:cNvPr id="250" name="AutoShape 8"/>
            <p:cNvSpPr/>
            <p:nvPr/>
          </p:nvSpPr>
          <p:spPr>
            <a:xfrm>
              <a:off x="1523880" y="1295280"/>
              <a:ext cx="2514600" cy="1905120"/>
            </a:xfrm>
            <a:prstGeom prst="downArrowCallout">
              <a:avLst>
                <a:gd name="adj1" fmla="val 33001"/>
                <a:gd name="adj2" fmla="val 32998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1676520" y="1617840"/>
              <a:ext cx="220968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1. Тип </a:t>
              </a:r>
              <a:r>
                <a:rPr b="1" lang="en-US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AutoShape 12"/>
          <p:cNvSpPr/>
          <p:nvPr/>
        </p:nvSpPr>
        <p:spPr>
          <a:xfrm>
            <a:off x="5334120" y="4572000"/>
            <a:ext cx="761760" cy="4572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5" descr="!cid_image005"/>
          <p:cNvPicPr/>
          <p:nvPr/>
        </p:nvPicPr>
        <p:blipFill>
          <a:blip r:embed="rId1"/>
          <a:stretch/>
        </p:blipFill>
        <p:spPr>
          <a:xfrm>
            <a:off x="6156360" y="3500280"/>
            <a:ext cx="298764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8"/>
          <p:cNvSpPr/>
          <p:nvPr/>
        </p:nvSpPr>
        <p:spPr>
          <a:xfrm>
            <a:off x="4800600" y="1523880"/>
            <a:ext cx="4114800" cy="475740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Экономный, бережливый, со средним уровнем мотивации, энергетических затрат и профессиональных притязаний, сохраняет дистанцию по отношению к профессиональной деятельности, удовлетворен результатами своего труда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Характерной чертой этого типа является общая удовлетворенность жизнью, источником которой могут быть ситуации, не связанные с работой.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Но при такой «экономной» стратегии поведения в длительной перспективе может возрасти профессиональная неудовлетворенность на фоне успешности других люд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1523880" y="1295280"/>
            <a:ext cx="2514600" cy="1904760"/>
            <a:chOff x="1523880" y="1295280"/>
            <a:chExt cx="2514600" cy="1904760"/>
          </a:xfrm>
        </p:grpSpPr>
        <p:sp>
          <p:nvSpPr>
            <p:cNvPr id="258" name="AutoShape 5"/>
            <p:cNvSpPr/>
            <p:nvPr/>
          </p:nvSpPr>
          <p:spPr>
            <a:xfrm>
              <a:off x="152388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6"/>
            <p:cNvSpPr/>
            <p:nvPr/>
          </p:nvSpPr>
          <p:spPr>
            <a:xfrm>
              <a:off x="167616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2. Тип </a:t>
              </a:r>
              <a:r>
                <a:rPr b="1" lang="en-US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AutoShape 9"/>
          <p:cNvSpPr/>
          <p:nvPr/>
        </p:nvSpPr>
        <p:spPr>
          <a:xfrm>
            <a:off x="4038480" y="1905120"/>
            <a:ext cx="76212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0" descr="!cid_image002"/>
          <p:cNvPicPr/>
          <p:nvPr/>
        </p:nvPicPr>
        <p:blipFill>
          <a:blip r:embed="rId1"/>
          <a:stretch/>
        </p:blipFill>
        <p:spPr>
          <a:xfrm>
            <a:off x="1403280" y="3284640"/>
            <a:ext cx="2852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1143000" y="1295280"/>
            <a:ext cx="2514600" cy="1904760"/>
            <a:chOff x="1143000" y="1295280"/>
            <a:chExt cx="2514600" cy="1904760"/>
          </a:xfrm>
        </p:grpSpPr>
        <p:sp>
          <p:nvSpPr>
            <p:cNvPr id="265" name="AutoShape 5"/>
            <p:cNvSpPr/>
            <p:nvPr/>
          </p:nvSpPr>
          <p:spPr>
            <a:xfrm>
              <a:off x="114300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6"/>
            <p:cNvSpPr/>
            <p:nvPr/>
          </p:nvSpPr>
          <p:spPr>
            <a:xfrm>
              <a:off x="129528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3. Тип 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7"/>
          <p:cNvSpPr/>
          <p:nvPr/>
        </p:nvSpPr>
        <p:spPr>
          <a:xfrm>
            <a:off x="4114800" y="1371600"/>
            <a:ext cx="4800600" cy="5031720"/>
          </a:xfrm>
          <a:prstGeom prst="rect">
            <a:avLst/>
          </a:prstGeom>
          <a:solidFill>
            <a:srgbClr val="ffcc66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Тип риска А - характеризуется экстремально высоким субъективным значением профессиональной деятельности, большой степенью готовности к энергетическим затратам, низкой устойчивостью к фрустрации и стрессам. Психические перегрузки, стремление к совершенству и связанная с этим неудовлетворенность эффективностью своей деятельности приводят к возникновению негативных эмоций.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Этот тип относится к группе риска с вероятностью быстрого развития синдрома профессиональноговыгорания.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Неблагоприятными последствиями поведения такого типа может стать возникновение психосоматических и сердечных заболевани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3581280" y="1828800"/>
            <a:ext cx="60984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9" descr="!cid_image001"/>
          <p:cNvPicPr/>
          <p:nvPr/>
        </p:nvPicPr>
        <p:blipFill>
          <a:blip r:embed="rId1"/>
          <a:stretch/>
        </p:blipFill>
        <p:spPr>
          <a:xfrm>
            <a:off x="1312920" y="3429000"/>
            <a:ext cx="2516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1600200" y="1295280"/>
            <a:ext cx="2514600" cy="1904760"/>
            <a:chOff x="1600200" y="1295280"/>
            <a:chExt cx="2514600" cy="1904760"/>
          </a:xfrm>
        </p:grpSpPr>
        <p:sp>
          <p:nvSpPr>
            <p:cNvPr id="273" name="AutoShape 5"/>
            <p:cNvSpPr/>
            <p:nvPr/>
          </p:nvSpPr>
          <p:spPr>
            <a:xfrm>
              <a:off x="1600200" y="1295280"/>
              <a:ext cx="2514600" cy="1904760"/>
            </a:xfrm>
            <a:prstGeom prst="downArrowCallout">
              <a:avLst>
                <a:gd name="adj1" fmla="val 33007"/>
                <a:gd name="adj2" fmla="val 33004"/>
                <a:gd name="adj3" fmla="val 16667"/>
                <a:gd name="adj4" fmla="val 66667"/>
              </a:avLst>
            </a:prstGeom>
            <a:solidFill>
              <a:srgbClr val="ffcc66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1752480" y="1617480"/>
              <a:ext cx="2210040" cy="5814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cc0099"/>
                  </a:solidFill>
                  <a:uFillTx/>
                  <a:latin typeface="Times New Roman"/>
                </a:rPr>
                <a:t>4. Тип В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AutoShape 7"/>
          <p:cNvSpPr/>
          <p:nvPr/>
        </p:nvSpPr>
        <p:spPr>
          <a:xfrm>
            <a:off x="4114800" y="1828800"/>
            <a:ext cx="609480" cy="228600"/>
          </a:xfrm>
          <a:prstGeom prst="pie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800600" y="1295280"/>
            <a:ext cx="4114800" cy="5306040"/>
          </a:xfrm>
          <a:prstGeom prst="rect">
            <a:avLst/>
          </a:prstGeom>
          <a:solidFill>
            <a:srgbClr val="ffcc66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ыгорание. Отмечен низким субъективным значением деятельности, низкой стрессоустойчивостью, органиченной способностью к релаксации и конструктивному решению проблем, тенденцией к отказу в трудных ситуациях, постоянным чувством беспокойства и беспредметного страха. Тип В не способен к сохранению дистанции по отношению к работе, что приводит к дополнительным психическим нагрузкам, постоянной неудовлетворенности собой, снижению общей психической устойчивости организма, общей апатии, нежеланию выполнять профессиональные задач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icture 10" descr="!cid_image021"/>
          <p:cNvPicPr/>
          <p:nvPr/>
        </p:nvPicPr>
        <p:blipFill>
          <a:blip r:embed="rId1"/>
          <a:stretch/>
        </p:blipFill>
        <p:spPr>
          <a:xfrm>
            <a:off x="1116000" y="3357720"/>
            <a:ext cx="36003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1143000" y="22860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пределение типов поведения и переживания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фессиональной среде учителей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Object 0"/>
          <p:cNvGraphicFramePr/>
          <p:nvPr/>
        </p:nvGraphicFramePr>
        <p:xfrm>
          <a:off x="1828800" y="1600200"/>
          <a:ext cx="6477120" cy="33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6477120" cy="339408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Text Box 8"/>
          <p:cNvSpPr/>
          <p:nvPr/>
        </p:nvSpPr>
        <p:spPr>
          <a:xfrm>
            <a:off x="1066680" y="5334120"/>
            <a:ext cx="7848720" cy="1191240"/>
          </a:xfrm>
          <a:prstGeom prst="rect">
            <a:avLst/>
          </a:prstGeom>
          <a:solidFill>
            <a:srgbClr val="ff9933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ff"/>
                </a:solidFill>
                <a:latin typeface="Times New Roman"/>
              </a:rPr>
              <a:t>Тип </a:t>
            </a:r>
            <a:r>
              <a:rPr b="1" lang="en-US" sz="2400" spc="-1" strike="noStrike">
                <a:solidFill>
                  <a:srgbClr val="9999ff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- здоровый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Тип А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- склонный к выгоранию                                                                      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Тип S 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- экономный    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Тип В</a:t>
            </a: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 - выгоревш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" descr="!cid_image001"/>
          <p:cNvPicPr/>
          <p:nvPr/>
        </p:nvPicPr>
        <p:blipFill>
          <a:blip r:embed="rId3"/>
          <a:stretch/>
        </p:blipFill>
        <p:spPr>
          <a:xfrm>
            <a:off x="3492360" y="3933720"/>
            <a:ext cx="862200" cy="93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!cid_image005"/>
          <p:cNvPicPr/>
          <p:nvPr/>
        </p:nvPicPr>
        <p:blipFill>
          <a:blip r:embed="rId4"/>
          <a:stretch/>
        </p:blipFill>
        <p:spPr>
          <a:xfrm flipH="1">
            <a:off x="4355640" y="17002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!cid_image002"/>
          <p:cNvPicPr/>
          <p:nvPr/>
        </p:nvPicPr>
        <p:blipFill>
          <a:blip r:embed="rId5"/>
          <a:stretch/>
        </p:blipFill>
        <p:spPr>
          <a:xfrm>
            <a:off x="6156360" y="1773360"/>
            <a:ext cx="633240" cy="718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2" descr="!cid_image021"/>
          <p:cNvPicPr/>
          <p:nvPr/>
        </p:nvPicPr>
        <p:blipFill>
          <a:blip r:embed="rId6"/>
          <a:stretch/>
        </p:blipFill>
        <p:spPr>
          <a:xfrm>
            <a:off x="2195640" y="1773360"/>
            <a:ext cx="792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7"/>
          <p:cNvSpPr/>
          <p:nvPr/>
        </p:nvSpPr>
        <p:spPr>
          <a:xfrm>
            <a:off x="1219320" y="3871800"/>
            <a:ext cx="3504960" cy="2624040"/>
          </a:xfrm>
          <a:prstGeom prst="rect">
            <a:avLst/>
          </a:pr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Основная идея этого подхода в том, что выгорание - результат несоответствия между личностью и работой. Увеличение несоответствия повышает вероятность возникновения выгорания.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Ими предлагается шесть сфер такого несоответств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отвращение выгорания: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вые подходы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042920" y="1413000"/>
            <a:ext cx="395928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В настоящее время появилось несколько новых подходов к понятию выгорания, среди них - подход К. Маслач и М. Лейт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5"/>
          <p:cNvGrpSpPr/>
          <p:nvPr/>
        </p:nvGrpSpPr>
        <p:grpSpPr>
          <a:xfrm>
            <a:off x="5105520" y="1247760"/>
            <a:ext cx="3733560" cy="5562720"/>
            <a:chOff x="5105520" y="1247760"/>
            <a:chExt cx="3733560" cy="5562720"/>
          </a:xfrm>
        </p:grpSpPr>
        <p:sp>
          <p:nvSpPr>
            <p:cNvPr id="292" name="AutoShape 8"/>
            <p:cNvSpPr/>
            <p:nvPr/>
          </p:nvSpPr>
          <p:spPr>
            <a:xfrm>
              <a:off x="5105520" y="1247760"/>
              <a:ext cx="3733560" cy="5562720"/>
            </a:xfrm>
            <a:prstGeom prst="wedgeRectCallout">
              <a:avLst>
                <a:gd name="adj1" fmla="val -59398"/>
                <a:gd name="adj2" fmla="val 44064"/>
              </a:avLst>
            </a:prstGeom>
            <a:solidFill>
              <a:srgbClr val="0099cc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5257800" y="1400040"/>
              <a:ext cx="342900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1. Несоответствие между требованиями, предъявляемыми к работнику и его ресурсами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5334120" y="2666880"/>
              <a:ext cx="3276360" cy="265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2. Несоответстви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между стремлением работников иметь большую степень самостоятельности в работе и жесткой, нерациональной политикой администрации в организации рабочей активности и контролем за ней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5334120" y="5486400"/>
              <a:ext cx="327636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3.Несоответствие</a:t>
              </a:r>
              <a:r>
                <a:rPr b="1" lang="ru-RU" sz="1800" spc="-1" strike="noStrike">
                  <a:solidFill>
                    <a:srgbClr val="0099cc"/>
                  </a:solidFill>
                  <a:latin typeface="Times New Roman"/>
                </a:rPr>
                <a:t>  </a:t>
              </a: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работы и личности ввиду отсутствия достаточного вознаграждения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6" name="Picture 16" descr="AG00188_"/>
          <p:cNvPicPr/>
          <p:nvPr/>
        </p:nvPicPr>
        <p:blipFill>
          <a:blip r:embed="rId1"/>
          <a:stretch/>
        </p:blipFill>
        <p:spPr>
          <a:xfrm>
            <a:off x="1476360" y="1916280"/>
            <a:ext cx="1911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928800" y="857160"/>
            <a:ext cx="78483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Ничто не является 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для человека такой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ильной нагрузкой и таким сильным испытанием, 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 другой человек"</a:t>
            </a:r>
            <a:endParaRPr b="1" lang="en-US" sz="32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018520" y="4000680"/>
            <a:ext cx="6247800" cy="16786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ту метафору можно положить в основ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сследований психологического феномена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синдро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фессионального выгор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феры несоответствия между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ностью и работой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1143000" y="1371600"/>
            <a:ext cx="2819520" cy="1752480"/>
            <a:chOff x="1143000" y="1371600"/>
            <a:chExt cx="2819520" cy="1752480"/>
          </a:xfrm>
        </p:grpSpPr>
        <p:sp>
          <p:nvSpPr>
            <p:cNvPr id="300" name="AutoShape 5"/>
            <p:cNvSpPr/>
            <p:nvPr/>
          </p:nvSpPr>
          <p:spPr>
            <a:xfrm>
              <a:off x="1143000" y="1371600"/>
              <a:ext cx="2819520" cy="175248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Text Box 4"/>
            <p:cNvSpPr/>
            <p:nvPr/>
          </p:nvSpPr>
          <p:spPr>
            <a:xfrm>
              <a:off x="1371600" y="1676160"/>
              <a:ext cx="2286000" cy="10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66cc"/>
                  </a:solidFill>
                  <a:latin typeface="Times New Roman"/>
                </a:rPr>
                <a:t>Выделено шесть сфер несоответствия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"/>
          <p:cNvGrpSpPr/>
          <p:nvPr/>
        </p:nvGrpSpPr>
        <p:grpSpPr>
          <a:xfrm>
            <a:off x="4038480" y="1295280"/>
            <a:ext cx="4876560" cy="5333760"/>
            <a:chOff x="4038480" y="1295280"/>
            <a:chExt cx="4876560" cy="5333760"/>
          </a:xfrm>
        </p:grpSpPr>
        <p:sp>
          <p:nvSpPr>
            <p:cNvPr id="303" name="AutoShape 7"/>
            <p:cNvSpPr/>
            <p:nvPr/>
          </p:nvSpPr>
          <p:spPr>
            <a:xfrm>
              <a:off x="4038480" y="1295280"/>
              <a:ext cx="4876560" cy="5333760"/>
            </a:xfrm>
            <a:prstGeom prst="wedgeRectCallout">
              <a:avLst>
                <a:gd name="adj1" fmla="val -59277"/>
                <a:gd name="adj2" fmla="val -41370"/>
              </a:avLst>
            </a:prstGeom>
            <a:solidFill>
              <a:srgbClr val="0099cc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4267080" y="1523880"/>
              <a:ext cx="4419360" cy="2288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4. Несоответствие личности и работы ввиду потери чувства положительного взаимодействия с другими людьми в рабочей среде. Постоянные нерешаемые конфликты между людьми продуцируют чувство враждебности и фрустрации и уменьшают вероятность социальной поддержки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4267080" y="3962160"/>
              <a:ext cx="4267080" cy="119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5. Несоответствие между личностью и работой может возникнуть при отсутствия представления о справедливости на работе.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12"/>
            <p:cNvSpPr/>
            <p:nvPr/>
          </p:nvSpPr>
          <p:spPr>
            <a:xfrm>
              <a:off x="4267080" y="5410080"/>
              <a:ext cx="419076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6. Несоответствие между этическими принципами личности и требованиями работы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Picture 14" descr="AG00188_"/>
          <p:cNvPicPr/>
          <p:nvPr/>
        </p:nvPicPr>
        <p:blipFill>
          <a:blip r:embed="rId1"/>
          <a:stretch/>
        </p:blipFill>
        <p:spPr>
          <a:xfrm>
            <a:off x="1042920" y="3213000"/>
            <a:ext cx="280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8"/>
          <p:cNvSpPr/>
          <p:nvPr/>
        </p:nvSpPr>
        <p:spPr>
          <a:xfrm>
            <a:off x="4876920" y="2666880"/>
            <a:ext cx="3962160" cy="3957480"/>
          </a:xfrm>
          <a:prstGeom prst="rect">
            <a:avLst/>
          </a:pr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Научатся реалистически подходить к своей работе и целям, адекватно оценивать свои возможности и требования среды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Будут стараться отделить свою личную жизнь от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Формировать интересы, не касающиеся рабо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Чувствовать свою значимость и эффективность своих действи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cc0099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Научатся предотвращать признаки выгорания.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WordArt 3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под выгорания.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1" name="Group 7"/>
          <p:cNvGrpSpPr/>
          <p:nvPr/>
        </p:nvGrpSpPr>
        <p:grpSpPr>
          <a:xfrm>
            <a:off x="533520" y="1295280"/>
            <a:ext cx="4267080" cy="5562720"/>
            <a:chOff x="533520" y="1295280"/>
            <a:chExt cx="4267080" cy="5562720"/>
          </a:xfrm>
        </p:grpSpPr>
        <p:sp>
          <p:nvSpPr>
            <p:cNvPr id="312" name="AutoShape 5"/>
            <p:cNvSpPr/>
            <p:nvPr/>
          </p:nvSpPr>
          <p:spPr>
            <a:xfrm>
              <a:off x="533520" y="1295280"/>
              <a:ext cx="4267080" cy="5562720"/>
            </a:xfrm>
            <a:prstGeom prst="verticalScroll">
              <a:avLst>
                <a:gd name="adj" fmla="val 12500"/>
              </a:avLst>
            </a:prstGeom>
            <a:solidFill>
              <a:srgbClr val="0099cc"/>
            </a:solid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Text Box 4"/>
            <p:cNvSpPr/>
            <p:nvPr/>
          </p:nvSpPr>
          <p:spPr>
            <a:xfrm>
              <a:off x="1219320" y="1905120"/>
              <a:ext cx="2971800" cy="4757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Исследование феномена выгорания привело к мысли о существовании его антипода, характеризующегося направленностью на работу, энтузиазмом, положительным отношением к труду. Было предложено понятие «вовлеченность», которое характеризуется прямо противоположными выгоранию составляющими: энергичностью, включенностью в работу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0"/>
          <p:cNvGrpSpPr/>
          <p:nvPr/>
        </p:nvGrpSpPr>
        <p:grpSpPr>
          <a:xfrm>
            <a:off x="5029200" y="1295280"/>
            <a:ext cx="3886200" cy="990720"/>
            <a:chOff x="5029200" y="1295280"/>
            <a:chExt cx="3886200" cy="990720"/>
          </a:xfrm>
        </p:grpSpPr>
        <p:sp>
          <p:nvSpPr>
            <p:cNvPr id="315" name="AutoShape 9"/>
            <p:cNvSpPr/>
            <p:nvPr/>
          </p:nvSpPr>
          <p:spPr>
            <a:xfrm>
              <a:off x="5029200" y="1295280"/>
              <a:ext cx="3886200" cy="990720"/>
            </a:xfrm>
            <a:prstGeom prst="bevel">
              <a:avLst>
                <a:gd name="adj" fmla="val 12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6"/>
            <p:cNvSpPr/>
            <p:nvPr/>
          </p:nvSpPr>
          <p:spPr>
            <a:xfrm>
              <a:off x="5181480" y="1447920"/>
              <a:ext cx="3429000" cy="6426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66cc"/>
                  </a:solidFill>
                  <a:latin typeface="Times New Roman"/>
                </a:rPr>
                <a:t>Работники могут избежать выгорания, если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AutoShape 11"/>
          <p:cNvSpPr/>
          <p:nvPr/>
        </p:nvSpPr>
        <p:spPr>
          <a:xfrm>
            <a:off x="6781680" y="22860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5029200" y="60958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14" descr="AG00319_"/>
          <p:cNvPicPr/>
          <p:nvPr/>
        </p:nvPicPr>
        <p:blipFill>
          <a:blip r:embed="rId1"/>
          <a:stretch/>
        </p:blipFill>
        <p:spPr>
          <a:xfrm>
            <a:off x="1979640" y="981000"/>
            <a:ext cx="16192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1136520" y="0"/>
            <a:ext cx="8001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предотвратить 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е ?</a:t>
            </a:r>
            <a:endParaRPr b="0" lang="en-US" sz="1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1371600" y="1295280"/>
            <a:ext cx="7391520" cy="5562720"/>
          </a:xfrm>
          <a:custGeom>
            <a:avLst/>
            <a:gdLst>
              <a:gd name="textAreaLeft" fmla="*/ 655560 w 7391520"/>
              <a:gd name="textAreaRight" fmla="*/ 6735960 w 7391520"/>
              <a:gd name="textAreaTop" fmla="*/ 655560 h 5562720"/>
              <a:gd name="textAreaBottom" fmla="*/ 4907160 h 5562720"/>
            </a:gdLst>
            <a:ahLst/>
            <a:rect l="textAreaLeft" t="textAreaTop" r="textAreaRight" b="textAreaBottom"/>
            <a:pathLst>
              <a:path w="2870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01" y="21600"/>
                </a:lnTo>
                <a:arcTo wR="3600" hR="3600" stAng="10800000" swAng="5400000"/>
                <a:lnTo>
                  <a:pt x="28701" y="3600"/>
                </a:lnTo>
                <a:arcTo wR="3600" hR="3600" stAng="5400000" swAng="5400000"/>
                <a:close/>
              </a:path>
            </a:pathLst>
          </a:custGeom>
          <a:solidFill>
            <a:srgbClr val="0099cc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362320" y="1447920"/>
            <a:ext cx="5486400" cy="1252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Опыт показывает, что эффективным средством профилактики напряженности, предотвращения выгорания является </a:t>
            </a: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использование способов саморегуляции и восстановления себ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600200" y="2819520"/>
            <a:ext cx="7010280" cy="947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Это своего рода техника безопасности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 для специалистов, имеющих многочисленные и интенсивные контакты с людьми в ходе своей профессиональной деятельнос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828800" y="3886200"/>
            <a:ext cx="6629400" cy="12826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Природа человека такова, что он стремится к комфорту, не задумываясь об этом, не зная какими научными словами э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800" spc="-1" strike="noStrike" u="sng">
                <a:solidFill>
                  <a:srgbClr val="cc0099"/>
                </a:solidFill>
                <a:uFillTx/>
                <a:latin typeface="Times New Roman"/>
              </a:rPr>
              <a:t>Это - естественные способы регуляции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которые включаются сами собой, помимо сознания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133720" y="5334120"/>
            <a:ext cx="6019560" cy="947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Times New Roman"/>
              </a:rPr>
              <a:t>Специалисты, занимающиеся проблемами регуляции психических состояний, для управления ими </a:t>
            </a:r>
            <a:r>
              <a:rPr b="1" lang="ru-RU" sz="1800" spc="-1" strike="noStrike">
                <a:solidFill>
                  <a:srgbClr val="cc0099"/>
                </a:solidFill>
                <a:latin typeface="Times New Roman"/>
              </a:rPr>
              <a:t>используют специальные приемы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cc0099"/>
                </a:solidFill>
                <a:uFillTx/>
                <a:latin typeface="Times New Roman"/>
              </a:rPr>
              <a:t>сознательно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0" descr="крапивница1"/>
          <p:cNvPicPr/>
          <p:nvPr/>
        </p:nvPicPr>
        <p:blipFill>
          <a:blip r:embed="rId1"/>
          <a:stretch/>
        </p:blipFill>
        <p:spPr>
          <a:xfrm>
            <a:off x="7772400" y="1341360"/>
            <a:ext cx="1371600" cy="1094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махаон1"/>
          <p:cNvPicPr/>
          <p:nvPr/>
        </p:nvPicPr>
        <p:blipFill>
          <a:blip r:embed="rId2"/>
          <a:stretch/>
        </p:blipFill>
        <p:spPr>
          <a:xfrm>
            <a:off x="755640" y="1268280"/>
            <a:ext cx="1512720" cy="110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павлиний глаз1"/>
          <p:cNvPicPr/>
          <p:nvPr/>
        </p:nvPicPr>
        <p:blipFill>
          <a:blip r:embed="rId3"/>
          <a:stretch/>
        </p:blipFill>
        <p:spPr>
          <a:xfrm>
            <a:off x="971640" y="5734080"/>
            <a:ext cx="1296720" cy="9316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махаон1"/>
          <p:cNvPicPr/>
          <p:nvPr/>
        </p:nvPicPr>
        <p:blipFill>
          <a:blip r:embed="rId4"/>
          <a:stretch/>
        </p:blipFill>
        <p:spPr>
          <a:xfrm>
            <a:off x="7740720" y="5734080"/>
            <a:ext cx="14032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576360" y="574560"/>
            <a:ext cx="475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295280" y="2286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В настоящее время существует единая точка зрения на сущность психического выгорания и его структур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1066680" y="1371600"/>
            <a:ext cx="8077320" cy="3886200"/>
            <a:chOff x="1066680" y="1371600"/>
            <a:chExt cx="8077320" cy="3886200"/>
          </a:xfrm>
        </p:grpSpPr>
        <p:sp>
          <p:nvSpPr>
            <p:cNvPr id="139" name="AutoShape 10"/>
            <p:cNvSpPr/>
            <p:nvPr/>
          </p:nvSpPr>
          <p:spPr>
            <a:xfrm>
              <a:off x="1066680" y="1371600"/>
              <a:ext cx="8077320" cy="3886200"/>
            </a:xfrm>
            <a:prstGeom prst="cloudCallout">
              <a:avLst>
                <a:gd name="adj1" fmla="val -48800"/>
                <a:gd name="adj2" fmla="val 86847"/>
              </a:avLst>
            </a:prstGeom>
            <a:solidFill>
              <a:srgbClr val="0099cc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209680" y="1981080"/>
              <a:ext cx="5486400" cy="24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0000"/>
                  </a:solidFill>
                  <a:latin typeface="Times New Roman"/>
                </a:rPr>
                <a:t>Психическое выгорание</a:t>
              </a:r>
              <a:r>
                <a:rPr b="0" lang="ru-RU" sz="2800" spc="-1" strike="noStrike">
                  <a:solidFill>
                    <a:srgbClr val="cc0000"/>
                  </a:solidFill>
                  <a:latin typeface="Times New Roman"/>
                </a:rPr>
                <a:t>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cc0000"/>
                  </a:solidFill>
                  <a:latin typeface="Times New Roman"/>
                </a:rPr>
                <a:t>состояние физического, эмоционального и умственного истощения, проявляющегося в профессиях социальной сферы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AutoShape 7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505320" y="5181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сихическое выгорание - ухудшение психического и физического самочувствия у представителей профессий типа «Человек-Челове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1066680" y="228600"/>
            <a:ext cx="8077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ставляющ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ндрома профессиональног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горания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90720" y="1905120"/>
            <a:ext cx="5181480" cy="155700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1. </a:t>
            </a:r>
            <a:r>
              <a:rPr b="1" lang="ru-RU" sz="2400" spc="-1" strike="noStrike" u="sng">
                <a:solidFill>
                  <a:srgbClr val="cc0099"/>
                </a:solidFill>
                <a:uFillTx/>
                <a:latin typeface="Times New Roman"/>
              </a:rPr>
              <a:t>Эмоциональная истощенность-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    чувство эмоциональной опустошенности и усталости, связанное с работ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495680" y="3124080"/>
            <a:ext cx="4648320" cy="1922760"/>
          </a:xfrm>
          <a:prstGeom prst="rect">
            <a:avLst/>
          </a:pr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2. Деперсонализация - циничное отношение к труду и объектам своего труда (бесчувственное, негуманное отношени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43000" y="4940280"/>
            <a:ext cx="601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3. Редукция профессиональных достижений- возникновение чувства компетентности в профессиональной сфере одновременно с осознанием неуспеха в 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2" descr="!cid_image036"/>
          <p:cNvPicPr/>
          <p:nvPr/>
        </p:nvPicPr>
        <p:blipFill>
          <a:blip r:embed="rId1"/>
          <a:stretch/>
        </p:blipFill>
        <p:spPr>
          <a:xfrm>
            <a:off x="6732720" y="1628640"/>
            <a:ext cx="1533240" cy="1582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!cid_image019"/>
          <p:cNvPicPr/>
          <p:nvPr/>
        </p:nvPicPr>
        <p:blipFill>
          <a:blip r:embed="rId2"/>
          <a:stretch/>
        </p:blipFill>
        <p:spPr>
          <a:xfrm>
            <a:off x="1692360" y="3500280"/>
            <a:ext cx="1800000" cy="1446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!cid_image01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1060560" y="228600"/>
            <a:ext cx="8076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витие синдрома носит стадиальный характер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066680" y="1143000"/>
            <a:ext cx="3049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23880" y="914400"/>
            <a:ext cx="731520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Вначале наблюдаются значительные энергетические затраты - вследствие высокой положительной установки на  выполнение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066680" y="2743200"/>
            <a:ext cx="3049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447920" y="26668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 мере развития синдрома появляется чувство усталости, которое постепенно сменяется разочарованием, снижением интереса к своей рабо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066680" y="4419720"/>
            <a:ext cx="304920" cy="53316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523880" y="4210200"/>
            <a:ext cx="678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«Сгоревшие» работники начинают испытывать гнев, отчаяние. Работа становится для них бременем, которое они не в состоянии больше нести. Они могут срывать эти чувства на людях, которым должны помогать, или сдерживать свои эмоции, ведя себя холодно и отстран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4" descr="!cid_image016"/>
          <p:cNvPicPr/>
          <p:nvPr/>
        </p:nvPicPr>
        <p:blipFill>
          <a:blip r:embed="rId1"/>
          <a:stretch/>
        </p:blipFill>
        <p:spPr>
          <a:xfrm>
            <a:off x="7164360" y="2708280"/>
            <a:ext cx="19796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!cid_image005"/>
          <p:cNvPicPr/>
          <p:nvPr/>
        </p:nvPicPr>
        <p:blipFill>
          <a:blip r:embed="rId2"/>
          <a:stretch/>
        </p:blipFill>
        <p:spPr>
          <a:xfrm>
            <a:off x="7991640" y="981000"/>
            <a:ext cx="1152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!cid_image014"/>
          <p:cNvPicPr/>
          <p:nvPr/>
        </p:nvPicPr>
        <p:blipFill>
          <a:blip r:embed="rId3"/>
          <a:stretch/>
        </p:blipFill>
        <p:spPr>
          <a:xfrm>
            <a:off x="8101080" y="5084640"/>
            <a:ext cx="988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43000" y="914400"/>
            <a:ext cx="50292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1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 уровне выполнения функций произвольного поведения: забывание каких-то моментов, «провалы в памяти», сбои в выполнении каких-либо двигательных действий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362320" y="0"/>
            <a:ext cx="640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деляют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и основные стади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ндром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1447920" y="3962520"/>
            <a:ext cx="3429000" cy="2895480"/>
            <a:chOff x="1447920" y="3962520"/>
            <a:chExt cx="3429000" cy="2895480"/>
          </a:xfrm>
        </p:grpSpPr>
        <p:sp>
          <p:nvSpPr>
            <p:cNvPr id="166" name="AutoShape 7"/>
            <p:cNvSpPr/>
            <p:nvPr/>
          </p:nvSpPr>
          <p:spPr>
            <a:xfrm>
              <a:off x="1447920" y="3962520"/>
              <a:ext cx="3429000" cy="2895480"/>
            </a:xfrm>
            <a:custGeom>
              <a:avLst/>
              <a:gdLst>
                <a:gd name="textAreaLeft" fmla="*/ 782640 w 3429000"/>
                <a:gd name="textAreaRight" fmla="*/ 2646360 w 3429000"/>
                <a:gd name="textAreaTop" fmla="*/ 660960 h 2895480"/>
                <a:gd name="textAreaBottom" fmla="*/ 223452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1828800" y="4572000"/>
              <a:ext cx="2667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Первая стадия может формироваться от 3 до 5 лет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8" name="Picture 11" descr="!cid_image024"/>
          <p:cNvPicPr/>
          <p:nvPr/>
        </p:nvPicPr>
        <p:blipFill>
          <a:blip r:embed="rId1"/>
          <a:stretch/>
        </p:blipFill>
        <p:spPr>
          <a:xfrm>
            <a:off x="5651640" y="1989000"/>
            <a:ext cx="3189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143000" y="0"/>
            <a:ext cx="678168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2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блюдается снижение интереса к работе, потребности в общении (в том числе и дома, с друзьям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Нарастание апатии к концу неде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явление устойчивых соматических симптомов (нет сил, энергии, особенно к концу недели, головные боли по вечерам, «мертвый сон» без сновидений, увеличение числа простудных заболеваний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0099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Повышенная раздражительность, человек заводится, как говорят, с полоборота, хотя раньше подобного за собой не замеч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0" y="5638680"/>
            <a:ext cx="9144000" cy="990720"/>
            <a:chOff x="0" y="5638680"/>
            <a:chExt cx="9144000" cy="990720"/>
          </a:xfrm>
        </p:grpSpPr>
        <p:sp>
          <p:nvSpPr>
            <p:cNvPr id="172" name="AutoShape 5"/>
            <p:cNvSpPr/>
            <p:nvPr/>
          </p:nvSpPr>
          <p:spPr>
            <a:xfrm>
              <a:off x="0" y="5638680"/>
              <a:ext cx="9144000" cy="990720"/>
            </a:xfrm>
            <a:custGeom>
              <a:avLst/>
              <a:gdLst>
                <a:gd name="textAreaLeft" fmla="*/ 2286000 w 9144000"/>
                <a:gd name="textAreaRight" fmla="*/ 6858000 w 9144000"/>
                <a:gd name="textAreaTop" fmla="*/ 0 h 990720"/>
                <a:gd name="textAreaBottom" fmla="*/ 8668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438280" y="5715000"/>
              <a:ext cx="42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Время формирования данной стадии от 5 до 15 л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12" descr="!cid_image014"/>
          <p:cNvPicPr/>
          <p:nvPr/>
        </p:nvPicPr>
        <p:blipFill>
          <a:blip r:embed="rId1"/>
          <a:stretch/>
        </p:blipFill>
        <p:spPr>
          <a:xfrm>
            <a:off x="7812000" y="4437000"/>
            <a:ext cx="987480" cy="1440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!cid_image027"/>
          <p:cNvPicPr/>
          <p:nvPr/>
        </p:nvPicPr>
        <p:blipFill>
          <a:blip r:embed="rId2"/>
          <a:stretch/>
        </p:blipFill>
        <p:spPr>
          <a:xfrm>
            <a:off x="7810560" y="29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!cid_image007"/>
          <p:cNvPicPr/>
          <p:nvPr/>
        </p:nvPicPr>
        <p:blipFill>
          <a:blip r:embed="rId3"/>
          <a:stretch/>
        </p:blipFill>
        <p:spPr>
          <a:xfrm>
            <a:off x="7956720" y="907920"/>
            <a:ext cx="8445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5" descr="!cid_image021"/>
          <p:cNvPicPr/>
          <p:nvPr/>
        </p:nvPicPr>
        <p:blipFill>
          <a:blip r:embed="rId1"/>
          <a:stretch/>
        </p:blipFill>
        <p:spPr>
          <a:xfrm>
            <a:off x="971640" y="1227240"/>
            <a:ext cx="3384360" cy="3714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1295280" y="762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3366cc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28800" y="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66cc"/>
                </a:solidFill>
                <a:uFillTx/>
                <a:latin typeface="Times New Roman"/>
              </a:rPr>
              <a:t>3 стад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4343400" y="609480"/>
            <a:ext cx="4800600" cy="5181840"/>
            <a:chOff x="4343400" y="609480"/>
            <a:chExt cx="4800600" cy="5181840"/>
          </a:xfrm>
        </p:grpSpPr>
        <p:sp>
          <p:nvSpPr>
            <p:cNvPr id="182" name="AutoShape 7"/>
            <p:cNvSpPr/>
            <p:nvPr/>
          </p:nvSpPr>
          <p:spPr>
            <a:xfrm>
              <a:off x="4343400" y="609480"/>
              <a:ext cx="4800600" cy="5181840"/>
            </a:xfrm>
            <a:prstGeom prst="flowChartDelay">
              <a:avLst/>
            </a:prstGeom>
            <a:solidFill>
              <a:srgbClr val="99ccff"/>
            </a:solidFill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4495680" y="762120"/>
              <a:ext cx="396252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99"/>
                  </a:solidFill>
                  <a:latin typeface="Times New Roman"/>
                </a:rPr>
                <a:t>Собственно личностное выгорание. Характерна полная потеря  интереса к жизни вообще, эмоциональное безразличие, отупение, ощущение постоянного отсутствия сил. Человек стремится к уединению. На этой стадии ему проще и приятнее общаться с природой и животными, чем с людьми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0"/>
          <p:cNvGrpSpPr/>
          <p:nvPr/>
        </p:nvGrpSpPr>
        <p:grpSpPr>
          <a:xfrm>
            <a:off x="0" y="5638680"/>
            <a:ext cx="9144000" cy="990720"/>
            <a:chOff x="0" y="5638680"/>
            <a:chExt cx="9144000" cy="990720"/>
          </a:xfrm>
        </p:grpSpPr>
        <p:sp>
          <p:nvSpPr>
            <p:cNvPr id="185" name="AutoShape 11"/>
            <p:cNvSpPr/>
            <p:nvPr/>
          </p:nvSpPr>
          <p:spPr>
            <a:xfrm>
              <a:off x="0" y="5638680"/>
              <a:ext cx="9144000" cy="990720"/>
            </a:xfrm>
            <a:custGeom>
              <a:avLst/>
              <a:gdLst>
                <a:gd name="textAreaLeft" fmla="*/ 2286000 w 9144000"/>
                <a:gd name="textAreaRight" fmla="*/ 6858000 w 9144000"/>
                <a:gd name="textAreaTop" fmla="*/ 0 h 990720"/>
                <a:gd name="textAreaBottom" fmla="*/ 8668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1263"/>
                    <a:pt x="7680" y="21600"/>
                    <a:pt x="7260" y="21600"/>
                  </a:cubicBezTo>
                  <a:lnTo>
                    <a:pt x="0" y="21600"/>
                  </a:lnTo>
                  <a:lnTo>
                    <a:pt x="2750" y="12150"/>
                  </a:lnTo>
                  <a:lnTo>
                    <a:pt x="0" y="2700"/>
                  </a:lnTo>
                  <a:lnTo>
                    <a:pt x="5400" y="2700"/>
                  </a:lnTo>
                  <a:lnTo>
                    <a:pt x="5400" y="675"/>
                  </a:lnTo>
                  <a:cubicBezTo>
                    <a:pt x="5400" y="338"/>
                    <a:pt x="5820" y="0"/>
                    <a:pt x="6240" y="0"/>
                  </a:cubicBezTo>
                  <a:lnTo>
                    <a:pt x="15360" y="0"/>
                  </a:lnTo>
                  <a:cubicBezTo>
                    <a:pt x="15780" y="0"/>
                    <a:pt x="16200" y="338"/>
                    <a:pt x="16200" y="675"/>
                  </a:cubicBezTo>
                  <a:lnTo>
                    <a:pt x="16200" y="2700"/>
                  </a:lnTo>
                  <a:lnTo>
                    <a:pt x="21600" y="2700"/>
                  </a:lnTo>
                  <a:lnTo>
                    <a:pt x="18850" y="12150"/>
                  </a:lnTo>
                  <a:lnTo>
                    <a:pt x="21600" y="21600"/>
                  </a:lnTo>
                  <a:lnTo>
                    <a:pt x="14340" y="21600"/>
                  </a:lnTo>
                  <a:cubicBezTo>
                    <a:pt x="13920" y="21600"/>
                    <a:pt x="13500" y="21263"/>
                    <a:pt x="13500" y="20925"/>
                  </a:cubicBezTo>
                  <a:lnTo>
                    <a:pt x="13500" y="18900"/>
                  </a:lnTo>
                  <a:close/>
                </a:path>
                <a:path fill="darkenLess" w="21600" h="21600">
                  <a:moveTo>
                    <a:pt x="8100" y="18900"/>
                  </a:moveTo>
                  <a:lnTo>
                    <a:pt x="8100" y="20925"/>
                  </a:lnTo>
                  <a:cubicBezTo>
                    <a:pt x="8100" y="20588"/>
                    <a:pt x="7680" y="20250"/>
                    <a:pt x="7260" y="20250"/>
                  </a:cubicBezTo>
                  <a:lnTo>
                    <a:pt x="6240" y="20250"/>
                  </a:lnTo>
                  <a:cubicBezTo>
                    <a:pt x="5820" y="20250"/>
                    <a:pt x="5400" y="19913"/>
                    <a:pt x="5400" y="19575"/>
                  </a:cubicBezTo>
                  <a:cubicBezTo>
                    <a:pt x="5400" y="19238"/>
                    <a:pt x="5820" y="18900"/>
                    <a:pt x="6240" y="18900"/>
                  </a:cubicBezTo>
                  <a:close/>
                </a:path>
                <a:path fill="darkenLess" w="21600" h="21600">
                  <a:moveTo>
                    <a:pt x="13500" y="18900"/>
                  </a:moveTo>
                  <a:lnTo>
                    <a:pt x="13500" y="20925"/>
                  </a:lnTo>
                  <a:cubicBezTo>
                    <a:pt x="13500" y="20588"/>
                    <a:pt x="13920" y="20250"/>
                    <a:pt x="14340" y="20250"/>
                  </a:cubicBezTo>
                  <a:lnTo>
                    <a:pt x="15360" y="20250"/>
                  </a:lnTo>
                  <a:cubicBezTo>
                    <a:pt x="15780" y="20250"/>
                    <a:pt x="16200" y="19913"/>
                    <a:pt x="16200" y="19575"/>
                  </a:cubicBezTo>
                  <a:cubicBezTo>
                    <a:pt x="16200" y="19238"/>
                    <a:pt x="15780" y="18900"/>
                    <a:pt x="15360" y="18900"/>
                  </a:cubicBezTo>
                  <a:close/>
                </a:path>
                <a:path fill="darkenLess" w="21600" h="21600">
                  <a:moveTo>
                    <a:pt x="5400" y="19575"/>
                  </a:moveTo>
                  <a:lnTo>
                    <a:pt x="5400" y="2700"/>
                  </a:lnTo>
                </a:path>
                <a:path fill="darkenLess" w="21600" h="21600">
                  <a:moveTo>
                    <a:pt x="16200" y="19575"/>
                  </a:moveTo>
                  <a:lnTo>
                    <a:pt x="16200" y="2700"/>
                  </a:lnTo>
                </a:path>
              </a:pathLst>
            </a:custGeom>
            <a:solidFill>
              <a:srgbClr val="ff9933"/>
            </a:solidFill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2438280" y="5715000"/>
              <a:ext cx="426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cc"/>
                  </a:solidFill>
                  <a:latin typeface="Times New Roman"/>
                </a:rPr>
                <a:t>Данная стадия формируется от 10 до 20 ле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6324480" y="2362320"/>
            <a:ext cx="2819520" cy="4155120"/>
          </a:xfrm>
          <a:prstGeom prst="rect">
            <a:avLst/>
          </a:prstGeom>
          <a:noFill/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Б) Содержание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Данная группа факторов включает в себя </a:t>
            </a:r>
            <a:r>
              <a:rPr b="1" lang="ru-RU" sz="2000" spc="-1" strike="noStrike">
                <a:solidFill>
                  <a:srgbClr val="3366cc"/>
                </a:solidFill>
                <a:latin typeface="Times New Roman"/>
              </a:rPr>
              <a:t>количественные и качественные аспекты</a:t>
            </a: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 работы:количество учеников, частоту общения с ними, степень глубины контакта с ни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914400" y="2743200"/>
            <a:ext cx="2286000" cy="3240360"/>
          </a:xfrm>
          <a:prstGeom prst="rect">
            <a:avLst/>
          </a:prstGeom>
          <a:noFill/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66cc"/>
                </a:solidFill>
                <a:uFillTx/>
                <a:latin typeface="Times New Roman"/>
              </a:rPr>
              <a:t>А) Условия 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Times New Roman"/>
              </a:rPr>
              <a:t>Повышенные нагрузки, сверхурочная работа стимулируют развитие выгор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124080" y="2362320"/>
            <a:ext cx="3276720" cy="4495680"/>
          </a:xfrm>
          <a:custGeom>
            <a:avLst/>
            <a:gdLst>
              <a:gd name="textAreaLeft" fmla="*/ 819000 w 3276720"/>
              <a:gd name="textAreaRight" fmla="*/ 2457720 w 32767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9900"/>
          </a:solidFill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2"/>
          <p:cNvSpPr txBox="1"/>
          <p:nvPr/>
        </p:nvSpPr>
        <p:spPr>
          <a:xfrm>
            <a:off x="1143000" y="0"/>
            <a:ext cx="762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кторы, вызывающие выгорани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28600" y="228600"/>
            <a:ext cx="914400" cy="9144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1066680" y="121932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 Организационные факторы 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cc0099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особенности профессиональной деятельности)</a:t>
            </a:r>
            <a:endParaRPr b="0" lang="en-US" sz="1600" spc="1" strike="noStrike">
              <a:ln w="12600">
                <a:solidFill>
                  <a:srgbClr val="cc0099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809880" y="2438280"/>
            <a:ext cx="1905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Times New Roman"/>
              </a:rPr>
              <a:t>Роль группы организационных факторов является доминируюшей в возникновении выгор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4" descr="Saturday"/>
          <p:cNvPicPr/>
          <p:nvPr/>
        </p:nvPicPr>
        <p:blipFill>
          <a:blip r:embed="rId1"/>
          <a:stretch/>
        </p:blipFill>
        <p:spPr>
          <a:xfrm>
            <a:off x="2340000" y="5267160"/>
            <a:ext cx="16574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0:27:26Z</dcterms:created>
  <dc:creator>User</dc:creator>
  <dc:description/>
  <dc:language>en-US</dc:language>
  <cp:lastModifiedBy>Людмила</cp:lastModifiedBy>
  <dcterms:modified xsi:type="dcterms:W3CDTF">2022-05-09T17:16:57Z</dcterms:modified>
  <cp:revision>114</cp:revision>
  <dc:subject/>
  <dc:title>Заголовок слайда отсутствует</dc:title>
</cp:coreProperties>
</file>