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234-BCB6-4A1A-AFAE-AAB81718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B30-825C-4ACD-ABC0-A87DA046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5D439-BCF0-478C-85C7-157F7953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691C8-0099-4D2F-BBC5-B446C0D8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04EAF-D7A4-4DA2-9601-26C7431A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3DB73-0B8B-48DD-A55F-4503470B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A6563-6B23-492F-AD51-C14DBE35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D3C6E-5EF2-4088-A964-A7D59F6C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82519-119B-4484-BD9C-840188E2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69319-19E0-45EA-AFB4-2B737AE3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C8E73-6897-4FA2-B48E-59D80EA5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674AE-EA78-47D9-9A85-74BD1F27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7B4-13F0-47F1-B5EF-E7807AC0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1031A-6DA1-426C-B790-7C65F0BD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A6C39-0487-4B6F-9054-C2E01529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68865-88C4-4FAC-9253-5BDBB43D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0962F-9176-4321-B4D0-C29D7567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CD197-5229-427A-855D-4E43CB55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FA5CE-BEDB-4C55-A085-02DD8EDD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42777-383B-4617-8359-18CECDC3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16C14-0BF3-4460-B37E-8987EB68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3144F-F2ED-4033-B658-8A3DD197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BEA52-8162-4F75-B601-8CB458D8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02F-7E5F-426C-9D9C-358E919B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D9573-6113-4556-B79C-121198D6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0316F-2278-43DE-A326-6FBD53DF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D6CA4-1591-4F56-A243-1FEBBCE0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E2AA8-168E-4E67-A3DE-823D378A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7A63E-17A2-46C9-A1FD-A9E3B0A5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EA849-38F1-46DE-AFBC-1BB6ED3E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C583D-C0E5-492F-8FF4-20ED3D5F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1CB33-AF01-427C-93AE-84A3A4DE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5ABDF-0FEE-499A-9C2E-B7AACD2A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4B5F6-E269-495F-A3FE-7FBE417F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C193-BA4E-4F2C-BD4F-1D02CA24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894C3-42D4-4FBD-AA8A-FF01459C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51541-4604-4B68-AE3A-A1E94F67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F0A61-5BAD-456F-8149-FBEB96F5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0B155-C83A-4317-B823-6CF30FF9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15724-AD3E-47F1-808B-D3DB3BE6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9D82D-D464-4F6A-9C74-2520DEA7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F81DA-1740-44F5-AD92-E1416FE1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231BD-33FB-4712-8BCC-03D4C9D9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3EF53-7CA4-4B03-A710-FC2BE6BB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AC224-E1D0-43CD-89BB-95080686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B252-DF5B-4B73-B66A-0D639C04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F974B-ECE0-4F40-9862-B099500A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8D6D7-2E64-468A-8947-96D1054A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D85BA-F6D0-48D2-965B-F5EF00B9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70DED-8E09-4860-B5BD-1B7BDBE9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DB496-DC84-48C3-BEEE-E8F44321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C841B-28C2-4048-A8F1-E022B521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D6449-5D98-4AEC-9E0F-76F8BF4B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65644-7259-4254-AABA-952C1C20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F1825-7A34-4B88-A5A2-C8576FE6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B44A3-F9BB-4384-83C5-49BE88BB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C31E-0636-4327-BDCA-DD106F4D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540BD-78E2-4C8A-8173-59401101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E930C-C07D-4323-A76F-CB95E21D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93C1D-8F9F-4655-973C-74FD68FA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97361-01FA-4897-9D40-4C8DBC9C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1C95F-99E2-4926-BFF3-E30A8EB1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47A36-E674-4F5C-8B85-FD0BD33D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ACFE3-931A-48E0-9A0D-7BC0B4A9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D3ECE-182E-4FC6-BC19-8902035B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C6C26-02E7-4EAB-80CA-C033E187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379B0D-6843-4BE0-9263-52197AA1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5DFC-3FD8-412C-BFD6-64B58539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AD9153-B077-463C-BE56-6F556AD4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05AEC6-4FA9-4EEA-9840-158A8F45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835E5-A678-4989-A2B4-ECD486CE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78E371-9FCA-49EA-99C3-C9B91315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A418C-CC6E-4586-A71D-214C37CD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D9CA7-B489-4FA0-B09C-B5DD00E1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C04717-A994-4584-96C5-6652F6DC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5DA01-0AC0-4E70-B946-59099DBE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50BDD-DA5B-4D83-A21F-18C189EC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24EA7-E01A-4835-A7FF-AB9C903D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E8D6-D205-42F4-85FF-E56555A7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C2D66-4774-4CB0-87A1-CFA266C8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459B8-2953-4624-8762-D9BAEC8F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DFEB81-5795-47F7-8288-0CAAFF10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D53615-FE61-41F8-B51A-28BD5148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26AF6D-2F22-4ABA-B772-A17B5864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C5F48E-6B0C-4AEE-8B1F-968E41B7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B605A-D190-4422-937E-44C66646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B46C98-F6BD-4838-B0D8-CFECE4D0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09CADC-556E-489D-AD79-2459CD0D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C5278-D768-4300-9160-23864930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D691-551A-4773-AEF5-21E45D00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C57A0-4624-49F1-960E-A9219B15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CA246-B8EB-435C-B874-2F8FF617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DCD45E-F4BF-4260-A8C8-FD4AE902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6F101-3279-44D6-923B-9B326DD5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D5381-69E6-44B6-BF76-BEC0919A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65A05A-F3A2-4C0C-A256-B0A8C217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3F946F-7F6C-4FEC-A089-9EE82651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B0FEF-2EC1-4047-9FBF-26E54C55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901EB-3EB9-4554-B4FC-1345F303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6C2387-EC76-465D-BBEE-E2DDE82A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12B2-734B-47A3-8CF2-B10AF0B4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4EEAE-EC05-4646-B46B-08EF37AC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D8102-D240-4919-8765-848A3101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17EB44-2B61-4486-A543-05CE4F07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7F49E-A69B-4FFF-BD8B-C6573F28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0DF04-85E0-4577-B796-2E9191F8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9994C9-4819-45FF-8E28-457F01FF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FBD2AE-C163-4C7C-B307-3DC1A2DE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6187FA-821E-45B0-B577-DEFF0FD4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E595EA-2021-4597-92D4-D4AB15AF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ACCB97-C6EE-443C-92A4-9A3EF45B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52E-DFDA-4A4C-BCCE-4170B4B7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F944-7EEF-40EA-B03B-87AB0FA5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ACB0F-4396-4EA6-A7A1-28D40985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CBA655-4724-4BD8-B1E7-6CC4C0A5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A14D6B-87D2-4548-915F-79B06697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3B5A1E-836A-4C5F-A1E4-A3BC683D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8C82D7-BCFE-42B3-94CA-F53C9A25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5036-742D-4475-8155-16A47538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7D77-E2BD-49D5-92CB-992C0D98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E927-76F3-4E11-B617-56F56EEF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5BEE-FF5F-4B5E-BA83-BE7AFE74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F5D8-1547-4489-ADE7-7CFC9948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7BC7E-A573-4E2B-B651-FC38AC51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E5C65-F674-4FD5-B12E-BDB1297A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76D17-2467-4DC8-84AA-9AC61721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EE98D-E3D0-4FCD-A56B-F15F309B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E17-AA21-46B3-B00E-9D9C0823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8D47F-18EA-4FFA-B0AB-84552251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2B015-D91C-49B4-B327-3F056DC2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24990-A227-464E-8EA1-DC5C96F1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D3780-87E5-4DF1-BB45-58B63DB3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C7ACF-1BC1-4223-AB4C-CEB9CA04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250FC-32B9-411F-8565-55B76248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EB6D3-4E3E-4E50-9276-13E02F46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26A86-A09B-4246-BB2F-03FF398D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18827-C928-42C7-B2F1-8925266B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9999B-6029-4A60-8CE2-CCF72AD8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A8C-FD98-4F37-AA6C-5327ABD3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C99A-CCE7-4D5A-BF1E-2F7677CE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5F5AA-9C1F-4D06-B672-D07E19A9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6E3A-FE37-4707-9316-608C0CBC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0D6DB-A2D4-4577-BEBB-5743E5E1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ED7C8-EE8B-4C41-B7D0-BB545D94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12E2A-7FA5-4CF5-9531-14FF8FDE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2DB39-7260-41A3-AAB7-45C9814F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20D95-1402-4F23-89AA-EB3BB3FF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03932-5C2C-4378-B87C-B28EC49C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FFAB0-8B65-4803-8EF8-2DCE07D8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716-0858-4C1C-92AA-428DCA80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2E4BC-3AFD-4D31-9A8F-985359D5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0AC33-5423-4573-B145-8C8487DD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5B114-1567-4557-B612-6A257EEE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EF053-30F2-4F0E-B415-C69F2FB1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2844F-BE0E-4A06-A428-244E1320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F1DCF-08E3-49B8-B6E4-DF7EEAC7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1E9DB-5185-485F-9AB1-FA498A4A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4209E-858E-4DC9-BEA9-64A220B7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41B13-3855-4F30-9B21-F4A89E99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DB0B3-3F74-46A7-AFA4-79F03A19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8DC-C46A-4600-BCBE-B633965D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570A5-F408-443A-9C8F-18483F0B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84C01-A625-4E24-AD66-43846D7B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81926-6738-41FD-BA99-95A2778E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63090-35FA-4ED9-9A1E-399F0441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BA03D-E062-4483-8053-B0C2C1EB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FD1DF-60D8-4FFA-9CA3-EE2C5548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3909E-0FB5-4FD1-AA0B-1273FFF5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AB5EA-E08C-42FA-A583-DA667B76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39B31-AEF6-4589-8347-B7AA9C52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169C5-7A1F-4D8C-B03C-D1664D24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BF4-B812-4C6B-B4BE-BE43BC78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28E50-BA4F-4F6B-AE76-F832BC5B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0C061-B6EA-4A22-A6F3-239A04FC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BE06F-5AA9-41C0-B705-E9C090B8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D65E5-4AFF-4A18-971E-D36EB999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3EEAE-E10F-4D80-9788-FBC67813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28673-B583-402B-9F0B-C3F2C26E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ECFD1-1DF2-4EC6-851B-A0104EE5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FFC79-E9CC-457E-8B8B-BD024B87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727A0-581B-41AD-8FC2-984546B1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85AE3-6300-491D-871A-DB47E2E0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C65F-E4A1-4051-A98A-A4DAFDF5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C4BC5-116B-465C-B51F-DE2A9F42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F1529-362D-4E1A-92C4-101588CC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DF1D8-0EB6-458E-9723-252A3E9D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AAA41-F9A0-4994-8436-80734BCF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68617-6C1E-46B8-B006-34581AB8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148A3-D81C-47F2-8CC3-1359555B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7F1D2-EECD-4C50-830C-659EBC76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5398D-C0C7-4D78-8899-24430DCC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05A54-D992-46EB-8307-18892BCB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9112D-3828-4A86-AFD4-F82A6A7F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634-C71B-49BD-AF65-D9F1F7E8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B91AE-84FC-4AA1-9EBB-B6C9CA66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120A9-E0AB-488D-B48F-28C562EB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4DBC2-2C3C-4779-A808-C7872271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DA2D3-A978-4266-BA21-5A052B86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1228F-32AF-409F-85D2-B4B510A6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4B70E-AE84-499D-97DA-6CAE3C6E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21BD3-3799-4C4C-BCF8-5AFEFC1B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75983-8858-4F31-BBD4-64625A80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F940F-F7DB-4D8A-A7BF-B8A37425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1FA3E-F89F-4B18-8020-A4549C80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2E5C9-056A-494F-9C9E-639A721EEF9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60C0E-6E13-4FCA-A792-DB4F4828621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24A53-F119-470D-9951-C298A3C7EF5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0B7AD-1133-4D26-AC12-B4288837438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E9E70-CD86-41C9-A10B-D306245FFAF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536B3-9E10-4CCA-89A6-8CC59AC13D3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2F3A5-4D79-43CE-9067-706F5D97DBD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EDFB2-CDE3-4C65-A5F1-A560219AF52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F31B3-A8DB-4F65-A519-B6B00F0887D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92D93-D99E-47B5-AB77-C103F28DA3B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3B4D6-E4F6-4695-939A-CEEEF638753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5DF14-C6B2-43B2-A7C3-E6ED219F3F4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5A486-2EC8-4EDC-A807-B1819AC850F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AE421-F104-4B5F-A272-9BBB47FDB04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C15BF-3B6A-4C2D-B7F1-6814A6446C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FDBF9-9D5E-402D-ABC9-E3AF2D95596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6BA65-854B-4D24-9E52-82DCE3BA772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766440" y="765000"/>
            <a:ext cx="79930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900" spc="-1" strike="noStrike">
                <a:solidFill>
                  <a:srgbClr val="262626"/>
                </a:solidFill>
                <a:latin typeface="Century Gothic"/>
              </a:rPr>
              <a:t>     </a:t>
            </a:r>
            <a:r>
              <a:rPr b="1" lang="ru-RU" sz="5400" spc="-1" strike="noStrike">
                <a:solidFill>
                  <a:srgbClr val="e46c0a"/>
                </a:solidFill>
                <a:latin typeface="Century Gothic"/>
              </a:rPr>
              <a:t>Словообразование наречий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AutoShape 5"/>
          <p:cNvSpPr/>
          <p:nvPr/>
        </p:nvSpPr>
        <p:spPr>
          <a:xfrm>
            <a:off x="16794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8" name="AutoShape 7"/>
          <p:cNvSpPr/>
          <p:nvPr/>
        </p:nvSpPr>
        <p:spPr>
          <a:xfrm>
            <a:off x="1832040" y="7920"/>
            <a:ext cx="51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79" name="Рисунок 3" descr=""/>
          <p:cNvPicPr/>
          <p:nvPr/>
        </p:nvPicPr>
        <p:blipFill>
          <a:blip r:embed="rId1"/>
          <a:stretch/>
        </p:blipFill>
        <p:spPr>
          <a:xfrm>
            <a:off x="3216240" y="2421000"/>
            <a:ext cx="4462560" cy="3035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entury Gothic"/>
              </a:rPr>
              <a:t>Приставочно-суффиксальный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Образуются наречия при помощи приставок    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ДО, ЗА, НА, С, ИЗ, В, ВО </a:t>
            </a:r>
            <a:r>
              <a:rPr b="0" lang="ru-RU" sz="2600" spc="-1" strike="noStrike">
                <a:solidFill>
                  <a:srgbClr val="ffc000"/>
                </a:solidFill>
                <a:latin typeface="Century Gothic"/>
              </a:rPr>
              <a:t>и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суффиксов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А, О, У, ЕМ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,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ЫХ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Сухой</a:t>
            </a:r>
            <a:r>
              <a:rPr b="0" lang="ru-RU" sz="26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           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до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сух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а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Темный         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за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темн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о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Изнанка        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на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изнанк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у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Верх </a:t>
            </a:r>
            <a:r>
              <a:rPr b="0" lang="ru-RU" sz="26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            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верх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у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Давний         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из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давн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а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Трое               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в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тро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ем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Первый</a:t>
            </a:r>
            <a:r>
              <a:rPr b="0" lang="ru-RU" sz="26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       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во</a:t>
            </a:r>
            <a:r>
              <a:rPr b="0" lang="ru-RU" sz="2600" spc="-1" strike="noStrike">
                <a:solidFill>
                  <a:srgbClr val="ff0000"/>
                </a:solidFill>
                <a:latin typeface="Century Gothic"/>
              </a:rPr>
              <a:t> -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перв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ых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cxnSp>
        <p:nvCxnSpPr>
          <p:cNvPr id="1202" name="Прямая со стрелкой 4"/>
          <p:cNvCxnSpPr/>
          <p:nvPr/>
        </p:nvCxnSpPr>
        <p:spPr>
          <a:xfrm>
            <a:off x="4079880" y="3212640"/>
            <a:ext cx="929520" cy="252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03" name="Прямая со стрелкой 6"/>
          <p:cNvCxnSpPr/>
          <p:nvPr/>
        </p:nvCxnSpPr>
        <p:spPr>
          <a:xfrm>
            <a:off x="4251240" y="3573000"/>
            <a:ext cx="791280" cy="108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04" name="Прямая со стрелкой 8"/>
          <p:cNvCxnSpPr/>
          <p:nvPr/>
        </p:nvCxnSpPr>
        <p:spPr>
          <a:xfrm>
            <a:off x="4360680" y="3940200"/>
            <a:ext cx="643320" cy="21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05" name="Прямая со стрелкой 10"/>
          <p:cNvCxnSpPr/>
          <p:nvPr/>
        </p:nvCxnSpPr>
        <p:spPr>
          <a:xfrm>
            <a:off x="3898440" y="4308480"/>
            <a:ext cx="1143720" cy="21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06" name="Прямая со стрелкой 12"/>
          <p:cNvCxnSpPr/>
          <p:nvPr/>
        </p:nvCxnSpPr>
        <p:spPr>
          <a:xfrm>
            <a:off x="4222800" y="4684320"/>
            <a:ext cx="643320" cy="252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07" name="Прямая со стрелкой 14"/>
          <p:cNvCxnSpPr/>
          <p:nvPr/>
        </p:nvCxnSpPr>
        <p:spPr>
          <a:xfrm>
            <a:off x="3889440" y="5057280"/>
            <a:ext cx="1072080" cy="252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08" name="Прямая со стрелкой 16"/>
          <p:cNvCxnSpPr/>
          <p:nvPr/>
        </p:nvCxnSpPr>
        <p:spPr>
          <a:xfrm>
            <a:off x="4309920" y="5420880"/>
            <a:ext cx="643320" cy="39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entury Gothic"/>
              </a:rPr>
              <a:t>Приставочный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уются наречия при помощи приставок </a:t>
            </a:r>
            <a:r>
              <a:rPr b="1" lang="ru-RU" sz="1800" spc="-1" strike="noStrike">
                <a:solidFill>
                  <a:srgbClr val="00b050"/>
                </a:solidFill>
                <a:latin typeface="Century Gothic"/>
              </a:rPr>
              <a:t>НЕ, НИ, НА, КОЕ</a:t>
            </a:r>
            <a:r>
              <a:rPr b="0" lang="ru-RU" sz="1800" spc="-1" strike="noStrike">
                <a:solidFill>
                  <a:srgbClr val="00b05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 други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лохо</a:t>
            </a:r>
            <a:r>
              <a:rPr b="0" lang="ru-RU" sz="18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</a:t>
            </a:r>
            <a:r>
              <a:rPr b="1" lang="ru-RU" sz="1800" spc="-1" strike="noStrike">
                <a:solidFill>
                  <a:srgbClr val="00b050"/>
                </a:solidFill>
                <a:latin typeface="Century Gothic"/>
              </a:rPr>
              <a:t>не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лох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ткуда         </a:t>
            </a:r>
            <a:r>
              <a:rPr b="1" lang="ru-RU" sz="1800" spc="-1" strike="noStrike">
                <a:solidFill>
                  <a:srgbClr val="00b050"/>
                </a:solidFill>
                <a:latin typeface="Century Gothic"/>
              </a:rPr>
              <a:t>ни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ткуд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ло               </a:t>
            </a:r>
            <a:r>
              <a:rPr b="0" lang="ru-RU" sz="1800" spc="-1" strike="noStrike">
                <a:solidFill>
                  <a:srgbClr val="00b05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b050"/>
                </a:solidFill>
                <a:latin typeface="Century Gothic"/>
              </a:rPr>
              <a:t>н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л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де</a:t>
            </a:r>
            <a:r>
              <a:rPr b="0" lang="ru-RU" sz="18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       </a:t>
            </a:r>
            <a:r>
              <a:rPr b="1" lang="ru-RU" sz="1800" spc="-1" strike="noStrike">
                <a:solidFill>
                  <a:srgbClr val="00b050"/>
                </a:solidFill>
                <a:latin typeface="Century Gothic"/>
              </a:rPr>
              <a:t>кое</a:t>
            </a:r>
            <a:r>
              <a:rPr b="0" lang="ru-RU" sz="1800" spc="-1" strike="noStrike">
                <a:solidFill>
                  <a:srgbClr val="00b050"/>
                </a:solidFill>
                <a:latin typeface="Century Gothic"/>
              </a:rPr>
              <a:t>-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д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cxnSp>
        <p:nvCxnSpPr>
          <p:cNvPr id="1211" name="Прямая со стрелкой 4"/>
          <p:cNvCxnSpPr/>
          <p:nvPr/>
        </p:nvCxnSpPr>
        <p:spPr>
          <a:xfrm>
            <a:off x="3738240" y="3137040"/>
            <a:ext cx="572040" cy="21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12" name="Прямая со стрелкой 6"/>
          <p:cNvCxnSpPr/>
          <p:nvPr/>
        </p:nvCxnSpPr>
        <p:spPr>
          <a:xfrm>
            <a:off x="3831840" y="3517920"/>
            <a:ext cx="500760" cy="21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13" name="Прямая со стрелкой 8"/>
          <p:cNvCxnSpPr/>
          <p:nvPr/>
        </p:nvCxnSpPr>
        <p:spPr>
          <a:xfrm>
            <a:off x="3460680" y="3933360"/>
            <a:ext cx="929520" cy="108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14" name="Прямая со стрелкой 10"/>
          <p:cNvCxnSpPr/>
          <p:nvPr/>
        </p:nvCxnSpPr>
        <p:spPr>
          <a:xfrm flipV="1">
            <a:off x="3411360" y="4336200"/>
            <a:ext cx="1028160" cy="108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entury Gothic"/>
              </a:rPr>
              <a:t>Сложени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1981080" y="1428840"/>
            <a:ext cx="8229600" cy="4697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ffc000"/>
                </a:solidFill>
                <a:latin typeface="Century Gothic"/>
              </a:rPr>
              <a:t>Способов сложение несколько: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500" spc="-1" strike="noStrike">
                <a:solidFill>
                  <a:srgbClr val="ff0000"/>
                </a:solidFill>
                <a:latin typeface="Century Gothic"/>
              </a:rPr>
              <a:t>сложение слов</a:t>
            </a:r>
            <a:r>
              <a:rPr b="0" lang="ru-RU" sz="2500" spc="-1" strike="noStrike">
                <a:solidFill>
                  <a:srgbClr val="ff0000"/>
                </a:solidFill>
                <a:latin typeface="Century Gothic"/>
              </a:rPr>
              <a:t>: 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чуть – чуть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быстро – быстро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entury Gothic"/>
              </a:rPr>
              <a:t>Сложение с элементом </a:t>
            </a:r>
            <a:r>
              <a:rPr b="1" lang="ru-RU" sz="2500" spc="-1" strike="noStrike">
                <a:solidFill>
                  <a:srgbClr val="ff0000"/>
                </a:solidFill>
                <a:latin typeface="Century Gothic"/>
              </a:rPr>
              <a:t>полу-</a:t>
            </a:r>
            <a:r>
              <a:rPr b="0" lang="ru-RU" sz="2500" spc="-1" strike="noStrike">
                <a:solidFill>
                  <a:srgbClr val="ff0000"/>
                </a:solidFill>
                <a:latin typeface="Century Gothic"/>
              </a:rPr>
              <a:t>:  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1" lang="ru-RU" sz="2500" spc="-1" strike="noStrike">
                <a:solidFill>
                  <a:srgbClr val="404040"/>
                </a:solidFill>
                <a:latin typeface="Century Gothic"/>
              </a:rPr>
              <a:t>полу</a:t>
            </a: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сидя, полушутя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entury Gothic"/>
              </a:rPr>
              <a:t>Сложение с присоединением </a:t>
            </a:r>
            <a:r>
              <a:rPr b="1" lang="ru-RU" sz="2500" spc="-1" strike="noStrike">
                <a:solidFill>
                  <a:srgbClr val="ff0000"/>
                </a:solidFill>
                <a:latin typeface="Century Gothic"/>
              </a:rPr>
              <a:t>суффикса</a:t>
            </a:r>
            <a:r>
              <a:rPr b="0" lang="ru-RU" sz="2500" spc="-1" strike="noStrike">
                <a:solidFill>
                  <a:srgbClr val="ff0000"/>
                </a:solidFill>
                <a:latin typeface="Century Gothic"/>
              </a:rPr>
              <a:t>: 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мимо ходить       мимоход</a:t>
            </a:r>
            <a:r>
              <a:rPr b="1" lang="ru-RU" sz="2500" spc="-1" strike="noStrike">
                <a:solidFill>
                  <a:srgbClr val="404040"/>
                </a:solidFill>
                <a:latin typeface="Century Gothic"/>
              </a:rPr>
              <a:t>ом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entury Gothic"/>
              </a:rPr>
              <a:t>Сложение с присоединением </a:t>
            </a:r>
            <a:r>
              <a:rPr b="1" lang="ru-RU" sz="2500" spc="-1" strike="noStrike">
                <a:solidFill>
                  <a:srgbClr val="ff0000"/>
                </a:solidFill>
                <a:latin typeface="Century Gothic"/>
              </a:rPr>
              <a:t>приставки и суффикса</a:t>
            </a:r>
            <a:r>
              <a:rPr b="0" lang="ru-RU" sz="2500" spc="-1" strike="noStrike">
                <a:solidFill>
                  <a:srgbClr val="ff0000"/>
                </a:solidFill>
                <a:latin typeface="Century Gothic"/>
              </a:rPr>
              <a:t>: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404040"/>
                </a:solidFill>
                <a:latin typeface="Century Gothic"/>
              </a:rPr>
              <a:t>в</a:t>
            </a: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полух</a:t>
            </a:r>
            <a:r>
              <a:rPr b="1" lang="ru-RU" sz="2500" spc="-1" strike="noStrike">
                <a:solidFill>
                  <a:srgbClr val="404040"/>
                </a:solidFill>
                <a:latin typeface="Century Gothic"/>
              </a:rPr>
              <a:t>а</a:t>
            </a: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крепко - </a:t>
            </a:r>
            <a:r>
              <a:rPr b="1" lang="ru-RU" sz="2500" spc="-1" strike="noStrike">
                <a:solidFill>
                  <a:srgbClr val="404040"/>
                </a:solidFill>
                <a:latin typeface="Century Gothic"/>
              </a:rPr>
              <a:t>на</a:t>
            </a: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крепк</a:t>
            </a:r>
            <a:r>
              <a:rPr b="1" lang="ru-RU" sz="2500" spc="-1" strike="noStrike">
                <a:solidFill>
                  <a:srgbClr val="404040"/>
                </a:solidFill>
                <a:latin typeface="Century Gothic"/>
              </a:rPr>
              <a:t>о</a:t>
            </a: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     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</p:txBody>
      </p:sp>
      <p:cxnSp>
        <p:nvCxnSpPr>
          <p:cNvPr id="1217" name="Прямая со стрелкой 8"/>
          <p:cNvCxnSpPr/>
          <p:nvPr/>
        </p:nvCxnSpPr>
        <p:spPr>
          <a:xfrm>
            <a:off x="4452840" y="4214880"/>
            <a:ext cx="357840" cy="21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e46c0a"/>
                </a:solidFill>
                <a:latin typeface="Century Gothic"/>
              </a:rPr>
              <a:t>Цель урока: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981080" y="1600200"/>
            <a:ext cx="699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развивать аналитические навыки на основе словообразовательного разбора наречий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формировать умение выполнять словообразовательный разбор наречий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оспитывать интерес к изучению русского язык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дать представление об основных способах образования наречий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овершенствовать умение находить наречия в тексте, анализировать их строение, правописание и функции в тексте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Проделки наречий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2209680" y="18288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Наречия легко образуются из других слов. И это неслучайно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Наречия появились в русском языке позже других частей реч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Имена и глаголы к тому времени уже </a:t>
            </a: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растащили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очти все слова по своим владениям. Вот и пришлось наречиям </a:t>
            </a: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приманивать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к себе чужие слова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още всего это оказалось сделать с некоторыми 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Century Gothic"/>
              </a:rPr>
              <a:t>прилагательными.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Заменил в слове </a:t>
            </a:r>
            <a:r>
              <a:rPr b="0" i="1" lang="ru-RU" sz="2200" spc="-1" strike="noStrike">
                <a:solidFill>
                  <a:srgbClr val="404040"/>
                </a:solidFill>
                <a:latin typeface="Century Gothic"/>
              </a:rPr>
              <a:t>хороший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окончание суффиксом –о- и получилось замечательное наречие. </a:t>
            </a:r>
            <a:r>
              <a:rPr b="0" i="1" lang="ru-RU" sz="2200" spc="-1" strike="noStrike">
                <a:solidFill>
                  <a:srgbClr val="404040"/>
                </a:solidFill>
                <a:latin typeface="Century Gothic"/>
              </a:rPr>
              <a:t>Хорошо!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2209320" y="18288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отом наречия добрались и до </a:t>
            </a:r>
            <a:r>
              <a:rPr b="1" lang="ru-RU" sz="2800" spc="-1" strike="noStrike" u="sng">
                <a:solidFill>
                  <a:srgbClr val="404040"/>
                </a:solidFill>
                <a:uFillTx/>
                <a:latin typeface="Century Gothic"/>
              </a:rPr>
              <a:t>существительных.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 Тут работы оказалось побольше : предлог превратить в приставку, окончание – в суффикс. Зато из одного существительного получается целая куча наречий: было существительное 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верх,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а получилось наречие 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вверху, вверх, наверх, кверху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, 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сверху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и даже 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верхом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– очень полезное слово, если нужно объяснить, что кто-то любит ездить верхом, а не в телеге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Нареч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Очень понравилось это наречиям. Попробовали они проделать тот же фокус с прилагательными, которые не хотят превращаться в наречия с помощью суффикса – о - . Получается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от прилагательное </a:t>
            </a: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новый.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С суффиксом –о- наречие от него не получается, а с разными приставками и суффиксами – сколько угодно: </a:t>
            </a: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заново, наново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, </a:t>
            </a: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снова, вновь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. Совсем </a:t>
            </a: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по-новом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ведет себя слово!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том добрались наречия и до числительных, и даже до глаголов. Из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двое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лучилось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вдвое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из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скакать – вскачь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и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на скаку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из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догонять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–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вдогонку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из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обнимать – в обнимку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Уж 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чересчур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похожи эти наречия на имена существительные с предлогами. Поди разберись, когда как писать – слитно или раздельно, а то ещё некоторые наречия любят писаться вообще 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по-особому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– через черточку. Вот и приходится всё время быть 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настороже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, чтобы не ошибитьс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entury Gothic"/>
              </a:rPr>
              <a:t>Словообразование наречий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Gothic"/>
              </a:rPr>
              <a:t>1. Суффиксальны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entury Gothic"/>
              </a:rPr>
              <a:t>2. Приставочно-суффиксальны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entury Gothic"/>
              </a:rPr>
              <a:t>3. Приставочны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entury Gothic"/>
              </a:rPr>
              <a:t>4. Сложени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Century Gothic"/>
              </a:rPr>
              <a:t>Запомните!  </a:t>
            </a:r>
            <a:r>
              <a:rPr b="1" lang="ru-RU" sz="1800" spc="-1" strike="noStrike">
                <a:solidFill>
                  <a:srgbClr val="7575d1"/>
                </a:solidFill>
                <a:latin typeface="Century Gothic"/>
              </a:rPr>
              <a:t>Наречие</a:t>
            </a:r>
            <a:r>
              <a:rPr b="0" lang="ru-RU" sz="1800" spc="-1" strike="noStrike">
                <a:solidFill>
                  <a:srgbClr val="7575d1"/>
                </a:solidFill>
                <a:latin typeface="Century Gothic"/>
              </a:rPr>
              <a:t>  -  неизменяемая часть речи, и она не имеет окончан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entury Gothic"/>
              </a:rPr>
              <a:t>Суффиксальный способ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уются наречия при помощи суффиксов: </a:t>
            </a: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О, Е, И, ЖДЫ, НИБУД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кучный         скучн</a:t>
            </a: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Лучший          лучш</a:t>
            </a: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ворческий              творческ</a:t>
            </a: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етыре                      четыре</a:t>
            </a: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жд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де                 где - </a:t>
            </a: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нибуд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cxnSp>
        <p:nvCxnSpPr>
          <p:cNvPr id="1195" name="Прямая со стрелкой 6"/>
          <p:cNvCxnSpPr/>
          <p:nvPr/>
        </p:nvCxnSpPr>
        <p:spPr>
          <a:xfrm>
            <a:off x="4295520" y="3357720"/>
            <a:ext cx="572040" cy="21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196" name="Прямая со стрелкой 8"/>
          <p:cNvCxnSpPr/>
          <p:nvPr/>
        </p:nvCxnSpPr>
        <p:spPr>
          <a:xfrm>
            <a:off x="4151160" y="3933360"/>
            <a:ext cx="643320" cy="252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197" name="Прямая со стрелкой 10"/>
          <p:cNvCxnSpPr/>
          <p:nvPr/>
        </p:nvCxnSpPr>
        <p:spPr>
          <a:xfrm>
            <a:off x="5016240" y="4436640"/>
            <a:ext cx="857880" cy="252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198" name="Прямая со стрелкой 12"/>
          <p:cNvCxnSpPr/>
          <p:nvPr/>
        </p:nvCxnSpPr>
        <p:spPr>
          <a:xfrm>
            <a:off x="4224240" y="4941360"/>
            <a:ext cx="1572480" cy="252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199" name="Прямая со стрелкой 14"/>
          <p:cNvCxnSpPr/>
          <p:nvPr/>
        </p:nvCxnSpPr>
        <p:spPr>
          <a:xfrm>
            <a:off x="3575160" y="5516640"/>
            <a:ext cx="1072080" cy="21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2:16:27Z</dcterms:created>
  <dc:creator>Loner-XP</dc:creator>
  <dc:description/>
  <dc:language>en-US</dc:language>
  <cp:lastModifiedBy>bezdar</cp:lastModifiedBy>
  <dcterms:modified xsi:type="dcterms:W3CDTF">2022-05-04T20:07:54Z</dcterms:modified>
  <cp:revision>9</cp:revision>
  <dc:subject/>
  <dc:title>Словообразование</dc:title>
</cp:coreProperties>
</file>