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321-DD3E-4E2E-B2D8-1CD69A48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DF6E-7291-43D2-8227-7FA8B26C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4406B-C622-4B00-BA02-7CA193E7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665B7-6285-47CE-96D9-DCA0A081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16D3E-F62D-4915-B13D-5650E45E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54535-33EC-4FA7-8B71-14BD3A05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64254-2B2B-42AD-82AB-7362E9FC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10D28-F876-41F0-BC30-3493143B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B84AE-B6F5-4C41-B2AD-6B190B1B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B6449-2673-4BCA-BA67-6B626CF8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CD17A-AFD3-417B-9092-189B6042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BEFCF-D7AE-472D-8AF6-71A669AE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A80-EEBE-4BC6-823F-D4E35CFF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3B278-07E4-4B33-A1EF-3D27D390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4FCF6-663D-403F-A63A-B9BF6D15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5A08C-1853-4155-B1E5-F64FACFA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9F905-B6E2-43AC-85EA-C90F6305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0D7A2-C9F6-4F9F-BB42-7DB16082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5FCAB-AE24-4F9B-B00E-94E98225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F3698-EC17-475C-B999-B7C8F039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B88EB-3D1C-4813-AC08-64BE00FA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2A2C2-AACC-4467-8227-8E3B33D2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87E3D-9B1A-4529-A1AD-3E4C06CB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6E62-795D-496A-914A-76C8CB9A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D1202-66A3-4522-854B-60764CBA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E5BF3-DF77-4A6A-B7CD-998B5ADE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A87FA-9FA3-4338-9352-0590270B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9D1FA-5AB8-4207-A57C-2D881CF9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EDEA6-D3C6-41E5-8E0E-2648C6EF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A6BC2-D052-4F45-94B4-380CA4CB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ACF3D-C697-4D40-825F-79A93F14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8C233-33BF-4348-A819-5E77D641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0D8F4-50FD-4F90-A319-3156AB94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3D6F2-0A4D-43B0-9252-D370C910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E0B1-D369-49D1-94FE-8536BAC6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FA9CD-B170-404C-8F11-364BCCF6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E9C73-A562-4472-AA13-8FBF948F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ACC39-01C6-4767-A072-507F1506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DCF7C-2672-4E4F-BD64-D6EE39D5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FBF3F-37E2-4D70-9C6D-2E1639FF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333B7-871F-495D-9070-34CFB351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7B832-E8D5-40B9-9549-402318C3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29D23-00DE-4B43-801C-7A9A4CC5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95D23-3196-4E72-8598-8A191510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FF34F-B216-4F75-BC5B-2835E0D1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DF96-0A4F-47C3-AF25-5F5F666E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D7D69-31B3-4567-976A-09A10EDE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869D8-41C4-4674-AE40-F8913AC4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A472F-492A-4B0E-8199-539C70BC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4F2E5-879D-4F25-B501-1A6540E5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E53B4-AD04-4E06-82CB-97C90E99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C39F7-08CD-4FA8-AACD-B6A7D522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500828-B15C-4CA7-BE99-C544FD2D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62DB10-DE28-43EB-8E10-52FC2A87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6A4CF1-ADBF-41B1-993B-CAA451EF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6B44A-DEC6-406E-90B3-C14F1D11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AF94-7D9C-4353-A881-2517F844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94A03-997C-4EB3-A13B-F45B3051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1869B-6DB0-44F2-8857-F7E1355D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3EBD0-9D15-4986-9B37-B138D574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21875-9608-4C2A-B569-2808D81D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D7AB3-D847-450A-A782-9DA546A0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D3784-B2A6-4283-9F52-F7E81D2D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110EF-6E3A-43E4-860B-053FAA94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CFB5F9-9990-4D46-87F1-EFA0EBD8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8BB291-A743-48B0-96A6-1AD59797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836DF7-E163-4508-ABD8-61F668AC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552C-A8B1-4AC8-901D-815E4D14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63CE2F-4EB0-4713-BB4A-E7C1A945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00F5BA-1281-4307-89CF-24DC3646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2EE5D4-A2D8-43AE-B228-7737F425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FF9A8E-3BE9-43DC-9707-8DEF2804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67AC34-CCA9-4F83-9830-8CF87F67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B1876-E275-4391-A003-1117B6C9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472BF8-4EAE-4D07-86CF-BF31503B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5AD278-FD4D-416B-80B0-3837E869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B9CB92-CE2D-4009-9848-9D8C8B85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39125-4574-457A-8EFB-FDF0D27E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98B1-0A6F-4B9A-B934-FD2330CC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B7C206-F52E-42D6-9303-C74EDD38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3B0FEA-71A8-4B6A-88E2-BF0441BE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79B216-A00B-4DB2-9CE6-0CFD6070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93A783-56F3-460F-8AC7-1D85EE82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F77D77-3203-4541-85E9-A6B0E7CC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DCAFE4-B07A-4BC4-A9E6-1D596A07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0415D6-A3DD-4806-AF75-746FBD04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6F9C28-7EBC-4854-98FD-57C772D2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55EEA-8F20-4D2C-BFD2-7C1F7EA2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A79708-0D67-41CA-9A6D-E7A40885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15BF-D831-4AE1-8D73-8AFC3CEE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482D4-9EDD-435B-9E0B-4DE240BE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0AB7CB-368B-4BE2-9FDA-57928772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9E414C-70B9-41E9-8554-63128D79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691290-448F-4A68-A0F5-4BAA67AA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242F8A-E727-4490-8444-9C738E55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BC5109-0E43-4666-9921-81A44DDF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3B3899-6914-4F06-B83D-95073EAD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81B14-F345-41BE-BD89-1139ED72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95663E-93A0-4FBD-94E6-C7B04BF2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C658F-BA5A-4295-B017-3E4D9A4E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7A7F-88FB-427C-9B40-9E4BA8EA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BD7832-4E8E-4B16-8251-FA7A890F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1D8918-AE23-4DF1-A4EF-AE76157C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78705C-4FEB-4527-8A79-7EF9FBF3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08D6C9-D71B-4E0B-957A-D78C5CA5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9370BF-C7A4-4B7F-8C46-97CF6C34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9C1C15-CB46-4FA2-A750-6F5DA76A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26644F-BA18-4427-B959-745D9ECC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472E8E-0FFD-4F91-B00B-C4C3924E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0EF597-AFB8-4FD1-8D3F-C8418EA3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ACFE70-8129-435A-9FB9-AB4F75EB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0B9-FFCB-4F0A-B5D3-94F5A375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62EE-2EDD-42D0-9155-9D372FCF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1EF27C-A3E0-4D52-B456-6423659C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0F304F-DB51-47E3-9EBE-F3D21515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2A4E12-7FE8-45EA-80CD-2B130038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2C5C1C-EFF8-4A26-B22B-F45CADE1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D069CF-553D-4368-8503-2764230D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7055-75CC-45E1-848E-1BB0BB98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81F2-22A3-458D-86DF-F1E409D5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D97C-8337-41CB-A6ED-82504530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7C7B-94AC-4664-B908-8EDBBB0B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4BD22-6DC2-485C-8E16-5FCB5E6B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1C677-3DCE-4F90-8D63-B331A9A9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BE755-407B-43CD-85D8-E6DABD10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EC40C-D45B-4E71-A13B-CFE8F540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20C68-9851-4677-96B4-809FC468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6708-7B11-4F4A-B806-765EDF8E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45629-BD2F-49D8-B41B-4330A0F0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7E605-507A-473A-AE79-00B3A824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CF600-52B1-4781-948A-8A3756DD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70454-4626-42C0-9037-1A015380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DD432-B751-4746-A50E-262A5560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5A962-432A-4A40-A5CB-73F4CBE6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EA860-CA9C-405A-8E60-88D50605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94F07-D69B-4206-A585-D04DD016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6E194-8567-45A7-9C74-E05DABE3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EE537-D649-4374-8022-57C4A1B2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FB0-6F9E-4E6B-8C3E-D2563D4C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901AE-63F2-432C-BC1E-3918D052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2FA64-4D79-4457-8754-EA7AC2A5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EF348-5D9B-4597-9926-246C1ACF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4E0A6-F64B-4571-B1DF-2D2C2B82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2C3F7-97CB-4EF4-8F73-02B63A5C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C8F0A-462D-48A2-A169-DD550639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5931F-D5A5-46DD-B1D1-12D2C62B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86AB1-3C2A-4507-9D3C-849EF5AB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A2891-F21A-44EA-942D-AE9F1866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47220-C89D-4EE7-9C84-D0F24F49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6CBA-1DEC-4974-9228-102171B4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4EA9B-1F5F-488E-B58F-89E256A1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2781A-C9F5-4904-8D72-30996716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9AEEA-827D-461F-8FE5-FE5E31F9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B31E2-845B-4C3B-B3EF-34306774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D5E2E-9FBB-4AB9-BDA9-F9C0B5E3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5F1C6-0CEB-4F76-8BA2-4EDA7B3F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1CCE0-7B3D-4778-B0C7-8E919972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4C758-0D57-4DB4-8F15-61F0FA6F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6BAB6-DF49-4927-9E1D-A5B08BAA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25540-A493-4AFD-91B4-3D583C15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10B-B64D-4F48-8F88-BD0F77CF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EFD47-C3AC-4933-BC18-E23CCA38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EC407-ABB8-4492-AFE5-0F78D44B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D6AC1-7459-4686-861C-CACB7DF7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55A6D-2096-4504-A713-CEE3FE79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3E7AA-8B39-40CC-A636-674396D6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7D62A-C7F0-4040-B79E-F930B893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B1A81-8B7E-4799-82E5-4E5A2E0F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5D784-45F5-402D-B336-B87C4B06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28720-1675-4DE1-8F4A-DAE57A06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608A1-1912-4B32-BECD-E793CB34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EDB-F8B2-4297-9497-6BF8AD03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5E93E-6D62-4604-9174-7F9A33E4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A39AE-7EAE-4334-8ABB-6F8EC80C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CC060-A660-4BFE-81CC-32E35B61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D3F0A-5925-4D73-B584-E34233E1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AE5D0-4079-4626-B4CF-B10828B4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EA68A-EF77-49D7-ACF1-82A9D073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E41E8-7DB5-491A-B6C0-4FE9CB31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6327D-F2EE-44FD-9633-65B7F63B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C308A-F69D-4F0B-B1A8-82F3DEE9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5A394-3DDA-492A-B7A1-4C2495AD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41B-F3B3-4A5C-A487-1BACB3FB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B9080-349D-43C6-9A74-0BBA9715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BDAC9-7636-4938-BB68-81C92102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89D95-1428-44E3-926C-47269ED2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B0326-C995-4D10-B6E6-9FC3CEC5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ADF3F-94F0-4637-8D3A-EF20E599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4CC82-AF9C-4F75-99F1-E154BCB9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E89C8-F658-4DB1-8B80-4A4538F5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8747F-77E7-4317-AE61-B1C0B6B5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3BA31-3871-4E67-8380-2EFDB521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0C10E-9216-4E1E-A58F-0972CCFD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3DEE-9712-4760-BB18-4A50EBCD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8B4DD-5E4D-49D1-A72F-7EC4B7E8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F2163-F5E0-4FF8-8C10-7AEDC466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A30E3-8982-4D99-A77C-C75E22FC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A1815-8ED1-4011-8667-7889A5D8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CAB00-8D19-4C4D-8902-E4FF7981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998F6-A327-4A88-B8ED-78900D5C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A377C-37D4-4822-BFC4-29E7F1A2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6312B-9026-42C6-A75F-0C8B2779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BB306-F1DC-4A6A-A25E-2215A15F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49ACD-6976-4291-B2AE-CB1D3007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FE2327-51BD-400D-8FCF-8F2D69CA1C2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DBA8F-C279-4A1D-9067-08050F8BA2C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903F2-28FF-44B3-845F-759EE7773E6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4B5A7-9554-4052-B0A5-2D26E25D8C9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AC10BA-F2D7-463D-8547-31BA5E4724B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34C55-C3CD-429A-93BF-5ACA868E700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07561-A92C-42FF-B93F-719F5DF6119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9AEBB-B60F-4E69-8278-7B231CCB5FD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5EAB6-C19A-4D04-9D35-8CA92827DB7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5A6B8-8A27-436F-B5B3-D33140AB16A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84D1C-1B74-4019-B851-B0337186E9E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A5429-0921-4CA1-A519-65870FD0621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13344D-4EC3-4252-9460-13C4A15EADD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821FD-5F45-48C3-9E84-67DD1DD0C2B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611FD-431D-4FC8-9B2B-A382F77D0F8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B2580-7163-4666-9BE2-A296A3A132F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02753-C167-4231-99BD-04E6410074B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766440" y="765000"/>
            <a:ext cx="79930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900" spc="-1" strike="noStrike">
                <a:solidFill>
                  <a:srgbClr val="262626"/>
                </a:solidFill>
                <a:latin typeface="Century Gothic"/>
              </a:rPr>
              <a:t>     </a:t>
            </a:r>
            <a:r>
              <a:rPr b="1" lang="ru-RU" sz="5400" spc="-1" strike="noStrike">
                <a:solidFill>
                  <a:srgbClr val="e46c0a"/>
                </a:solidFill>
                <a:latin typeface="Century Gothic"/>
              </a:rPr>
              <a:t>Словообразование наречий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AutoShape 5"/>
          <p:cNvSpPr/>
          <p:nvPr/>
        </p:nvSpPr>
        <p:spPr>
          <a:xfrm>
            <a:off x="16794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8" name="AutoShape 7"/>
          <p:cNvSpPr/>
          <p:nvPr/>
        </p:nvSpPr>
        <p:spPr>
          <a:xfrm>
            <a:off x="1832040" y="7920"/>
            <a:ext cx="51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79" name="Рисунок 3" descr=""/>
          <p:cNvPicPr/>
          <p:nvPr/>
        </p:nvPicPr>
        <p:blipFill>
          <a:blip r:embed="rId1"/>
          <a:stretch/>
        </p:blipFill>
        <p:spPr>
          <a:xfrm>
            <a:off x="3216240" y="2421000"/>
            <a:ext cx="4462560" cy="3035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entury Gothic"/>
              </a:rPr>
              <a:t>Приставочно-суффиксальный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Образуются наречия при помощи приставок     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ДО, ЗА, НА, С, ИЗ, В, ВО </a:t>
            </a:r>
            <a:r>
              <a:rPr b="0" lang="ru-RU" sz="2600" spc="-1" strike="noStrike">
                <a:solidFill>
                  <a:srgbClr val="ffc000"/>
                </a:solidFill>
                <a:latin typeface="Century Gothic"/>
              </a:rPr>
              <a:t>и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суффиксов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А, О, У, ЕМ</a:t>
            </a:r>
            <a:r>
              <a:rPr b="1" lang="en-US" sz="2600" spc="-1" strike="noStrike">
                <a:solidFill>
                  <a:srgbClr val="ff0000"/>
                </a:solidFill>
                <a:latin typeface="Century Gothic"/>
              </a:rPr>
              <a:t>,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ЫХ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Сухой</a:t>
            </a:r>
            <a:r>
              <a:rPr b="0" lang="ru-RU" sz="2600" spc="-1" strike="noStrike">
                <a:solidFill>
                  <a:srgbClr val="ffc000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           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до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сух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а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Темный         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за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темн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о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Изнанка        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на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изнанк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у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Верх </a:t>
            </a:r>
            <a:r>
              <a:rPr b="0" lang="ru-RU" sz="2600" spc="-1" strike="noStrike">
                <a:solidFill>
                  <a:srgbClr val="ffc000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            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с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верх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у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Давний         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из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давн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а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Трое               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в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тро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ем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Первый</a:t>
            </a:r>
            <a:r>
              <a:rPr b="0" lang="ru-RU" sz="2600" spc="-1" strike="noStrike">
                <a:solidFill>
                  <a:srgbClr val="ffc000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        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во</a:t>
            </a:r>
            <a:r>
              <a:rPr b="0" lang="ru-RU" sz="2600" spc="-1" strike="noStrike">
                <a:solidFill>
                  <a:srgbClr val="ff0000"/>
                </a:solidFill>
                <a:latin typeface="Century Gothic"/>
              </a:rPr>
              <a:t> - </a:t>
            </a:r>
            <a:r>
              <a:rPr b="0" lang="ru-RU" sz="2600" spc="-1" strike="noStrike">
                <a:solidFill>
                  <a:srgbClr val="404040"/>
                </a:solidFill>
                <a:latin typeface="Century Gothic"/>
              </a:rPr>
              <a:t>перв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ых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  <p:cxnSp>
        <p:nvCxnSpPr>
          <p:cNvPr id="1202" name="Прямая со стрелкой 4"/>
          <p:cNvCxnSpPr/>
          <p:nvPr/>
        </p:nvCxnSpPr>
        <p:spPr>
          <a:xfrm>
            <a:off x="4079880" y="3212640"/>
            <a:ext cx="929520" cy="252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203" name="Прямая со стрелкой 6"/>
          <p:cNvCxnSpPr/>
          <p:nvPr/>
        </p:nvCxnSpPr>
        <p:spPr>
          <a:xfrm>
            <a:off x="4251240" y="3573000"/>
            <a:ext cx="791280" cy="108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204" name="Прямая со стрелкой 8"/>
          <p:cNvCxnSpPr/>
          <p:nvPr/>
        </p:nvCxnSpPr>
        <p:spPr>
          <a:xfrm>
            <a:off x="4360680" y="3940200"/>
            <a:ext cx="643320" cy="216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205" name="Прямая со стрелкой 10"/>
          <p:cNvCxnSpPr/>
          <p:nvPr/>
        </p:nvCxnSpPr>
        <p:spPr>
          <a:xfrm>
            <a:off x="3898440" y="4308480"/>
            <a:ext cx="1143720" cy="216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206" name="Прямая со стрелкой 12"/>
          <p:cNvCxnSpPr/>
          <p:nvPr/>
        </p:nvCxnSpPr>
        <p:spPr>
          <a:xfrm>
            <a:off x="4222800" y="4684320"/>
            <a:ext cx="643320" cy="252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207" name="Прямая со стрелкой 14"/>
          <p:cNvCxnSpPr/>
          <p:nvPr/>
        </p:nvCxnSpPr>
        <p:spPr>
          <a:xfrm>
            <a:off x="3889440" y="5057280"/>
            <a:ext cx="1072080" cy="252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208" name="Прямая со стрелкой 16"/>
          <p:cNvCxnSpPr/>
          <p:nvPr/>
        </p:nvCxnSpPr>
        <p:spPr>
          <a:xfrm>
            <a:off x="4309920" y="5420880"/>
            <a:ext cx="643320" cy="396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entury Gothic"/>
              </a:rPr>
              <a:t>Приставочный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уются наречия при помощи приставок </a:t>
            </a:r>
            <a:r>
              <a:rPr b="1" lang="ru-RU" sz="1800" spc="-1" strike="noStrike">
                <a:solidFill>
                  <a:srgbClr val="00b050"/>
                </a:solidFill>
                <a:latin typeface="Century Gothic"/>
              </a:rPr>
              <a:t>НЕ, НИ, НА, КОЕ</a:t>
            </a:r>
            <a:r>
              <a:rPr b="0" lang="ru-RU" sz="1800" spc="-1" strike="noStrike">
                <a:solidFill>
                  <a:srgbClr val="00b05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 други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лохо</a:t>
            </a:r>
            <a:r>
              <a:rPr b="0" lang="ru-RU" sz="1800" spc="-1" strike="noStrike">
                <a:solidFill>
                  <a:srgbClr val="ffc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     </a:t>
            </a:r>
            <a:r>
              <a:rPr b="1" lang="ru-RU" sz="1800" spc="-1" strike="noStrike">
                <a:solidFill>
                  <a:srgbClr val="00b050"/>
                </a:solidFill>
                <a:latin typeface="Century Gothic"/>
              </a:rPr>
              <a:t>не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лох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ткуда         </a:t>
            </a:r>
            <a:r>
              <a:rPr b="1" lang="ru-RU" sz="1800" spc="-1" strike="noStrike">
                <a:solidFill>
                  <a:srgbClr val="00b050"/>
                </a:solidFill>
                <a:latin typeface="Century Gothic"/>
              </a:rPr>
              <a:t>ни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ткуд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ло               </a:t>
            </a:r>
            <a:r>
              <a:rPr b="0" lang="ru-RU" sz="1800" spc="-1" strike="noStrike">
                <a:solidFill>
                  <a:srgbClr val="00b050"/>
                </a:solidFill>
                <a:latin typeface="Century Gothic"/>
              </a:rPr>
              <a:t> </a:t>
            </a:r>
            <a:r>
              <a:rPr b="1" lang="ru-RU" sz="1800" spc="-1" strike="noStrike">
                <a:solidFill>
                  <a:srgbClr val="00b050"/>
                </a:solidFill>
                <a:latin typeface="Century Gothic"/>
              </a:rPr>
              <a:t>на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л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де</a:t>
            </a:r>
            <a:r>
              <a:rPr b="0" lang="ru-RU" sz="1800" spc="-1" strike="noStrike">
                <a:solidFill>
                  <a:srgbClr val="ffc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            </a:t>
            </a:r>
            <a:r>
              <a:rPr b="1" lang="ru-RU" sz="1800" spc="-1" strike="noStrike">
                <a:solidFill>
                  <a:srgbClr val="00b050"/>
                </a:solidFill>
                <a:latin typeface="Century Gothic"/>
              </a:rPr>
              <a:t>кое</a:t>
            </a:r>
            <a:r>
              <a:rPr b="0" lang="ru-RU" sz="1800" spc="-1" strike="noStrike">
                <a:solidFill>
                  <a:srgbClr val="00b050"/>
                </a:solidFill>
                <a:latin typeface="Century Gothic"/>
              </a:rPr>
              <a:t>-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д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cxnSp>
        <p:nvCxnSpPr>
          <p:cNvPr id="1211" name="Прямая со стрелкой 4"/>
          <p:cNvCxnSpPr/>
          <p:nvPr/>
        </p:nvCxnSpPr>
        <p:spPr>
          <a:xfrm>
            <a:off x="3738240" y="3137040"/>
            <a:ext cx="572040" cy="216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212" name="Прямая со стрелкой 6"/>
          <p:cNvCxnSpPr/>
          <p:nvPr/>
        </p:nvCxnSpPr>
        <p:spPr>
          <a:xfrm>
            <a:off x="3831840" y="3517920"/>
            <a:ext cx="500760" cy="216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213" name="Прямая со стрелкой 8"/>
          <p:cNvCxnSpPr/>
          <p:nvPr/>
        </p:nvCxnSpPr>
        <p:spPr>
          <a:xfrm>
            <a:off x="3460680" y="3933360"/>
            <a:ext cx="929520" cy="108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214" name="Прямая со стрелкой 10"/>
          <p:cNvCxnSpPr/>
          <p:nvPr/>
        </p:nvCxnSpPr>
        <p:spPr>
          <a:xfrm flipV="1">
            <a:off x="3411360" y="4336200"/>
            <a:ext cx="1028160" cy="108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entury Gothic"/>
              </a:rPr>
              <a:t>Сложение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1981080" y="1428840"/>
            <a:ext cx="8229600" cy="4697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ffc000"/>
                </a:solidFill>
                <a:latin typeface="Century Gothic"/>
              </a:rPr>
              <a:t>Способов сложение несколько: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500" spc="-1" strike="noStrike">
                <a:solidFill>
                  <a:srgbClr val="ff0000"/>
                </a:solidFill>
                <a:latin typeface="Century Gothic"/>
              </a:rPr>
              <a:t>сложение слов</a:t>
            </a:r>
            <a:r>
              <a:rPr b="0" lang="ru-RU" sz="2500" spc="-1" strike="noStrike">
                <a:solidFill>
                  <a:srgbClr val="ff0000"/>
                </a:solidFill>
                <a:latin typeface="Century Gothic"/>
              </a:rPr>
              <a:t>: 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Century Gothic"/>
              </a:rPr>
              <a:t>чуть – чуть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Century Gothic"/>
              </a:rPr>
              <a:t>быстро – быстро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entury Gothic"/>
              </a:rPr>
              <a:t>Сложение с элементом </a:t>
            </a:r>
            <a:r>
              <a:rPr b="1" lang="ru-RU" sz="2500" spc="-1" strike="noStrike">
                <a:solidFill>
                  <a:srgbClr val="ff0000"/>
                </a:solidFill>
                <a:latin typeface="Century Gothic"/>
              </a:rPr>
              <a:t>полу-</a:t>
            </a:r>
            <a:r>
              <a:rPr b="0" lang="ru-RU" sz="2500" spc="-1" strike="noStrike">
                <a:solidFill>
                  <a:srgbClr val="ff0000"/>
                </a:solidFill>
                <a:latin typeface="Century Gothic"/>
              </a:rPr>
              <a:t>:  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1" lang="ru-RU" sz="2500" spc="-1" strike="noStrike">
                <a:solidFill>
                  <a:srgbClr val="404040"/>
                </a:solidFill>
                <a:latin typeface="Century Gothic"/>
              </a:rPr>
              <a:t>полу</a:t>
            </a:r>
            <a:r>
              <a:rPr b="0" lang="ru-RU" sz="2500" spc="-1" strike="noStrike">
                <a:solidFill>
                  <a:srgbClr val="404040"/>
                </a:solidFill>
                <a:latin typeface="Century Gothic"/>
              </a:rPr>
              <a:t>сидя, полушутя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entury Gothic"/>
              </a:rPr>
              <a:t>Сложение с присоединением </a:t>
            </a:r>
            <a:r>
              <a:rPr b="1" lang="ru-RU" sz="2500" spc="-1" strike="noStrike">
                <a:solidFill>
                  <a:srgbClr val="ff0000"/>
                </a:solidFill>
                <a:latin typeface="Century Gothic"/>
              </a:rPr>
              <a:t>суффикса</a:t>
            </a:r>
            <a:r>
              <a:rPr b="0" lang="ru-RU" sz="2500" spc="-1" strike="noStrike">
                <a:solidFill>
                  <a:srgbClr val="ff0000"/>
                </a:solidFill>
                <a:latin typeface="Century Gothic"/>
              </a:rPr>
              <a:t>: 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2500" spc="-1" strike="noStrike">
                <a:solidFill>
                  <a:srgbClr val="404040"/>
                </a:solidFill>
                <a:latin typeface="Century Gothic"/>
              </a:rPr>
              <a:t>мимо ходить       мимоход</a:t>
            </a:r>
            <a:r>
              <a:rPr b="1" lang="ru-RU" sz="2500" spc="-1" strike="noStrike">
                <a:solidFill>
                  <a:srgbClr val="404040"/>
                </a:solidFill>
                <a:latin typeface="Century Gothic"/>
              </a:rPr>
              <a:t>ом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entury Gothic"/>
              </a:rPr>
              <a:t>Сложение с присоединением </a:t>
            </a:r>
            <a:r>
              <a:rPr b="1" lang="ru-RU" sz="2500" spc="-1" strike="noStrike">
                <a:solidFill>
                  <a:srgbClr val="ff0000"/>
                </a:solidFill>
                <a:latin typeface="Century Gothic"/>
              </a:rPr>
              <a:t>приставки и суффикса</a:t>
            </a:r>
            <a:r>
              <a:rPr b="0" lang="ru-RU" sz="2500" spc="-1" strike="noStrike">
                <a:solidFill>
                  <a:srgbClr val="ff0000"/>
                </a:solidFill>
                <a:latin typeface="Century Gothic"/>
              </a:rPr>
              <a:t>: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404040"/>
                </a:solidFill>
                <a:latin typeface="Century Gothic"/>
              </a:rPr>
              <a:t>в</a:t>
            </a:r>
            <a:r>
              <a:rPr b="0" lang="ru-RU" sz="2500" spc="-1" strike="noStrike">
                <a:solidFill>
                  <a:srgbClr val="404040"/>
                </a:solidFill>
                <a:latin typeface="Century Gothic"/>
              </a:rPr>
              <a:t>полух</a:t>
            </a:r>
            <a:r>
              <a:rPr b="1" lang="ru-RU" sz="2500" spc="-1" strike="noStrike">
                <a:solidFill>
                  <a:srgbClr val="404040"/>
                </a:solidFill>
                <a:latin typeface="Century Gothic"/>
              </a:rPr>
              <a:t>а</a:t>
            </a:r>
            <a:r>
              <a:rPr b="0" lang="ru-RU" sz="25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404040"/>
                </a:solidFill>
                <a:latin typeface="Century Gothic"/>
              </a:rPr>
              <a:t>крепко - </a:t>
            </a:r>
            <a:r>
              <a:rPr b="1" lang="ru-RU" sz="2500" spc="-1" strike="noStrike">
                <a:solidFill>
                  <a:srgbClr val="404040"/>
                </a:solidFill>
                <a:latin typeface="Century Gothic"/>
              </a:rPr>
              <a:t>на</a:t>
            </a:r>
            <a:r>
              <a:rPr b="0" lang="ru-RU" sz="2500" spc="-1" strike="noStrike">
                <a:solidFill>
                  <a:srgbClr val="404040"/>
                </a:solidFill>
                <a:latin typeface="Century Gothic"/>
              </a:rPr>
              <a:t>крепк</a:t>
            </a:r>
            <a:r>
              <a:rPr b="1" lang="ru-RU" sz="2500" spc="-1" strike="noStrike">
                <a:solidFill>
                  <a:srgbClr val="404040"/>
                </a:solidFill>
                <a:latin typeface="Century Gothic"/>
              </a:rPr>
              <a:t>о</a:t>
            </a:r>
            <a:r>
              <a:rPr b="0" lang="ru-RU" sz="2500" spc="-1" strike="noStrike">
                <a:solidFill>
                  <a:srgbClr val="404040"/>
                </a:solidFill>
                <a:latin typeface="Century Gothic"/>
              </a:rPr>
              <a:t>     </a:t>
            </a:r>
            <a:endParaRPr b="0" lang="en-US" sz="2500" spc="-1" strike="noStrike">
              <a:solidFill>
                <a:srgbClr val="404040"/>
              </a:solidFill>
              <a:latin typeface="Century Gothic"/>
            </a:endParaRPr>
          </a:p>
        </p:txBody>
      </p:sp>
      <p:cxnSp>
        <p:nvCxnSpPr>
          <p:cNvPr id="1217" name="Прямая со стрелкой 8"/>
          <p:cNvCxnSpPr/>
          <p:nvPr/>
        </p:nvCxnSpPr>
        <p:spPr>
          <a:xfrm>
            <a:off x="4452840" y="4214880"/>
            <a:ext cx="357840" cy="216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e46c0a"/>
                </a:solidFill>
                <a:latin typeface="Century Gothic"/>
              </a:rPr>
              <a:t>Цель урока: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1981080" y="1600200"/>
            <a:ext cx="699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развивать аналитические навыки на основе словообразовательного разбора наречий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формировать умение выполнять словообразовательный разбор наречий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оспитывать интерес к изучению русского язык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дать представление об основных способах образования наречий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совершенствовать умение находить наречия в тексте, анализировать их строение, правописание и функции в тексте</a:t>
            </a: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Проделки наречий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2209680" y="18288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Наречия легко образуются из других слов. И это неслучайно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Наречия появились в русском языке позже других частей речи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Имена и глаголы к тому времени уже </a:t>
            </a: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растащили 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очти все слова по своим владениям. Вот и пришлось наречиям </a:t>
            </a: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приманивать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 к себе чужие слова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Проще всего это оказалось сделать с некоторыми </a:t>
            </a:r>
            <a:r>
              <a:rPr b="1" lang="ru-RU" sz="2200" spc="-1" strike="noStrike" u="sng">
                <a:solidFill>
                  <a:srgbClr val="404040"/>
                </a:solidFill>
                <a:uFillTx/>
                <a:latin typeface="Century Gothic"/>
              </a:rPr>
              <a:t>прилагательными.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 Заменил в слове </a:t>
            </a:r>
            <a:r>
              <a:rPr b="0" i="1" lang="ru-RU" sz="2200" spc="-1" strike="noStrike">
                <a:solidFill>
                  <a:srgbClr val="404040"/>
                </a:solidFill>
                <a:latin typeface="Century Gothic"/>
              </a:rPr>
              <a:t>хороший 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окончание суффиксом –о- и получилось замечательное наречие. </a:t>
            </a:r>
            <a:r>
              <a:rPr b="0" i="1" lang="ru-RU" sz="2200" spc="-1" strike="noStrike">
                <a:solidFill>
                  <a:srgbClr val="404040"/>
                </a:solidFill>
                <a:latin typeface="Century Gothic"/>
              </a:rPr>
              <a:t>Хорошо!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 txBox="1"/>
          <p:nvPr/>
        </p:nvSpPr>
        <p:spPr>
          <a:xfrm>
            <a:off x="2209320" y="182880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Потом наречия добрались и до </a:t>
            </a:r>
            <a:r>
              <a:rPr b="1" lang="ru-RU" sz="2800" spc="-1" strike="noStrike" u="sng">
                <a:solidFill>
                  <a:srgbClr val="404040"/>
                </a:solidFill>
                <a:uFillTx/>
                <a:latin typeface="Century Gothic"/>
              </a:rPr>
              <a:t>существительных.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 Тут работы оказалось побольше : предлог превратить в приставку, окончание – в суффикс. Зато из одного существительного получается целая куча наречий: было существительное 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верх,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а получилось наречие 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вверху, вверх, наверх, кверху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, 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сверху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и даже 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верхом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– очень полезное слово, если нужно объяснить, что кто-то любит ездить верхом, а не в телеге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Наречи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Очень понравилось это наречиям. Попробовали они проделать тот же фокус с прилагательными, которые не хотят превращаться в наречия с помощью суффикса – о - . Получается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от прилагательное </a:t>
            </a:r>
            <a:r>
              <a:rPr b="0" i="1" lang="ru-RU" sz="2400" spc="-1" strike="noStrike">
                <a:solidFill>
                  <a:srgbClr val="404040"/>
                </a:solidFill>
                <a:latin typeface="Century Gothic"/>
              </a:rPr>
              <a:t>новый.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С суффиксом –о- наречие от него не получается, а с разными приставками и суффиксами – сколько угодно: </a:t>
            </a:r>
            <a:r>
              <a:rPr b="0" i="1" lang="ru-RU" sz="2400" spc="-1" strike="noStrike">
                <a:solidFill>
                  <a:srgbClr val="404040"/>
                </a:solidFill>
                <a:latin typeface="Century Gothic"/>
              </a:rPr>
              <a:t>заново, наново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, </a:t>
            </a:r>
            <a:r>
              <a:rPr b="0" i="1" lang="ru-RU" sz="2400" spc="-1" strike="noStrike">
                <a:solidFill>
                  <a:srgbClr val="404040"/>
                </a:solidFill>
                <a:latin typeface="Century Gothic"/>
              </a:rPr>
              <a:t>снова, вновь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. Совсем </a:t>
            </a:r>
            <a:r>
              <a:rPr b="0" i="1" lang="ru-RU" sz="2400" spc="-1" strike="noStrike">
                <a:solidFill>
                  <a:srgbClr val="404040"/>
                </a:solidFill>
                <a:latin typeface="Century Gothic"/>
              </a:rPr>
              <a:t>по-новому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ведет себя слово!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том добрались наречия и до числительных, и даже до глаголов. Из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двое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лучилось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вдвоем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, из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скакать – вскачь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и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на скаку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, из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догонять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–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вдогонку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, из </a:t>
            </a: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обнимать – в обнимку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Уж 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чересчур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похожи эти наречия на имена существительные с предлогами. Поди разберись, когда как писать – слитно или раздельно, а то ещё некоторые наречия любят писаться вообще 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по-особому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– через черточку. Вот и приходится всё время быть 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настороже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, чтобы не ошибиться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entury Gothic"/>
              </a:rPr>
              <a:t>Словообразование наречий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entury Gothic"/>
              </a:rPr>
              <a:t>1. Суффиксальны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entury Gothic"/>
              </a:rPr>
              <a:t>2. Приставочно-суффиксальны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Century Gothic"/>
              </a:rPr>
              <a:t>3. Приставочный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entury Gothic"/>
              </a:rPr>
              <a:t>4. Сложени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Century Gothic"/>
              </a:rPr>
              <a:t>Запомните!  </a:t>
            </a:r>
            <a:r>
              <a:rPr b="1" lang="ru-RU" sz="1800" spc="-1" strike="noStrike">
                <a:solidFill>
                  <a:srgbClr val="7575d1"/>
                </a:solidFill>
                <a:latin typeface="Century Gothic"/>
              </a:rPr>
              <a:t>Наречие</a:t>
            </a:r>
            <a:r>
              <a:rPr b="0" lang="ru-RU" sz="1800" spc="-1" strike="noStrike">
                <a:solidFill>
                  <a:srgbClr val="7575d1"/>
                </a:solidFill>
                <a:latin typeface="Century Gothic"/>
              </a:rPr>
              <a:t>  -  неизменяемая часть речи, и она не имеет окончан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entury Gothic"/>
              </a:rPr>
              <a:t>Суффиксальный способ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уются наречия при помощи суффиксов: </a:t>
            </a: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О, Е, И, ЖДЫ, НИБУДЬ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кучный         скучн</a:t>
            </a: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Лучший          лучш</a:t>
            </a: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ворческий              творческ</a:t>
            </a: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етыре                      четыре</a:t>
            </a: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жды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де                 где - </a:t>
            </a: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нибудь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cxnSp>
        <p:nvCxnSpPr>
          <p:cNvPr id="1195" name="Прямая со стрелкой 6"/>
          <p:cNvCxnSpPr/>
          <p:nvPr/>
        </p:nvCxnSpPr>
        <p:spPr>
          <a:xfrm>
            <a:off x="4295520" y="3357720"/>
            <a:ext cx="572040" cy="216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196" name="Прямая со стрелкой 8"/>
          <p:cNvCxnSpPr/>
          <p:nvPr/>
        </p:nvCxnSpPr>
        <p:spPr>
          <a:xfrm>
            <a:off x="4151160" y="3933360"/>
            <a:ext cx="643320" cy="252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197" name="Прямая со стрелкой 10"/>
          <p:cNvCxnSpPr/>
          <p:nvPr/>
        </p:nvCxnSpPr>
        <p:spPr>
          <a:xfrm>
            <a:off x="5016240" y="4436640"/>
            <a:ext cx="857880" cy="252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198" name="Прямая со стрелкой 12"/>
          <p:cNvCxnSpPr/>
          <p:nvPr/>
        </p:nvCxnSpPr>
        <p:spPr>
          <a:xfrm>
            <a:off x="4224240" y="4941360"/>
            <a:ext cx="1572480" cy="252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  <p:cxnSp>
        <p:nvCxnSpPr>
          <p:cNvPr id="1199" name="Прямая со стрелкой 14"/>
          <p:cNvCxnSpPr/>
          <p:nvPr/>
        </p:nvCxnSpPr>
        <p:spPr>
          <a:xfrm>
            <a:off x="3575160" y="5516640"/>
            <a:ext cx="1072080" cy="2160"/>
          </a:xfrm>
          <a:prstGeom prst="straightConnector1">
            <a:avLst/>
          </a:prstGeom>
          <a:ln cap="rnd" w="9360">
            <a:solidFill>
              <a:srgbClr val="9d2d0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2:16:27Z</dcterms:created>
  <dc:creator>Loner-XP</dc:creator>
  <dc:description/>
  <dc:language>en-US</dc:language>
  <cp:lastModifiedBy>bezdar</cp:lastModifiedBy>
  <dcterms:modified xsi:type="dcterms:W3CDTF">2022-05-04T20:07:54Z</dcterms:modified>
  <cp:revision>9</cp:revision>
  <dc:subject/>
  <dc:title>Словообразование</dc:title>
</cp:coreProperties>
</file>