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830-A223-4E09-9496-4E4528CC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C31-2759-406A-991F-93E2B3E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D8B-5F56-40E4-BC1F-58778BD8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0CB-0F5B-4AC2-A458-3C0B1E5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B8F-34D1-4AB2-B810-9C7D8691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710-9872-4684-8EE7-05ADC2C6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D2B4-16CA-41C4-8DF2-B0FFF8A5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F8D7-FC9F-4A77-A0E2-2C7E9FE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696E-3AAC-4FB4-A0D6-709242C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CFF-0E4A-4D37-BBB1-A1FDA0E7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84F-C37F-4CD7-9C7B-26097F5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964-8E1B-46B3-9222-72C61C2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2386-ED3F-4DE5-82A6-304059B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9BCB-D78E-497A-A28C-B67A716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C52-564A-4E0F-A3D0-4753A699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8A44-5AAE-49E6-AB5C-10A4108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A654-72E4-4524-B405-7E9732B4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5557-457A-4757-BED1-189339C0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198D-0F1B-4717-879E-3C079D6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8D29-1F79-4807-9DDF-A49B802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A2D2-F135-454F-8824-DA2574C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C7CE-6555-47DE-8AC0-E7E4C62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216-A403-4576-BBD8-282E16A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0302-92C2-4E4D-964B-454AA316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B6C5-98F7-409B-B5C5-029AAA0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65DE-3474-45B6-AC55-D81F315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C637-CA20-4BD3-A8D0-CDA0A14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E9A5-7D4D-49FB-909E-B4AFEFC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D4D8-7187-49CC-9389-92EC7099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0D0D-F495-46AA-9348-C4877AB9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0C4F-9251-437D-8824-99722904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9A5C-1D8C-4F90-BAD0-183DF1ED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E600-19A5-4319-BFE3-62B658B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AFB-37CB-4EB5-8A7F-9072C4E5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A28D-395F-4D25-A0B7-4C7229F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AD81-185E-4CBD-8E7B-228246B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1EF0-3B88-4367-8169-F79A42A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90DA-746F-4DB3-8E51-7CA78F6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FBBE-4520-42B3-8A31-75D817A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BB69-7623-4A31-8580-6B21C0B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A552-E3AE-4323-8E4D-107ADA2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2A46-04DD-457C-874B-BD7A2520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45F4-B5B0-462A-9C63-E790EB5F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3E08-8264-41EF-8369-AF43A615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7D2-8787-49E5-BDC1-0DF879D9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1A3C3-09F6-467A-82B8-11304CD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5D90-D588-4D5B-A2DA-67B4183E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C5A9-ABFC-4AE6-B411-C968E54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E666-7E46-4691-A271-53A56C3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ACEA-048F-4AD4-9EE3-CAB14D3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6BDD-9971-4606-A585-C35C88F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D353-FAFA-4D8E-9288-2F5B824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E6C5C-D395-48A5-A55B-BDD96EB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9ADB-B7AC-4E1C-9907-D156EA1C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28556-FA28-4A91-8254-9421CEB6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F82-FCEB-4275-BEB4-EF506AA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0B7B-8E51-403A-957F-E0184AFB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1258-5750-4752-913A-3B7B0243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069E-3FE3-4862-8F40-3D45E69D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8507-2904-424D-B330-45F7332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A1DF-CBEF-4A40-B4D7-C547AC2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C85B-EACC-44B7-B429-F29E7485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6D3C-E064-4051-922C-EDCFDBE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8EBB5-532F-410C-8F07-CE2E7DB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2AD2-E797-475F-A49D-846C617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0EF47-A202-40BC-B320-4026ECB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201-3691-4223-A1B7-05EB7BB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1BB8-D937-4B8A-AB34-8CCD828C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1DC9-8077-4EE1-8B70-339CC0AE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6C67-8752-4588-A9E5-8B17ED53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A0D-0AF0-4622-BB06-0C5C5E2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3D9-C15A-4CF1-BF5A-CE4E674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4ECE9-D76A-4CFA-87E7-6DCD80523AC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0E54C-49FC-4E31-88D4-F24FBD0F099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6BEFA-D775-4611-BEBD-BAB14EB410E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45672-50EF-4BDF-998A-9F24CB74748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FF329-45D1-4E70-8DF9-5B5E38F5E1B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0BFD7-4140-454D-943B-80D247792AA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1"/>
          <p:cNvSpPr txBox="1"/>
          <p:nvPr/>
        </p:nvSpPr>
        <p:spPr>
          <a:xfrm>
            <a:off x="1619280" y="765000"/>
            <a:ext cx="4956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ссии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224000" y="3816360"/>
            <a:ext cx="4176720" cy="18619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Microsoft YaHei"/>
              </a:rPr>
              <a:t>Выполнил: Артеменко Иван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ник 4 А клас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076720" y="443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280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rebuchet MS"/>
              </a:rPr>
              <a:t>  </a:t>
            </a:r>
            <a:r>
              <a:rPr b="1" i="1" lang="ru-RU" sz="7200" spc="-1" strike="noStrike">
                <a:solidFill>
                  <a:srgbClr val="3333cc"/>
                </a:solidFill>
                <a:latin typeface="Trebuchet MS"/>
              </a:rPr>
              <a:t>Волк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2480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ень и ноч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лесу рыщет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ень и ночь добычу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ище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дит-бродит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олк молчком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ши серые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орчко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5121360" y="2565360"/>
            <a:ext cx="4022640" cy="31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4788000" y="2421000"/>
          <a:ext cx="217440" cy="3095640"/>
        </p:xfrm>
        <a:graphic>
          <a:graphicData uri="http://schemas.openxmlformats.org/drawingml/2006/table">
            <a:tbl>
              <a:tblPr/>
              <a:tblGrid>
                <a:gridCol w="217440"/>
              </a:tblGrid>
              <a:tr h="30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40000" y="213840"/>
            <a:ext cx="4896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Медведь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3862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завалам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оврага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дит он хозяйским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шаг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юбит мишка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ладкий мёд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а малину с веток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вё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21164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68000" y="213840"/>
            <a:ext cx="66754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i="1" lang="ru-RU" sz="7200" spc="-1" strike="noStrike">
                <a:solidFill>
                  <a:srgbClr val="33cc33"/>
                </a:solidFill>
                <a:latin typeface="Trebuchet MS"/>
              </a:rPr>
              <a:t>Белк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алеко ещё зим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о не для потех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ащит белка в закром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Ягоды, орехи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Знает маленький зверёк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Запасаться надо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 срок</a:t>
            </a:r>
            <a:r>
              <a:rPr b="1" i="1" lang="en-US" sz="2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98440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214200"/>
            <a:ext cx="5884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a50021"/>
                </a:solidFill>
                <a:latin typeface="Trebuchet MS"/>
              </a:rPr>
              <a:t>Заяц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31496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рокатился шум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есной –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д кустом прити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осо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ши длинные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рижал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олго эхо провожа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8944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27280" y="214200"/>
            <a:ext cx="6316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ff33cc"/>
                </a:solidFill>
                <a:latin typeface="Trebuchet MS"/>
              </a:rPr>
              <a:t>Рысь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9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Если ест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 кисоч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а уша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ве кисточк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ту киску берегись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тому что это –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ысь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        </a:t>
            </a: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Ёж 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2418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ерый ёжи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есь в иголка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ловно он не зверь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 ёл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ть колюч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молчун лесной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Ёжик добрый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 не зло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4500720" y="2162160"/>
            <a:ext cx="445428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49687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i="1" lang="ru-RU" sz="7200" spc="-1" strike="noStrike">
                <a:solidFill>
                  <a:srgbClr val="3333cc"/>
                </a:solidFill>
                <a:latin typeface="Trebuchet MS"/>
              </a:rPr>
              <a:t>Барсук 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386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станет за полноч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барсук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Обойдёт свой до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окру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онкий ню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и острый глаз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аступи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о хоты час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45752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51:32Z</dcterms:created>
  <dc:creator>Elena</dc:creator>
  <dc:description/>
  <dc:language>en-US</dc:language>
  <cp:lastModifiedBy>Дарья Артеменко</cp:lastModifiedBy>
  <dcterms:modified xsi:type="dcterms:W3CDTF">2020-04-29T13:41:45Z</dcterms:modified>
  <cp:revision>25</cp:revision>
  <dc:subject/>
  <dc:title>Слайд 1</dc:title>
</cp:coreProperties>
</file>