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12E-F665-4C6A-AC0F-68B42E18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64E-A5E8-47E8-86D0-4E73849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A72-8D08-4C21-B3E9-B8E4BA55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C63-5371-4CCA-9FBE-BBB5965C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FF16-9B17-4018-B95C-29C7869D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02DD-3E68-4D1A-A499-71043C5A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B9F3-74AC-4B29-97C2-00F9AAEC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1F39-5995-435D-8058-1DAE56F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8EE6-9FAF-40BF-8AF3-E9565ADA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683-2C8A-4B7B-A8BA-1D2DA5DF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3AF-D9CC-4B1A-9E30-C92A1BD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367-2AB3-4FCD-B7CC-2D5C393A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B312-F61F-4180-8C6C-725DDC92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5BFC-51DB-47CE-AD9D-F97731CC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A6FF-BF46-4C53-A593-C4DBE391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4D64-2B21-428D-A2C0-CEC2F951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491B-7C3F-4C49-9EE7-9CA2883B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AFC2-3998-4E87-B335-2AD0F8DF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0F6E-282B-4ED6-88EA-430DB2E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73172-FA29-459F-A831-BB6EF55D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7CC8-9B0E-4F7E-86AE-BEF3ECA8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9D66-B4B6-46B0-AF0C-159EC49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ACB-2D71-4105-822E-80A8847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72B7-B94D-40CD-8049-C3668FD8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963E-6FA7-4D38-9C9C-96EFEB5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8C04-845A-4DD5-8C7D-BCFE939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8748E-17F9-4447-B8D2-AE328B1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CE44-88D8-47B5-82AB-DD215585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EDD8B-2FCB-40AC-B7BA-96CCAEC7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4DA8-8E2D-48C8-8BA8-4F96BE93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303B-3811-4E65-AA2D-897EA2F3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CC81-CC0F-4371-B87B-6649CEE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D3D9-ABB0-45F8-86BD-1077AB6F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659-6423-4190-9F30-547AAB60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2FE9-3360-4FCC-8384-40920DB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FAA3-857A-4695-840F-57DB329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C86E-9C0E-466C-A4A3-77011C93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C7510-6465-413A-85A9-B648C0C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E738-EB7A-4D48-885B-897554AC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8E3A-3978-4E96-9571-73356472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2295-217A-43DF-90C5-DDC16230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C811F-98ED-4A91-8A7A-19726912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9442-65C2-48B2-945B-DF8825F2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6C3F-D5BC-4E19-925E-7C852736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B86-43A9-4D4A-AD69-E276034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05C1-F3B1-47A6-BAAD-EE46D674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4EFFF-DE5E-49FC-9397-E3E5BDBB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CFBF-3DAC-44AA-9E80-71586BCB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02FA-7A6A-4324-99CD-043E63A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A7F0-6CE8-45DC-B8C7-DB766218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C076-747B-45A6-BD5C-B16342D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94B6-B8B5-48EB-8894-382E0050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53693-F295-434A-82A8-834B754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AB43D-621D-4D4F-AE8C-9AFD8126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41F2-CA71-47B2-9E9E-CDE4A266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1633-0A06-4292-ABE4-A3951B21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09FB3-F8B5-4D6E-AC19-53976222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EDCB-DDA5-489C-902F-0461455B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6676-B0B5-4B5A-95AB-08FC420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63C05-E95D-42DA-B04A-F2E3B2D7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CAE6-F3BA-4E0F-A879-2EFDFD06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3EA1-882B-4B3F-A777-4AEF9D1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880E-687E-453F-9580-140C1029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4952-16AF-4F53-8C42-9B64AA1C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CA219-5CF7-414D-84AC-69C7D83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744B1-A0F8-4B81-A261-EAE7DAD1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349-28A0-4638-9473-F8229102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B131-5519-42C9-AA94-829C0BB6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4E46-4354-4D05-8D37-842C5E94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ADAC-C417-4768-859E-7277F9B5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6D1-28B0-4F95-B5D2-0780009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0F7-C056-44A0-92C8-1809E0B0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8B89C-7113-40D6-8917-21BFEAE517B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338AB-B125-4490-82CB-DF695AA7CA0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526F0-F497-411C-B024-4A6267A62EA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3CE66-4E9D-4DB7-A0CE-D6E96064D9E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47949-2524-4E70-BB81-5016CBFD256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1161720" y="6243480"/>
            <a:ext cx="1901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26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7042320" y="6243480"/>
            <a:ext cx="190152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CEB11-8FEA-46EC-829D-93C206F843A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1"/>
          <p:cNvSpPr txBox="1"/>
          <p:nvPr/>
        </p:nvSpPr>
        <p:spPr>
          <a:xfrm>
            <a:off x="1619280" y="765000"/>
            <a:ext cx="49561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ссии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224000" y="3816360"/>
            <a:ext cx="4176720" cy="1861920"/>
          </a:xfrm>
          <a:prstGeom prst="rect">
            <a:avLst/>
          </a:prstGeom>
          <a:noFill/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  <a:ea typeface="Microsoft YaHei"/>
              </a:rPr>
              <a:t>Выполнил: Артеменко Иван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Ученик 4 А класс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076720" y="4437000"/>
            <a:ext cx="36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280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rebuchet MS"/>
              </a:rPr>
              <a:t>  </a:t>
            </a:r>
            <a:r>
              <a:rPr b="1" i="1" lang="ru-RU" sz="7200" spc="-1" strike="noStrike">
                <a:solidFill>
                  <a:srgbClr val="3333cc"/>
                </a:solidFill>
                <a:latin typeface="Trebuchet MS"/>
              </a:rPr>
              <a:t>Волк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2480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ень и ночь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 лесу рыщет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ень и ночь добычу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ище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Ходит-бродит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олк молчком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ши серые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орчко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5121360" y="2565360"/>
            <a:ext cx="4022640" cy="318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4788000" y="2421000"/>
          <a:ext cx="217440" cy="3095640"/>
        </p:xfrm>
        <a:graphic>
          <a:graphicData uri="http://schemas.openxmlformats.org/drawingml/2006/table">
            <a:tbl>
              <a:tblPr/>
              <a:tblGrid>
                <a:gridCol w="217440"/>
              </a:tblGrid>
              <a:tr h="30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40000" y="213840"/>
            <a:ext cx="4896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i="1" lang="ru-RU" sz="7200" spc="-1" strike="noStrike">
                <a:solidFill>
                  <a:srgbClr val="ff0000"/>
                </a:solidFill>
                <a:latin typeface="Trebuchet MS"/>
              </a:rPr>
              <a:t>Медведь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38624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 завалам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 оврага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Ходит он хозяйским          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шаг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юбит мишка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сладкий мёд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а малину с веток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рвёт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4932360" y="2060640"/>
            <a:ext cx="421164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68000" y="213840"/>
            <a:ext cx="667548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i="1" lang="ru-RU" sz="7200" spc="-1" strike="noStrike">
                <a:solidFill>
                  <a:srgbClr val="33cc33"/>
                </a:solidFill>
                <a:latin typeface="Trebuchet MS"/>
              </a:rPr>
              <a:t>Белка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алеко ещё зима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Но не для потех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ащит белка в закром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Ягоды, орехи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Знает маленький зверёк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Запасаться надо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 срок</a:t>
            </a:r>
            <a:r>
              <a:rPr b="1" i="1" lang="en-US" sz="2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98440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214200"/>
            <a:ext cx="588456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</a:t>
            </a:r>
            <a:r>
              <a:rPr b="1" i="1" lang="ru-RU" sz="7200" spc="-1" strike="noStrike">
                <a:solidFill>
                  <a:srgbClr val="a50021"/>
                </a:solidFill>
                <a:latin typeface="Trebuchet MS"/>
              </a:rPr>
              <a:t>Заяц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431496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рокатился шум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лесной –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д кустом притих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косо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ши длинные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рижал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олго эхо провожа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8944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627280" y="214200"/>
            <a:ext cx="631656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 </a:t>
            </a:r>
            <a:r>
              <a:rPr b="1" i="1" lang="ru-RU" sz="7200" spc="-1" strike="noStrike">
                <a:solidFill>
                  <a:srgbClr val="ff33cc"/>
                </a:solidFill>
                <a:latin typeface="Trebuchet MS"/>
              </a:rPr>
              <a:t>Рысь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9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Если есть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 кисочк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На ушах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две кисточки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Эту киску берегись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Потому что это –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рысь!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60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4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Trebuchet MS"/>
              </a:rPr>
              <a:t>        </a:t>
            </a:r>
            <a:r>
              <a:rPr b="1" i="1" lang="ru-RU" sz="7200" spc="-1" strike="noStrike">
                <a:solidFill>
                  <a:srgbClr val="ff0000"/>
                </a:solidFill>
                <a:latin typeface="Trebuchet MS"/>
              </a:rPr>
              <a:t>Ёж 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42418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Серый ёжик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есь в иголках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Словно он не зверь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а ёлк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Хоть колюч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молчун лесной –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Ёжик добрый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а не злой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4500720" y="2162160"/>
            <a:ext cx="445428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496872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rebuchet MS"/>
              </a:rPr>
              <a:t>    </a:t>
            </a:r>
            <a:r>
              <a:rPr b="1" i="1" lang="ru-RU" sz="7200" spc="-1" strike="noStrike">
                <a:solidFill>
                  <a:srgbClr val="3333cc"/>
                </a:solidFill>
                <a:latin typeface="Trebuchet MS"/>
              </a:rPr>
              <a:t>Барсук 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4386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станет за полночь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барсук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Обойдёт свой до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вокруг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Тонкий нюх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и острый глаз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Наступи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о хоты час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45752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8:51:32Z</dcterms:created>
  <dc:creator>Elena</dc:creator>
  <dc:description/>
  <dc:language>en-US</dc:language>
  <cp:lastModifiedBy>Дарья Артеменко</cp:lastModifiedBy>
  <dcterms:modified xsi:type="dcterms:W3CDTF">2020-04-29T13:41:45Z</dcterms:modified>
  <cp:revision>25</cp:revision>
  <dc:subject/>
  <dc:title>Слайд 1</dc:title>
</cp:coreProperties>
</file>