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737-5B9C-46A0-980A-8F963113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A42-26D8-4E7E-AE69-D121862A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738-8E61-4EDD-95F2-D4C720E4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41D-63C1-4122-B20D-C9703A64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9F59-8112-4D61-A076-3D7586C1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9342-F0E2-4F59-A6A7-152ACD69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8855-F49D-4662-B780-D5E0C90D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DB6-4DCE-4196-9D2B-CA67FA7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C150-2266-438A-B3F3-7DB0556C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B5A-C7F9-4C83-9978-DB17F7A9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848C-B367-4C9A-9C33-6E618825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0E4-FEB9-404A-9BB0-7E51D0F9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85B6-E920-4729-8134-E69A6A8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CA5-98AF-4E9E-832F-B0A5109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B90-4C05-421C-8556-F919664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F8D2-A007-434A-8F1B-5F032971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365D-6F26-498E-B8B9-0397BF2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AD1-3A63-4029-9FE5-71F14F00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43C-3DD0-4371-A1FD-00C9B7C7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B7F-85DF-43B6-9CDE-E4820DEE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00C-E2CB-4071-90FA-F463F4E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9EB-1922-4B56-B67B-D5F7BB60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C9C-B0BB-43DA-ADF3-7F55BC4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644-D02F-40F5-9C6A-A2095AB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587-346C-429C-8987-03FA48F6F0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D21A-3861-4DF4-9763-D85315712CD1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-914760"/>
            <a:ext cx="61930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Государственное бюджетное дошкольное образовательное учреждение</a:t>
            </a:r>
            <a:br>
              <a:rPr sz="1200"/>
            </a:b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Детский сад №6 комбинированного вида </a:t>
            </a:r>
            <a:br>
              <a:rPr sz="1200"/>
            </a:b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Колпинского района Санкт-Петербурга</a:t>
            </a: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60240" y="1447560"/>
            <a:ext cx="8102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Мастер-класс с педагогами по экспериментированию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«Интересные опыты с детьми"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Picture 4" descr="1515536618"/>
          <p:cNvPicPr/>
          <p:nvPr/>
        </p:nvPicPr>
        <p:blipFill>
          <a:blip r:embed="rId1"/>
          <a:stretch/>
        </p:blipFill>
        <p:spPr>
          <a:xfrm>
            <a:off x="2514600" y="4800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1371600" y="5714280"/>
            <a:ext cx="111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воспитатель высшей квалификационной катего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404760" y="5486400"/>
            <a:ext cx="20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Подготовила:  С.В.Терехо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-642240"/>
            <a:ext cx="740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Цель: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повысить уровень профессиональной компетентности у педагогов по экспериментально-исследов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знакомить с понятием, что такое "эксперимент"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Познакомить слушателей, как можно использовать опыт в экспериментальной деятельности детей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    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Раскрыть особенности проведения детского экспериментирования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Эксперимент 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- это научно поставленный опыт или наблюдение исследуемого явления в учитываемых условиях, которые позволяют следить за ходом явления и воспроизводить его многократно при повторении этих условий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Picture 7" descr="1515536618"/>
          <p:cNvPicPr/>
          <p:nvPr/>
        </p:nvPicPr>
        <p:blipFill>
          <a:blip r:embed="rId1"/>
          <a:stretch/>
        </p:blipFill>
        <p:spPr>
          <a:xfrm>
            <a:off x="4495680" y="4114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1478295673_6169260-650-1454311983-18151255-650-1453916148-_th7_eisberge-angeln-titel"/>
          <p:cNvPicPr/>
          <p:nvPr/>
        </p:nvPicPr>
        <p:blipFill>
          <a:blip r:embed="rId1"/>
          <a:stretch/>
        </p:blipFill>
        <p:spPr>
          <a:xfrm>
            <a:off x="1447920" y="533520"/>
            <a:ext cx="7086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6343920" cy="9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8:19:44Z</dcterms:created>
  <dc:creator>Тереховы</dc:creator>
  <dc:description/>
  <dc:language>en-US</dc:language>
  <cp:lastModifiedBy>Тереховы</cp:lastModifiedBy>
  <dcterms:modified xsi:type="dcterms:W3CDTF">2021-11-30T16:47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