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9AE-7472-4F21-B460-504901A8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D72-8AD1-4E07-AEBF-9580826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5E1-981C-4CFE-BBAA-D2E7108C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D18-1651-425A-B38A-28CFFFF3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57DA-F154-4D5B-94E7-FC38862B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6192-758F-425D-A7B7-2EAD7E26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1DDF-FA44-4EA9-A574-383A9DC0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1D73-5C0D-4163-AF64-D569F27D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5C2D-A80B-4E04-B04A-636B1FF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D6E7-6E6C-4D4B-AF18-F82F949F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E3B-89C0-46A0-8242-DDE8305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E9D-A840-440C-9143-582C51D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87A-8753-4024-9341-998F011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FF0A-F898-4360-9C7E-74CE186A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4975-E66B-4AA8-B751-C0AC8E5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F4E5-6331-44CE-A9DF-2DF0AC64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4A0-1847-48BF-92D1-6836AFAF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554-4A1C-4AD6-A6F6-40CE854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215-78C3-4B75-A3D1-905041E9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CF5-AD24-4429-9E83-56200401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71F-86E8-4674-88B1-3C19C097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D84-ED41-4101-84E2-171574A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AE7-4A90-4796-8629-35CA148A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45B-076A-4F93-920D-B4AD2CA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2F43-EB4E-4F6E-80FF-B5C8952D58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698D-52D4-4F8E-8339-FEE857D44664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-914760"/>
            <a:ext cx="61930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Государственное бюджетное дошкольное 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Детский сад №6 комбинированного вида </a:t>
            </a:r>
            <a:br>
              <a:rPr sz="1200"/>
            </a:b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Колпинского района Санкт-Петербурга</a:t>
            </a: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60240" y="1447560"/>
            <a:ext cx="8102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Мастер-класс с педагогами по экспериментированию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«Интересные опыты с детьми"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Picture 4" descr="1515536618"/>
          <p:cNvPicPr/>
          <p:nvPr/>
        </p:nvPicPr>
        <p:blipFill>
          <a:blip r:embed="rId1"/>
          <a:stretch/>
        </p:blipFill>
        <p:spPr>
          <a:xfrm>
            <a:off x="2514600" y="4800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371600" y="5714280"/>
            <a:ext cx="111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воспитатель высшей квалификационной катего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404760" y="548640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Подготовила:  С.В.Терехо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-642240"/>
            <a:ext cx="740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Цель: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повысить уровень профессиональной компетентности у педагогов по экспериментально-исследов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знакомить с понятием, что такое "эксперимент"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знакомить слушателей, как можно использовать опыт в экспериментальной деятельности детей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Раскрыть особенности проведения детского экспериментирован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Эксперимент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- это научно поставленный опыт или наблюдение исследуемого явления в учитываемых условиях, которые позволяют следить за ходом явления и воспроизводить его многократно при повторении этих условий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Picture 7" descr="1515536618"/>
          <p:cNvPicPr/>
          <p:nvPr/>
        </p:nvPicPr>
        <p:blipFill>
          <a:blip r:embed="rId1"/>
          <a:stretch/>
        </p:blipFill>
        <p:spPr>
          <a:xfrm>
            <a:off x="4495680" y="4114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1478295673_6169260-650-1454311983-18151255-650-1453916148-_th7_eisberge-angeln-titel"/>
          <p:cNvPicPr/>
          <p:nvPr/>
        </p:nvPicPr>
        <p:blipFill>
          <a:blip r:embed="rId1"/>
          <a:stretch/>
        </p:blipFill>
        <p:spPr>
          <a:xfrm>
            <a:off x="1447920" y="5335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6343920" cy="9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8:19:44Z</dcterms:created>
  <dc:creator>Тереховы</dc:creator>
  <dc:description/>
  <dc:language>en-US</dc:language>
  <cp:lastModifiedBy>Тереховы</cp:lastModifiedBy>
  <dcterms:modified xsi:type="dcterms:W3CDTF">2021-11-30T16:47:3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