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B52F-5FE2-4DB6-8904-4553A9BB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D69-F120-42F5-B5D7-36B6638A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734B1-F3A5-4F03-9521-D83FDDB2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BEFBF-C799-4CFE-B8BB-FA5F0F85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99CF8-ADA9-4EB1-B2DE-C0C6E64B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FDF3D-4559-46A2-B843-FB6DA380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5D6FD-5AE9-49AE-8BE6-4AD8C024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DCFAF-0E62-4E13-B2E2-7160D486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A2AE9-71D6-49D9-AADA-C1B9F975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6E0F0-19CB-4DD8-BF65-6B9B3BB6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64D4C-6CBB-41FC-ACC8-0393DCA8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39EB1-4C6F-442E-B220-96A88968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CAD1-586F-4A2D-B5EB-4C5B2077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9F33F-BFD9-4F48-B3B4-E124701A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0DDF4-FBB1-464D-82C2-FAD14156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51EB5-B1F9-4A59-8415-45EFA932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3BA17-2BA1-4B59-B8A7-A2995826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AED6A-D832-4233-9762-ED17B200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13D4B-9FB0-4534-ADE8-4BBE5227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23D43-7ABC-4D2D-894F-81905550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11785-F39E-4E52-AFB8-12E5296B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6461B-2C43-47E6-AA60-FE20F6FF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4D171-75BE-4D8C-A397-0C610973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225-48DC-4820-914C-BD553742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68E54-1CDF-4490-B5D2-24923B74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3FE1B-CBCE-4E36-B35A-9C9914A8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92A08-8932-43D1-98D5-EFC1AE08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2B524-C032-4EA6-BB4A-59745341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E0F89-830D-43F3-ABDA-AC5834DE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3CA8E-DEE5-4D59-B888-21D91614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09229-9AFE-4CE3-AFA2-15232F88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BD79F-EB92-4E6E-84E4-B85982B8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102F7-C94A-41B5-B65F-394E6DA7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CB2D2-65C0-4B21-943C-0EF95995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F534-F487-4841-98F7-B32EAB2C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608AB-729C-4D84-83B3-E870A5BB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C47A0-CF09-4936-A301-581DB6A5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FB025-6247-4206-83EA-2B646BC4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5C75-91B3-41AE-B452-F8416594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49BD-B3DB-4BFA-9297-648B08E9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F61E-28ED-4287-A900-36E3A842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BB64-3E76-4DAD-A0B3-82DD8329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9F77-9264-4FCD-B63A-316108F5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9C92-E3B5-4A64-BAFA-4B08EC40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48F-CAA3-4A38-9DC7-B7DEE182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DF60-B2F8-4BC2-A910-39BB0060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1584-9116-491B-AF60-234CE45C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46DD-0EEB-4D47-A6BE-D58D0A79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D0A6-4083-47EE-B2A3-0667981D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D265-B814-4A12-A8AB-CB2AD739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E132D-A140-4AE9-9634-E448D957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0BB3C-5A22-49FF-87AE-0451E91F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330CD-E93B-408C-8AA0-42A00D60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D9ED8-26D8-43A7-9080-E54F53C5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A909D-548D-44C6-A6BA-AE26D233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C03-1687-495A-849E-345311B9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812BA-0348-4CF9-8C09-067F99E6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4166F-C849-46D3-814D-D8EC2D16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BB64F-1AD2-488E-BAB2-7C4102B5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A30A4-674D-48C8-A04F-B23E64F4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C8A13-7D41-4929-9685-16A7AF17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B669D-A2E3-4A78-90BA-379E484E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24DEC-9ADE-401F-8D1B-6D8C8A8A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84169-EB1D-4D47-A55A-2513C463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25AA2-D2E4-4AA5-9ED1-6BD1FB2A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99A79-EEB7-4D20-A0C2-E649133B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076-D850-41F0-8F17-AC5BE22C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ABDEA-C31A-4AAF-B50B-6448EFAE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6D730-E845-495D-A37D-B16F7E35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394B8-1DBB-4606-AABE-DDA8D84B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2EADA-DB45-4D37-92D3-B337C3D3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61A38-7E8E-4C22-BEF1-1B652A4E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AFDD3-6601-41BE-8EB3-BE1433EE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A39A7-510A-464B-A312-BD9E493B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9AED7-6075-42A3-982B-92D330F5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AD296-81AC-44DD-A871-35EDAC57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EF7DB-FF21-470A-80A1-4CD49456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690-0F72-4AAB-91FA-CEF0A4C2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D1CC9-64CF-4B8C-B904-5A846BAB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7A84F-137F-4FE0-9397-6C1A91F9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19E08-885A-4E83-B503-B5788278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B2FF4-E957-4D19-BE39-384A86A5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0DCF1-833C-426F-A6E2-3A56CEDA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C90A3-0DEE-4BCA-B725-7055E87F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828C8-8D68-4827-A3CF-AC75E711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A4B5C-98DE-4B1E-9C03-001B78B0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8F318-8BBC-4DB3-8371-3260B217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8C8DC-DF06-4B28-AB62-9D6028A7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F1C4-46DF-4DA6-BA62-33086767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6F20D-19BF-4E1A-9A36-D71AEEB3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FF590-4780-4D65-8610-CFF2D5E4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F53AA-A1D8-43E9-836D-8665EE14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CBB04-BBE4-4272-8B0C-5FD15361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B3D30-055A-4B45-8600-12FA1481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60F45-09C5-4A3F-B18B-C04DF9E9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CA644-EC27-49A9-9F45-D86D37C5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F5A49-1F48-4D10-8540-C87D4E51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15C68-FCAF-4812-9BE4-21BA3A4F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DB40D-7D2F-4937-9944-F2341B5C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F562-768E-4820-A5D5-0D612254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CC035-8BD0-4F10-B51C-1BD6AB05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13F09-22F2-4076-A7E1-00FC1AD8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0B768-FA35-4713-8BA1-B7BD9EB3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46EA0-2020-4E9D-BFE8-E4324CE3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24AEF-C704-4996-AE05-560918F3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9CCCD-93CA-49FB-BD9F-8B7C3535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934A0-0B72-4320-BC6F-EFA49812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33B50-20E8-4B64-B644-4865D238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0047B-B372-4ED8-896F-CD433BD3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35BBF-F0C0-4FE5-8385-785812B7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8241-B678-4FDA-A6BF-9BD9839F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E44DA-E0EA-47CC-B247-958625D1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9DB23-A99E-4665-96D0-B860B016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C61D6-482A-4F43-92EE-C25F23A8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7CB16-5F14-4275-AF76-5C08774B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4747B-B01A-4B4C-AE36-7A6AE010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6AFEC-CFEA-476D-BF9C-EAF82F00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A318C-169E-40ED-9B04-86F01483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A5D9A-A5CB-403F-ACA3-EF7FD2D0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4A6EE-CD68-446D-8A0D-735E76D8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AFF32-E674-4650-B2E0-499CFF97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0EB-CE32-45E3-B8C1-EEA9991E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57B67-1E51-4980-B132-AA1B8C04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49481-AD42-4F0F-84ED-21EFA593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5A424-7C67-4BA9-B33C-5834702F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CEA2F-17BB-4007-B771-C651CEF5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EE35B-73CA-4047-803F-DF1B5868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E13D6-639D-4ED1-9A1A-4C143B93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CEA19-59DD-4E56-AB78-6E8D6D0E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8A178-9FB9-45E0-89DE-F55A62DC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B55A4-0C17-46E7-9A13-989B67F0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9F015-929A-4B52-9A0E-421B6AC9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C08022-E55B-413F-B144-11C6776868B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FEB023-F35E-480C-BAC9-86E651D77C2F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4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EC4AE0-69A8-42D2-8E50-FEF28CED66A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C8599B-CB28-4810-8ACC-75BAC6D50E9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8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81D978-2A44-4DF4-B4D2-44B356EC31D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1F6D3A-684F-45EC-8200-9AFF1CF2533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B96A0E-076C-4A48-8632-2F34C973D4F2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141DC7-A776-40FF-AD7A-B5CB9D7F70C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6946ED-CDD5-45AF-856D-6EFF19DA365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30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A79124-68DC-4AB8-B9E0-77ADDD0476E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5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D19359-1D3E-4986-912F-C68815B0CA7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Rectangle 1" descr=""/>
          <p:cNvPicPr/>
          <p:nvPr/>
        </p:nvPicPr>
        <p:blipFill>
          <a:blip r:embed="rId1"/>
          <a:stretch/>
        </p:blipFill>
        <p:spPr>
          <a:xfrm>
            <a:off x="1731960" y="1139760"/>
            <a:ext cx="6961320" cy="2219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22860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 класс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Rectangle 1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8023320" cy="11523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914400" y="1599840"/>
            <a:ext cx="777240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50,70,90,20,36,40,10,80,60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11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Расположи числа в порядке возрастания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Какое будет следующим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11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1" descr=""/>
          <p:cNvPicPr/>
          <p:nvPr/>
        </p:nvPicPr>
        <p:blipFill>
          <a:blip r:embed="rId1"/>
          <a:stretch/>
        </p:blipFill>
        <p:spPr>
          <a:xfrm>
            <a:off x="3348000" y="3213000"/>
            <a:ext cx="1724040" cy="1728720"/>
          </a:xfrm>
          <a:prstGeom prst="rect">
            <a:avLst/>
          </a:prstGeom>
          <a:ln w="0">
            <a:noFill/>
          </a:ln>
        </p:spPr>
      </p:pic>
      <p:pic>
        <p:nvPicPr>
          <p:cNvPr id="489" name="Rectangle 2" descr=""/>
          <p:cNvPicPr/>
          <p:nvPr/>
        </p:nvPicPr>
        <p:blipFill>
          <a:blip r:embed="rId2"/>
          <a:stretch/>
        </p:blipFill>
        <p:spPr>
          <a:xfrm>
            <a:off x="828720" y="182520"/>
            <a:ext cx="4206960" cy="8780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611280" y="1483920"/>
            <a:ext cx="806112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осяш и Кар-Карыч подарил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юше букеты. Лосяш подари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7 ромашек и 15 васильков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р-Карыч – 19 ромашек, а васильк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6 больш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колько всего цветов получил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юша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3"/>
          <a:stretch/>
        </p:blipFill>
        <p:spPr>
          <a:xfrm>
            <a:off x="0" y="4365720"/>
            <a:ext cx="2459160" cy="24922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5" descr=""/>
          <p:cNvPicPr/>
          <p:nvPr/>
        </p:nvPicPr>
        <p:blipFill>
          <a:blip r:embed="rId4"/>
          <a:stretch/>
        </p:blipFill>
        <p:spPr>
          <a:xfrm>
            <a:off x="6084720" y="3357720"/>
            <a:ext cx="2867040" cy="38098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6" descr=""/>
          <p:cNvPicPr/>
          <p:nvPr/>
        </p:nvPicPr>
        <p:blipFill>
          <a:blip r:embed="rId5"/>
          <a:stretch/>
        </p:blipFill>
        <p:spPr>
          <a:xfrm>
            <a:off x="5910120" y="0"/>
            <a:ext cx="3233880" cy="30322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8" descr=""/>
          <p:cNvPicPr/>
          <p:nvPr/>
        </p:nvPicPr>
        <p:blipFill>
          <a:blip r:embed="rId6"/>
          <a:stretch/>
        </p:blipFill>
        <p:spPr>
          <a:xfrm>
            <a:off x="4932360" y="0"/>
            <a:ext cx="14079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Rectangle 1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8023320" cy="9255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 txBox="1"/>
          <p:nvPr/>
        </p:nvSpPr>
        <p:spPr>
          <a:xfrm>
            <a:off x="900000" y="1412640"/>
            <a:ext cx="77724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очереди на приём к доктору Айболиту сидят 6 больных. Сначала доктор вызвал в кабинет тех, у кого болят зубы. Третий и пятый больные вошли в кабинет. Сколько больных осталось ждать своей очереди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97" name="Picture 3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1792080" cy="25210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" descr=""/>
          <p:cNvPicPr/>
          <p:nvPr/>
        </p:nvPicPr>
        <p:blipFill>
          <a:blip r:embed="rId3"/>
          <a:stretch/>
        </p:blipFill>
        <p:spPr>
          <a:xfrm>
            <a:off x="1476360" y="3789360"/>
            <a:ext cx="33829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Rectangle 1" descr=""/>
          <p:cNvPicPr/>
          <p:nvPr/>
        </p:nvPicPr>
        <p:blipFill>
          <a:blip r:embed="rId1"/>
          <a:stretch/>
        </p:blipFill>
        <p:spPr>
          <a:xfrm>
            <a:off x="669960" y="19080"/>
            <a:ext cx="8023320" cy="7239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6553080" cy="54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Rectangle 1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8023320" cy="1152360"/>
          </a:xfrm>
          <a:prstGeom prst="rect">
            <a:avLst/>
          </a:prstGeom>
          <a:ln w="0">
            <a:noFill/>
          </a:ln>
        </p:spPr>
      </p:pic>
      <p:sp>
        <p:nvSpPr>
          <p:cNvPr id="502" name="AutoShape 2"/>
          <p:cNvSpPr/>
          <p:nvPr/>
        </p:nvSpPr>
        <p:spPr>
          <a:xfrm>
            <a:off x="2050920" y="2133720"/>
            <a:ext cx="792360" cy="718920"/>
          </a:xfrm>
          <a:prstGeom prst="diamond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2266920" y="3357720"/>
            <a:ext cx="43200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1187280" y="4076640"/>
            <a:ext cx="792360" cy="719280"/>
          </a:xfrm>
          <a:prstGeom prst="diamond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2916360" y="4149720"/>
            <a:ext cx="792000" cy="719280"/>
          </a:xfrm>
          <a:prstGeom prst="diamond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2484360" y="2924280"/>
            <a:ext cx="18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1619280" y="479736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8"/>
          <p:cNvSpPr/>
          <p:nvPr/>
        </p:nvSpPr>
        <p:spPr>
          <a:xfrm>
            <a:off x="3276720" y="486900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9"/>
          <p:cNvSpPr/>
          <p:nvPr/>
        </p:nvSpPr>
        <p:spPr>
          <a:xfrm flipH="1">
            <a:off x="1761840" y="4005360"/>
            <a:ext cx="5792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10"/>
          <p:cNvSpPr/>
          <p:nvPr/>
        </p:nvSpPr>
        <p:spPr>
          <a:xfrm flipH="1" flipV="1">
            <a:off x="2625840" y="4003560"/>
            <a:ext cx="43632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1"/>
          <p:cNvSpPr/>
          <p:nvPr/>
        </p:nvSpPr>
        <p:spPr>
          <a:xfrm>
            <a:off x="6372360" y="2060640"/>
            <a:ext cx="72072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6372360" y="2924280"/>
            <a:ext cx="72072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5508720" y="3933720"/>
            <a:ext cx="720720" cy="50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7308720" y="3933720"/>
            <a:ext cx="720720" cy="50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15"/>
          <p:cNvSpPr/>
          <p:nvPr/>
        </p:nvSpPr>
        <p:spPr>
          <a:xfrm>
            <a:off x="6804000" y="2637000"/>
            <a:ext cx="1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16"/>
          <p:cNvSpPr/>
          <p:nvPr/>
        </p:nvSpPr>
        <p:spPr>
          <a:xfrm>
            <a:off x="5867280" y="450864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Line 17"/>
          <p:cNvSpPr/>
          <p:nvPr/>
        </p:nvSpPr>
        <p:spPr>
          <a:xfrm>
            <a:off x="7667640" y="4508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Line 18"/>
          <p:cNvSpPr/>
          <p:nvPr/>
        </p:nvSpPr>
        <p:spPr>
          <a:xfrm flipH="1">
            <a:off x="6154200" y="3500280"/>
            <a:ext cx="2192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Line 19"/>
          <p:cNvSpPr/>
          <p:nvPr/>
        </p:nvSpPr>
        <p:spPr>
          <a:xfrm>
            <a:off x="7093080" y="35002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Oval 20"/>
          <p:cNvSpPr/>
          <p:nvPr/>
        </p:nvSpPr>
        <p:spPr>
          <a:xfrm>
            <a:off x="1332000" y="5300640"/>
            <a:ext cx="647640" cy="504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21"/>
          <p:cNvSpPr/>
          <p:nvPr/>
        </p:nvSpPr>
        <p:spPr>
          <a:xfrm>
            <a:off x="2987640" y="5300640"/>
            <a:ext cx="647640" cy="504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22"/>
          <p:cNvSpPr/>
          <p:nvPr/>
        </p:nvSpPr>
        <p:spPr>
          <a:xfrm>
            <a:off x="5580000" y="5013360"/>
            <a:ext cx="647640" cy="504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23"/>
          <p:cNvSpPr/>
          <p:nvPr/>
        </p:nvSpPr>
        <p:spPr>
          <a:xfrm>
            <a:off x="7380360" y="4941720"/>
            <a:ext cx="647640" cy="505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8:13:25Z</dcterms:created>
  <dc:creator>user</dc:creator>
  <dc:description/>
  <dc:language>en-US</dc:language>
  <cp:lastModifiedBy>user</cp:lastModifiedBy>
  <dcterms:modified xsi:type="dcterms:W3CDTF">2022-05-10T15:59:29Z</dcterms:modified>
  <cp:revision>8</cp:revision>
  <dc:subject/>
  <dc:title>Устный счёт</dc:title>
</cp:coreProperties>
</file>