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172-C8E5-44B8-A1A0-7F2CECC0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2EC-D7A4-4F8C-9C25-1C38AEC6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C5B2E-E227-4194-8D4F-FE4591E9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63E94-4E5A-48E0-91A8-B7FE47E2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11FBC-BA38-4F76-8589-5EB4A554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1DABE-ED38-46B4-A026-9D8AAB15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032BF-2355-407C-9890-E03649A4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ECE03-F2BB-4551-8159-460FFCCE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8B9E9-66EB-4144-A4D0-5274267E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C06FD-1981-4484-8AF4-7026F597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6234A-DCFA-4873-B221-5F25F00E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DB8BC-2C46-48A9-B1A5-46D670ED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A70-3EB4-4109-AAA8-B0E15F06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39082-140F-4B03-BD3C-6E648C3A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953B8-ECFC-403B-9BA5-6952663F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E6B53-497F-40E6-98F6-77BCAC06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149BB-22C6-4731-A28F-5DAA6485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11CCE-0E3F-4D41-B860-6ED24604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D06E1-45D0-4B29-AE86-9F4A0061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6D046-7FB5-4461-9B33-A774F83B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EB0AC-98D4-4F78-8757-511942C8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D599D-DFC4-4C1D-AA72-6292031B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43257-E388-48C9-A676-B6C1EC90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C81-C554-40CE-8A5C-C0AFC276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A87C7-1813-4A42-B2F7-71D59B88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25ADD-FFCF-48F8-8981-D17BF08F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30A30-4B32-40A9-9D36-1EBB264D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7476D-92DD-422E-82ED-2F4E7DA7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59724-7F54-4DCF-8650-A4BD39CC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AF771-7BFE-4B74-A684-C42096A1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3D452-6F34-4438-9570-36A6F12A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B6080-8BAD-467F-966E-A7AF83BB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D7E4D-A313-4A69-8C39-6917208C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08448-F908-45D7-98B7-E92C3AD0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6F93-F9F2-48C0-BE3C-79AA947E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448AC-59E4-4676-BBF8-29BA1194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D20FC-066B-4F53-A2F1-1B66F644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A7AC1-D04F-47AA-A837-2D2269B9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93B4-0CCE-46F3-B8DE-1969AEE1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000D-6E4C-40DD-A239-2225F0E6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A089-CFE6-4578-B8B0-E1451EA8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94C2-295F-4E81-86E7-81020EB2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92FB-8343-4337-A203-75E08C2D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7B0A-8EDC-4E46-AD2F-7E2684E4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F1F-9E67-4678-8D23-7AE4279E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9058-8D51-4AE7-95E5-FC1254CE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C0A1-30B6-4725-AC1F-4D360617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59D0-8407-4746-B957-87C3ED27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12FD-102C-42FD-88C8-4C2CD45E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C686-E7EC-4D1F-9623-D63FE258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B380A-1200-4230-972E-17FEED3D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565FF-F2C8-403A-AF91-1E562580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D9A5A-7F94-4E9D-B65A-E47879AF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FCF5C-B6C3-4F46-8E3B-CCAB5981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C3F4-147D-4187-A0C5-17D54D2B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B30-170F-4C64-8D58-5DB2AF7D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6D98B-493D-45E5-8341-5EC899A7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C5B40-21A8-4B25-A8A3-4F3301F1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802FC-76AE-4430-95B2-F144901E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9F91C-1D8A-450B-AEE8-0EC03999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513E-B0EE-434B-B311-09AA9E47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6BD14-762F-46BF-B4F9-2EF575B9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823AD-77FE-4570-BD77-DA23DCA2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9A50A-E4C1-4FDB-9E12-4B85D941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BFFAD-26B0-4D48-9411-5437FC1F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8C809-241A-4472-AF6B-FC5045C1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24B-D6F3-4C51-82BB-4070AEC4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D9D22-0CC7-4ED7-A752-70C0CE53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F642A-3ED1-4D18-9DC4-E7C39966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ACE09-DEF2-4D0E-93A1-23168DC0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C7934-117A-4EEF-866F-DF8B7D78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8CEFA-2D94-422D-BFCA-73EB95B8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2CB52-7DD1-4F3A-9B6E-51D946FC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DDA2B-646C-4515-B631-62F93A93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AB892-5C3B-4CF2-8E06-225749AC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7601A-1424-422A-A47A-27E27473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4B64D-04D7-4491-83A0-3C845919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C1B-D287-4C2E-8645-82C4CD38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D71FF-6E37-44BC-B8EF-442C69D1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7623F-E0A8-4402-909C-D45AA190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7A0C6-9506-41B2-B10B-DF47A856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B9414-A6BA-4533-BC8B-EB70FBDF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2B3F2-F6BD-46B1-9970-CE3E255F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6CD92-18C7-453D-B50B-EE8A872F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74DDB-BFA0-4447-B58C-F7A0CD21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06E39-461C-4700-AF5E-6A97D196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D2838-6C04-4B12-BD1D-0E99E8C5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F1035-E34E-4339-A4A4-DC22CD81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DBF-C1CD-4072-BAC7-43A28F52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9D7F2-C1A2-4ADF-A23B-61B39C59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FCD54-44D5-4340-AC2E-116B8AAD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E9916-AF42-4EC3-A330-F034B14D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4ABB8-5F36-452B-9ADD-7C98BE70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0994A-9305-49A6-8559-C07302FE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159F1-7712-41E5-9F56-4CA72182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EFF64-C9BE-4FD7-8F33-92B9CF8B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3BBC7-D47C-4EF8-AEF8-5A13AED2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251CB-C7BA-470E-AE28-7DF0ACC8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12481-020A-4375-99FB-A185C226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7F4-8020-44EE-AECA-A5718F60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B0CBC-BC49-4D39-802C-C4DD5740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C31DC-EC1E-47A2-80D9-179DD9F6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54918-6C28-4E66-BB9B-CAD6649AE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63517-4CDE-44BB-B202-0809816E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A2E16-C9D8-4807-B761-EE57A42C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9ECF9-A819-40E8-A847-73BC3E9B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9DBCF-E574-4DF3-8075-17FE83AC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2FE72-F130-4CA8-B161-58260177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CC9F6-9C41-4E06-B78B-FBB7AB6F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6C485-B7C4-453F-95A9-BC32F96E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0BE-306A-45A6-8D50-AB9B2AE8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46553-4CC6-48C6-982C-FAFEC99C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4B25B-294B-4C88-97E0-7D88C5A8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AD4E8-BE4E-4ECB-9DEB-8A7E84A8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52126-5010-479C-BF59-EF756409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4BE01-A48F-4AEE-9877-0D1572C2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B84CA-6540-4BDD-A0A7-D65C5E54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33FF2-922F-4E42-BE7A-75B4FCF0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706D9-CBF0-4477-B302-CCBB2E08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16454-87A2-4ADA-8944-77C69FF5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AC427-4A4F-47AE-B003-2FF9A60F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03E-D119-4F1E-BD2B-D4202E7F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AD038-4AD7-4CE0-A73A-E48A7153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0B309-4790-4D08-AC49-E08AEED5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6D778-3A47-4B7F-907A-4605197A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F41B4-A9A6-4CA2-99E6-A9FF6AD8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2BC4D-B174-4234-802F-E54954D4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83A98-9BC4-4A3F-B42C-40CD3E5C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BBD33-CE70-4686-BF77-DE272485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1BC63-889F-4102-B0BE-1C36F57B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0AAFA-00CD-49EA-BB6D-B5A90478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99A8F-89A1-4739-9DDD-F7C0669B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6EE54D-C80D-4FD7-A1BB-300A7C10A5F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95FD2A-E72A-4BC7-8FC4-906CD73A04D6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4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5DD81C-F99F-45DC-A411-05E9F9AE71F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C79951-F43C-4207-A222-82A9D404520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8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C2EB5A-78B8-4ED5-BB2C-78B76E70C93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7E0651-27AB-40C0-B756-4AF906EAB83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A57510-AE87-463D-AB34-07E5E97BC69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015CD0-8E51-49D4-B290-F5F504F59E5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3541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FA8B81-B148-4287-82C0-D562E6526D4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30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7FD626-38D2-4F44-AF01-9035EDD87C6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5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716F7D-DC90-4DE3-8756-D46DBC7B1D5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1" descr=""/>
          <p:cNvPicPr/>
          <p:nvPr/>
        </p:nvPicPr>
        <p:blipFill>
          <a:blip r:embed="rId1"/>
          <a:stretch/>
        </p:blipFill>
        <p:spPr>
          <a:xfrm>
            <a:off x="1731960" y="1139760"/>
            <a:ext cx="6961320" cy="2219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22860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 класс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Rectangle 1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8023320" cy="11523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914400" y="1599840"/>
            <a:ext cx="777240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50,70,90,20,36,40,10,80,60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11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Расположи числа в порядке возрастания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Какое будет следующим?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11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1" descr=""/>
          <p:cNvPicPr/>
          <p:nvPr/>
        </p:nvPicPr>
        <p:blipFill>
          <a:blip r:embed="rId1"/>
          <a:stretch/>
        </p:blipFill>
        <p:spPr>
          <a:xfrm>
            <a:off x="3348000" y="3213000"/>
            <a:ext cx="1724040" cy="1728720"/>
          </a:xfrm>
          <a:prstGeom prst="rect">
            <a:avLst/>
          </a:prstGeom>
          <a:ln w="0">
            <a:noFill/>
          </a:ln>
        </p:spPr>
      </p:pic>
      <p:pic>
        <p:nvPicPr>
          <p:cNvPr id="489" name="Rectangle 2" descr=""/>
          <p:cNvPicPr/>
          <p:nvPr/>
        </p:nvPicPr>
        <p:blipFill>
          <a:blip r:embed="rId2"/>
          <a:stretch/>
        </p:blipFill>
        <p:spPr>
          <a:xfrm>
            <a:off x="828720" y="182520"/>
            <a:ext cx="4206960" cy="8780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611280" y="1483920"/>
            <a:ext cx="80611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осяш и Кар-Карыч подари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юше букеты. Лосяш подари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7 ромашек и 15 васильков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р-Карыч – 19 ромашек, а васильк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6 больш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колько всего цветов получил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юша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3"/>
          <a:stretch/>
        </p:blipFill>
        <p:spPr>
          <a:xfrm>
            <a:off x="0" y="4365720"/>
            <a:ext cx="2459160" cy="2492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5" descr=""/>
          <p:cNvPicPr/>
          <p:nvPr/>
        </p:nvPicPr>
        <p:blipFill>
          <a:blip r:embed="rId4"/>
          <a:stretch/>
        </p:blipFill>
        <p:spPr>
          <a:xfrm>
            <a:off x="6084720" y="3357720"/>
            <a:ext cx="2867040" cy="38098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" descr=""/>
          <p:cNvPicPr/>
          <p:nvPr/>
        </p:nvPicPr>
        <p:blipFill>
          <a:blip r:embed="rId5"/>
          <a:stretch/>
        </p:blipFill>
        <p:spPr>
          <a:xfrm>
            <a:off x="5910120" y="0"/>
            <a:ext cx="3233880" cy="30322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8" descr=""/>
          <p:cNvPicPr/>
          <p:nvPr/>
        </p:nvPicPr>
        <p:blipFill>
          <a:blip r:embed="rId6"/>
          <a:stretch/>
        </p:blipFill>
        <p:spPr>
          <a:xfrm>
            <a:off x="4932360" y="0"/>
            <a:ext cx="14079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Rectangle 1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8023320" cy="9255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 txBox="1"/>
          <p:nvPr/>
        </p:nvSpPr>
        <p:spPr>
          <a:xfrm>
            <a:off x="900000" y="1412640"/>
            <a:ext cx="77724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очереди на приём к доктору Айболиту сидят 6 больных. Сначала доктор вызвал в кабинет тех, у кого болят зубы. Третий и пятый больные вошли в кабинет. Сколько больных осталось ждать своей очеред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97" name="Picture 3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1792080" cy="252108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"/>
          <p:cNvPicPr/>
          <p:nvPr/>
        </p:nvPicPr>
        <p:blipFill>
          <a:blip r:embed="rId3"/>
          <a:stretch/>
        </p:blipFill>
        <p:spPr>
          <a:xfrm>
            <a:off x="1476360" y="3789360"/>
            <a:ext cx="33829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Rectangle 1" descr=""/>
          <p:cNvPicPr/>
          <p:nvPr/>
        </p:nvPicPr>
        <p:blipFill>
          <a:blip r:embed="rId1"/>
          <a:stretch/>
        </p:blipFill>
        <p:spPr>
          <a:xfrm>
            <a:off x="669960" y="19080"/>
            <a:ext cx="8023320" cy="7239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553080" cy="54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1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8023320" cy="1152360"/>
          </a:xfrm>
          <a:prstGeom prst="rect">
            <a:avLst/>
          </a:prstGeom>
          <a:ln w="0">
            <a:noFill/>
          </a:ln>
        </p:spPr>
      </p:pic>
      <p:sp>
        <p:nvSpPr>
          <p:cNvPr id="502" name="AutoShape 2"/>
          <p:cNvSpPr/>
          <p:nvPr/>
        </p:nvSpPr>
        <p:spPr>
          <a:xfrm>
            <a:off x="2050920" y="2133720"/>
            <a:ext cx="792360" cy="718920"/>
          </a:xfrm>
          <a:prstGeom prst="diamond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2266920" y="3357720"/>
            <a:ext cx="432000" cy="431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1187280" y="4076640"/>
            <a:ext cx="792360" cy="719280"/>
          </a:xfrm>
          <a:prstGeom prst="diamond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2916360" y="4149720"/>
            <a:ext cx="792000" cy="719280"/>
          </a:xfrm>
          <a:prstGeom prst="diamond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2484360" y="2924280"/>
            <a:ext cx="18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1619280" y="479736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8"/>
          <p:cNvSpPr/>
          <p:nvPr/>
        </p:nvSpPr>
        <p:spPr>
          <a:xfrm>
            <a:off x="3276720" y="486900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9"/>
          <p:cNvSpPr/>
          <p:nvPr/>
        </p:nvSpPr>
        <p:spPr>
          <a:xfrm flipH="1">
            <a:off x="1761840" y="4005360"/>
            <a:ext cx="5792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10"/>
          <p:cNvSpPr/>
          <p:nvPr/>
        </p:nvSpPr>
        <p:spPr>
          <a:xfrm flipH="1" flipV="1">
            <a:off x="2625840" y="4003560"/>
            <a:ext cx="43632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1"/>
          <p:cNvSpPr/>
          <p:nvPr/>
        </p:nvSpPr>
        <p:spPr>
          <a:xfrm>
            <a:off x="6372360" y="2060640"/>
            <a:ext cx="72072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6372360" y="2924280"/>
            <a:ext cx="72072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5508720" y="3933720"/>
            <a:ext cx="72072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14"/>
          <p:cNvSpPr/>
          <p:nvPr/>
        </p:nvSpPr>
        <p:spPr>
          <a:xfrm>
            <a:off x="7308720" y="3933720"/>
            <a:ext cx="72072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15"/>
          <p:cNvSpPr/>
          <p:nvPr/>
        </p:nvSpPr>
        <p:spPr>
          <a:xfrm>
            <a:off x="6804000" y="2637000"/>
            <a:ext cx="1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16"/>
          <p:cNvSpPr/>
          <p:nvPr/>
        </p:nvSpPr>
        <p:spPr>
          <a:xfrm>
            <a:off x="5867280" y="450864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Line 17"/>
          <p:cNvSpPr/>
          <p:nvPr/>
        </p:nvSpPr>
        <p:spPr>
          <a:xfrm>
            <a:off x="7667640" y="450864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Line 18"/>
          <p:cNvSpPr/>
          <p:nvPr/>
        </p:nvSpPr>
        <p:spPr>
          <a:xfrm flipH="1">
            <a:off x="6154200" y="3500280"/>
            <a:ext cx="2192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7093080" y="35002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20"/>
          <p:cNvSpPr/>
          <p:nvPr/>
        </p:nvSpPr>
        <p:spPr>
          <a:xfrm>
            <a:off x="1332000" y="5300640"/>
            <a:ext cx="647640" cy="504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21"/>
          <p:cNvSpPr/>
          <p:nvPr/>
        </p:nvSpPr>
        <p:spPr>
          <a:xfrm>
            <a:off x="2987640" y="5300640"/>
            <a:ext cx="647640" cy="504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22"/>
          <p:cNvSpPr/>
          <p:nvPr/>
        </p:nvSpPr>
        <p:spPr>
          <a:xfrm>
            <a:off x="5580000" y="5013360"/>
            <a:ext cx="647640" cy="504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23"/>
          <p:cNvSpPr/>
          <p:nvPr/>
        </p:nvSpPr>
        <p:spPr>
          <a:xfrm>
            <a:off x="7380360" y="4941720"/>
            <a:ext cx="647640" cy="5050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8:13:25Z</dcterms:created>
  <dc:creator>user</dc:creator>
  <dc:description/>
  <dc:language>en-US</dc:language>
  <cp:lastModifiedBy>user</cp:lastModifiedBy>
  <dcterms:modified xsi:type="dcterms:W3CDTF">2022-05-10T15:59:29Z</dcterms:modified>
  <cp:revision>8</cp:revision>
  <dc:subject/>
  <dc:title>Устный счёт</dc:title>
</cp:coreProperties>
</file>