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A50-2F14-45C9-8F27-E8067E7C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B76-E81D-4AB3-BFC0-10F0429C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849-2660-40C4-B120-48F43E5E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A61-0C3F-4DCC-83DB-03E7ECE7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57F-05EB-4D9B-B155-80C8486C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15E-E536-4D6F-91A9-943C0205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358-389A-4CC6-976D-1C1EEF66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8A7-44A5-468A-9F28-8B0CD24E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67E3-061E-4A0F-ADC5-1B1A5C1D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25E-5C1B-4179-9298-BE4430DF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C92-BA1E-484B-9094-B0044EFC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39F-8331-4018-91A6-53928F2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9EEB-F8E2-4250-B434-638803E7FB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сударственное бюджетное учреждение дополнительного образования Центр детского и юношеского технического творчеств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ровского района г. Санкт-Петербурга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Блокада Ленингра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ряд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н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даго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39610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окада Ленинграда длилась ровно 871 день. Это самая продолжительная и страшная осада города за всю историю человечества. Почти 900 дней боли и страдания, мужества и самоотверженности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0" y="476280"/>
            <a:ext cx="4330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сентября 1941 года, в продолжение наступления фашистской армии, был захвачен город Шлиссельбург, таким образом кольцо блокады замкнулос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2664000" cy="219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5796000" y="4581360"/>
            <a:ext cx="2987640" cy="188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4"/>
          <a:stretch/>
        </p:blipFill>
        <p:spPr>
          <a:xfrm>
            <a:off x="3492360" y="4653000"/>
            <a:ext cx="17892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трашная картина блокадного Ленинграда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02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л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озные зи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 св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 во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 топл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211640" y="1268280"/>
            <a:ext cx="4535640" cy="339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4248000" cy="304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796000" y="4797360"/>
            <a:ext cx="23652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айка блокадного хлеба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635280" y="1052640"/>
            <a:ext cx="2016360" cy="135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88432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492360" y="263700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4"/>
          <a:stretch/>
        </p:blipFill>
        <p:spPr>
          <a:xfrm>
            <a:off x="6443640" y="3357720"/>
            <a:ext cx="2406600" cy="30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5"/>
          <a:stretch/>
        </p:blipFill>
        <p:spPr>
          <a:xfrm>
            <a:off x="5867280" y="907920"/>
            <a:ext cx="2984760" cy="223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6"/>
          <a:stretch/>
        </p:blipFill>
        <p:spPr>
          <a:xfrm>
            <a:off x="3348000" y="4508640"/>
            <a:ext cx="2768760" cy="193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7"/>
          <a:stretch/>
        </p:blipFill>
        <p:spPr>
          <a:xfrm>
            <a:off x="324000" y="3716280"/>
            <a:ext cx="27352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Жизнь блокадного Ленинград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35989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оды выпускали военную проду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станавливали свою деятельность театры и музе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обновил свою деятельность симфонический оркест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ало ленинградское ради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971640" y="378936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41800" cy="21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68280" y="228600"/>
            <a:ext cx="27543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орога жизни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816360" cy="2252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3600720" cy="2695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37432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55760" y="228240"/>
            <a:ext cx="603072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рорыв блокады Ленинград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января 1944 года в ходе общего наступления советских войск началась заключительная операция по снятию блокады Ленинграда. Ленинградский и Волховский фронты к 27 января 1944 года с помощью кронштадтской артиллерии осуществили прорыв блокады Ленинграда. Гитлеровцы начали отступление. Вскоре были освобождены города Пушкин, Гатчина и Чудово. Блокада была полностью сня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 flipV="1" rot="10800000">
            <a:off x="4497480" y="3281760"/>
            <a:ext cx="4114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окада Ленинграда - трагичная и великая страни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йской истори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есшая более 2 миллионов человеческих жиз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38149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911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"Слава и тебе, великий город, 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Сливший воедино фронт и тыл. 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В небывалых трудностях который</a:t>
            </a:r>
            <a:br>
              <a:rPr sz="2800"/>
            </a:b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Выстоял. Сражался. Победил"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6300720" y="404640"/>
            <a:ext cx="2664000" cy="1760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2521080" cy="178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5580000" y="2276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3851280" y="4508640"/>
            <a:ext cx="34560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5"/>
          <a:stretch/>
        </p:blipFill>
        <p:spPr>
          <a:xfrm>
            <a:off x="755640" y="2133720"/>
            <a:ext cx="431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7:05:46Z</dcterms:created>
  <dc:creator>Технорядова А.М.</dc:creator>
  <dc:description/>
  <dc:language>en-US</dc:language>
  <cp:lastModifiedBy>User</cp:lastModifiedBy>
  <dcterms:modified xsi:type="dcterms:W3CDTF">2022-05-10T21:42:21Z</dcterms:modified>
  <cp:revision>4</cp:revision>
  <dc:subject/>
  <dc:title>День снятия блокады</dc:title>
</cp:coreProperties>
</file>