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C2F-5F76-4454-8416-965C642D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A729-7B40-4C7C-A5CE-2BC22D25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8E9-4CAC-43A9-B2C2-4F03AFDB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4493-114B-4954-883D-8057CD93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86C-D063-4BDD-8A02-95C9AD3D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7E7-AA10-47C0-9964-5EA658B0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E02-2B36-4D8E-963F-325DF581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C7C-9AC3-4496-9442-A345EC7F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75E-9758-4FDB-9402-42191913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BA1-BA49-4DB4-823A-8C2636A5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D5F-1BB0-4FB7-800C-3C116B44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E2B-F65F-404D-A1EA-57B1474B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5B17-ACBF-4D1A-ACFF-74C93FF8D7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сударственное бюджетное учреждение дополнительного образования Центр детского и юношеского технического творчества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ировского района г. Санкт-Петербурга</a:t>
            </a:r>
            <a:br>
              <a:rPr sz="1800"/>
            </a:b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Блокада Ленингра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ряд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на Михайл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39610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70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окада Ленинграда длилась ровно 871 день. Это самая продолжительная и страшная осада города за всю историю человечества. Почти 900 дней боли и страдания, мужества и самоотверженности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0" y="476280"/>
            <a:ext cx="4330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 сентября 1941 года, в продолжение наступления фашистской армии, был захвачен город Шлиссельбург, таким образом кольцо блокады замкнулос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4859280" y="2276640"/>
            <a:ext cx="2664000" cy="2195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5796000" y="4581360"/>
            <a:ext cx="2987640" cy="1882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4"/>
          <a:stretch/>
        </p:blipFill>
        <p:spPr>
          <a:xfrm>
            <a:off x="3492360" y="4653000"/>
            <a:ext cx="178920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трашная картина блокадного Ленинграда: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02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л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л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розные зи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т св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т 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т топл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4211640" y="1268280"/>
            <a:ext cx="4535640" cy="3394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4248000" cy="304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5796000" y="4797360"/>
            <a:ext cx="23652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айка блокадного хлеба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635280" y="1052640"/>
            <a:ext cx="2016360" cy="1352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884320" cy="18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3492360" y="263700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4"/>
          <a:stretch/>
        </p:blipFill>
        <p:spPr>
          <a:xfrm>
            <a:off x="6443640" y="3357720"/>
            <a:ext cx="2406600" cy="30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5"/>
          <a:stretch/>
        </p:blipFill>
        <p:spPr>
          <a:xfrm>
            <a:off x="5867280" y="907920"/>
            <a:ext cx="2984760" cy="223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6"/>
          <a:stretch/>
        </p:blipFill>
        <p:spPr>
          <a:xfrm>
            <a:off x="3348000" y="4508640"/>
            <a:ext cx="2768760" cy="193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7"/>
          <a:stretch/>
        </p:blipFill>
        <p:spPr>
          <a:xfrm>
            <a:off x="324000" y="3716280"/>
            <a:ext cx="27352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Жизнь блокадного Ленинград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35989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оды выпускали военную продук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станавливали свою деятельность театры и музе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обновил свою деятельность симфонический оркест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ало ленинградское ради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971640" y="378936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241800" cy="214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68280" y="228600"/>
            <a:ext cx="27543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Дорога жизни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816360" cy="2252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4716360" y="2205000"/>
            <a:ext cx="3600720" cy="2695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468360" y="3789360"/>
            <a:ext cx="37432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55760" y="228240"/>
            <a:ext cx="6030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орыв блокады Ленинград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4 января 1944 года в ходе общего наступления советских войск началась заключительная операция по снятию блокады Ленинграда. Ленинградский и Волховский фронты к 27 января 1944 года с помощью кронштадтской артиллерии осуществили прорыв блокады Ленинграда. Гитлеровцы начали отступление. Вскоре были освобождены города Пушкин, Гатчина и Чудово. Блокада была полностью сня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 flipV="1" rot="10800000">
            <a:off x="4497480" y="3281760"/>
            <a:ext cx="4114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окада Ленинграда - трагичная и великая страниц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сийской истори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несшая более 2 миллионов человеческих жизн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381492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911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"Слава и тебе, великий город, </a:t>
            </a:r>
            <a:br>
              <a:rPr sz="2800"/>
            </a:b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Сливший воедино фронт и тыл. </a:t>
            </a:r>
            <a:br>
              <a:rPr sz="2800"/>
            </a:b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В небывалых трудностях который</a:t>
            </a:r>
            <a:br>
              <a:rPr sz="2800"/>
            </a:b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Выстоял. Сражался. Победил"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6300720" y="404640"/>
            <a:ext cx="2664000" cy="1760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2521080" cy="1789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5580000" y="227664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4"/>
          <a:stretch/>
        </p:blipFill>
        <p:spPr>
          <a:xfrm>
            <a:off x="3851280" y="4508640"/>
            <a:ext cx="3456000" cy="2038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5"/>
          <a:stretch/>
        </p:blipFill>
        <p:spPr>
          <a:xfrm>
            <a:off x="755640" y="2133720"/>
            <a:ext cx="4319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17:05:46Z</dcterms:created>
  <dc:creator>Технорядова А.М.</dc:creator>
  <dc:description/>
  <dc:language>en-US</dc:language>
  <cp:lastModifiedBy>User</cp:lastModifiedBy>
  <dcterms:modified xsi:type="dcterms:W3CDTF">2022-05-10T21:42:21Z</dcterms:modified>
  <cp:revision>4</cp:revision>
  <dc:subject/>
  <dc:title>День снятия блокады</dc:title>
</cp:coreProperties>
</file>