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F74-CE1E-42F3-8C78-05E96229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740-E0B5-45DA-BFE0-96CE2284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649-EFCA-42B3-A0A9-1487090B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6C8-BA86-42AE-85F5-F46656B9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ADB-7867-4F75-AFFD-BFB73DD1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F28-B431-4119-B85C-EC774242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838-AE27-4B9D-95E9-4F658156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EF5-DC5E-4496-9DC6-811548EB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EC2-91A7-4CF3-84B5-52DDF6F2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EDF-876E-486B-B166-68D1EE86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919-76DE-434A-804A-AF903924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291-8EA1-455A-9E4E-DFC0D167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129B-EA95-492E-97DE-A7F0E051E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 Black"/>
              </a:rPr>
              <a:t>ДЕ</a:t>
            </a:r>
            <a:r>
              <a:rPr b="0" lang="ru-RU" sz="9600" spc="-1" strike="noStrike">
                <a:solidFill>
                  <a:srgbClr val="006600"/>
                </a:solidFill>
                <a:latin typeface="Arial Black"/>
              </a:rPr>
              <a:t>Т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20960" y="109440"/>
            <a:ext cx="5303880" cy="6640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72360" y="558972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е сест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рра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4032360" cy="6480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13640" y="5157720"/>
            <a:ext cx="243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ьчик в костю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оу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03760" cy="6480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588000" y="566100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с обруч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715080" cy="5629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93440" y="6165720"/>
            <a:ext cx="55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ин Моне на механической лошади.  Клод М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905360" cy="6480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451640" y="5734080"/>
            <a:ext cx="14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А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604800"/>
            <a:ext cx="6553440" cy="564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86520" y="6308640"/>
            <a:ext cx="40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Мики Морозова. В.А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189000"/>
            <a:ext cx="5678280" cy="604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86160" y="630864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с персиками. В.А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956120" cy="613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2000" y="6308640"/>
            <a:ext cx="44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 Поля  Пикассо. 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97160" y="109440"/>
            <a:ext cx="4549680" cy="6640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62680" y="558972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ьчик с соба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608360" cy="648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948360" y="544500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с лей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Pierre-Auguste Renoir. Young Boy on the Beach of Yport (Robert Nunès)."/>
          <p:cNvPicPr/>
          <p:nvPr/>
        </p:nvPicPr>
        <p:blipFill>
          <a:blip r:embed="rId1"/>
          <a:stretch/>
        </p:blipFill>
        <p:spPr>
          <a:xfrm>
            <a:off x="2719440" y="189000"/>
            <a:ext cx="4013280" cy="648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77080" y="522936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ьчик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ском бере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70120" y="189000"/>
            <a:ext cx="3803760" cy="648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59640" y="5589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с зо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юст Рену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0:31:50Z</dcterms:created>
  <dc:creator>Andrew</dc:creator>
  <dc:description/>
  <dc:language>en-US</dc:language>
  <cp:lastModifiedBy>Andrew</cp:lastModifiedBy>
  <dcterms:modified xsi:type="dcterms:W3CDTF">2004-01-30T00:32:26Z</dcterms:modified>
  <cp:revision>1</cp:revision>
  <dc:subject/>
  <dc:title>ДЕТИ</dc:title>
</cp:coreProperties>
</file>