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B16-AAEF-4136-9023-2AD49678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481-D190-412D-BFD2-309A2D1F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F32-26CA-4120-A7CA-BF1374D6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05A-A099-4F91-84A4-0E65F553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99B-C2EF-4016-B1D0-1A0FB2F1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303-A9BF-4C12-8650-BFEDA9F5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4E8-461D-4E51-BE8F-C24E4EAF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9C6-D94D-4F52-BCA0-0D5588D0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C9C-8468-4D5F-99F2-694A65B5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4BD-A33A-44C7-8216-C78B679F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A17-98CA-453F-B307-073FC68E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4EE-154C-4B88-9EF1-6BF9312B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CC82-CF66-4D77-90CF-D9A979071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 Black"/>
              </a:rPr>
              <a:t>ДЕ</a:t>
            </a:r>
            <a:r>
              <a:rPr b="0" lang="ru-RU" sz="9600" spc="-1" strike="noStrike">
                <a:solidFill>
                  <a:srgbClr val="006600"/>
                </a:solidFill>
                <a:latin typeface="Arial Black"/>
              </a:rPr>
              <a:t>Т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20960" y="109440"/>
            <a:ext cx="5303880" cy="6640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72360" y="558972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е сест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рра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032360" cy="6480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13640" y="5157720"/>
            <a:ext cx="24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чик в костю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оу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03760" cy="6480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88000" y="56610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с обруч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715080" cy="5629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93440" y="6165720"/>
            <a:ext cx="55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ин Моне на механической лошади.  Клод М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905360" cy="6480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451640" y="573408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А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604800"/>
            <a:ext cx="6553440" cy="564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86520" y="630864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Мики Морозова. В.А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189000"/>
            <a:ext cx="5678280" cy="604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6160" y="630864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с персиками. В.А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956120" cy="613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2000" y="630864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 Поля  Пикассо. 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97160" y="109440"/>
            <a:ext cx="4549680" cy="6640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62680" y="558972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чик с соба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608360" cy="648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948360" y="544500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с лей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ierre-Auguste Renoir. Young Boy on the Beach of Yport (Robert Nunès)."/>
          <p:cNvPicPr/>
          <p:nvPr/>
        </p:nvPicPr>
        <p:blipFill>
          <a:blip r:embed="rId1"/>
          <a:stretch/>
        </p:blipFill>
        <p:spPr>
          <a:xfrm>
            <a:off x="2719440" y="189000"/>
            <a:ext cx="4013280" cy="648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77080" y="522936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чик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ском бере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70120" y="189000"/>
            <a:ext cx="3803760" cy="648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59640" y="558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с зо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0:31:50Z</dcterms:created>
  <dc:creator>Andrew</dc:creator>
  <dc:description/>
  <dc:language>en-US</dc:language>
  <cp:lastModifiedBy>Andrew</cp:lastModifiedBy>
  <dcterms:modified xsi:type="dcterms:W3CDTF">2004-01-30T00:32:26Z</dcterms:modified>
  <cp:revision>1</cp:revision>
  <dc:subject/>
  <dc:title>ДЕТИ</dc:title>
</cp:coreProperties>
</file>