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62F-F6D4-4FA2-BA39-0A31B443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9BC-C1F5-4DFD-9BBA-9E970FB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19E-A9BB-4E10-8CC8-8F562331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764-9576-4F21-9619-71AE19C0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447-A374-49D1-9603-006D0D79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362-0A31-4659-B3C6-73C232F0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DC2-026F-4A66-9676-3147572C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DAA-F764-4F09-9752-32840E8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55C-150D-4AE5-B5C3-9EB60ED1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E729-39EC-4CDF-BA02-32DB9FE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2D4-0E06-480F-8BA7-3451BC2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0C-17D2-4D84-B943-EADA5C8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351-9171-4A17-94EF-4117FB6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C5B-FA82-454C-AAE8-86B9F8E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844-97B0-4227-93CA-2004C6F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284-59F3-445C-96B5-1AA0343B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BC4A-6F90-42F0-A597-17AF1F10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A0D5-7500-4D85-AB08-5483C0F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206C-2584-490E-8388-4720F204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B989-0935-473E-AF5F-AE48747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3BE1-F0F8-47B5-9E62-7D8C84B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01DE-9392-4A63-A640-7D84DA6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A0D-4FD5-4B39-93F5-33DD441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B732-44B3-405D-B31E-39EA8BDB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DD74-DEA2-4F75-AA26-70E8D9A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2E33-2702-4AE4-91EE-E473CF7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9BBF-6E81-482E-8D69-3A321E3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2377-AA2D-4D9B-B930-BF53B7B6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085F-52AB-429A-AF62-D4A569BE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1AB3-088F-4352-A4BB-D27826B7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D109-5847-4799-8AEC-2C34B3B7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5105-78C3-44E7-9F1D-DD674434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CEDF-4939-4D05-AB71-A7DEAEA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414-C377-4532-9A4E-D399C52C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6CC3-3405-47FF-A4A5-9B3142E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923E-0241-46E1-B7AC-0DFBA95A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B917-9ECC-401B-BF76-AAB480EE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4D85-9457-4BDC-836E-468DEFE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549A-9752-400D-8196-D81F0EB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1618-0F91-43F6-86E4-7BEDAAF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9CE4-DD25-47A7-8EC1-B92938A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D8F1-DC8E-44FA-B657-D472B1EC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9B4D-EEB7-4F72-8D6F-F4F3B416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251C-D6BD-4221-A2A6-651E7FD3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339-2B16-41A6-B335-288C524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0EA3-E178-42B7-9079-3F79D00F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C95B-7DF4-45B8-AE9C-E16AD89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1A95-A837-42AE-8F07-A3F8F739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A573-1ED8-4FB4-8548-CE6538A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2812-967D-4790-A9F4-54C1AC5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8AA3-8BF3-4285-A627-B3160AA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3564-FFA0-4499-BFE0-B2E1983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6E32-4382-4994-A36C-721183C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63F6-3A36-48AA-9BE3-75986F25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93AF-0E32-4D2C-AAF4-46106607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475-9BC3-48FD-87B3-0BAE751C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F5F2-8A9D-4A0B-9196-0FC3C919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CCE0C-F841-4447-83A4-C875F482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1980-E484-476E-88E3-1DC82C4C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5201-DCB4-471D-96DE-E9D202A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9413-EC74-4F7D-B21F-4BFF704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09D5-46E6-4F10-8055-1FFAB082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B8BE-623B-4FFA-B3CC-169B4F57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E5D0-F295-4772-9242-B3CBDED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39B6-06AB-49D4-B9D9-07BEA54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FF26-4F9D-4F83-994C-9E1C571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822-ADDC-4506-9497-02BA3C5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FA1B-3D7C-4C64-80E4-9CAB7B8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7AB0-C50F-4D9C-BA91-9DEB59D2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96EE-7E86-4C36-89B8-EA5956BA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810A-B244-40CC-AE54-F7559D89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E039-00BC-4A92-AAAD-8BB2300E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8958-2FA8-485B-8C9E-0981931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C633A-BB6A-4F47-992A-B283DFB2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E503-6746-4522-9ACE-38BBEDC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60D1-B300-4EB9-A1C9-23E105E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2016-FC59-4720-85FE-9B0CE5F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824-90EC-4DC0-B4A9-00BCB7E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BB7A-9817-4B44-B212-B622740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491D-63EE-4F8E-91D0-C433D4F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E89C8-CD41-45DA-B271-82BEC205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A347-3B99-457E-A585-1DAE932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619A-F70B-4C48-AA17-A2850D7B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15F-F7A5-4554-8534-A23A511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D09-BAC3-4309-A575-9B935B2C0B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6A1-20F9-4DB7-A6ED-95886EFDF8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732-06E9-4353-BC16-1B6D287373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93FF-0604-4F37-AAFC-025AF03F5A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AD07-1DFA-40AD-875E-6997D72B6495}" type="slidenum">
              <a:rPr b="0" lang="ru-RU" sz="1000" spc="-1" strike="noStrike">
                <a:solidFill>
                  <a:srgbClr val="46464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B37-69DB-4E52-8C36-C8334C0534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606-758A-447A-A524-9DD0851E24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bec1"/>
            </a:gs>
            <a:gs pos="100000">
              <a:srgbClr val="d4d4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3933360"/>
            <a:ext cx="8207280" cy="2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hnschrift SemiCondensed"/>
              </a:rPr>
              <a:t>Фразеологизмы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Bahnschrift"/>
              </a:rPr>
              <a:t>Лить крокодиловы слёзы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3" descr="5"/>
          <p:cNvPicPr/>
          <p:nvPr/>
        </p:nvPicPr>
        <p:blipFill>
          <a:blip r:embed="rId1"/>
          <a:stretch/>
        </p:blipFill>
        <p:spPr>
          <a:xfrm>
            <a:off x="1994040" y="2476440"/>
            <a:ext cx="5200560" cy="276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4356000" y="587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0" y="5170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ритворно, неискренне жал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Calibri Light"/>
              </a:rPr>
              <a:t>Шиворот-навыворот.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7640" y="549000"/>
            <a:ext cx="5551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В настоящее время эти слова кажутся безобидными, обозначая, что кто-то надел что-то наоборот, наизнанку. А ведь было время, когда они связывались с довольно позорным наказанием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«Шиворотом» в Московской Руси именовался расшитый воротник боярской одежды, один из знаков достоинства вельможи. Во времена Ивана Грозного пойманного боярина-вора сажали на тощую клячу спиной вперед, надевали на него одежду наизнанку, т.е.    шиворот- навыворот (наоборот) и возили по городу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349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Picture 2" descr="https://theslide.ru/img/thumbs/6da2de65b33a3414bab170dc70e47620-800x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3800" y="1341360"/>
            <a:ext cx="885636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- У меня всё как-то </a:t>
            </a:r>
            <a:r>
              <a:rPr b="1" i="1" lang="ru-RU" sz="3600" spc="-1" strike="noStrike">
                <a:solidFill>
                  <a:srgbClr val="232325"/>
                </a:solidFill>
                <a:latin typeface="Calibri"/>
              </a:rPr>
              <a:t>шиворот-навыворот </a:t>
            </a: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получается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- Устная речь— </a:t>
            </a:r>
            <a:r>
              <a:rPr b="1" i="1" lang="ru-RU" sz="3600" spc="-1" strike="noStrike">
                <a:solidFill>
                  <a:srgbClr val="232325"/>
                </a:solidFill>
                <a:latin typeface="Calibri"/>
              </a:rPr>
              <a:t>ахиллесова пята </a:t>
            </a: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изучающих иностранный язык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7" name="Picture 2" descr="https://fs.znanio.ru/d5af0e/17/96/1b822379d693f9c0bc7f0feab090615a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9" name="Picture 2" descr="https://fs01.urokimatematiki.ru/e/001e9b-00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95280" y="620640"/>
            <a:ext cx="828036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основами знаний по фразеологии рус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фразеологического запаса учеников, развитие умения работы с учебной информацией, развитие интеллектуальных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 синтаксической  роли фразеолог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тереса к изучению род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bec1"/>
            </a:gs>
            <a:gs pos="100000">
              <a:srgbClr val="d4d4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468360" y="1628640"/>
            <a:ext cx="7991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Меня зовут Дима. Ещё совсем недавно были мы дружны с Витькой, да так, что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водой не разольёшь</a:t>
            </a:r>
            <a:r>
              <a:rPr b="1" lang="ru-RU" sz="3200" spc="-1" strike="noStrike">
                <a:solidFill>
                  <a:srgbClr val="800000"/>
                </a:solidFill>
                <a:latin typeface="Bahnschrif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Но однажды он полез ко мне драться. Теперь мы с ним живём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как кошка с соб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Посоветуйте, ребята, как мне вернуть друга, ведь я без него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как без рук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325440" y="76500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3537"/>
                </a:solidFill>
                <a:latin typeface="Bahnschrift SemiBold"/>
              </a:rPr>
              <a:t>Здравствуйте,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Водой не разольёшь  -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очень дружны, неразлучны, всегда вместе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Жить как кошка с собакой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ссориться, враждовать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Как без рук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–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совершенно беспомощен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650880"/>
            <a:ext cx="7499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Calibri"/>
              </a:rPr>
              <a:t> </a:t>
            </a:r>
            <a:r>
              <a:rPr b="1" i="1" lang="ru-RU" sz="6000" spc="-1" strike="noStrike" u="sng">
                <a:solidFill>
                  <a:srgbClr val="800000"/>
                </a:solidFill>
                <a:uFillTx/>
                <a:latin typeface="Calibri"/>
              </a:rPr>
              <a:t>Фразеологизмы </a:t>
            </a:r>
            <a:r>
              <a:rPr b="1" i="1" lang="ru-RU" sz="6000" spc="-1" strike="noStrike">
                <a:solidFill>
                  <a:srgbClr val="800000"/>
                </a:solidFill>
                <a:latin typeface="Calibri"/>
              </a:rPr>
              <a:t>– </a:t>
            </a:r>
            <a:endParaRPr b="0" lang="en-US" sz="6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"/>
              </a:rPr>
              <a:t>это устойчивые сочетания слов, близкие по лексическому значению одному слову.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Bahnschrift"/>
              </a:rPr>
              <a:t>Картинная галерея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Picture 3" descr="19"/>
          <p:cNvPicPr/>
          <p:nvPr/>
        </p:nvPicPr>
        <p:blipFill>
          <a:blip r:embed="rId1"/>
          <a:stretch/>
        </p:blipFill>
        <p:spPr>
          <a:xfrm>
            <a:off x="3112920" y="1846440"/>
            <a:ext cx="2962440" cy="4022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2351160" y="5183280"/>
            <a:ext cx="87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79280" y="560232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179280" y="5602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Считать ворон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4284720" y="57610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здельничать, глядеть по сторо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Писать неразборчиво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8" name="Picture 3" descr="8"/>
          <p:cNvPicPr/>
          <p:nvPr/>
        </p:nvPicPr>
        <p:blipFill>
          <a:blip r:embed="rId1"/>
          <a:stretch/>
        </p:blipFill>
        <p:spPr>
          <a:xfrm>
            <a:off x="2292480" y="2251080"/>
            <a:ext cx="4603680" cy="321300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3"/>
          <p:cNvSpPr/>
          <p:nvPr/>
        </p:nvSpPr>
        <p:spPr>
          <a:xfrm>
            <a:off x="2627280" y="573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ак курица ла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Льёт как из ведр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1" name="Picture 3" descr="7"/>
          <p:cNvPicPr/>
          <p:nvPr/>
        </p:nvPicPr>
        <p:blipFill>
          <a:blip r:embed="rId1"/>
          <a:stretch/>
        </p:blipFill>
        <p:spPr>
          <a:xfrm>
            <a:off x="2128680" y="2114640"/>
            <a:ext cx="4930920" cy="34862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179280" y="5315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7b789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Идёт проливной 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Сесть в галошу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4" name="Picture 3" descr="18"/>
          <p:cNvPicPr/>
          <p:nvPr/>
        </p:nvPicPr>
        <p:blipFill>
          <a:blip r:embed="rId1"/>
          <a:stretch/>
        </p:blipFill>
        <p:spPr>
          <a:xfrm>
            <a:off x="2274840" y="2174760"/>
            <a:ext cx="4638600" cy="33656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0" y="54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Оказаться в неловком по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0:39:00Z</dcterms:created>
  <dc:creator>1</dc:creator>
  <dc:description/>
  <dc:language>en-US</dc:language>
  <cp:lastModifiedBy>Мария Пахомова</cp:lastModifiedBy>
  <dcterms:modified xsi:type="dcterms:W3CDTF">2022-05-10T22:11:03Z</dcterms:modified>
  <cp:revision>64</cp:revision>
  <dc:subject/>
  <dc:title>Картинная галерея</dc:title>
</cp:coreProperties>
</file>