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D5E-232A-4ABA-8014-B1BF2650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03A-DC35-4844-945D-B8E054D3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AE2-120D-46F5-B64F-0BD3067E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D0E-8F26-4330-A512-4ED41D4B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DE13-1175-4F3D-A8CC-5FA9631F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B8C5-B433-4D9D-8EDA-11FE2F2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7262-1732-4FD7-88B7-E28AC1CF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9D87-760E-4E5F-A88B-9283AF1F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8148-C6F0-4196-A0B6-54139EE5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2E43-4FFB-4CEA-9462-D30B447F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5FE5-A9E7-4D04-8F65-D9E0691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084-EA03-4A20-AF8E-FF05B698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5050-C36D-437A-8703-47C4AEFB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02FA-1A98-4C37-B59A-EC76DB0E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25F0-1C60-4EB0-B73A-703BACB0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DD00-7CAF-4B74-83B9-0DCE7D8C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3DE6-323C-4EAB-9556-B5BC954D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DC9D-FF65-48D2-AA94-560292C9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C7786-116E-4994-9EBA-0F56442A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D5837-F6C2-44C7-9E4F-053B005B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8CF7-50C4-43F7-B4D1-20CED41D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5CD8E-291D-4A83-B1D2-52A9A899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067-1BE3-4F27-A851-A990D7C2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E1C1-2AB3-40FA-A3FB-3A87CC97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C99C-E741-43A7-A647-75D1722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8E07-B91B-4D4F-A674-ACB06F2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9748-8406-4D5C-AD01-2CAC28F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E91AF-9855-4A02-9EA5-CFBBB4EE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4728-9CE5-455F-889C-06B5D099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5272-8086-4B0A-8961-6D7FFA1F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3895-3FD9-4765-817F-10DA9EB7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E415D-4BDF-4D2B-AF86-51167042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6A69-6016-4FC0-B725-8403FD22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30C-4A00-4C39-97B6-3DD70248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C463F-6A81-4FA2-B102-97AE5978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CA37-E370-44C8-8C09-FBD077B0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7D78-A12D-489A-ACEA-CFD91214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64F7B-92D7-4089-9CA3-1C9F6BC7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05E96-AF37-4CFF-A81A-F02E4840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67E9-8D0A-426E-95EA-3CB276CE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BA51-C6B6-4988-90E8-CDFDAE22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B856-7740-4C88-B3DB-37B42C56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D62E-1A19-4299-B601-B1E34810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2CA26-0D93-47AF-813C-B5E0F144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3A4-0841-442A-9672-065E548C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B63D1-5DC7-49FB-9882-0A7F98A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88350-D5CC-4735-BA55-255D3BD2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D0E50-E750-4340-8B75-488F87BB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A09A-4A7E-4F8C-9EB2-F5BBCBB2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F92A-8953-47BE-A3B7-36BA2687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7CB6C-D760-49BC-A7D7-D2BAC87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1498-EEFE-4DC8-9359-57DD5B27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FC007-4BA5-47BA-B647-0EB0B001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EE187-0090-4AB4-B6DC-069A6FE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3E8F4-AC26-4343-8F9D-CB9E4D8B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2DF-7BD9-4811-B8B7-2C4109DF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AA136-995A-4E7D-931F-6240FFF7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7B2A7-6BC5-4FB4-BFE3-64845CE6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C2853-ECFB-4D61-A566-4E86028A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E1641-0BD5-48CC-BAFD-43586B82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95D1F-18ED-4C8E-981B-A87581AE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93F38-8496-447F-B0B4-BC1EA6A1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57C49-224F-4312-A2FB-6B901E76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89BD-1537-4C87-8091-9C72C0EF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2B326-AFF7-470B-955A-312AA0F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FA446-8510-4AE5-BADD-121CAED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529-0A5F-4F9F-8F36-C9A7905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A8B5-2C1B-4F99-B193-C8B78ACA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03A7A-C75C-4599-91CD-3127A585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95BE3-2120-49FC-8AD4-41284ED7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EEC5-3D1B-486C-98CA-A0B0680E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90EE0-4E6E-4DBB-A807-F6B3E88B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A3E20-B34C-4E87-BEC4-6C37E1B6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4CC4-60DC-422E-901B-C54DA3C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5CA77-276F-4216-B597-4858298B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36487-7343-443A-8284-B5DBF98A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B1FF-E2A1-4CE7-BE59-E64080F6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0FF-8033-4DAB-A185-114DAED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E13A-3709-4A14-9DDB-3C0F0DD8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9410A-1660-44E0-BF9C-B386750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3A040-FB97-48BC-B511-2A9CA9C5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97E78-3499-4602-BB9A-99E29422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39786-54B3-4E2E-811D-DD1CB847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D8D-1846-432D-ADCF-9FE3546B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3CCF-AE17-4B35-A3F8-920824ADF4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940D-6A94-4361-A37B-93E7BED65D3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3771-6355-48FF-AAFE-24C46AE887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EAD9-2DC0-4D1C-8E4B-AF8BF417F2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4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60A0-62DF-414C-BE46-E43F6FF8DDA8}" type="slidenum">
              <a:rPr b="0" lang="ru-RU" sz="1000" spc="-1" strike="noStrike">
                <a:solidFill>
                  <a:srgbClr val="46464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817F-C18E-4C1E-8E66-009CE7191A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9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618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9144000" cy="63360"/>
          </a:xfrm>
          <a:prstGeom prst="rect">
            <a:avLst/>
          </a:prstGeom>
          <a:solidFill>
            <a:srgbClr val="92a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75B3-77A2-4EDC-AAFF-05A44933803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bec1"/>
            </a:gs>
            <a:gs pos="100000">
              <a:srgbClr val="d4d4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3933360"/>
            <a:ext cx="8207280" cy="2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Bahnschrift SemiCondensed"/>
              </a:rPr>
              <a:t>Фразеологизмы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00000"/>
                </a:solidFill>
                <a:latin typeface="Bahnschrift"/>
              </a:rPr>
              <a:t>Лить крокодиловы слёзы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7" name="Picture 3" descr="5"/>
          <p:cNvPicPr/>
          <p:nvPr/>
        </p:nvPicPr>
        <p:blipFill>
          <a:blip r:embed="rId1"/>
          <a:stretch/>
        </p:blipFill>
        <p:spPr>
          <a:xfrm>
            <a:off x="1994040" y="2476440"/>
            <a:ext cx="5200560" cy="2762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4356000" y="58770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0" y="5170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Притворно, неискренне жало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04040"/>
                </a:solidFill>
                <a:uFillTx/>
                <a:latin typeface="Calibri Light"/>
              </a:rPr>
              <a:t>Шиворот-навыворот.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7640" y="549000"/>
            <a:ext cx="5551560" cy="633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404040"/>
                </a:solidFill>
                <a:latin typeface="Calibri"/>
              </a:rPr>
              <a:t>В настоящее время эти слова кажутся безобидными, обозначая, что кто-то надел что-то наоборот, наизнанку. А ведь было время, когда они связывались с довольно позорным наказанием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404040"/>
                </a:solidFill>
                <a:latin typeface="Calibri"/>
              </a:rPr>
              <a:t>«Шиворотом» в Московской Руси именовался расшитый воротник боярской одежды, один из знаков достоинства вельможи. Во времена Ивана Грозного пойманного боярина-вора сажали на тощую клячу спиной вперед, надевали на него одежду наизнанку, т.е.    шиворот- навыворот (наоборот) и возили по городу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5651640" y="765000"/>
            <a:ext cx="3492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4" name="Picture 2" descr="https://theslide.ru/img/thumbs/6da2de65b33a3414bab170dc70e47620-800x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53800" y="1341360"/>
            <a:ext cx="885636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5"/>
                </a:solidFill>
                <a:latin typeface="Calibri"/>
              </a:rPr>
              <a:t>- У меня всё как-то </a:t>
            </a:r>
            <a:r>
              <a:rPr b="1" i="1" lang="ru-RU" sz="3600" spc="-1" strike="noStrike">
                <a:solidFill>
                  <a:srgbClr val="232325"/>
                </a:solidFill>
                <a:latin typeface="Calibri"/>
              </a:rPr>
              <a:t>шиворот-навыворот </a:t>
            </a:r>
            <a:r>
              <a:rPr b="0" lang="ru-RU" sz="3600" spc="-1" strike="noStrike">
                <a:solidFill>
                  <a:srgbClr val="232325"/>
                </a:solidFill>
                <a:latin typeface="Calibri"/>
              </a:rPr>
              <a:t>получается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32325"/>
                </a:solidFill>
                <a:latin typeface="Calibri"/>
              </a:rPr>
              <a:t>- Устная речь— </a:t>
            </a:r>
            <a:r>
              <a:rPr b="1" i="1" lang="ru-RU" sz="3600" spc="-1" strike="noStrike">
                <a:solidFill>
                  <a:srgbClr val="232325"/>
                </a:solidFill>
                <a:latin typeface="Calibri"/>
              </a:rPr>
              <a:t>ахиллесова пята </a:t>
            </a:r>
            <a:r>
              <a:rPr b="0" lang="ru-RU" sz="3600" spc="-1" strike="noStrike">
                <a:solidFill>
                  <a:srgbClr val="232325"/>
                </a:solidFill>
                <a:latin typeface="Calibri"/>
              </a:rPr>
              <a:t>изучающих иностранный язык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7" name="Picture 2" descr="https://fs.znanio.ru/d5af0e/17/96/1b822379d693f9c0bc7f0feab090615a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39" name="Picture 2" descr="https://fs01.urokimatematiki.ru/e/001e9b-00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395280" y="620640"/>
            <a:ext cx="8280360" cy="56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основами знаний по фразеологии русского я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фразеологического запаса учеников, развитие умения работы с учебной информацией, развитие интеллектуальных ум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 синтаксической  роли фразеологиз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нтереса к изучению род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3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bec1"/>
            </a:gs>
            <a:gs pos="100000">
              <a:srgbClr val="d4d4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468360" y="1628640"/>
            <a:ext cx="7991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Меня зовут Дима. Ещё совсем недавно были мы дружны с Витькой, да так, что 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Bahnschrift"/>
              </a:rPr>
              <a:t>водой не разольёшь</a:t>
            </a:r>
            <a:r>
              <a:rPr b="1" lang="ru-RU" sz="3200" spc="-1" strike="noStrike">
                <a:solidFill>
                  <a:srgbClr val="800000"/>
                </a:solidFill>
                <a:latin typeface="Bahnschrif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   </a:t>
            </a: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Но однажды он полез ко мне драться. Теперь мы с ним живём 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Bahnschrift"/>
              </a:rPr>
              <a:t>как кошка с соба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   </a:t>
            </a: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Посоветуйте, ребята, как мне вернуть друга, ведь я без него 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Bahnschrift"/>
              </a:rPr>
              <a:t>как без рук</a:t>
            </a:r>
            <a:r>
              <a:rPr b="1" lang="ru-RU" sz="3200" spc="-1" strike="noStrike">
                <a:solidFill>
                  <a:srgbClr val="353537"/>
                </a:solidFill>
                <a:latin typeface="Bahnschrif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"/>
          <p:cNvSpPr/>
          <p:nvPr/>
        </p:nvSpPr>
        <p:spPr>
          <a:xfrm>
            <a:off x="325440" y="765000"/>
            <a:ext cx="55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3537"/>
                </a:solidFill>
                <a:latin typeface="Bahnschrift SemiBold"/>
              </a:rPr>
              <a:t>Здравствуйте, ребя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0800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Водой не разольёшь  -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0" lang="ru-RU" sz="3600" spc="-1" strike="noStrike" u="sng">
                <a:solidFill>
                  <a:srgbClr val="404040"/>
                </a:solidFill>
                <a:uFillTx/>
                <a:latin typeface="Calibri"/>
              </a:rPr>
              <a:t>очень дружны, неразлучны, всегда вместе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Жить как кошка с собакой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3600" spc="-1" strike="noStrike" u="sng">
                <a:solidFill>
                  <a:srgbClr val="404040"/>
                </a:solidFill>
                <a:uFillTx/>
                <a:latin typeface="Calibri"/>
              </a:rPr>
              <a:t>ссориться, враждовать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Как без рук </a:t>
            </a: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– 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ru-RU" sz="3600" spc="-1" strike="noStrike" u="sng">
                <a:solidFill>
                  <a:srgbClr val="404040"/>
                </a:solidFill>
                <a:uFillTx/>
                <a:latin typeface="Calibri"/>
              </a:rPr>
              <a:t>совершенно беспомощен.</a:t>
            </a: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650880"/>
            <a:ext cx="74995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800000"/>
                </a:solidFill>
                <a:uFillTx/>
                <a:latin typeface="Calibri"/>
              </a:rPr>
              <a:t> </a:t>
            </a:r>
            <a:r>
              <a:rPr b="1" i="1" lang="ru-RU" sz="6000" spc="-1" strike="noStrike" u="sng">
                <a:solidFill>
                  <a:srgbClr val="800000"/>
                </a:solidFill>
                <a:uFillTx/>
                <a:latin typeface="Calibri"/>
              </a:rPr>
              <a:t>Фразеологизмы </a:t>
            </a:r>
            <a:r>
              <a:rPr b="1" i="1" lang="ru-RU" sz="6000" spc="-1" strike="noStrike">
                <a:solidFill>
                  <a:srgbClr val="800000"/>
                </a:solidFill>
                <a:latin typeface="Calibri"/>
              </a:rPr>
              <a:t>– </a:t>
            </a:r>
            <a:endParaRPr b="0" lang="en-US" sz="6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4040"/>
                </a:solidFill>
                <a:latin typeface="Calibri"/>
              </a:rPr>
              <a:t>это устойчивые сочетания слов, близкие по лексическому значению одному слову.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6f6f7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Bahnschrift"/>
              </a:rPr>
              <a:t>Картинная галерея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2" name="Picture 3" descr="19"/>
          <p:cNvPicPr/>
          <p:nvPr/>
        </p:nvPicPr>
        <p:blipFill>
          <a:blip r:embed="rId1"/>
          <a:stretch/>
        </p:blipFill>
        <p:spPr>
          <a:xfrm>
            <a:off x="3112920" y="1846440"/>
            <a:ext cx="2962440" cy="4022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2351160" y="5183280"/>
            <a:ext cx="878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79280" y="5602320"/>
            <a:ext cx="4392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"/>
          <p:cNvSpPr/>
          <p:nvPr/>
        </p:nvSpPr>
        <p:spPr>
          <a:xfrm>
            <a:off x="179280" y="5602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Считать ворон </a:t>
            </a:r>
            <a:r>
              <a:rPr b="1" i="1" lang="en-US" sz="3600" spc="-1" strike="noStrike">
                <a:solidFill>
                  <a:srgbClr val="8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"/>
          <p:cNvSpPr/>
          <p:nvPr/>
        </p:nvSpPr>
        <p:spPr>
          <a:xfrm>
            <a:off x="4284720" y="57610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ездельничать, глядеть по сторон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ahnschrift"/>
              </a:rPr>
              <a:t>Писать неразборчиво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8" name="Picture 3" descr="8"/>
          <p:cNvPicPr/>
          <p:nvPr/>
        </p:nvPicPr>
        <p:blipFill>
          <a:blip r:embed="rId1"/>
          <a:stretch/>
        </p:blipFill>
        <p:spPr>
          <a:xfrm>
            <a:off x="2292480" y="2251080"/>
            <a:ext cx="4603680" cy="321300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3"/>
          <p:cNvSpPr/>
          <p:nvPr/>
        </p:nvSpPr>
        <p:spPr>
          <a:xfrm>
            <a:off x="2627280" y="5732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Как курица лап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efea"/>
            </a:gs>
            <a:gs pos="100000">
              <a:srgbClr val="b2c0c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ahnschrift"/>
              </a:rPr>
              <a:t>Льёт как из ведра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1" name="Picture 3" descr="7"/>
          <p:cNvPicPr/>
          <p:nvPr/>
        </p:nvPicPr>
        <p:blipFill>
          <a:blip r:embed="rId1"/>
          <a:stretch/>
        </p:blipFill>
        <p:spPr>
          <a:xfrm>
            <a:off x="2128680" y="2114640"/>
            <a:ext cx="4930920" cy="34862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179280" y="53150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7b789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Идёт проливной 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Bahnschrift"/>
              </a:rPr>
              <a:t>Сесть в галошу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4" name="Picture 3" descr="18"/>
          <p:cNvPicPr/>
          <p:nvPr/>
        </p:nvPicPr>
        <p:blipFill>
          <a:blip r:embed="rId1"/>
          <a:stretch/>
        </p:blipFill>
        <p:spPr>
          <a:xfrm>
            <a:off x="2274840" y="2174760"/>
            <a:ext cx="4638600" cy="33656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4"/>
          <p:cNvSpPr/>
          <p:nvPr/>
        </p:nvSpPr>
        <p:spPr>
          <a:xfrm>
            <a:off x="0" y="5459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Оказаться в неловком полож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0:39:00Z</dcterms:created>
  <dc:creator>1</dc:creator>
  <dc:description/>
  <dc:language>en-US</dc:language>
  <cp:lastModifiedBy>Мария Пахомова</cp:lastModifiedBy>
  <dcterms:modified xsi:type="dcterms:W3CDTF">2022-05-10T22:11:03Z</dcterms:modified>
  <cp:revision>64</cp:revision>
  <dc:subject/>
  <dc:title>Картинная галерея</dc:title>
</cp:coreProperties>
</file>