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516B-3FFC-497B-8A82-3AE0DF3D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0F81-AC63-4F32-99E9-CF56905A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19DF-3F7E-4F23-8DC3-9D2E9D45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E524-D80B-45FA-A2F8-7E3C3473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8508-D867-44B7-A9EE-AE0EB82D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E5F3-0C1F-4BC0-8ACA-8FE0BC63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3E6A-EA81-42BB-8403-89F5F79D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FC4C-7553-48A8-9945-386879E4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DFF4-81CE-4EFC-BD04-0A4B09F7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AE6F-A4E7-4BCA-AE55-8D661FB5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A9BC-6E14-4721-9A25-1CA586BA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96DE-0EA0-45FD-85CE-7A16B357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9085-182B-4FEE-B7C1-99A41A9C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3D39-ED6E-4818-AB2E-22628E22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2765-043A-40EF-BBC4-E9E4391F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8338-C477-453B-BED3-46BCEDD0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1566-0E6F-40DC-9626-7BC95D8C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04825-48EC-46C4-9A47-3511676E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D5C8C-4F68-4ED5-8896-5E4725FB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05755-0D68-448D-9E9D-BA648DD9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94F75-C345-4F2D-ACAA-98225082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FBB67-58CA-469C-995C-8752137D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5E4C-A436-4FF2-99A7-38A91F8A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7F7F6-B14A-457C-A4F3-F0AD9857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9096C-5185-4D7D-AC78-D8BC6551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C07F9-EAE5-432A-B817-0D2DB0BC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9778C-649C-4D24-B50B-A5F31318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59A79-BB24-4C1F-899A-F8A7B0AB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7762A-DBAC-4612-8046-0C3F7938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6FF97-6F33-4F72-9164-11ACD43E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51C05-7511-40D8-8EBD-F46AF6EC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093D6-516F-4C91-BEF6-29E0CAAF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25A8D-EACD-4925-B316-80365377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4B75-5F29-4206-881F-38FF15EE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7A2BC-C4C1-4134-AEF9-8AB7BA2C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136E9-1A0C-4DE5-A5C4-87D2E8EA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0C5FA-930F-41A9-A90B-36B8D046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7C640-1C2A-4AAA-B855-BC279264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105A4-3600-453C-BE1C-1E6F2462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8F971-40DE-490D-8E0D-F3E115AC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29E65-3382-4A46-91DD-806E5C1B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1A2C4-12D3-4FDA-B99F-7659F9B4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9A9F3-1085-4DF2-A2CD-C60EEA82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7CE1B-9CA8-4183-BEF2-0E451A27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B4D6-5E2C-491E-AC98-8452780F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0CD0A-D205-4F75-9EFF-86CFD71F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BD713-A6F6-4D5B-A50B-2D815B5E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36F82-40D5-43A3-BA31-B0765C8B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F3755-D97B-4AF3-9DA4-ECE05502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17A6D-61E9-49E0-8AB1-65B79DF5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97263-CBFE-4A97-BE86-CA129AD6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86D17-19B8-4933-B656-F5CD7AEE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C904D-1C03-488B-8BB1-CD81F736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D4A29-0C13-457D-8E35-52BB3F87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68BA4-CB2A-4804-B9D7-04B1C838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01CF-58EF-43C7-8AB5-81FC7D30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8F239-0FB4-4DE4-BE5F-3B60516A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9DEA-7C2A-4031-AEFA-3A12DFA6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99AE-9F34-4F36-9C4E-37813A81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0E60-8886-450C-A102-3FECD356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474D-5227-4D5B-BDC0-5308ADABE33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4700-AA73-48C8-B927-BBE27863B60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5C46-8337-48EF-A462-0BFE7015E51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3D9B-ECD5-481E-A751-1F3EBC6800B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CAC5-0F50-49B9-A32C-E67ADE7B1EA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Упражнения для развития мелкой моторики пальцев рук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гры с пальчиками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0" name="Заголовок 1"/>
          <p:cNvSpPr/>
          <p:nvPr/>
        </p:nvSpPr>
        <p:spPr>
          <a:xfrm>
            <a:off x="500040" y="21420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униципальное бюджетное дошкольное образовательное учреждение детский сад № 7 комбинированного вида ст. Старощербинов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одзаголовок 2"/>
          <p:cNvSpPr/>
          <p:nvPr/>
        </p:nvSpPr>
        <p:spPr>
          <a:xfrm>
            <a:off x="4000680" y="5643720"/>
            <a:ext cx="45432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Вайс М.Н., учитель-логопе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304344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Осень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00720" y="1357200"/>
            <a:ext cx="4357440" cy="4873680"/>
          </a:xfrm>
          <a:prstGeom prst="rect">
            <a:avLst/>
          </a:prstGeom>
          <a:noFill/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Мальчик –пальчик  где ты был?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Долго по лесу ходил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Я с мизинцем ел малинку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 безымянным ел калинку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Ел со средним землянику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 указательным клубнику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гибаем пальчики с каждым произнесённым словом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4" name="Picture 8" descr="https://bipbap.ru/wp-content/uploads/2019/09/4df7819750c113ce9ba8bc87c615f1df.jpeg"/>
          <p:cNvPicPr/>
          <p:nvPr/>
        </p:nvPicPr>
        <p:blipFill>
          <a:blip r:embed="rId1"/>
          <a:stretch/>
        </p:blipFill>
        <p:spPr>
          <a:xfrm>
            <a:off x="357120" y="2071800"/>
            <a:ext cx="3924360" cy="2763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633240" y="853920"/>
            <a:ext cx="2659320" cy="798840"/>
          </a:xfrm>
          <a:prstGeom prst="rect">
            <a:avLst/>
          </a:prstGeom>
          <a:ln w="0">
            <a:noFill/>
          </a:ln>
        </p:spPr>
      </p:pic>
      <p:pic>
        <p:nvPicPr>
          <p:cNvPr id="236" name="Содержимое 2" descr=""/>
          <p:cNvPicPr/>
          <p:nvPr/>
        </p:nvPicPr>
        <p:blipFill>
          <a:blip r:embed="rId2"/>
          <a:stretch/>
        </p:blipFill>
        <p:spPr>
          <a:xfrm>
            <a:off x="4290840" y="1395360"/>
            <a:ext cx="4578480" cy="465768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6"/>
          <p:cNvSpPr/>
          <p:nvPr/>
        </p:nvSpPr>
        <p:spPr>
          <a:xfrm>
            <a:off x="17316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17316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0"/>
          <p:cNvSpPr/>
          <p:nvPr/>
        </p:nvSpPr>
        <p:spPr>
          <a:xfrm>
            <a:off x="17316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2" descr="https://st2.depositphotos.com/2100113/7410/v/950/depositphotos_74103135-stock-illustration-cartoon-cloud-blows-wind.jpg"/>
          <p:cNvPicPr/>
          <p:nvPr/>
        </p:nvPicPr>
        <p:blipFill>
          <a:blip r:embed="rId3"/>
          <a:stretch/>
        </p:blipFill>
        <p:spPr>
          <a:xfrm>
            <a:off x="571680" y="2357280"/>
            <a:ext cx="3600360" cy="22147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714240"/>
            <a:ext cx="2928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Лес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2" name="Содержимое 2" descr=""/>
          <p:cNvPicPr/>
          <p:nvPr/>
        </p:nvPicPr>
        <p:blipFill>
          <a:blip r:embed="rId1"/>
          <a:stretch/>
        </p:blipFill>
        <p:spPr>
          <a:xfrm>
            <a:off x="4548240" y="1805040"/>
            <a:ext cx="4241880" cy="4674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2" descr="https://avatars.mds.yandex.net/i?id=a872c93432ed76581dba8abb3f5ed875-4893015-images-thumbs&amp;n=13"/>
          <p:cNvPicPr/>
          <p:nvPr/>
        </p:nvPicPr>
        <p:blipFill>
          <a:blip r:embed="rId2"/>
          <a:stretch/>
        </p:blipFill>
        <p:spPr>
          <a:xfrm>
            <a:off x="285840" y="2000160"/>
            <a:ext cx="4211640" cy="30067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33289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Calibri"/>
              </a:rPr>
              <a:t>Огород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0" y="1714680"/>
            <a:ext cx="4324320" cy="36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днажды хозяйка с базара пришла,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Хозяйка с базара домой принесла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апусту, картошку, морковку, горох,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Редиску и свёклу – ох!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( при перечислении овощей загибаем поочерёдно пальчики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6" name="Picture 6" descr="https://cf2.ppt-online.org/files2/slide/j/J51803Z6oTVehiA4KvLBycXnIYzfN2UOrWCFq9/slide-1.jpg"/>
          <p:cNvPicPr/>
          <p:nvPr/>
        </p:nvPicPr>
        <p:blipFill>
          <a:blip r:embed="rId1"/>
          <a:stretch/>
        </p:blipFill>
        <p:spPr>
          <a:xfrm>
            <a:off x="214200" y="1928880"/>
            <a:ext cx="417672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1:32:29Z</dcterms:created>
  <dc:creator>Alexander G</dc:creator>
  <dc:description/>
  <dc:language>en-US</dc:language>
  <cp:lastModifiedBy>USER</cp:lastModifiedBy>
  <dcterms:modified xsi:type="dcterms:W3CDTF">2022-05-11T08:29:03Z</dcterms:modified>
  <cp:revision>10</cp:revision>
  <dc:subject/>
  <dc:title>Игры с пальчиками</dc:title>
</cp:coreProperties>
</file>