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F03-6580-4C4E-A783-685CFBD6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6F2-D1F0-4B90-B9B3-D349749C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140-792B-4A1C-A062-65545BD6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51A-9892-4EB5-A194-945D1E50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F830-F747-478D-A2EB-A01E6490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BC24-7A4A-44E8-88FB-D9FF792A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452B-3986-4857-AF3A-BE420727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064D-2F68-4CC7-A03B-9190F0FC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DADE-52F1-47B3-A6A0-F7F6E064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A42C-7515-4A54-B114-E7720265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7FF8-7511-44DB-AFF1-4D4A9A8E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720-5AC5-48F8-9A00-8BE754FC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5E47-34E9-4680-96DF-16B477BE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D41B-D50B-418E-BE79-40D39189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9F9F-28AD-406D-AD59-5746322B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ADB9-8543-458C-9AC4-3A75316D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A4C9-8B25-4C62-9662-F2E0C319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D0E0-E6FE-453B-B102-6D20D177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D23A-39CE-43DA-9091-5781C72B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8303-9035-4E0D-B395-7E4297CB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F6803-C3D7-4122-8968-44F28A94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B118-B21C-4072-9590-8C9A7C85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BD2-2D85-4027-B395-788568D5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D0B3-E178-4809-984C-989FD99C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F907-DC75-4670-97B3-6849C3F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BB581-DB10-436D-ADBC-B560F84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B1791-A10B-4355-B282-5F4B5A03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5F46-E010-49EC-9269-13312A0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55D72-667A-4F00-9AFE-132D7102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8474-31CF-48EF-B463-27F1AB1C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C79DC-577A-43D1-BBEF-AAFD1DBB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F2FA-3BB5-4F3A-8080-EA6D8A15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EC6B-A554-49BA-AC07-8453F82C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AAD-505A-462B-B901-56BD3935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9145A-8118-466A-A03C-8A6DB5C3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CD2B-4168-49FF-BED7-D7B5160B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54469-1728-4FA7-BC66-1097912F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6DEF-A0F2-4DFF-A26C-A73EA04F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C12B-41B9-4E1F-804F-B1240F40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D362-EBDD-4649-9AC0-9BECF4FD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3B84-0C8F-4F40-980F-2DCC7612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E0A3-B0E3-4F35-829B-072C29ED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E4655-108A-43EB-8943-CE96EC7C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AA507-21F6-43A8-A20D-CAD4CD2A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A6C-EB12-4C8A-952F-F9231B13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90E76-6B87-453D-A9E3-ED3EC04A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ACC1-C3FF-40E8-BB3B-E0B5232C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42B7D-1D72-42EB-B1FA-6274347B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C8F44-1DF5-4380-9C60-4F7BF507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81302-5077-4BD4-AE24-F3EC6632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75DC3-353F-4610-9CE1-2015B49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ED5BF-B9DF-4BCC-A96A-F740F30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7ABEC-9EE9-4E58-9733-E8F9A30F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8196-787E-4D6C-BDBB-0313EF6D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A0C9-4C5A-4415-BD23-7C1B7450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321-6FC7-44DB-B624-C7F90EE4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D142-2D85-4379-9652-73472AFE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F69-8FD4-48E1-8BDC-7A548730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7D0-ED7D-4FB1-AB6B-48E19F8D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D52-8306-4C01-B5FF-C668D6E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9B1C-3FC1-4A56-BEEC-BE1CB46FD47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3F04-7AF7-4BA5-8250-C702D6EFCE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DE1D-ACAF-4BE2-ACE3-BC8AF056807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ED5E-9FF4-41E7-AFF3-6024474373B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BB35-F3DF-4148-BE4D-D405D547908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Упражнения для развития мелкой моторики пальцев рук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гры с пальчиками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500040" y="21420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 образовательное учреждение детский сад № 7 комбинированного вида ст. Старощербинов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4000680" y="5643720"/>
            <a:ext cx="45432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Вайс М.Н., учитель-логопе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30434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Осень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00720" y="1357200"/>
            <a:ext cx="4357440" cy="4873680"/>
          </a:xfrm>
          <a:prstGeom prst="rect">
            <a:avLst/>
          </a:prstGeom>
          <a:noFill/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Мальчик –пальчик  где ты был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Долго по лесу ходил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Я с мизинцем ел малинку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 безымянным ел калинку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л со средним землянику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 указательным клубнику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гибаем пальчики с каждым произнесённым словом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Picture 8" descr="https://bipbap.ru/wp-content/uploads/2019/09/4df7819750c113ce9ba8bc87c615f1df.jpeg"/>
          <p:cNvPicPr/>
          <p:nvPr/>
        </p:nvPicPr>
        <p:blipFill>
          <a:blip r:embed="rId1"/>
          <a:stretch/>
        </p:blipFill>
        <p:spPr>
          <a:xfrm>
            <a:off x="357120" y="2071800"/>
            <a:ext cx="3924360" cy="2763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633240" y="853920"/>
            <a:ext cx="2659320" cy="79884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2" descr=""/>
          <p:cNvPicPr/>
          <p:nvPr/>
        </p:nvPicPr>
        <p:blipFill>
          <a:blip r:embed="rId2"/>
          <a:stretch/>
        </p:blipFill>
        <p:spPr>
          <a:xfrm>
            <a:off x="4290840" y="1395360"/>
            <a:ext cx="4578480" cy="465768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https://st2.depositphotos.com/2100113/7410/v/950/depositphotos_74103135-stock-illustration-cartoon-cloud-blows-wind.jpg"/>
          <p:cNvPicPr/>
          <p:nvPr/>
        </p:nvPicPr>
        <p:blipFill>
          <a:blip r:embed="rId3"/>
          <a:stretch/>
        </p:blipFill>
        <p:spPr>
          <a:xfrm>
            <a:off x="571680" y="2357280"/>
            <a:ext cx="3600360" cy="22147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714240"/>
            <a:ext cx="2928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Лес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4548240" y="1805040"/>
            <a:ext cx="4241880" cy="4674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https://avatars.mds.yandex.net/i?id=a872c93432ed76581dba8abb3f5ed875-4893015-images-thumbs&amp;n=13"/>
          <p:cNvPicPr/>
          <p:nvPr/>
        </p:nvPicPr>
        <p:blipFill>
          <a:blip r:embed="rId2"/>
          <a:stretch/>
        </p:blipFill>
        <p:spPr>
          <a:xfrm>
            <a:off x="285840" y="2000160"/>
            <a:ext cx="4211640" cy="30067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332892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Огород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0" y="1714680"/>
            <a:ext cx="432432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днажды хозяйка с базара пришла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озяйка с базара домой принесла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пусту, картошку, морковку, горох,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едиску и свёклу – ох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( при перечислении овощей загибаем поочерёдно пальчик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Picture 6" descr="https://cf2.ppt-online.org/files2/slide/j/J51803Z6oTVehiA4KvLBycXnIYzfN2UOrWCFq9/slide-1.jpg"/>
          <p:cNvPicPr/>
          <p:nvPr/>
        </p:nvPicPr>
        <p:blipFill>
          <a:blip r:embed="rId1"/>
          <a:stretch/>
        </p:blipFill>
        <p:spPr>
          <a:xfrm>
            <a:off x="214200" y="1928880"/>
            <a:ext cx="41767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1:32:29Z</dcterms:created>
  <dc:creator>Alexander G</dc:creator>
  <dc:description/>
  <dc:language>en-US</dc:language>
  <cp:lastModifiedBy>USER</cp:lastModifiedBy>
  <dcterms:modified xsi:type="dcterms:W3CDTF">2022-05-11T08:29:03Z</dcterms:modified>
  <cp:revision>10</cp:revision>
  <dc:subject/>
  <dc:title>Игры с пальчиками</dc:title>
</cp:coreProperties>
</file>