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FF7-7429-4EE1-B329-0E8A735A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A6B-D60A-4007-873A-B30CAB3B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F54-6478-4BDA-81E7-5AC6D8A9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A99-796A-4EC5-B1CF-30AF3C06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6C28-94A3-4669-B69F-FCD4D517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DC67-AB61-43D2-920B-E68EC9B8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9B47-E7AF-47BE-BCCF-7B864E54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F170-5099-4B2E-A847-B9A87C90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116B-ADD6-433F-ADD0-B53FDE9F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4478-E63C-40D7-9303-3321D417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40F-E5F5-4B1E-B0E8-75B41460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B08-2812-46CD-8B43-9102E1D5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7062-0A46-4B42-9868-3350AD08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71D9-F6F9-4819-A4A1-ACDDE6D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2F5E-FC69-471F-8675-ABD852AB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B997-C5D9-43A1-B6DC-B33167E3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ED03-B9FB-417C-B857-0F1A5395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9FA-3594-4239-8627-BE9CA867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759-F85D-4BA0-AF32-696D474A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855-0E85-42BA-90C9-E29E642F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79B-4BA9-4FBD-AF95-AE6D786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B8E-233E-4595-AC2E-B3465C25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655-78DC-4590-B2FA-9FC98B41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C93-C75B-41D0-B68E-5D975BD1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DBA92E-D90E-4EDB-BA0F-7242E82FD0C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8AECA1-AEAA-43B4-B6C4-22F900596B73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истая Нева- наше настоящее и будущее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преподаватель-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организатор ОБЖ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Карпова Т.А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ГБОУ СОШ № 608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Кировского района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Санкт- Петербург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инамика изменения УКИЗВ с 2005-2010гг. по водотока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4105080" cy="352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31478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никальная двухступенчатая технолог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мплектного обеззараживания питьевой воды на водопроводных станциях Санкт-Петербург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3280" y="4508640"/>
            <a:ext cx="3167280" cy="208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2880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57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ЕЧНОЙ  И  АВСТРАЛИЙСКИЙ РА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3456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ва – символ Санкт-Петербург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068640"/>
            <a:ext cx="382284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истая Нева — это река, в которой можно без страха купаться, рыбу из которой можно есть, а воду — пить. Чистая Нева — это наше будущее, которое мы вместе можем сделать настоящи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8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49240" y="2349360"/>
            <a:ext cx="3773520" cy="2071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15000" y="2349360"/>
            <a:ext cx="3638520" cy="2082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374328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59280" y="4581360"/>
            <a:ext cx="3600360" cy="216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76500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истая Нева — это наше будущее, которое мы вместе можем сделать настоящ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640" y="764640"/>
            <a:ext cx="792504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от лишь несколько фактов: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421000"/>
            <a:ext cx="37512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территории города действуют сотни труб, через которые в воду сбрасываются неочищенные стоки предприятий и коммунальных служб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2421000"/>
            <a:ext cx="4038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олько по официальным данным, на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ве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жегодно фиксируется более 100 нефтеразлив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437000"/>
            <a:ext cx="37753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олько по официальным данным, ежегодно в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в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брасывается 40 тысяч тонн загрязняющих веществ. Это 15 грузовых ж/д состав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860640"/>
            <a:ext cx="40845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олее 25% всех сточных вод города вообще не проходят очистку. Остальные стоки очищаются недостаточно. В пробах, регулярно отбираемых экспертами Гринпис из стоков в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в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и притоки, обнаруживаются опасные вещества – тяжелые металлы, нефтепродукты, фенолы, хлорорганические соединени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981000"/>
            <a:ext cx="78692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852640"/>
            <a:ext cx="36003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бы показали превышение безопасных концентраций во много раз. В стоках обнаружены ртуть, свинец, нефтепродукты, хлороформ, фталаты, фенолы и другие опасные веществ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2708280"/>
            <a:ext cx="4564080" cy="40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47640" y="836640"/>
            <a:ext cx="1011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оксичные стоки продолжают отравлять реки Петербург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24400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фтеразлив на Свердловской набережной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068640"/>
            <a:ext cx="352764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чередной залповый сброс нефтепродуктов произошел в ноябре  2011г.на Неве. Источник загрязнения – сток на ТЭЦ. Предыдущий залповый Свердловской набережной, принадлежащий Выборгской сброс из этого же стока произошёл за  недели до этого.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8132"/>
          <a:stretch/>
        </p:blipFill>
        <p:spPr>
          <a:xfrm>
            <a:off x="4932360" y="2924280"/>
            <a:ext cx="30970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76438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грязнение водоёмов          Ленинградской обла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2923920"/>
            <a:ext cx="360684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 территории Ленобласти практически нет незагрязнённых водоёмов. Например, к 4 классу качества воды принадлежат такие реки, как: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ва, Свирь, Луга, Оять, Плюсса, Паша,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олхов,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ясь.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нтенсивному загрязнению подвергается и 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инский залив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. Усугубляют экологическую обстановку в Финском заливе  проходящие танкеры. Нельзя назвать чистыми и реки-притоки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адожского озер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. Например,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осна, Ижора, Славя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перенасыщены органическими (мезотрофными) веществ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16728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76720" y="4797360"/>
            <a:ext cx="3240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56000" y="76176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УДЫ ПОД КЛЮ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кологию Стрельны, а в частности, водоёмов Константиновского парка, портят загрязнённые реки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кинка и Стрел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Они ежегодно захватывают отходы с территорий дачных посёлков без системы канализации, со скотных дворов и птицефабрик Ломоносовского района Ленинградской области и несут всю эту грязь в водоёмы Константиновского парк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56320" y="2362320"/>
            <a:ext cx="3774960" cy="1798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56320" y="4286160"/>
            <a:ext cx="37749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7617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ербугская корюшка опасна для здоровь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3284640"/>
            <a:ext cx="346212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ть корюшку из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ы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безопасно - эта рыба питается нечистотами и содержит мышьяк вместе с опасным веществом полихлорбифенилом. Специалисты рекомендуют Невскую корюшку вообще не покупа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414960" cy="35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22:16:13Z</dcterms:created>
  <dc:creator>Алиса</dc:creator>
  <dc:description/>
  <dc:language>en-US</dc:language>
  <cp:lastModifiedBy>sc608</cp:lastModifiedBy>
  <dcterms:modified xsi:type="dcterms:W3CDTF">2012-06-25T13:09:58Z</dcterms:modified>
  <cp:revision>17</cp:revision>
  <dc:subject/>
  <dc:title>Нева – символ Санкт-Петербурга </dc:title>
</cp:coreProperties>
</file>