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7422-6026-4178-AAE7-7798F66FF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9140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7720" y="4307040"/>
            <a:ext cx="769140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1112-83FE-4293-9A98-9478A22AB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7720" y="430704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79000" y="430704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EB0C-189C-429A-9F53-C669A3269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8360" y="236232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39000" y="236232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7720" y="430704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8360" y="430704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39000" y="430704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3330-2ED0-482B-9236-6A64D8FAE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CE8AE-24BD-4AA8-9A65-0D6381861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691400" cy="37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C19A5-2967-4283-9812-FF16AE3AE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9140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420E5-29FD-41A7-9C3C-C480304C5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659C7-32C4-4CA1-890E-663FE91D0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D3948-06D8-49F8-B636-D3149D18B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3400" y="833040"/>
            <a:ext cx="7778880" cy="46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C4D32-E71B-43A8-867B-A8269C878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7720" y="430704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C89D4-BB29-4F8A-9042-1AB3B8A6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691400" cy="37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8CEE-57E7-4A02-91DE-6DE01B9C8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79000" y="430704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17ED7-8FCB-41B0-A842-E00F6435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7720" y="4307040"/>
            <a:ext cx="769140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0EBE0-1F29-45FF-AE02-96B54E06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9140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7720" y="4307040"/>
            <a:ext cx="769140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9EB10-CE38-4303-9DF0-C70312BFE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7720" y="430704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79000" y="430704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1E412-B0DA-4054-98C0-50C74FDA6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8360" y="236232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39000" y="236232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7720" y="430704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8360" y="430704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39000" y="430704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122B2-CE9D-4754-8877-7A6CF2EEF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9140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B62F-C5BE-44F2-ABF0-B477DF4F8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D58B-CE57-4890-B5D2-0BDDE6781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62F9-B014-40A9-AEB0-56920D77A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3400" y="833040"/>
            <a:ext cx="7778880" cy="46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9F07-2941-4583-B89F-A97F75F07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7720" y="430704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4430-3BCF-440A-8DE3-4048C928D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79000" y="430704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D866-71C7-4EF4-973A-CBBDDAA24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307040"/>
            <a:ext cx="769140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9C14-1AA4-47F9-9CC0-18F753ED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18320" cy="6856560"/>
            <a:chOff x="0" y="0"/>
            <a:chExt cx="7618320" cy="68565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198960" cy="6856560"/>
              <a:chOff x="0" y="0"/>
              <a:chExt cx="3198960" cy="685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0320" cy="68565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1760" cy="116532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240" y="1981080"/>
              <a:ext cx="7390080" cy="317520"/>
              <a:chOff x="228240" y="1981080"/>
              <a:chExt cx="7390080" cy="3175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08840" cy="3160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7880" y="1981080"/>
                <a:ext cx="392040" cy="3175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7720" y="2362320"/>
            <a:ext cx="769140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2904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5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57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72033DE-DEC9-42B7-9585-9B406F9DA20A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5840" cy="6856560"/>
            <a:chOff x="0" y="0"/>
            <a:chExt cx="5865840" cy="685656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0560" cy="685656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0040" cy="1903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5480" cy="317520"/>
            <a:chOff x="3632040" y="4889520"/>
            <a:chExt cx="4875480" cy="31752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4560" cy="3157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58840" cy="3175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2904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5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3366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160"/>
            <a:ext cx="5857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12F6436-3D56-454B-9316-9E155672C9BF}" type="slidenum">
              <a:rPr b="1" lang="ru-RU" sz="26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5160" y="1269720"/>
            <a:ext cx="767088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743040" indent="0" algn="ctr">
              <a:spcBef>
                <a:spcPts val="60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 algn="ctr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 algn="ctr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Чистая Нева- наше настоящее и будущее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3366ff"/>
                </a:solidFill>
                <a:latin typeface="Arial"/>
              </a:rPr>
              <a:t>Подготовила: 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3366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3366ff"/>
                </a:solidFill>
                <a:latin typeface="Arial"/>
              </a:rPr>
              <a:t>преподаватель-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3366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3366ff"/>
                </a:solidFill>
                <a:latin typeface="Arial"/>
              </a:rPr>
              <a:t>организатор ОБЖ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3366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3366ff"/>
                </a:solidFill>
                <a:latin typeface="Arial"/>
              </a:rPr>
              <a:t>Карпова Т.А.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3366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3366ff"/>
                </a:solidFill>
                <a:latin typeface="Arial"/>
              </a:rPr>
              <a:t>ГБОУ СОШ № 608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3366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3366ff"/>
                </a:solidFill>
                <a:latin typeface="Arial"/>
              </a:rPr>
              <a:t>Кировского района 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3366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3366ff"/>
                </a:solidFill>
                <a:latin typeface="Arial"/>
              </a:rPr>
              <a:t>Санкт- Петербурга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Динамика изменения УКИЗВ с 2005-2010гг. по водотокам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258920" y="2781360"/>
            <a:ext cx="4105080" cy="35272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651640" y="3141720"/>
            <a:ext cx="3147840" cy="23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Уникальная двухступенчатая технология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комплектного обеззараживания питьевой воды на водопроводных станциях Санкт-Петербурга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643280" y="4508640"/>
            <a:ext cx="3167280" cy="20872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187280" y="2637000"/>
            <a:ext cx="2880000" cy="20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16000" y="620280"/>
            <a:ext cx="75708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РЕЧНОЙ  И  АВСТРАЛИЙСКИЙ РАК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116000" y="2492280"/>
            <a:ext cx="3095640" cy="20163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788000" y="4076640"/>
            <a:ext cx="3456000" cy="22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Нева – символ Санкт-Петербурга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5640" y="3068640"/>
            <a:ext cx="3822840" cy="40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Чистая Нева — это река, в которой можно без страха купаться, рыбу из которой можно есть, а воду — пить. Чистая Нева — это наше будущее, которое мы вместе можем сделать настоящим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788000" y="1700280"/>
            <a:ext cx="4038480" cy="481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32000" y="836280"/>
            <a:ext cx="78120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49240" y="2349360"/>
            <a:ext cx="3773520" cy="20718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815000" y="2349360"/>
            <a:ext cx="3638520" cy="20829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900000" y="4581360"/>
            <a:ext cx="3743280" cy="21607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4859280" y="4581360"/>
            <a:ext cx="3600360" cy="21607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900000" y="765000"/>
            <a:ext cx="80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Чистая Нева — это наше будущее, которое мы вместе можем сделать настоящи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63640" y="764640"/>
            <a:ext cx="792504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Вот лишь несколько фактов:</a:t>
            </a: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55640" y="2421000"/>
            <a:ext cx="37512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На территории города действуют сотни труб, через которые в воду сбрасываются неочищенные стоки предприятий и коммунальных служб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43280" y="2421000"/>
            <a:ext cx="4038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Только по официальным данным, на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Неве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ежегодно фиксируется более 100 нефтеразливов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4437000"/>
            <a:ext cx="3775320" cy="16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Только по официальным данным, ежегодно в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Неву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сбрасывается 40 тысяч тонн загрязняющих веществ. Это 15 грузовых ж/д составов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3860640"/>
            <a:ext cx="408456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Более 25% всех сточных вод города вообще не проходят очистку. Остальные стоки очищаются недостаточно. В пробах, регулярно отбираемых экспертами Гринпис из стоков в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Неву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и притоки, обнаруживаются опасные вещества – тяжелые металлы, нефтепродукты, фенолы, хлорорганические соединения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99640" y="981000"/>
            <a:ext cx="786924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11280" y="2852640"/>
            <a:ext cx="3600360" cy="38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обы показали превышение безопасных концентраций во много раз. В стоках обнаружены ртуть, свинец, нефтепродукты, хлороформ, фталаты, фенолы и другие опасные вещества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00720" y="2708280"/>
            <a:ext cx="4564080" cy="4033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547640" y="836640"/>
            <a:ext cx="1011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Токсичные стоки продолжают отравлять реки Петербурга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907920"/>
            <a:ext cx="8244000" cy="14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Нефтеразлив на Свердловской набережной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00000" y="3068640"/>
            <a:ext cx="3527640" cy="32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Очередной залповый сброс нефтепродуктов произошел в ноябре  2011г.на Неве. Источник загрязнения – сток на ТЭЦ. Предыдущий залповый Свердловской набережной, принадлежащий Выборгской сброс из этого же стока произошёл за  недели до этого.</a:t>
            </a: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8132"/>
          <a:stretch/>
        </p:blipFill>
        <p:spPr>
          <a:xfrm>
            <a:off x="4932360" y="2924280"/>
            <a:ext cx="3097080" cy="32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42560" y="981000"/>
            <a:ext cx="76438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          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Загрязнение водоёмов          Ленинградской обла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26560" y="2923920"/>
            <a:ext cx="3606840" cy="38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900" spc="-1" strike="noStrike">
                <a:solidFill>
                  <a:srgbClr val="003366"/>
                </a:solidFill>
                <a:latin typeface="Arial"/>
              </a:rPr>
              <a:t>     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На территории Ленобласти практически нет незагрязнённых водоёмов. Например, к 4 классу качества воды принадлежат такие реки, как: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Нева, Свирь, Луга, Оять, Плюсса, Паша,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Волхов,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Сясь.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Интенсивному загрязнению подвергается и 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Финский залив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. Усугубляют экологическую обстановку в Финском заливе  проходящие танкеры. Нельзя назвать чистыми и реки-притоки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Ладожского озера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. Например,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Тосна, Ижора, Славянка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перенасыщены органическими (мезотрофными) веществам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076720" y="2637000"/>
            <a:ext cx="3167280" cy="1800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076720" y="4797360"/>
            <a:ext cx="324036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56000" y="761760"/>
            <a:ext cx="613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РУДЫ ПОД КЛЮЧ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Экологию Стрельны, а в частности, водоёмов Константиновского парка, портят загрязнённые реки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икинка и Стрелка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. Они ежегодно захватывают отходы с территорий дачных посёлков без системы канализации, со скотных дворов и птицефабрик Ломоносовского района Ленинградской области и несут всю эту грязь в водоёмы Константиновского парка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756320" y="2362320"/>
            <a:ext cx="3774960" cy="17985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756320" y="4286160"/>
            <a:ext cx="377496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76176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етербугская корюшка опасна для здоровь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71640" y="3284640"/>
            <a:ext cx="3462120" cy="38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Есть корюшку из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вы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ебезопасно - эта рыба питается нечистотами и содержит мышьяк вместе с опасным веществом полихлорбифенилом. Специалисты рекомендуют Невскую корюшку вообще не покупать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003640" y="2637000"/>
            <a:ext cx="3414960" cy="3579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4T22:16:13Z</dcterms:created>
  <dc:creator>Алиса</dc:creator>
  <dc:description/>
  <dc:language>en-US</dc:language>
  <cp:lastModifiedBy>sc608</cp:lastModifiedBy>
  <dcterms:modified xsi:type="dcterms:W3CDTF">2012-06-25T13:09:58Z</dcterms:modified>
  <cp:revision>17</cp:revision>
  <dc:subject/>
  <dc:title>Нева – символ Санкт-Петербурга </dc:title>
</cp:coreProperties>
</file>