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F45-29B2-4C08-A9E7-13C19F2C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B76-78BF-4870-A103-A431ADB2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B2A3E-5BD6-415F-90D3-C9401407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780E8-90FF-4CC0-85C0-85469C0A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93041-002B-47F4-AF28-4228FEA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7C2D5-62CB-49E4-B215-ACE6798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296F-55E7-456B-BA69-B2AC509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015F7-1D71-4279-A5DE-F02DCC7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19410-9F0E-4FE1-A57F-94B9B60E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0F60-2AD3-4BC7-8F95-16802B71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8D286-922F-466D-9CBD-1044F8C1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9005D-113D-44CD-84EA-3AF94B8B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C8A-12E2-47E5-A2AD-DCCE6D3A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94343-1791-490E-8207-2DB804DB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948A4-08FD-4EF9-BEF1-1390DA52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E2DC3-FDC4-4EDA-8524-539AC45E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C3394-279B-46A8-9162-FF5DDCC6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2FE1-BE68-4B9A-92A6-06B7925D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F6324-3854-440C-81A2-9C0F8608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40DD3-D224-479B-B288-65175CE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69AD4-2562-4C96-B848-5812749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470F4-BB71-4683-914C-09C19AF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2C50B-377D-4202-B612-41FD3779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E98-9991-4325-9932-8107A415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61DA2-A2C7-4216-9ACA-BCCF3EBB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D9068-0324-4660-AC7C-B4DCD981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EDC6A-4C69-4F49-A43E-B6BE7ECE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04324-BEFA-43C8-A4A1-F76AFED2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2D40-61B9-4E0E-9070-CD67A0C5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C401-B316-45D4-B5D8-613E4B57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1946-3543-4072-A8E1-99809F7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F4649-42E9-44BB-BEB7-825D972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759B0-EF6E-46BE-8790-4E2AC5C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03D5-F028-48E4-8CD6-BCD0AE4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B763-6943-474F-8A7D-D354A567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8817E-2234-4EF4-B8FA-959B505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FA0BD-0471-47C8-BC1E-66E9304B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B031A-5950-43EA-9835-78C66271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64437-AD13-4788-A908-34CF4123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3F212-AAA7-4498-AFD3-BE539B20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945EC-5C70-470C-B576-78894C1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8589C-6D8F-4148-96A3-B0CBAD95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EEF10-188A-49BC-A24E-3701B85A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656BD-38B3-4998-A10F-11597F9F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13AF6-A2A8-402F-B5C8-4DB802F2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6C44-3C4C-4750-B8A2-5FC6E18A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2377B-B68E-499D-BC78-9B296D2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1C9BB-515A-4227-B826-94C103E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F9AD5-60EE-4E76-BE9F-0F887CFF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72A1B-E1C5-4C33-A350-A3FFFED5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B0F58-9F7C-411C-B606-77B19AE4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A4AE4-E52D-44DB-9A4F-3E61186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8C736-FC36-4561-87BB-DB30958C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0614A-D2AF-4154-AC1A-3DE313C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B4050-F7D8-4C3D-A89F-814D3D14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44288-8466-495F-B0ED-6C9FD38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AC2F-51D1-4F8D-83F8-2BBD4B5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F98DE-D4F5-49C6-BDC4-97AF984B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834A7-3D7A-4E38-A105-B3DB28C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831F8-4521-4CDD-A798-A072D009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A6757-CB48-4BF3-91C0-3AFB4642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C8534-8FDC-428C-8B8F-7FA367C0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638E0-0A8F-414F-962C-51DB4FD6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4DD9A-1F0B-4251-878E-367B3B7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9E96F-55E8-4FA4-B4BD-D28CA3FB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F6540-AE0D-49FF-B0CF-2CBA6B4A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A96E9-86D8-4701-BA1C-2F227ACE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281A-F6A6-42BB-AB34-DC86685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F8EF7-8CDA-4968-B290-8248984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12FD8-6E53-4235-AAFC-C64DEF7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288E6-F3B6-4FDE-BDE1-A6363C1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90415-3586-49C1-AAAC-5C46F74B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3A71B-7F9B-439A-A3D8-05E795E6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40C29-D1D3-4EC2-8C26-AFABC2F3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E8A40-2979-4A30-9055-70391DCD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B03D09-8676-4BDA-82A7-7D6D575C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F5A0B-B6FE-451B-9B6F-6B75E3F2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4E251-C44A-4A7B-AB14-46B33DE6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E0D5-CC81-4B39-AC3C-384D9AE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C1538-DBD0-4DAA-9DF5-50731E7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3538B-CCB1-4757-AD1F-7D18409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6CD45-F448-4329-918B-6AD8A758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30116-9E4F-473E-B067-7A6A6992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FB2E7-E35D-43F3-91C4-F95D4E5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27519-03B4-4D2A-A7E6-1564DF8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9ED64-6ED1-4305-A6DA-76B87B3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83AE6-B758-4BD1-8129-A9F5A6F3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C82F7-FC81-4DB3-A16B-807EB5C5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D2DC1-FD31-4841-AFCB-A6FA03BD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907B-D8D7-4522-A045-D5ADDA3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88BE5-FBE6-447C-858E-0DED5B88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92571-AF68-45F4-83E5-3CC36506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584850-C663-41D2-AEE9-39E77A1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FB1FB-14FE-40C6-935B-1EE7552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534F1-987E-4271-9E96-6171A3CD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8EE1D8-A62A-4B66-9AED-273B9502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A2B6C-2903-4AEA-9937-CE791134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DAB4F-9010-40CC-87A9-5B590D9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30D2B3-8E42-4DA0-BF3A-2F70D73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E16BA-1396-42B4-BA4E-46761C7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491F-EACB-49CA-A2FC-CA5B3A2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423EA-D73D-48C4-BEC7-BDA31CDE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1BE9D-B4CF-45CA-B87C-EE65956A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04C15-52E9-424E-B348-28928D5B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C6E06-5403-4F4B-88D9-5A04ECD5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0BF0EF-8F69-47C2-B58B-03AF8D4F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0205B-BFCB-4DF9-8BBC-B1B9E594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E4638-F4D5-4C57-BC55-9BA0F8E6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44AA9-A8A2-4E9C-A32E-07D7BDF0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9227D-3186-47D1-BE9C-6D690B78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8A45E-6063-4DDB-BC82-D7C56712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4D4-48AE-4C96-A9C1-2A395BC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155-F044-4294-9CE7-6659A2C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16305-0BAD-47CE-B609-2521805C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C9D28-F7A4-4C47-B483-D0D10504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9A5D6-3E84-410E-B53C-0067813B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3B7BF-677E-49AB-AE0A-77BB21B8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B149D-48EB-438D-B762-BCA36DE7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C161-CA32-459F-92AA-96AB83F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51D4-7B92-4E08-8EFE-36C8285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DD1B-3FA5-496E-A853-22097B21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B1E9-BE7F-4974-9AFF-85315E01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03F5-A615-4993-9415-D14EA450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9873B-9D7B-4136-A42E-9B7A2AB1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2A51-63E3-4E69-8294-8A2F3496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5E13C-FA91-416A-A6E4-4962F03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1291-3EC8-470D-8792-ECC66276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CF8-D048-473A-B57D-47CA26B9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A8277-BB8A-4A04-B851-6DDAABC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2030-9794-429E-8E6A-DBEB1AC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8CBD-245C-4079-8EAE-8A09160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DE97-A3D5-4E6F-9D55-D2AE0BE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EBF62-B5C8-4709-8FDE-8AF3779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BFA1-F539-40E5-9BE8-48D28405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06551-CFD8-49FB-A2AE-D84057FD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7AB0-EC68-4866-9123-46439E32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D144B-233D-463A-978F-77A39B87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67DC-95FC-4788-9EC2-62FDAB92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3EB-1BA3-4543-9EAF-3BBB78B0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367D-084A-4873-B5F9-D62564FA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07CE-B950-4577-8DC3-100DFA3D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507EC-5AEE-4DAF-90D1-17FF117A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9CC7-9F38-4C06-83A0-9D392ECD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22B2-63CC-465B-9A04-019C52B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665C-7B67-4E74-97B9-D24DDB94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CF63-22B0-40ED-8A6A-009C17F0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B0436-4509-4CCC-9E85-E418B542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D815-D22D-45A5-89D9-312AC84F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AC47-E2F8-4C87-A52B-583F438E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0AD-8385-48AF-ACE3-7F170D68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DD419-83F8-4164-A07D-128C712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64D7F-B23F-434A-9686-EF6DFB9D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273F6-F943-4381-992D-7BFFC63C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C2231-9BF8-4AAD-B83D-3CFD0B51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66B6-A2F1-42C4-9E24-0ABD7EE3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21338-A917-4AA7-B60B-E485038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5B19-E758-40AF-824E-F289F68F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07400-A31D-4FDE-B68C-EA13F1D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8BFAD-50BE-4AC0-A70F-D257EDD9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2638-D46E-4BB8-881D-E4019A8B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385-F884-47CC-A032-089E61BC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67A1A-4954-462A-BB51-18AD8BF0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9AEA1-1287-47A6-B3B3-445EFFFB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7ECD3-DABC-44AC-8603-9D4C10A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191E-6453-4D5C-9B1B-F3027E6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1608-EFFD-41D3-90B7-04B18960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3E66-2F40-4D40-B5AE-D80B826D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C12E-94D3-4DB0-BBAF-1BF7FDA2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9B935-DD51-4082-BF9F-AAD7E135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43A54-E896-43F4-AD4B-3CD9E60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2955-732B-4E6B-80B7-1428AFD4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0C4-6765-403B-8B3F-07A2C7F4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DBF5F-ACDC-4CBB-8D62-4CF9ADF8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3883A-1DAE-4309-8C8B-88073348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19CD-CC76-4818-8214-5C89BEF4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25DE-C05F-4489-88E0-B4B11AB2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DAF1-BE57-464D-8482-4FF8F185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51A2-8E19-46C6-B803-D2D466DF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FA90D-59A3-42B2-BC40-2B21651C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54C1-6B36-4F13-8D59-C76E5E4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A261-A6DF-45BE-BC84-9DEAA6DD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040FB-2955-4EB3-AA5E-F13737DC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2DF1-48B1-47DE-B102-4A9A356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E01B-455E-4520-9F38-8020F56F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BD4C3-B256-40CE-AE9A-CD6AF677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AD8D6-D1A8-4336-9980-F0EF8B49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CEF07-6F8C-43B6-8C39-20FED4A5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6374-2F4D-414D-B6A5-1A0FE081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33CF-137D-4D2D-AB4A-BC6C5417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EE7E-64C5-42E0-BF2A-37F22A0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30DAC-1874-45FC-990C-FAEAA5F3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F68DF-90E3-488A-9519-5C954273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30EF0-C148-4B68-82BE-92C4D81C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6D5-65D6-4EA8-B242-F3CB905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01E8A-9A96-4400-8D27-FC8F250A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DC15F-F5F4-45C0-8045-D912212C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D89E-A47F-4D7F-8009-575BE2C1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34AA-7994-4A39-8074-CA569942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52E6D-7001-4DDA-9050-DA4B295E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2DF88-CA05-434F-834D-FECF3CC1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14185-FFB2-44B8-B9EF-858996F8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FB93D-A1C3-41B8-96F3-00B4F7EF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61C48-0E52-4CCE-8836-E4B2A9EC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52F58-C6C9-487C-82E4-1199E51C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CC954-4DA1-46CB-A20F-14F36046EE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D0E6C-2AE7-4EE0-ADE0-94E8C6D33F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65CB1-03E4-4485-AF06-F5096A982D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8B623-4784-4B93-89ED-8294A664DC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80D22-E201-48D2-AC15-4519BE905E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52B5A-CAEF-4A72-A3F9-511F315026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E5479-A788-4416-A73D-F2427DFD5E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1DB1B-3CB8-42B6-98E0-D460F6FBB77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42B9E-F70B-46F0-9DCA-A0DFD398538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62679-0EE3-4821-A610-1935783E0A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274D8-ED0A-4C2A-B66E-D9C6177670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F3974-B54B-4C08-886E-8CC28070E4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4AF26-779C-4F2C-9BAD-ABA4BDBE51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FAA66-6DBD-415F-9388-0B4EFD80FC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BD45A-4873-4230-A79B-500C87D343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991B5-4D34-43C7-A428-C430363A4C9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2BCE1-E938-4497-8B4D-3C0FE295325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1268280"/>
            <a:ext cx="8076960" cy="190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1b7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400" spc="-1" strike="noStrike">
                <a:solidFill>
                  <a:srgbClr val="c00000"/>
                </a:solidFill>
                <a:latin typeface="Monotype Corsiva"/>
              </a:rPr>
              <a:t>Перпендикулярность прямых и плоскостей</a:t>
            </a:r>
            <a:endParaRPr b="0" lang="en-US" sz="7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Прямая соединительная линия 97"/>
          <p:cNvSpPr/>
          <p:nvPr/>
        </p:nvSpPr>
        <p:spPr>
          <a:xfrm flipV="1">
            <a:off x="748440" y="1339560"/>
            <a:ext cx="1289160" cy="45781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9" name="Полилиния 48"/>
          <p:cNvSpPr/>
          <p:nvPr/>
        </p:nvSpPr>
        <p:spPr>
          <a:xfrm rot="11062200">
            <a:off x="805680" y="4401720"/>
            <a:ext cx="4334040" cy="1684440"/>
          </a:xfrm>
          <a:custGeom>
            <a:avLst/>
            <a:gdLst>
              <a:gd name="textAreaLeft" fmla="*/ 0 w 4334040"/>
              <a:gd name="textAreaRight" fmla="*/ 4334400 w 4334040"/>
              <a:gd name="textAreaTop" fmla="*/ 0 h 1684440"/>
              <a:gd name="textAreaBottom" fmla="*/ 1684800 h 1684440"/>
            </a:gdLst>
            <a:ahLst/>
            <a:rect l="textAreaLeft" t="textAreaTop" r="textAreaRight" b="textAreaBottom"/>
            <a:pathLst>
              <a:path w="4303552" h="1258349">
                <a:moveTo>
                  <a:pt x="0" y="645952"/>
                </a:moveTo>
                <a:lnTo>
                  <a:pt x="4303552" y="0"/>
                </a:lnTo>
                <a:lnTo>
                  <a:pt x="3103927" y="1258349"/>
                </a:lnTo>
                <a:lnTo>
                  <a:pt x="0" y="645952"/>
                </a:lnTo>
                <a:close/>
              </a:path>
            </a:pathLst>
          </a:custGeom>
          <a:solidFill>
            <a:srgbClr val="f39e87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0" name="Rectangle 4"/>
          <p:cNvSpPr/>
          <p:nvPr/>
        </p:nvSpPr>
        <p:spPr>
          <a:xfrm>
            <a:off x="393840" y="228600"/>
            <a:ext cx="2933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1" name="Text Box 17"/>
          <p:cNvSpPr/>
          <p:nvPr/>
        </p:nvSpPr>
        <p:spPr>
          <a:xfrm>
            <a:off x="3772080" y="2238480"/>
            <a:ext cx="242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ти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O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2" name="Text Box 16"/>
          <p:cNvSpPr/>
          <p:nvPr/>
        </p:nvSpPr>
        <p:spPr>
          <a:xfrm>
            <a:off x="304920" y="582300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3" name="Text Box 17"/>
          <p:cNvSpPr/>
          <p:nvPr/>
        </p:nvSpPr>
        <p:spPr>
          <a:xfrm>
            <a:off x="1816200" y="431784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3371760" y="547200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5" name="Прямая соединительная линия 16"/>
          <p:cNvSpPr/>
          <p:nvPr/>
        </p:nvSpPr>
        <p:spPr>
          <a:xfrm>
            <a:off x="2082960" y="4332240"/>
            <a:ext cx="1466640" cy="1230480"/>
          </a:xfrm>
          <a:prstGeom prst="line">
            <a:avLst/>
          </a:prstGeom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6" name="Text Box 15"/>
          <p:cNvSpPr/>
          <p:nvPr/>
        </p:nvSpPr>
        <p:spPr>
          <a:xfrm>
            <a:off x="1727280" y="71748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7" name="Прямая соединительная линия 47"/>
          <p:cNvSpPr/>
          <p:nvPr/>
        </p:nvSpPr>
        <p:spPr>
          <a:xfrm flipH="1" flipV="1">
            <a:off x="2038320" y="1383840"/>
            <a:ext cx="1511280" cy="4178520"/>
          </a:xfrm>
          <a:prstGeom prst="line">
            <a:avLst/>
          </a:prstGeom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8" name="Text Box 19"/>
          <p:cNvSpPr/>
          <p:nvPr/>
        </p:nvSpPr>
        <p:spPr>
          <a:xfrm>
            <a:off x="3787920" y="2616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9" name="Прямая соединительная линия 79"/>
          <p:cNvSpPr/>
          <p:nvPr/>
        </p:nvSpPr>
        <p:spPr>
          <a:xfrm flipH="1" flipV="1">
            <a:off x="2070000" y="1415880"/>
            <a:ext cx="3067200" cy="39722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0" name="Oval 20"/>
          <p:cNvSpPr/>
          <p:nvPr/>
        </p:nvSpPr>
        <p:spPr>
          <a:xfrm>
            <a:off x="1994040" y="1339920"/>
            <a:ext cx="88920" cy="88920"/>
          </a:xfrm>
          <a:prstGeom prst="ellipse">
            <a:avLst/>
          </a:prstGeom>
          <a:solidFill>
            <a:srgbClr val="1f03eb"/>
          </a:solidFill>
          <a:ln w="93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1" name="Text Box 14"/>
          <p:cNvSpPr/>
          <p:nvPr/>
        </p:nvSpPr>
        <p:spPr>
          <a:xfrm>
            <a:off x="4932360" y="228600"/>
            <a:ext cx="35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BK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K; OB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N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 = BD = 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2" name="Прямая соединительная линия 86"/>
          <p:cNvSpPr/>
          <p:nvPr/>
        </p:nvSpPr>
        <p:spPr>
          <a:xfrm flipH="1" flipV="1">
            <a:off x="2038320" y="1428480"/>
            <a:ext cx="44640" cy="29034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3" name="Text Box 17"/>
          <p:cNvSpPr/>
          <p:nvPr/>
        </p:nvSpPr>
        <p:spPr>
          <a:xfrm>
            <a:off x="4932360" y="1784520"/>
            <a:ext cx="39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OB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B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4" name="Text Box 17"/>
          <p:cNvSpPr/>
          <p:nvPr/>
        </p:nvSpPr>
        <p:spPr>
          <a:xfrm>
            <a:off x="5060880" y="520704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5" name="Полилиния 66"/>
          <p:cNvSpPr/>
          <p:nvPr/>
        </p:nvSpPr>
        <p:spPr>
          <a:xfrm>
            <a:off x="2081160" y="3959280"/>
            <a:ext cx="276120" cy="461880"/>
          </a:xfrm>
          <a:custGeom>
            <a:avLst/>
            <a:gdLst/>
            <a:ahLst/>
            <a:rect l="l" t="t" r="r" b="b"/>
            <a:pathLst>
              <a:path w="276836" h="461394">
                <a:moveTo>
                  <a:pt x="0" y="0"/>
                </a:moveTo>
                <a:lnTo>
                  <a:pt x="276836" y="109057"/>
                </a:lnTo>
                <a:lnTo>
                  <a:pt x="276836" y="461394"/>
                </a:ln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6" name="Полилиния 67"/>
          <p:cNvSpPr/>
          <p:nvPr/>
        </p:nvSpPr>
        <p:spPr>
          <a:xfrm>
            <a:off x="1860480" y="3962520"/>
            <a:ext cx="227160" cy="622080"/>
          </a:xfrm>
          <a:custGeom>
            <a:avLst/>
            <a:gdLst/>
            <a:ahLst/>
            <a:rect l="l" t="t" r="r" b="b"/>
            <a:pathLst>
              <a:path w="226503" h="637563">
                <a:moveTo>
                  <a:pt x="226503" y="0"/>
                </a:moveTo>
                <a:lnTo>
                  <a:pt x="0" y="260058"/>
                </a:lnTo>
                <a:lnTo>
                  <a:pt x="8389" y="637563"/>
                </a:lnTo>
              </a:path>
            </a:pathLst>
          </a:cu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7" name="Прямоугольник 71"/>
          <p:cNvSpPr/>
          <p:nvPr/>
        </p:nvSpPr>
        <p:spPr>
          <a:xfrm>
            <a:off x="1729440" y="276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8" name="Прямоугольник 72"/>
          <p:cNvSpPr/>
          <p:nvPr/>
        </p:nvSpPr>
        <p:spPr>
          <a:xfrm>
            <a:off x="2529360" y="47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angle 10"/>
          <p:cNvSpPr/>
          <p:nvPr/>
        </p:nvSpPr>
        <p:spPr>
          <a:xfrm>
            <a:off x="914400" y="4876920"/>
            <a:ext cx="3352680" cy="1752480"/>
          </a:xfrm>
          <a:prstGeom prst="rect">
            <a:avLst/>
          </a:prstGeom>
          <a:solidFill>
            <a:srgbClr val="f9cfc3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152280" y="3809880"/>
            <a:ext cx="4953240" cy="2057400"/>
          </a:xfrm>
          <a:prstGeom prst="parallelogram">
            <a:avLst>
              <a:gd name="adj" fmla="val 77353"/>
            </a:avLst>
          </a:prstGeom>
          <a:solidFill>
            <a:srgbClr val="92d050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1" name="Line 14"/>
          <p:cNvSpPr/>
          <p:nvPr/>
        </p:nvSpPr>
        <p:spPr>
          <a:xfrm flipV="1">
            <a:off x="2666880" y="3886200"/>
            <a:ext cx="1447920" cy="190512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9480" y="139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1f03eb"/>
                </a:solidFill>
                <a:latin typeface="Monotype Corsiva"/>
              </a:rPr>
              <a:t>Теорема о трех перпендикулярах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AutoShape 4"/>
          <p:cNvSpPr/>
          <p:nvPr/>
        </p:nvSpPr>
        <p:spPr>
          <a:xfrm>
            <a:off x="8172360" y="6324480"/>
            <a:ext cx="971640" cy="53352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9326" h="21600">
                <a:moveTo>
                  <a:pt x="0" y="0"/>
                </a:moveTo>
                <a:lnTo>
                  <a:pt x="39326" y="0"/>
                </a:lnTo>
                <a:lnTo>
                  <a:pt x="39326" y="21600"/>
                </a:lnTo>
                <a:lnTo>
                  <a:pt x="0" y="21600"/>
                </a:lnTo>
                <a:close/>
              </a:path>
              <a:path fill="lightenLess" w="39326" h="21600">
                <a:moveTo>
                  <a:pt x="0" y="0"/>
                </a:moveTo>
                <a:lnTo>
                  <a:pt x="39326" y="0"/>
                </a:lnTo>
                <a:lnTo>
                  <a:pt x="37926" y="1400"/>
                </a:lnTo>
                <a:lnTo>
                  <a:pt x="1400" y="1400"/>
                </a:lnTo>
                <a:close/>
              </a:path>
              <a:path fill="darken" w="39326" h="21600">
                <a:moveTo>
                  <a:pt x="39326" y="0"/>
                </a:moveTo>
                <a:lnTo>
                  <a:pt x="39326" y="21600"/>
                </a:lnTo>
                <a:lnTo>
                  <a:pt x="37926" y="20200"/>
                </a:lnTo>
                <a:lnTo>
                  <a:pt x="37926" y="1400"/>
                </a:lnTo>
                <a:close/>
              </a:path>
              <a:path fill="darkenLess" w="39326" h="21600">
                <a:moveTo>
                  <a:pt x="39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26" y="20200"/>
                </a:lnTo>
                <a:close/>
              </a:path>
              <a:path fill="lighten" w="39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26" h="21600">
                <a:moveTo>
                  <a:pt x="12656" y="10800"/>
                </a:moveTo>
                <a:lnTo>
                  <a:pt x="26669" y="3794"/>
                </a:lnTo>
                <a:lnTo>
                  <a:pt x="26669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4" name="Rectangle 6"/>
          <p:cNvSpPr/>
          <p:nvPr/>
        </p:nvSpPr>
        <p:spPr>
          <a:xfrm>
            <a:off x="343080" y="1162080"/>
            <a:ext cx="8534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ямая, проведенная в плоскости через основание наклонной перпендикулярно к ее проекции на эту плоскость, перпендикулярна к самой наклонной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5" name="Rectangle 9"/>
          <p:cNvSpPr/>
          <p:nvPr/>
        </p:nvSpPr>
        <p:spPr>
          <a:xfrm>
            <a:off x="914400" y="2971800"/>
            <a:ext cx="3352680" cy="1905120"/>
          </a:xfrm>
          <a:prstGeom prst="rect">
            <a:avLst/>
          </a:prstGeom>
          <a:solidFill>
            <a:srgbClr val="f9cfc3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6" name="Line 11"/>
          <p:cNvSpPr/>
          <p:nvPr/>
        </p:nvSpPr>
        <p:spPr>
          <a:xfrm>
            <a:off x="914400" y="4876920"/>
            <a:ext cx="0" cy="990360"/>
          </a:xfrm>
          <a:prstGeom prst="line">
            <a:avLst/>
          </a:prstGeom>
          <a:ln w="38160">
            <a:solidFill>
              <a:srgbClr val="8e5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7" name="Line 12"/>
          <p:cNvSpPr/>
          <p:nvPr/>
        </p:nvSpPr>
        <p:spPr>
          <a:xfrm flipV="1">
            <a:off x="914400" y="3809880"/>
            <a:ext cx="838080" cy="106704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8" name="Line 13"/>
          <p:cNvSpPr/>
          <p:nvPr/>
        </p:nvSpPr>
        <p:spPr>
          <a:xfrm flipH="1">
            <a:off x="1752120" y="3809880"/>
            <a:ext cx="2514600" cy="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9" name="Line 15"/>
          <p:cNvSpPr/>
          <p:nvPr/>
        </p:nvSpPr>
        <p:spPr>
          <a:xfrm flipV="1">
            <a:off x="3429000" y="3886200"/>
            <a:ext cx="685800" cy="91440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0" name="Oval 16"/>
          <p:cNvSpPr/>
          <p:nvPr/>
        </p:nvSpPr>
        <p:spPr>
          <a:xfrm>
            <a:off x="3276720" y="4800600"/>
            <a:ext cx="152280" cy="152280"/>
          </a:xfrm>
          <a:prstGeom prst="ellipse">
            <a:avLst/>
          </a:prstGeom>
          <a:solidFill>
            <a:srgbClr val="1f03eb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1" name="Line 17"/>
          <p:cNvSpPr/>
          <p:nvPr/>
        </p:nvSpPr>
        <p:spPr>
          <a:xfrm>
            <a:off x="1981080" y="3352680"/>
            <a:ext cx="0" cy="152424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2" name="Line 18"/>
          <p:cNvSpPr/>
          <p:nvPr/>
        </p:nvSpPr>
        <p:spPr>
          <a:xfrm>
            <a:off x="1981080" y="3352680"/>
            <a:ext cx="1371600" cy="152424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3" name="Text Box 19"/>
          <p:cNvSpPr/>
          <p:nvPr/>
        </p:nvSpPr>
        <p:spPr>
          <a:xfrm>
            <a:off x="1523880" y="289548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4" name="Text Box 20"/>
          <p:cNvSpPr/>
          <p:nvPr/>
        </p:nvSpPr>
        <p:spPr>
          <a:xfrm>
            <a:off x="1692360" y="477684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5" name="Text Box 21"/>
          <p:cNvSpPr/>
          <p:nvPr/>
        </p:nvSpPr>
        <p:spPr>
          <a:xfrm>
            <a:off x="3236760" y="475308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6" name="Text Box 22"/>
          <p:cNvSpPr/>
          <p:nvPr/>
        </p:nvSpPr>
        <p:spPr>
          <a:xfrm>
            <a:off x="389160" y="5278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7" name="Text Box 23"/>
          <p:cNvSpPr/>
          <p:nvPr/>
        </p:nvSpPr>
        <p:spPr>
          <a:xfrm>
            <a:off x="3813480" y="2895480"/>
            <a:ext cx="4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8" name="Text Box 24"/>
          <p:cNvSpPr/>
          <p:nvPr/>
        </p:nvSpPr>
        <p:spPr>
          <a:xfrm>
            <a:off x="2441520" y="51055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9" name="Rectangle 25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noFill/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4754520" y="2506680"/>
            <a:ext cx="412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 – наклонная,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М, М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5021280" y="3994200"/>
            <a:ext cx="38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М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2" name="Text Box 29"/>
          <p:cNvSpPr/>
          <p:nvPr/>
        </p:nvSpPr>
        <p:spPr>
          <a:xfrm>
            <a:off x="4797360" y="4579920"/>
            <a:ext cx="38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3" name="Line 30"/>
          <p:cNvSpPr/>
          <p:nvPr/>
        </p:nvSpPr>
        <p:spPr>
          <a:xfrm>
            <a:off x="1981080" y="4876920"/>
            <a:ext cx="1371600" cy="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4" name="Freeform 35"/>
          <p:cNvSpPr/>
          <p:nvPr/>
        </p:nvSpPr>
        <p:spPr>
          <a:xfrm>
            <a:off x="3176640" y="4451400"/>
            <a:ext cx="328680" cy="222120"/>
          </a:xfrm>
          <a:custGeom>
            <a:avLst/>
            <a:gdLst>
              <a:gd name="textAreaLeft" fmla="*/ 0 w 328680"/>
              <a:gd name="textAreaRight" fmla="*/ 329040 w 3286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27" h="141">
                <a:moveTo>
                  <a:pt x="0" y="141"/>
                </a:moveTo>
                <a:lnTo>
                  <a:pt x="114" y="0"/>
                </a:lnTo>
                <a:lnTo>
                  <a:pt x="227" y="141"/>
                </a:lnTo>
              </a:path>
            </a:pathLst>
          </a:custGeom>
          <a:noFill/>
          <a:ln w="2844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5" name="Freeform 36"/>
          <p:cNvSpPr/>
          <p:nvPr/>
        </p:nvSpPr>
        <p:spPr>
          <a:xfrm>
            <a:off x="2727360" y="4869000"/>
            <a:ext cx="404640" cy="315720"/>
          </a:xfrm>
          <a:custGeom>
            <a:avLst/>
            <a:gdLst>
              <a:gd name="textAreaLeft" fmla="*/ 0 w 404640"/>
              <a:gd name="textAreaRight" fmla="*/ 405000 w 4046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5" h="199">
                <a:moveTo>
                  <a:pt x="170" y="0"/>
                </a:moveTo>
                <a:lnTo>
                  <a:pt x="0" y="199"/>
                </a:lnTo>
                <a:lnTo>
                  <a:pt x="255" y="199"/>
                </a:lnTo>
              </a:path>
            </a:pathLst>
          </a:custGeom>
          <a:noFill/>
          <a:ln w="2844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85920" y="277920"/>
            <a:ext cx="87580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17008a"/>
                </a:solidFill>
                <a:latin typeface="Monotype Corsiva"/>
              </a:rPr>
              <a:t>Перпендикулярные прямые в пространстве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152280" y="1179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ве прямые называются перпендикулярными,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если угол между ними равен 90</a:t>
            </a:r>
            <a:r>
              <a:rPr b="1" i="1" lang="ru-RU" sz="28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9" name="AutoShape 5"/>
          <p:cNvSpPr/>
          <p:nvPr/>
        </p:nvSpPr>
        <p:spPr>
          <a:xfrm>
            <a:off x="1181160" y="3306600"/>
            <a:ext cx="6781680" cy="2133720"/>
          </a:xfrm>
          <a:prstGeom prst="parallelogram">
            <a:avLst>
              <a:gd name="adj" fmla="val 79458"/>
            </a:avLst>
          </a:prstGeom>
          <a:solidFill>
            <a:srgbClr val="f39e87"/>
          </a:solidFill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0" name="AutoShape 8"/>
          <p:cNvSpPr/>
          <p:nvPr/>
        </p:nvSpPr>
        <p:spPr>
          <a:xfrm>
            <a:off x="3162240" y="3733920"/>
            <a:ext cx="838440" cy="380880"/>
          </a:xfrm>
          <a:prstGeom prst="parallelogram">
            <a:avLst>
              <a:gd name="adj" fmla="val 79635"/>
            </a:avLst>
          </a:prstGeom>
          <a:solidFill>
            <a:srgbClr val="bfcd57"/>
          </a:solidFill>
          <a:ln w="381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1" name="Line 6"/>
          <p:cNvSpPr/>
          <p:nvPr/>
        </p:nvSpPr>
        <p:spPr>
          <a:xfrm>
            <a:off x="3048120" y="3733920"/>
            <a:ext cx="4267080" cy="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2" name="Line 7"/>
          <p:cNvSpPr/>
          <p:nvPr/>
        </p:nvSpPr>
        <p:spPr>
          <a:xfrm flipH="1">
            <a:off x="2247840" y="3429000"/>
            <a:ext cx="1447920" cy="182880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6440760" y="3581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1986120" y="43434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5" name="Line 11"/>
          <p:cNvSpPr/>
          <p:nvPr/>
        </p:nvSpPr>
        <p:spPr>
          <a:xfrm>
            <a:off x="2743200" y="2666880"/>
            <a:ext cx="4267080" cy="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6326280" y="2514600"/>
            <a:ext cx="4917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2209680" y="5592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а </a:t>
            </a:r>
            <a:r>
              <a:rPr b="1" lang="en-US" sz="40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 b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8" name="Text Box 17"/>
          <p:cNvSpPr/>
          <p:nvPr/>
        </p:nvSpPr>
        <p:spPr>
          <a:xfrm>
            <a:off x="5334120" y="55926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 b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5871240" y="480060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0" name="AutoShape 20"/>
          <p:cNvSpPr/>
          <p:nvPr/>
        </p:nvSpPr>
        <p:spPr>
          <a:xfrm>
            <a:off x="8172360" y="6019920"/>
            <a:ext cx="971640" cy="53316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9352" h="21600">
                <a:moveTo>
                  <a:pt x="0" y="0"/>
                </a:moveTo>
                <a:lnTo>
                  <a:pt x="39352" y="0"/>
                </a:lnTo>
                <a:lnTo>
                  <a:pt x="39352" y="21600"/>
                </a:lnTo>
                <a:lnTo>
                  <a:pt x="0" y="21600"/>
                </a:lnTo>
                <a:close/>
              </a:path>
              <a:path fill="lightenLess" w="39352" h="21600">
                <a:moveTo>
                  <a:pt x="0" y="0"/>
                </a:moveTo>
                <a:lnTo>
                  <a:pt x="39352" y="0"/>
                </a:lnTo>
                <a:lnTo>
                  <a:pt x="37952" y="1400"/>
                </a:lnTo>
                <a:lnTo>
                  <a:pt x="1400" y="1400"/>
                </a:lnTo>
                <a:close/>
              </a:path>
              <a:path fill="darken" w="39352" h="21600">
                <a:moveTo>
                  <a:pt x="39352" y="0"/>
                </a:moveTo>
                <a:lnTo>
                  <a:pt x="39352" y="21600"/>
                </a:lnTo>
                <a:lnTo>
                  <a:pt x="37952" y="20200"/>
                </a:lnTo>
                <a:lnTo>
                  <a:pt x="37952" y="1400"/>
                </a:lnTo>
                <a:close/>
              </a:path>
              <a:path fill="darkenLess" w="39352" h="21600">
                <a:moveTo>
                  <a:pt x="39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52" y="20200"/>
                </a:lnTo>
                <a:close/>
              </a:path>
              <a:path fill="lighten" w="39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52" h="21600">
                <a:moveTo>
                  <a:pt x="12670" y="10800"/>
                </a:moveTo>
                <a:lnTo>
                  <a:pt x="26683" y="3794"/>
                </a:lnTo>
                <a:lnTo>
                  <a:pt x="26683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400" spc="-1" strike="noStrike">
                <a:solidFill>
                  <a:srgbClr val="17008a"/>
                </a:solidFill>
                <a:latin typeface="Monotype Corsiva"/>
              </a:rPr>
              <a:t>Прямая называется перпендикулярной к плоскости, если она перпендикулярна к любой прямой, лежащей в этой плоскости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AutoShape 4"/>
          <p:cNvSpPr/>
          <p:nvPr/>
        </p:nvSpPr>
        <p:spPr>
          <a:xfrm>
            <a:off x="1181160" y="3429000"/>
            <a:ext cx="6781680" cy="1981080"/>
          </a:xfrm>
          <a:prstGeom prst="parallelogram">
            <a:avLst>
              <a:gd name="adj" fmla="val 85581"/>
            </a:avLst>
          </a:prstGeom>
          <a:solidFill>
            <a:srgbClr val="f9cfc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3" name="Line 5"/>
          <p:cNvSpPr/>
          <p:nvPr/>
        </p:nvSpPr>
        <p:spPr>
          <a:xfrm>
            <a:off x="4572000" y="2057400"/>
            <a:ext cx="0" cy="243828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Line 6"/>
          <p:cNvSpPr/>
          <p:nvPr/>
        </p:nvSpPr>
        <p:spPr>
          <a:xfrm>
            <a:off x="4572000" y="4648320"/>
            <a:ext cx="0" cy="761760"/>
          </a:xfrm>
          <a:prstGeom prst="line">
            <a:avLst/>
          </a:prstGeom>
          <a:ln w="57240">
            <a:solidFill>
              <a:srgbClr val="1700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Line 7"/>
          <p:cNvSpPr/>
          <p:nvPr/>
        </p:nvSpPr>
        <p:spPr>
          <a:xfrm>
            <a:off x="4572000" y="5410080"/>
            <a:ext cx="0" cy="1143000"/>
          </a:xfrm>
          <a:prstGeom prst="line">
            <a:avLst/>
          </a:prstGeom>
          <a:ln w="5724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6" name="Line 8"/>
          <p:cNvSpPr/>
          <p:nvPr/>
        </p:nvSpPr>
        <p:spPr>
          <a:xfrm flipV="1">
            <a:off x="1752480" y="3962160"/>
            <a:ext cx="5486400" cy="106668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7" name="Line 9"/>
          <p:cNvSpPr/>
          <p:nvPr/>
        </p:nvSpPr>
        <p:spPr>
          <a:xfrm>
            <a:off x="2895480" y="3809880"/>
            <a:ext cx="3048120" cy="121932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8" name="Line 10"/>
          <p:cNvSpPr/>
          <p:nvPr/>
        </p:nvSpPr>
        <p:spPr>
          <a:xfrm flipH="1">
            <a:off x="3580920" y="3581280"/>
            <a:ext cx="2133720" cy="167652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9" name="Line 11"/>
          <p:cNvSpPr/>
          <p:nvPr/>
        </p:nvSpPr>
        <p:spPr>
          <a:xfrm>
            <a:off x="2438280" y="4572000"/>
            <a:ext cx="2971800" cy="60948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0" name="Text Box 12"/>
          <p:cNvSpPr/>
          <p:nvPr/>
        </p:nvSpPr>
        <p:spPr>
          <a:xfrm>
            <a:off x="5947920" y="48006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1" name="Line 13"/>
          <p:cNvSpPr/>
          <p:nvPr/>
        </p:nvSpPr>
        <p:spPr>
          <a:xfrm>
            <a:off x="4876920" y="3581280"/>
            <a:ext cx="1600200" cy="1219320"/>
          </a:xfrm>
          <a:prstGeom prst="line">
            <a:avLst/>
          </a:prstGeom>
          <a:ln w="38160">
            <a:solidFill>
              <a:srgbClr val="170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2" name="Text Box 15"/>
          <p:cNvSpPr/>
          <p:nvPr/>
        </p:nvSpPr>
        <p:spPr>
          <a:xfrm>
            <a:off x="413532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8a5c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Text Box 17"/>
          <p:cNvSpPr/>
          <p:nvPr/>
        </p:nvSpPr>
        <p:spPr>
          <a:xfrm>
            <a:off x="743040" y="199224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а </a:t>
            </a:r>
            <a:r>
              <a:rPr b="1" lang="ru-RU" sz="54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4" name="Oval 21"/>
          <p:cNvSpPr/>
          <p:nvPr/>
        </p:nvSpPr>
        <p:spPr>
          <a:xfrm>
            <a:off x="4495680" y="4419720"/>
            <a:ext cx="152640" cy="152280"/>
          </a:xfrm>
          <a:prstGeom prst="ellipse">
            <a:avLst/>
          </a:prstGeom>
          <a:solidFill>
            <a:srgbClr val="8a5c00"/>
          </a:solidFill>
          <a:ln w="93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AutoShape 22"/>
          <p:cNvSpPr/>
          <p:nvPr/>
        </p:nvSpPr>
        <p:spPr>
          <a:xfrm>
            <a:off x="8172360" y="6324480"/>
            <a:ext cx="971640" cy="53352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9326" h="21600">
                <a:moveTo>
                  <a:pt x="0" y="0"/>
                </a:moveTo>
                <a:lnTo>
                  <a:pt x="39326" y="0"/>
                </a:lnTo>
                <a:lnTo>
                  <a:pt x="39326" y="21600"/>
                </a:lnTo>
                <a:lnTo>
                  <a:pt x="0" y="21600"/>
                </a:lnTo>
                <a:close/>
              </a:path>
              <a:path fill="lightenLess" w="39326" h="21600">
                <a:moveTo>
                  <a:pt x="0" y="0"/>
                </a:moveTo>
                <a:lnTo>
                  <a:pt x="39326" y="0"/>
                </a:lnTo>
                <a:lnTo>
                  <a:pt x="37926" y="1400"/>
                </a:lnTo>
                <a:lnTo>
                  <a:pt x="1400" y="1400"/>
                </a:lnTo>
                <a:close/>
              </a:path>
              <a:path fill="darken" w="39326" h="21600">
                <a:moveTo>
                  <a:pt x="39326" y="0"/>
                </a:moveTo>
                <a:lnTo>
                  <a:pt x="39326" y="21600"/>
                </a:lnTo>
                <a:lnTo>
                  <a:pt x="37926" y="20200"/>
                </a:lnTo>
                <a:lnTo>
                  <a:pt x="37926" y="1400"/>
                </a:lnTo>
                <a:close/>
              </a:path>
              <a:path fill="darkenLess" w="39326" h="21600">
                <a:moveTo>
                  <a:pt x="39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26" y="20200"/>
                </a:lnTo>
                <a:close/>
              </a:path>
              <a:path fill="lighten" w="39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26" h="21600">
                <a:moveTo>
                  <a:pt x="12656" y="10800"/>
                </a:moveTo>
                <a:lnTo>
                  <a:pt x="26669" y="3794"/>
                </a:lnTo>
                <a:lnTo>
                  <a:pt x="26669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36680" y="120240"/>
            <a:ext cx="8229600" cy="5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Лемма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90400" y="46836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008a"/>
                </a:solidFill>
                <a:latin typeface="Monotype Corsiva"/>
              </a:rPr>
              <a:t>Если одна из двух параллельных прямых перпендикулярна к третьей прямой, то и другая прямая перпендикулярна к этой прямой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AutoShape 7"/>
          <p:cNvSpPr/>
          <p:nvPr/>
        </p:nvSpPr>
        <p:spPr>
          <a:xfrm>
            <a:off x="457200" y="4114800"/>
            <a:ext cx="5029200" cy="1828800"/>
          </a:xfrm>
          <a:prstGeom prst="parallelogram">
            <a:avLst>
              <a:gd name="adj" fmla="val 65274"/>
            </a:avLst>
          </a:prstGeom>
          <a:solidFill>
            <a:srgbClr val="fae5cf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9" name="Line 9"/>
          <p:cNvSpPr/>
          <p:nvPr/>
        </p:nvSpPr>
        <p:spPr>
          <a:xfrm>
            <a:off x="1523880" y="4648320"/>
            <a:ext cx="3353040" cy="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0" name="Line 10"/>
          <p:cNvSpPr/>
          <p:nvPr/>
        </p:nvSpPr>
        <p:spPr>
          <a:xfrm flipH="1">
            <a:off x="1295280" y="4191120"/>
            <a:ext cx="1067040" cy="16444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4316040" y="4083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839520" y="5289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Line 13"/>
          <p:cNvSpPr/>
          <p:nvPr/>
        </p:nvSpPr>
        <p:spPr>
          <a:xfrm>
            <a:off x="1295280" y="3232080"/>
            <a:ext cx="3353040" cy="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Text Box 14"/>
          <p:cNvSpPr/>
          <p:nvPr/>
        </p:nvSpPr>
        <p:spPr>
          <a:xfrm>
            <a:off x="4135320" y="2635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Text Box 15"/>
          <p:cNvSpPr/>
          <p:nvPr/>
        </p:nvSpPr>
        <p:spPr>
          <a:xfrm>
            <a:off x="3661920" y="5289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Text Box 18"/>
          <p:cNvSpPr/>
          <p:nvPr/>
        </p:nvSpPr>
        <p:spPr>
          <a:xfrm>
            <a:off x="1600200" y="4070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Line 19"/>
          <p:cNvSpPr/>
          <p:nvPr/>
        </p:nvSpPr>
        <p:spPr>
          <a:xfrm>
            <a:off x="762120" y="3765600"/>
            <a:ext cx="3352680" cy="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 Box 20"/>
          <p:cNvSpPr/>
          <p:nvPr/>
        </p:nvSpPr>
        <p:spPr>
          <a:xfrm>
            <a:off x="3583080" y="32004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 Box 22"/>
          <p:cNvSpPr/>
          <p:nvPr/>
        </p:nvSpPr>
        <p:spPr>
          <a:xfrm>
            <a:off x="153720" y="4648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Oval 23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fb4a18"/>
          </a:solidFill>
          <a:ln w="93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1" name="Text Box 24"/>
          <p:cNvSpPr/>
          <p:nvPr/>
        </p:nvSpPr>
        <p:spPr>
          <a:xfrm>
            <a:off x="5021280" y="2451240"/>
            <a:ext cx="38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ано: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|| b,  a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2" name="Text Box 29"/>
          <p:cNvSpPr/>
          <p:nvPr/>
        </p:nvSpPr>
        <p:spPr>
          <a:xfrm>
            <a:off x="5021280" y="32068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казать: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b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Text Box 39"/>
          <p:cNvSpPr/>
          <p:nvPr/>
        </p:nvSpPr>
        <p:spPr>
          <a:xfrm>
            <a:off x="5305320" y="39672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AutoShape 41"/>
          <p:cNvSpPr/>
          <p:nvPr/>
        </p:nvSpPr>
        <p:spPr>
          <a:xfrm>
            <a:off x="1828800" y="4648320"/>
            <a:ext cx="685800" cy="380880"/>
          </a:xfrm>
          <a:prstGeom prst="parallelogram">
            <a:avLst>
              <a:gd name="adj" fmla="val 63770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5" name="Line 42"/>
          <p:cNvSpPr/>
          <p:nvPr/>
        </p:nvSpPr>
        <p:spPr>
          <a:xfrm flipH="1">
            <a:off x="228240" y="4038480"/>
            <a:ext cx="1066680" cy="1644840"/>
          </a:xfrm>
          <a:prstGeom prst="line">
            <a:avLst/>
          </a:prstGeom>
          <a:ln w="572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6" name="AutoShape 43"/>
          <p:cNvSpPr/>
          <p:nvPr/>
        </p:nvSpPr>
        <p:spPr>
          <a:xfrm>
            <a:off x="8217000" y="6324480"/>
            <a:ext cx="927000" cy="533520"/>
          </a:xfrm>
          <a:custGeom>
            <a:avLst/>
            <a:gdLst>
              <a:gd name="textAreaLeft" fmla="*/ 34560 w 927000"/>
              <a:gd name="textAreaRight" fmla="*/ 892440 w 927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520" h="21600">
                <a:moveTo>
                  <a:pt x="0" y="0"/>
                </a:moveTo>
                <a:lnTo>
                  <a:pt x="37520" y="0"/>
                </a:lnTo>
                <a:lnTo>
                  <a:pt x="37520" y="21600"/>
                </a:lnTo>
                <a:lnTo>
                  <a:pt x="0" y="21600"/>
                </a:lnTo>
                <a:close/>
              </a:path>
              <a:path fill="lightenLess" w="37520" h="21600">
                <a:moveTo>
                  <a:pt x="0" y="0"/>
                </a:moveTo>
                <a:lnTo>
                  <a:pt x="37520" y="0"/>
                </a:lnTo>
                <a:lnTo>
                  <a:pt x="36120" y="1400"/>
                </a:lnTo>
                <a:lnTo>
                  <a:pt x="1400" y="1400"/>
                </a:lnTo>
                <a:close/>
              </a:path>
              <a:path fill="darken" w="37520" h="21600">
                <a:moveTo>
                  <a:pt x="37520" y="0"/>
                </a:moveTo>
                <a:lnTo>
                  <a:pt x="37520" y="21600"/>
                </a:lnTo>
                <a:lnTo>
                  <a:pt x="36120" y="20200"/>
                </a:lnTo>
                <a:lnTo>
                  <a:pt x="36120" y="1400"/>
                </a:lnTo>
                <a:close/>
              </a:path>
              <a:path fill="darkenLess" w="37520" h="21600">
                <a:moveTo>
                  <a:pt x="37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20" y="20200"/>
                </a:lnTo>
                <a:close/>
              </a:path>
              <a:path fill="lighten" w="37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20" h="21600">
                <a:moveTo>
                  <a:pt x="11753" y="10800"/>
                </a:moveTo>
                <a:lnTo>
                  <a:pt x="25766" y="3794"/>
                </a:lnTo>
                <a:lnTo>
                  <a:pt x="25766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Теорема 1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Rectangle 3"/>
          <p:cNvSpPr/>
          <p:nvPr/>
        </p:nvSpPr>
        <p:spPr>
          <a:xfrm>
            <a:off x="1096920" y="603360"/>
            <a:ext cx="77342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1f03eb"/>
                </a:solidFill>
                <a:latin typeface="Monotype Corsiva"/>
              </a:rPr>
              <a:t>Если одна из двух параллельных прямых перпендикулярна к плоскости, то и другая прямая перпендикулярна к этой плоскости.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9" name="AutoShape 4"/>
          <p:cNvSpPr/>
          <p:nvPr/>
        </p:nvSpPr>
        <p:spPr>
          <a:xfrm>
            <a:off x="457200" y="4114800"/>
            <a:ext cx="5029200" cy="1828800"/>
          </a:xfrm>
          <a:prstGeom prst="parallelogram">
            <a:avLst>
              <a:gd name="adj" fmla="val 68750"/>
            </a:avLst>
          </a:prstGeom>
          <a:solidFill>
            <a:srgbClr val="f9cfc3"/>
          </a:solidFill>
          <a:ln w="2844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 Box 11"/>
          <p:cNvSpPr/>
          <p:nvPr/>
        </p:nvSpPr>
        <p:spPr>
          <a:xfrm>
            <a:off x="1594080" y="4067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1" name="Line 17"/>
          <p:cNvSpPr/>
          <p:nvPr/>
        </p:nvSpPr>
        <p:spPr>
          <a:xfrm flipH="1">
            <a:off x="1104840" y="5207040"/>
            <a:ext cx="3200400" cy="26676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2" name="Text Box 18"/>
          <p:cNvSpPr/>
          <p:nvPr/>
        </p:nvSpPr>
        <p:spPr>
          <a:xfrm>
            <a:off x="1330560" y="4807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3" name="Text Box 21"/>
          <p:cNvSpPr/>
          <p:nvPr/>
        </p:nvSpPr>
        <p:spPr>
          <a:xfrm>
            <a:off x="5021280" y="24955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Дано: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||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;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4" name="Text Box 24"/>
          <p:cNvSpPr/>
          <p:nvPr/>
        </p:nvSpPr>
        <p:spPr>
          <a:xfrm>
            <a:off x="4943520" y="317016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Доказать: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i="1" lang="ru-RU" sz="3200" spc="-1" strike="noStrike" baseline="-25000">
                <a:solidFill>
                  <a:srgbClr val="c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5" name="Text Box 26"/>
          <p:cNvSpPr/>
          <p:nvPr/>
        </p:nvSpPr>
        <p:spPr>
          <a:xfrm>
            <a:off x="5029200" y="377676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58840" y="2286000"/>
            <a:ext cx="532080" cy="4266720"/>
            <a:chOff x="2058840" y="2286000"/>
            <a:chExt cx="532080" cy="4266720"/>
          </a:xfrm>
        </p:grpSpPr>
        <p:sp>
          <p:nvSpPr>
            <p:cNvPr id="1237" name="Line 9"/>
            <p:cNvSpPr/>
            <p:nvPr/>
          </p:nvSpPr>
          <p:spPr>
            <a:xfrm flipV="1">
              <a:off x="2514600" y="2514600"/>
              <a:ext cx="0" cy="22096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8" name="Text Box 10"/>
            <p:cNvSpPr/>
            <p:nvPr/>
          </p:nvSpPr>
          <p:spPr>
            <a:xfrm>
              <a:off x="2058840" y="22860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3600" spc="-1" strike="noStrike">
                  <a:solidFill>
                    <a:srgbClr val="c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39" name="Oval 19"/>
            <p:cNvSpPr/>
            <p:nvPr/>
          </p:nvSpPr>
          <p:spPr>
            <a:xfrm>
              <a:off x="2438280" y="4724280"/>
              <a:ext cx="152640" cy="152640"/>
            </a:xfrm>
            <a:prstGeom prst="ellipse">
              <a:avLst/>
            </a:prstGeom>
            <a:solidFill>
              <a:srgbClr val="8a5c00"/>
            </a:solidFill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0" name="Line 27"/>
            <p:cNvSpPr/>
            <p:nvPr/>
          </p:nvSpPr>
          <p:spPr>
            <a:xfrm flipV="1">
              <a:off x="2514600" y="4876560"/>
              <a:ext cx="0" cy="99036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1" name="Line 28"/>
            <p:cNvSpPr/>
            <p:nvPr/>
          </p:nvSpPr>
          <p:spPr>
            <a:xfrm flipV="1">
              <a:off x="2514600" y="5943240"/>
              <a:ext cx="0" cy="6094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42" name="Group 33"/>
          <p:cNvGrpSpPr/>
          <p:nvPr/>
        </p:nvGrpSpPr>
        <p:grpSpPr>
          <a:xfrm>
            <a:off x="3429000" y="2558880"/>
            <a:ext cx="762120" cy="4070160"/>
            <a:chOff x="3429000" y="2558880"/>
            <a:chExt cx="762120" cy="4070160"/>
          </a:xfrm>
        </p:grpSpPr>
        <p:sp>
          <p:nvSpPr>
            <p:cNvPr id="1243" name="Line 15"/>
            <p:cNvSpPr/>
            <p:nvPr/>
          </p:nvSpPr>
          <p:spPr>
            <a:xfrm flipV="1">
              <a:off x="3505320" y="2743200"/>
              <a:ext cx="0" cy="228600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4" name="Text Box 16"/>
            <p:cNvSpPr/>
            <p:nvPr/>
          </p:nvSpPr>
          <p:spPr>
            <a:xfrm>
              <a:off x="3505320" y="2558880"/>
              <a:ext cx="685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3600" spc="-1" strike="noStrike">
                  <a:solidFill>
                    <a:srgbClr val="c00000"/>
                  </a:solidFill>
                  <a:latin typeface="Arial"/>
                </a:rPr>
                <a:t>а</a:t>
              </a:r>
              <a:r>
                <a:rPr b="0" i="1" lang="ru-RU" sz="3600" spc="-1" strike="noStrike" baseline="-25000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5" name="Line 29"/>
            <p:cNvSpPr/>
            <p:nvPr/>
          </p:nvSpPr>
          <p:spPr>
            <a:xfrm flipV="1">
              <a:off x="3505320" y="5181480"/>
              <a:ext cx="0" cy="60984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6" name="Line 30"/>
            <p:cNvSpPr/>
            <p:nvPr/>
          </p:nvSpPr>
          <p:spPr>
            <a:xfrm flipV="1">
              <a:off x="3505320" y="5943240"/>
              <a:ext cx="0" cy="68580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7" name="Oval 31"/>
            <p:cNvSpPr/>
            <p:nvPr/>
          </p:nvSpPr>
          <p:spPr>
            <a:xfrm>
              <a:off x="3429000" y="4981680"/>
              <a:ext cx="152280" cy="152280"/>
            </a:xfrm>
            <a:prstGeom prst="ellipse">
              <a:avLst/>
            </a:prstGeom>
            <a:solidFill>
              <a:srgbClr val="8a5c00"/>
            </a:solidFill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48" name="AutoShape 34"/>
          <p:cNvSpPr/>
          <p:nvPr/>
        </p:nvSpPr>
        <p:spPr>
          <a:xfrm>
            <a:off x="7902720" y="6095880"/>
            <a:ext cx="1062000" cy="533520"/>
          </a:xfrm>
          <a:custGeom>
            <a:avLst/>
            <a:gdLst>
              <a:gd name="textAreaLeft" fmla="*/ 34560 w 1062000"/>
              <a:gd name="textAreaRight" fmla="*/ 1027440 w 1062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982" h="21600">
                <a:moveTo>
                  <a:pt x="0" y="0"/>
                </a:moveTo>
                <a:lnTo>
                  <a:pt x="42982" y="0"/>
                </a:lnTo>
                <a:lnTo>
                  <a:pt x="42982" y="21600"/>
                </a:lnTo>
                <a:lnTo>
                  <a:pt x="0" y="21600"/>
                </a:lnTo>
                <a:close/>
              </a:path>
              <a:path fill="lightenLess" w="42982" h="21600">
                <a:moveTo>
                  <a:pt x="0" y="0"/>
                </a:moveTo>
                <a:lnTo>
                  <a:pt x="42982" y="0"/>
                </a:lnTo>
                <a:lnTo>
                  <a:pt x="41582" y="1400"/>
                </a:lnTo>
                <a:lnTo>
                  <a:pt x="1400" y="1400"/>
                </a:lnTo>
                <a:close/>
              </a:path>
              <a:path fill="darken" w="42982" h="21600">
                <a:moveTo>
                  <a:pt x="42982" y="0"/>
                </a:moveTo>
                <a:lnTo>
                  <a:pt x="42982" y="21600"/>
                </a:lnTo>
                <a:lnTo>
                  <a:pt x="41582" y="20200"/>
                </a:lnTo>
                <a:lnTo>
                  <a:pt x="41582" y="1400"/>
                </a:lnTo>
                <a:close/>
              </a:path>
              <a:path fill="darkenLess" w="42982" h="21600">
                <a:moveTo>
                  <a:pt x="42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82" y="20200"/>
                </a:lnTo>
                <a:close/>
              </a:path>
              <a:path fill="lighten" w="42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82" h="21600">
                <a:moveTo>
                  <a:pt x="14484" y="10800"/>
                </a:moveTo>
                <a:lnTo>
                  <a:pt x="28497" y="3794"/>
                </a:lnTo>
                <a:lnTo>
                  <a:pt x="28497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943600" y="1312920"/>
            <a:ext cx="3200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орема 2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AutoShape 4"/>
          <p:cNvSpPr/>
          <p:nvPr/>
        </p:nvSpPr>
        <p:spPr>
          <a:xfrm>
            <a:off x="228600" y="3089160"/>
            <a:ext cx="5029200" cy="1828800"/>
          </a:xfrm>
          <a:prstGeom prst="parallelogram">
            <a:avLst>
              <a:gd name="adj" fmla="val 68750"/>
            </a:avLst>
          </a:prstGeom>
          <a:solidFill>
            <a:srgbClr val="f9cfc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1" name="Text Box 7"/>
          <p:cNvSpPr/>
          <p:nvPr/>
        </p:nvSpPr>
        <p:spPr>
          <a:xfrm>
            <a:off x="463320" y="4343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2" name="Text Box 17"/>
          <p:cNvSpPr/>
          <p:nvPr/>
        </p:nvSpPr>
        <p:spPr>
          <a:xfrm>
            <a:off x="4778280" y="2211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казать: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|| b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5257800" y="2666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54" name="Group 74"/>
          <p:cNvGrpSpPr/>
          <p:nvPr/>
        </p:nvGrpSpPr>
        <p:grpSpPr>
          <a:xfrm>
            <a:off x="1639800" y="2139480"/>
            <a:ext cx="442800" cy="3733920"/>
            <a:chOff x="1639800" y="2139480"/>
            <a:chExt cx="442800" cy="3733920"/>
          </a:xfrm>
        </p:grpSpPr>
        <p:sp>
          <p:nvSpPr>
            <p:cNvPr id="1255" name="Text Box 6"/>
            <p:cNvSpPr/>
            <p:nvPr/>
          </p:nvSpPr>
          <p:spPr>
            <a:xfrm>
              <a:off x="1639800" y="51606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256" name="Group 51"/>
            <p:cNvGrpSpPr/>
            <p:nvPr/>
          </p:nvGrpSpPr>
          <p:grpSpPr>
            <a:xfrm>
              <a:off x="1949400" y="2139480"/>
              <a:ext cx="133200" cy="3733920"/>
              <a:chOff x="1949400" y="2139480"/>
              <a:chExt cx="133200" cy="3733920"/>
            </a:xfrm>
          </p:grpSpPr>
          <p:sp>
            <p:nvSpPr>
              <p:cNvPr id="1257" name="Line 52"/>
              <p:cNvSpPr/>
              <p:nvPr/>
            </p:nvSpPr>
            <p:spPr>
              <a:xfrm flipV="1">
                <a:off x="2019240" y="2139480"/>
                <a:ext cx="0" cy="194292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58" name="Oval 53"/>
              <p:cNvSpPr/>
              <p:nvPr/>
            </p:nvSpPr>
            <p:spPr>
              <a:xfrm>
                <a:off x="1949400" y="4006800"/>
                <a:ext cx="133200" cy="133200"/>
              </a:xfrm>
              <a:prstGeom prst="ellipse">
                <a:avLst/>
              </a:prstGeom>
              <a:solidFill>
                <a:srgbClr val="8e5f00"/>
              </a:solidFill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59" name="Line 54"/>
              <p:cNvSpPr/>
              <p:nvPr/>
            </p:nvSpPr>
            <p:spPr>
              <a:xfrm flipV="1">
                <a:off x="2019240" y="4196880"/>
                <a:ext cx="0" cy="685800"/>
              </a:xfrm>
              <a:prstGeom prst="line">
                <a:avLst/>
              </a:prstGeom>
              <a:ln w="38160">
                <a:solidFill>
                  <a:srgbClr val="1f03e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60" name="Line 55"/>
              <p:cNvSpPr/>
              <p:nvPr/>
            </p:nvSpPr>
            <p:spPr>
              <a:xfrm flipV="1">
                <a:off x="2019240" y="5035320"/>
                <a:ext cx="0" cy="83808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261" name="Rectangle 3"/>
          <p:cNvSpPr/>
          <p:nvPr/>
        </p:nvSpPr>
        <p:spPr>
          <a:xfrm>
            <a:off x="905040" y="58680"/>
            <a:ext cx="7446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1f03eb"/>
                </a:solidFill>
                <a:latin typeface="Monotype Corsiva"/>
              </a:rPr>
              <a:t>Если две прямые перпендикулярны к плоскости, то они параллельны</a:t>
            </a:r>
            <a:r>
              <a:rPr b="1" i="1" lang="ru-RU" sz="3000" spc="-1" strike="noStrike">
                <a:solidFill>
                  <a:srgbClr val="1f03eb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2" name="Group 77" descr=""/>
          <p:cNvPicPr/>
          <p:nvPr/>
        </p:nvPicPr>
        <p:blipFill>
          <a:blip r:embed="rId1"/>
          <a:stretch/>
        </p:blipFill>
        <p:spPr>
          <a:xfrm>
            <a:off x="2876400" y="1047600"/>
            <a:ext cx="1519560" cy="5829480"/>
          </a:xfrm>
          <a:prstGeom prst="rect">
            <a:avLst/>
          </a:prstGeom>
          <a:ln w="0">
            <a:noFill/>
          </a:ln>
        </p:spPr>
      </p:pic>
      <p:grpSp>
        <p:nvGrpSpPr>
          <p:cNvPr id="1263" name="Group 73"/>
          <p:cNvGrpSpPr/>
          <p:nvPr/>
        </p:nvGrpSpPr>
        <p:grpSpPr>
          <a:xfrm>
            <a:off x="3015720" y="1962000"/>
            <a:ext cx="686160" cy="4356000"/>
            <a:chOff x="3015720" y="1962000"/>
            <a:chExt cx="686160" cy="4356000"/>
          </a:xfrm>
        </p:grpSpPr>
        <p:sp>
          <p:nvSpPr>
            <p:cNvPr id="1264" name="Line 59"/>
            <p:cNvSpPr/>
            <p:nvPr/>
          </p:nvSpPr>
          <p:spPr>
            <a:xfrm flipH="1">
              <a:off x="3327120" y="1962000"/>
              <a:ext cx="355680" cy="24004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5" name="Oval 62"/>
            <p:cNvSpPr/>
            <p:nvPr/>
          </p:nvSpPr>
          <p:spPr>
            <a:xfrm>
              <a:off x="3238200" y="4273560"/>
              <a:ext cx="152640" cy="152280"/>
            </a:xfrm>
            <a:prstGeom prst="ellipse">
              <a:avLst/>
            </a:prstGeom>
            <a:solidFill>
              <a:srgbClr val="8a5c00"/>
            </a:solidFill>
            <a:ln w="93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6" name="Text Box 63"/>
            <p:cNvSpPr/>
            <p:nvPr/>
          </p:nvSpPr>
          <p:spPr>
            <a:xfrm>
              <a:off x="3016080" y="5473440"/>
              <a:ext cx="685800" cy="63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200" spc="-1" strike="noStrike">
                  <a:solidFill>
                    <a:srgbClr val="8a5c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c00000"/>
                  </a:solidFill>
                  <a:latin typeface="Arial"/>
                </a:rPr>
                <a:t>b</a:t>
              </a:r>
              <a:r>
                <a:rPr b="1" lang="en-US" sz="2800" spc="-1" strike="noStrike" baseline="-25000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7" name="Line 68"/>
            <p:cNvSpPr/>
            <p:nvPr/>
          </p:nvSpPr>
          <p:spPr>
            <a:xfrm flipH="1">
              <a:off x="3237840" y="4362480"/>
              <a:ext cx="88920" cy="62208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8" name="Line 69"/>
            <p:cNvSpPr/>
            <p:nvPr/>
          </p:nvSpPr>
          <p:spPr>
            <a:xfrm flipH="1">
              <a:off x="3015720" y="4940280"/>
              <a:ext cx="222120" cy="137772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69" name="Text Box 14"/>
          <p:cNvSpPr/>
          <p:nvPr/>
        </p:nvSpPr>
        <p:spPr>
          <a:xfrm>
            <a:off x="4862520" y="1739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ано: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;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b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70" name="Group 85"/>
          <p:cNvGrpSpPr/>
          <p:nvPr/>
        </p:nvGrpSpPr>
        <p:grpSpPr>
          <a:xfrm>
            <a:off x="3505320" y="2133360"/>
            <a:ext cx="444240" cy="3733560"/>
            <a:chOff x="3505320" y="2133360"/>
            <a:chExt cx="444240" cy="3733560"/>
          </a:xfrm>
        </p:grpSpPr>
        <p:grpSp>
          <p:nvGrpSpPr>
            <p:cNvPr id="1271" name="Group 79"/>
            <p:cNvGrpSpPr/>
            <p:nvPr/>
          </p:nvGrpSpPr>
          <p:grpSpPr>
            <a:xfrm>
              <a:off x="3505320" y="2133360"/>
              <a:ext cx="152280" cy="3733560"/>
              <a:chOff x="3505320" y="2133360"/>
              <a:chExt cx="152280" cy="3733560"/>
            </a:xfrm>
          </p:grpSpPr>
          <p:sp>
            <p:nvSpPr>
              <p:cNvPr id="1272" name="Line 80"/>
              <p:cNvSpPr/>
              <p:nvPr/>
            </p:nvSpPr>
            <p:spPr>
              <a:xfrm flipV="1">
                <a:off x="3581640" y="2133360"/>
                <a:ext cx="0" cy="194292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73" name="Oval 81"/>
              <p:cNvSpPr/>
              <p:nvPr/>
            </p:nvSpPr>
            <p:spPr>
              <a:xfrm>
                <a:off x="3505320" y="3917880"/>
                <a:ext cx="152280" cy="152640"/>
              </a:xfrm>
              <a:prstGeom prst="ellipse">
                <a:avLst/>
              </a:prstGeom>
              <a:solidFill>
                <a:srgbClr val="8a5c00"/>
              </a:solidFill>
              <a:ln w="93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74" name="Line 82"/>
              <p:cNvSpPr/>
              <p:nvPr/>
            </p:nvSpPr>
            <p:spPr>
              <a:xfrm flipH="1" flipV="1">
                <a:off x="3581280" y="4190760"/>
                <a:ext cx="12600" cy="749160"/>
              </a:xfrm>
              <a:prstGeom prst="line">
                <a:avLst/>
              </a:prstGeom>
              <a:ln w="38160">
                <a:solidFill>
                  <a:srgbClr val="1f03eb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75" name="Line 83"/>
              <p:cNvSpPr/>
              <p:nvPr/>
            </p:nvSpPr>
            <p:spPr>
              <a:xfrm flipV="1">
                <a:off x="3581640" y="4939920"/>
                <a:ext cx="12600" cy="927000"/>
              </a:xfrm>
              <a:prstGeom prst="line">
                <a:avLst/>
              </a:prstGeom>
              <a:ln w="38160">
                <a:solidFill>
                  <a:srgbClr val="1f03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276" name="Text Box 84"/>
            <p:cNvSpPr/>
            <p:nvPr/>
          </p:nvSpPr>
          <p:spPr>
            <a:xfrm>
              <a:off x="3549600" y="5073480"/>
              <a:ext cx="39996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77" name="Oval 60"/>
          <p:cNvSpPr/>
          <p:nvPr/>
        </p:nvSpPr>
        <p:spPr>
          <a:xfrm>
            <a:off x="3505320" y="2514600"/>
            <a:ext cx="152280" cy="152280"/>
          </a:xfrm>
          <a:prstGeom prst="ellipse">
            <a:avLst/>
          </a:prstGeom>
          <a:solidFill>
            <a:srgbClr val="8a5c00"/>
          </a:solidFill>
          <a:ln w="9360">
            <a:solidFill>
              <a:srgbClr val="fb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8" name="Text Box 61"/>
          <p:cNvSpPr/>
          <p:nvPr/>
        </p:nvSpPr>
        <p:spPr>
          <a:xfrm>
            <a:off x="3549600" y="2362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b4a18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9" name="Text Box 86"/>
          <p:cNvSpPr/>
          <p:nvPr/>
        </p:nvSpPr>
        <p:spPr>
          <a:xfrm>
            <a:off x="373068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0" name="AutoShape 87"/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60200" y="219240"/>
            <a:ext cx="88236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1f03eb"/>
                </a:solidFill>
                <a:latin typeface="Monotype Corsiva"/>
              </a:rPr>
              <a:t>Признак перпендикулярности прямой и плоскости</a:t>
            </a:r>
            <a:endParaRPr b="0" lang="en-US" sz="37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Rectangle 3"/>
          <p:cNvSpPr/>
          <p:nvPr/>
        </p:nvSpPr>
        <p:spPr>
          <a:xfrm>
            <a:off x="846000" y="11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ли прямая перпендикулярна к двум пересекающимся прямым, лежащим в плоскости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 она перпендикулярна к этой плоскост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3" name="AutoShape 4"/>
          <p:cNvSpPr/>
          <p:nvPr/>
        </p:nvSpPr>
        <p:spPr>
          <a:xfrm>
            <a:off x="457200" y="4114800"/>
            <a:ext cx="5029200" cy="1828800"/>
          </a:xfrm>
          <a:prstGeom prst="parallelogram">
            <a:avLst>
              <a:gd name="adj" fmla="val 68750"/>
            </a:avLst>
          </a:prstGeom>
          <a:solidFill>
            <a:srgbClr val="f9cfc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4" name="Text Box 5"/>
          <p:cNvSpPr/>
          <p:nvPr/>
        </p:nvSpPr>
        <p:spPr>
          <a:xfrm>
            <a:off x="4652640" y="40384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5" name="Line 6"/>
          <p:cNvSpPr/>
          <p:nvPr/>
        </p:nvSpPr>
        <p:spPr>
          <a:xfrm flipH="1" flipV="1">
            <a:off x="1371240" y="4800600"/>
            <a:ext cx="2438280" cy="83808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6" name="Text Box 7"/>
          <p:cNvSpPr/>
          <p:nvPr/>
        </p:nvSpPr>
        <p:spPr>
          <a:xfrm>
            <a:off x="1525320" y="43434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7" name="Text Box 12"/>
          <p:cNvSpPr/>
          <p:nvPr/>
        </p:nvSpPr>
        <p:spPr>
          <a:xfrm>
            <a:off x="5318280" y="420516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8" name="Text Box 14"/>
          <p:cNvSpPr/>
          <p:nvPr/>
        </p:nvSpPr>
        <p:spPr>
          <a:xfrm>
            <a:off x="5051520" y="48150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89" name="Group 40"/>
          <p:cNvGrpSpPr/>
          <p:nvPr/>
        </p:nvGrpSpPr>
        <p:grpSpPr>
          <a:xfrm>
            <a:off x="3447000" y="2449440"/>
            <a:ext cx="667800" cy="4255920"/>
            <a:chOff x="3447000" y="2449440"/>
            <a:chExt cx="667800" cy="4255920"/>
          </a:xfrm>
        </p:grpSpPr>
        <p:sp>
          <p:nvSpPr>
            <p:cNvPr id="1290" name="Line 16"/>
            <p:cNvSpPr/>
            <p:nvPr/>
          </p:nvSpPr>
          <p:spPr>
            <a:xfrm flipV="1">
              <a:off x="4038480" y="2666520"/>
              <a:ext cx="0" cy="2210040"/>
            </a:xfrm>
            <a:prstGeom prst="line">
              <a:avLst/>
            </a:prstGeom>
            <a:ln w="5724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1" name="Text Box 17"/>
            <p:cNvSpPr/>
            <p:nvPr/>
          </p:nvSpPr>
          <p:spPr>
            <a:xfrm>
              <a:off x="3447000" y="244944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2" name="Oval 18"/>
            <p:cNvSpPr/>
            <p:nvPr/>
          </p:nvSpPr>
          <p:spPr>
            <a:xfrm>
              <a:off x="3962520" y="4876920"/>
              <a:ext cx="152280" cy="152280"/>
            </a:xfrm>
            <a:prstGeom prst="ellipse">
              <a:avLst/>
            </a:prstGeom>
            <a:solidFill>
              <a:srgbClr val="8a5c00"/>
            </a:solidFill>
            <a:ln w="9360">
              <a:solidFill>
                <a:srgbClr val="8a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3" name="Line 19"/>
            <p:cNvSpPr/>
            <p:nvPr/>
          </p:nvSpPr>
          <p:spPr>
            <a:xfrm flipV="1">
              <a:off x="4038480" y="5029200"/>
              <a:ext cx="0" cy="914400"/>
            </a:xfrm>
            <a:prstGeom prst="line">
              <a:avLst/>
            </a:prstGeom>
            <a:ln w="5724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94" name="Line 20"/>
            <p:cNvSpPr/>
            <p:nvPr/>
          </p:nvSpPr>
          <p:spPr>
            <a:xfrm flipV="1">
              <a:off x="4038480" y="5866920"/>
              <a:ext cx="0" cy="838440"/>
            </a:xfrm>
            <a:prstGeom prst="line">
              <a:avLst/>
            </a:prstGeom>
            <a:ln w="5724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95" name="Line 27"/>
          <p:cNvSpPr/>
          <p:nvPr/>
        </p:nvSpPr>
        <p:spPr>
          <a:xfrm flipV="1">
            <a:off x="1066680" y="4419720"/>
            <a:ext cx="2514600" cy="137160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6" name="Text Box 28"/>
          <p:cNvSpPr/>
          <p:nvPr/>
        </p:nvSpPr>
        <p:spPr>
          <a:xfrm>
            <a:off x="1068120" y="50785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7" name="Oval 29"/>
          <p:cNvSpPr/>
          <p:nvPr/>
        </p:nvSpPr>
        <p:spPr>
          <a:xfrm>
            <a:off x="2209680" y="5029200"/>
            <a:ext cx="152640" cy="152280"/>
          </a:xfrm>
          <a:prstGeom prst="ellipse">
            <a:avLst/>
          </a:prstGeom>
          <a:solidFill>
            <a:srgbClr val="8a5c00"/>
          </a:solidFill>
          <a:ln w="9360">
            <a:solidFill>
              <a:srgbClr val="8a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8" name="Line 30"/>
          <p:cNvSpPr/>
          <p:nvPr/>
        </p:nvSpPr>
        <p:spPr>
          <a:xfrm>
            <a:off x="2514600" y="4191120"/>
            <a:ext cx="838080" cy="167616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9" name="Text Box 31"/>
          <p:cNvSpPr/>
          <p:nvPr/>
        </p:nvSpPr>
        <p:spPr>
          <a:xfrm>
            <a:off x="2593800" y="4038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0" name="Text Box 32"/>
          <p:cNvSpPr/>
          <p:nvPr/>
        </p:nvSpPr>
        <p:spPr>
          <a:xfrm>
            <a:off x="2058480" y="4495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1" name="Text Box 9"/>
          <p:cNvSpPr/>
          <p:nvPr/>
        </p:nvSpPr>
        <p:spPr>
          <a:xfrm>
            <a:off x="4892760" y="2390760"/>
            <a:ext cx="380988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p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q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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; q 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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 ∩ q = 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2" name="AutoShape 41"/>
          <p:cNvSpPr/>
          <p:nvPr/>
        </p:nvSpPr>
        <p:spPr>
          <a:xfrm>
            <a:off x="8037360" y="6324480"/>
            <a:ext cx="1106640" cy="533520"/>
          </a:xfrm>
          <a:custGeom>
            <a:avLst/>
            <a:gdLst>
              <a:gd name="textAreaLeft" fmla="*/ 34560 w 1106640"/>
              <a:gd name="textAreaRight" fmla="*/ 1072080 w 1106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4788" h="21600">
                <a:moveTo>
                  <a:pt x="0" y="0"/>
                </a:moveTo>
                <a:lnTo>
                  <a:pt x="44788" y="0"/>
                </a:lnTo>
                <a:lnTo>
                  <a:pt x="44788" y="21600"/>
                </a:lnTo>
                <a:lnTo>
                  <a:pt x="0" y="21600"/>
                </a:lnTo>
                <a:close/>
              </a:path>
              <a:path fill="lightenLess" w="44788" h="21600">
                <a:moveTo>
                  <a:pt x="0" y="0"/>
                </a:moveTo>
                <a:lnTo>
                  <a:pt x="44788" y="0"/>
                </a:lnTo>
                <a:lnTo>
                  <a:pt x="43388" y="1400"/>
                </a:lnTo>
                <a:lnTo>
                  <a:pt x="1400" y="1400"/>
                </a:lnTo>
                <a:close/>
              </a:path>
              <a:path fill="darken" w="44788" h="21600">
                <a:moveTo>
                  <a:pt x="44788" y="0"/>
                </a:moveTo>
                <a:lnTo>
                  <a:pt x="44788" y="21600"/>
                </a:lnTo>
                <a:lnTo>
                  <a:pt x="43388" y="20200"/>
                </a:lnTo>
                <a:lnTo>
                  <a:pt x="43388" y="1400"/>
                </a:lnTo>
                <a:close/>
              </a:path>
              <a:path fill="darkenLess" w="44788" h="21600">
                <a:moveTo>
                  <a:pt x="44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88" y="20200"/>
                </a:lnTo>
                <a:close/>
              </a:path>
              <a:path fill="lighten" w="44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88" h="21600">
                <a:moveTo>
                  <a:pt x="15387" y="10800"/>
                </a:moveTo>
                <a:lnTo>
                  <a:pt x="29400" y="3794"/>
                </a:lnTo>
                <a:lnTo>
                  <a:pt x="29400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AutoShape 6"/>
          <p:cNvSpPr/>
          <p:nvPr/>
        </p:nvSpPr>
        <p:spPr>
          <a:xfrm>
            <a:off x="108000" y="3613320"/>
            <a:ext cx="5562720" cy="1752480"/>
          </a:xfrm>
          <a:prstGeom prst="parallelogram">
            <a:avLst>
              <a:gd name="adj" fmla="val 72830"/>
            </a:avLst>
          </a:prstGeom>
          <a:solidFill>
            <a:srgbClr val="a6cdbd"/>
          </a:solidFill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457200" y="228600"/>
            <a:ext cx="81532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Arial"/>
              </a:rPr>
              <a:t>Теорема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5" name="Rectangle 5"/>
          <p:cNvSpPr/>
          <p:nvPr/>
        </p:nvSpPr>
        <p:spPr>
          <a:xfrm>
            <a:off x="984240" y="536400"/>
            <a:ext cx="8001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1f03eb"/>
                </a:solidFill>
                <a:latin typeface="Monotype Corsiva"/>
              </a:rPr>
              <a:t>Через любую точку пространства проходит прямая, перпендикулярная к данной плоскости, и притом только одна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6" name="Text Box 25"/>
          <p:cNvSpPr/>
          <p:nvPr/>
        </p:nvSpPr>
        <p:spPr>
          <a:xfrm>
            <a:off x="263880" y="47563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7" name="Text Box 27"/>
          <p:cNvSpPr/>
          <p:nvPr/>
        </p:nvSpPr>
        <p:spPr>
          <a:xfrm>
            <a:off x="3159360" y="4680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8" name="Line 7"/>
          <p:cNvSpPr/>
          <p:nvPr/>
        </p:nvSpPr>
        <p:spPr>
          <a:xfrm flipH="1">
            <a:off x="2927520" y="3613320"/>
            <a:ext cx="1295280" cy="175248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09" name="Group 31"/>
          <p:cNvGrpSpPr/>
          <p:nvPr/>
        </p:nvGrpSpPr>
        <p:grpSpPr>
          <a:xfrm>
            <a:off x="793440" y="2851200"/>
            <a:ext cx="4267440" cy="3200400"/>
            <a:chOff x="793440" y="2851200"/>
            <a:chExt cx="4267440" cy="3200400"/>
          </a:xfrm>
        </p:grpSpPr>
        <p:sp>
          <p:nvSpPr>
            <p:cNvPr id="1310" name="Line 13"/>
            <p:cNvSpPr/>
            <p:nvPr/>
          </p:nvSpPr>
          <p:spPr>
            <a:xfrm>
              <a:off x="793800" y="4451400"/>
              <a:ext cx="0" cy="914400"/>
            </a:xfrm>
            <a:prstGeom prst="line">
              <a:avLst/>
            </a:prstGeom>
            <a:ln w="2844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1" name="Freeform 15"/>
            <p:cNvSpPr/>
            <p:nvPr/>
          </p:nvSpPr>
          <p:spPr>
            <a:xfrm>
              <a:off x="793800" y="2927520"/>
              <a:ext cx="4267080" cy="152388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688" h="960">
                  <a:moveTo>
                    <a:pt x="0" y="960"/>
                  </a:moveTo>
                  <a:lnTo>
                    <a:pt x="0" y="0"/>
                  </a:lnTo>
                  <a:lnTo>
                    <a:pt x="2688" y="0"/>
                  </a:lnTo>
                  <a:lnTo>
                    <a:pt x="2688" y="960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2" name="Line 9"/>
            <p:cNvSpPr/>
            <p:nvPr/>
          </p:nvSpPr>
          <p:spPr>
            <a:xfrm>
              <a:off x="1403280" y="3613320"/>
              <a:ext cx="3657600" cy="0"/>
            </a:xfrm>
            <a:prstGeom prst="line">
              <a:avLst/>
            </a:prstGeom>
            <a:ln w="28440">
              <a:solidFill>
                <a:srgbClr val="7030a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3" name="Line 12"/>
            <p:cNvSpPr/>
            <p:nvPr/>
          </p:nvSpPr>
          <p:spPr>
            <a:xfrm flipH="1">
              <a:off x="793440" y="3613320"/>
              <a:ext cx="609480" cy="838080"/>
            </a:xfrm>
            <a:prstGeom prst="line">
              <a:avLst/>
            </a:prstGeom>
            <a:ln w="28440">
              <a:solidFill>
                <a:srgbClr val="0020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4" name="Freeform 22"/>
            <p:cNvSpPr/>
            <p:nvPr/>
          </p:nvSpPr>
          <p:spPr>
            <a:xfrm>
              <a:off x="793800" y="4451400"/>
              <a:ext cx="4267080" cy="160020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688" h="1008">
                  <a:moveTo>
                    <a:pt x="0" y="576"/>
                  </a:moveTo>
                  <a:lnTo>
                    <a:pt x="2256" y="576"/>
                  </a:lnTo>
                  <a:lnTo>
                    <a:pt x="2688" y="0"/>
                  </a:lnTo>
                  <a:lnTo>
                    <a:pt x="2688" y="1008"/>
                  </a:lnTo>
                  <a:lnTo>
                    <a:pt x="0" y="1008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ffcc66"/>
            </a:solidFill>
            <a:ln w="28440">
              <a:solidFill>
                <a:srgbClr val="703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5" name="Text Box 26"/>
            <p:cNvSpPr/>
            <p:nvPr/>
          </p:nvSpPr>
          <p:spPr>
            <a:xfrm>
              <a:off x="4527720" y="28512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l-GR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β</a:t>
              </a:r>
              <a:endParaRPr b="0" lang="en-US" sz="3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16" name="Group 33"/>
          <p:cNvGrpSpPr/>
          <p:nvPr/>
        </p:nvGrpSpPr>
        <p:grpSpPr>
          <a:xfrm>
            <a:off x="2165400" y="2927520"/>
            <a:ext cx="0" cy="3124080"/>
            <a:chOff x="2165400" y="2927520"/>
            <a:chExt cx="0" cy="3124080"/>
          </a:xfrm>
        </p:grpSpPr>
        <p:sp>
          <p:nvSpPr>
            <p:cNvPr id="1317" name="Line 19"/>
            <p:cNvSpPr/>
            <p:nvPr/>
          </p:nvSpPr>
          <p:spPr>
            <a:xfrm>
              <a:off x="2165400" y="2927520"/>
              <a:ext cx="0" cy="152388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8" name="Line 20"/>
            <p:cNvSpPr/>
            <p:nvPr/>
          </p:nvSpPr>
          <p:spPr>
            <a:xfrm>
              <a:off x="2165400" y="4451400"/>
              <a:ext cx="0" cy="914400"/>
            </a:xfrm>
            <a:prstGeom prst="line">
              <a:avLst/>
            </a:prstGeom>
            <a:ln w="38160">
              <a:solidFill>
                <a:srgbClr val="1f03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19" name="Line 21"/>
            <p:cNvSpPr/>
            <p:nvPr/>
          </p:nvSpPr>
          <p:spPr>
            <a:xfrm>
              <a:off x="2165400" y="5365800"/>
              <a:ext cx="0" cy="685800"/>
            </a:xfrm>
            <a:prstGeom prst="line">
              <a:avLst/>
            </a:prstGeom>
            <a:ln w="38160">
              <a:solidFill>
                <a:srgbClr val="1f03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320" name="Text Box 24"/>
          <p:cNvSpPr/>
          <p:nvPr/>
        </p:nvSpPr>
        <p:spPr>
          <a:xfrm>
            <a:off x="2165400" y="298764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1" name="Oval 23"/>
          <p:cNvSpPr/>
          <p:nvPr/>
        </p:nvSpPr>
        <p:spPr>
          <a:xfrm>
            <a:off x="2089080" y="3232080"/>
            <a:ext cx="152640" cy="152640"/>
          </a:xfrm>
          <a:prstGeom prst="ellipse">
            <a:avLst/>
          </a:prstGeom>
          <a:solidFill>
            <a:srgbClr val="8e5f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2" name="Line 16"/>
          <p:cNvSpPr/>
          <p:nvPr/>
        </p:nvSpPr>
        <p:spPr>
          <a:xfrm flipH="1">
            <a:off x="3612960" y="3613320"/>
            <a:ext cx="609480" cy="838080"/>
          </a:xfrm>
          <a:prstGeom prst="line">
            <a:avLst/>
          </a:prstGeom>
          <a:ln w="38160">
            <a:solidFill>
              <a:srgbClr val="1f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3" name="Text Box 29"/>
          <p:cNvSpPr/>
          <p:nvPr/>
        </p:nvSpPr>
        <p:spPr>
          <a:xfrm>
            <a:off x="4454280" y="3917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4" name="Text Box 28"/>
          <p:cNvSpPr/>
          <p:nvPr/>
        </p:nvSpPr>
        <p:spPr>
          <a:xfrm>
            <a:off x="2169000" y="536580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5" name="Oval 34"/>
          <p:cNvSpPr/>
          <p:nvPr/>
        </p:nvSpPr>
        <p:spPr>
          <a:xfrm>
            <a:off x="2089080" y="4375080"/>
            <a:ext cx="152640" cy="152640"/>
          </a:xfrm>
          <a:prstGeom prst="ellipse">
            <a:avLst/>
          </a:prstGeom>
          <a:solidFill>
            <a:srgbClr val="8e5f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6" name="AutoShape 35"/>
          <p:cNvSpPr/>
          <p:nvPr/>
        </p:nvSpPr>
        <p:spPr>
          <a:xfrm>
            <a:off x="8062920" y="6219720"/>
            <a:ext cx="927000" cy="533520"/>
          </a:xfrm>
          <a:custGeom>
            <a:avLst/>
            <a:gdLst>
              <a:gd name="textAreaLeft" fmla="*/ 34560 w 927000"/>
              <a:gd name="textAreaRight" fmla="*/ 892440 w 927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520" h="21600">
                <a:moveTo>
                  <a:pt x="0" y="0"/>
                </a:moveTo>
                <a:lnTo>
                  <a:pt x="37520" y="0"/>
                </a:lnTo>
                <a:lnTo>
                  <a:pt x="37520" y="21600"/>
                </a:lnTo>
                <a:lnTo>
                  <a:pt x="0" y="21600"/>
                </a:lnTo>
                <a:close/>
              </a:path>
              <a:path fill="lightenLess" w="37520" h="21600">
                <a:moveTo>
                  <a:pt x="0" y="0"/>
                </a:moveTo>
                <a:lnTo>
                  <a:pt x="37520" y="0"/>
                </a:lnTo>
                <a:lnTo>
                  <a:pt x="36120" y="1400"/>
                </a:lnTo>
                <a:lnTo>
                  <a:pt x="1400" y="1400"/>
                </a:lnTo>
                <a:close/>
              </a:path>
              <a:path fill="darken" w="37520" h="21600">
                <a:moveTo>
                  <a:pt x="37520" y="0"/>
                </a:moveTo>
                <a:lnTo>
                  <a:pt x="37520" y="21600"/>
                </a:lnTo>
                <a:lnTo>
                  <a:pt x="36120" y="20200"/>
                </a:lnTo>
                <a:lnTo>
                  <a:pt x="36120" y="1400"/>
                </a:lnTo>
                <a:close/>
              </a:path>
              <a:path fill="darkenLess" w="37520" h="21600">
                <a:moveTo>
                  <a:pt x="375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20" y="20200"/>
                </a:lnTo>
                <a:close/>
              </a:path>
              <a:path fill="lighten" w="375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20" h="21600">
                <a:moveTo>
                  <a:pt x="11753" y="10800"/>
                </a:moveTo>
                <a:lnTo>
                  <a:pt x="25766" y="3794"/>
                </a:lnTo>
                <a:lnTo>
                  <a:pt x="25766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7" name="Text Box 17"/>
          <p:cNvSpPr/>
          <p:nvPr/>
        </p:nvSpPr>
        <p:spPr>
          <a:xfrm>
            <a:off x="5521320" y="2557440"/>
            <a:ext cx="37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ь: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∃</a:t>
            </a:r>
            <a:r>
              <a:rPr b="1" lang="el-G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, с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М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;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– !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8" name="Text Box 19"/>
          <p:cNvSpPr/>
          <p:nvPr/>
        </p:nvSpPr>
        <p:spPr>
          <a:xfrm>
            <a:off x="5484960" y="4032360"/>
            <a:ext cx="38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9" name="Text Box 14"/>
          <p:cNvSpPr/>
          <p:nvPr/>
        </p:nvSpPr>
        <p:spPr>
          <a:xfrm>
            <a:off x="5351400" y="1932120"/>
            <a:ext cx="38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но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L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 </a:t>
            </a:r>
            <a:r>
              <a:rPr b="1" lang="ru-RU" sz="3200" spc="-1" strike="noStrike">
                <a:solidFill>
                  <a:srgbClr val="c00000"/>
                </a:solidFill>
                <a:latin typeface="Symbol"/>
                <a:ea typeface="Symbol"/>
              </a:rPr>
              <a:t>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0" name="Полилиния 30"/>
          <p:cNvSpPr/>
          <p:nvPr/>
        </p:nvSpPr>
        <p:spPr>
          <a:xfrm>
            <a:off x="3448080" y="4446720"/>
            <a:ext cx="403200" cy="225360"/>
          </a:xfrm>
          <a:custGeom>
            <a:avLst/>
            <a:gdLst/>
            <a:ahLst/>
            <a:rect l="l" t="t" r="r" b="b"/>
            <a:pathLst>
              <a:path w="402672" h="226503">
                <a:moveTo>
                  <a:pt x="402672" y="0"/>
                </a:moveTo>
                <a:lnTo>
                  <a:pt x="251670" y="226503"/>
                </a:lnTo>
                <a:lnTo>
                  <a:pt x="0" y="226503"/>
                </a:lnTo>
              </a:path>
            </a:pathLst>
          </a:custGeom>
          <a:noFill/>
          <a:ln w="2844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42720" y="228600"/>
            <a:ext cx="84582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f03eb"/>
                </a:solidFill>
                <a:latin typeface="Monotype Corsiva"/>
              </a:rPr>
              <a:t>Перпендикуляр и наклонны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2" name="AutoShape 4"/>
          <p:cNvSpPr/>
          <p:nvPr/>
        </p:nvSpPr>
        <p:spPr>
          <a:xfrm>
            <a:off x="65160" y="4043520"/>
            <a:ext cx="7238880" cy="2012760"/>
          </a:xfrm>
          <a:prstGeom prst="parallelogram">
            <a:avLst>
              <a:gd name="adj" fmla="val 96239"/>
            </a:avLst>
          </a:prstGeom>
          <a:solidFill>
            <a:srgbClr val="f9cfc3"/>
          </a:solidFill>
          <a:ln w="2844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3505320" y="2019240"/>
            <a:ext cx="0" cy="2819520"/>
          </a:xfrm>
          <a:prstGeom prst="line">
            <a:avLst/>
          </a:prstGeom>
          <a:ln w="381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4" name="Line 6"/>
          <p:cNvSpPr/>
          <p:nvPr/>
        </p:nvSpPr>
        <p:spPr>
          <a:xfrm flipH="1">
            <a:off x="1181160" y="2019240"/>
            <a:ext cx="2324160" cy="358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5" name="Line 8"/>
          <p:cNvSpPr/>
          <p:nvPr/>
        </p:nvSpPr>
        <p:spPr>
          <a:xfrm>
            <a:off x="3505320" y="2019240"/>
            <a:ext cx="2095560" cy="3200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6" name="Text Box 15"/>
          <p:cNvSpPr/>
          <p:nvPr/>
        </p:nvSpPr>
        <p:spPr>
          <a:xfrm>
            <a:off x="3200400" y="129528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7" name="Text Box 16"/>
          <p:cNvSpPr/>
          <p:nvPr/>
        </p:nvSpPr>
        <p:spPr>
          <a:xfrm>
            <a:off x="615960" y="547200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8" name="Text Box 17"/>
          <p:cNvSpPr/>
          <p:nvPr/>
        </p:nvSpPr>
        <p:spPr>
          <a:xfrm>
            <a:off x="5638680" y="4762440"/>
            <a:ext cx="62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9" name="Text Box 18"/>
          <p:cNvSpPr/>
          <p:nvPr/>
        </p:nvSpPr>
        <p:spPr>
          <a:xfrm>
            <a:off x="3192480" y="4838760"/>
            <a:ext cx="6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0" name="Text Box 19"/>
          <p:cNvSpPr/>
          <p:nvPr/>
        </p:nvSpPr>
        <p:spPr>
          <a:xfrm>
            <a:off x="6480360" y="3962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1" name="Oval 20"/>
          <p:cNvSpPr/>
          <p:nvPr/>
        </p:nvSpPr>
        <p:spPr>
          <a:xfrm>
            <a:off x="3416400" y="1917720"/>
            <a:ext cx="152280" cy="1522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2" name="Text Box 24"/>
          <p:cNvSpPr/>
          <p:nvPr/>
        </p:nvSpPr>
        <p:spPr>
          <a:xfrm>
            <a:off x="385920" y="1828800"/>
            <a:ext cx="2225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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3" name="Text Box 27"/>
          <p:cNvSpPr/>
          <p:nvPr/>
        </p:nvSpPr>
        <p:spPr>
          <a:xfrm>
            <a:off x="385920" y="3117960"/>
            <a:ext cx="161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4" name="Text Box 28"/>
          <p:cNvSpPr/>
          <p:nvPr/>
        </p:nvSpPr>
        <p:spPr>
          <a:xfrm>
            <a:off x="385920" y="3740040"/>
            <a:ext cx="161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5021280" y="129528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МА и МВ – наклонны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6" name="Text Box 32"/>
          <p:cNvSpPr/>
          <p:nvPr/>
        </p:nvSpPr>
        <p:spPr>
          <a:xfrm>
            <a:off x="385920" y="2451240"/>
            <a:ext cx="161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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7" name="Text Box 33"/>
          <p:cNvSpPr/>
          <p:nvPr/>
        </p:nvSpPr>
        <p:spPr>
          <a:xfrm>
            <a:off x="5021280" y="1981080"/>
            <a:ext cx="41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АН и ВН – проекци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наклонных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8" name="Text Box 34"/>
          <p:cNvSpPr/>
          <p:nvPr/>
        </p:nvSpPr>
        <p:spPr>
          <a:xfrm>
            <a:off x="5021280" y="315432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03eb"/>
                </a:solidFill>
                <a:latin typeface="Times New Roman"/>
                <a:ea typeface="Times New Roman"/>
              </a:rPr>
              <a:t>МН – перпендикуляр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9" name="Line 7"/>
          <p:cNvSpPr/>
          <p:nvPr/>
        </p:nvSpPr>
        <p:spPr>
          <a:xfrm flipH="1">
            <a:off x="1181160" y="4838760"/>
            <a:ext cx="23623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0" name="Oval 22"/>
          <p:cNvSpPr/>
          <p:nvPr/>
        </p:nvSpPr>
        <p:spPr>
          <a:xfrm>
            <a:off x="1060560" y="5562720"/>
            <a:ext cx="152280" cy="1522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1" name="Text Box 35"/>
          <p:cNvSpPr/>
          <p:nvPr/>
        </p:nvSpPr>
        <p:spPr>
          <a:xfrm>
            <a:off x="372960" y="1284120"/>
            <a:ext cx="1616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 </a:t>
            </a:r>
            <a:r>
              <a:rPr b="1" lang="ru-RU" sz="3600" spc="-1" strike="noStrike">
                <a:solidFill>
                  <a:srgbClr val="c00000"/>
                </a:solidFill>
                <a:latin typeface="Symbol"/>
                <a:ea typeface="Symbol"/>
              </a:rPr>
              <a:t>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2" name="AutoShape 36"/>
          <p:cNvSpPr/>
          <p:nvPr/>
        </p:nvSpPr>
        <p:spPr>
          <a:xfrm>
            <a:off x="8172360" y="6324480"/>
            <a:ext cx="971640" cy="533520"/>
          </a:xfrm>
          <a:custGeom>
            <a:avLst/>
            <a:gdLst>
              <a:gd name="textAreaLeft" fmla="*/ 34560 w 971640"/>
              <a:gd name="textAreaRight" fmla="*/ 937080 w 971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9326" h="21600">
                <a:moveTo>
                  <a:pt x="0" y="0"/>
                </a:moveTo>
                <a:lnTo>
                  <a:pt x="39326" y="0"/>
                </a:lnTo>
                <a:lnTo>
                  <a:pt x="39326" y="21600"/>
                </a:lnTo>
                <a:lnTo>
                  <a:pt x="0" y="21600"/>
                </a:lnTo>
                <a:close/>
              </a:path>
              <a:path fill="lightenLess" w="39326" h="21600">
                <a:moveTo>
                  <a:pt x="0" y="0"/>
                </a:moveTo>
                <a:lnTo>
                  <a:pt x="39326" y="0"/>
                </a:lnTo>
                <a:lnTo>
                  <a:pt x="37926" y="1400"/>
                </a:lnTo>
                <a:lnTo>
                  <a:pt x="1400" y="1400"/>
                </a:lnTo>
                <a:close/>
              </a:path>
              <a:path fill="darken" w="39326" h="21600">
                <a:moveTo>
                  <a:pt x="39326" y="0"/>
                </a:moveTo>
                <a:lnTo>
                  <a:pt x="39326" y="21600"/>
                </a:lnTo>
                <a:lnTo>
                  <a:pt x="37926" y="20200"/>
                </a:lnTo>
                <a:lnTo>
                  <a:pt x="37926" y="1400"/>
                </a:lnTo>
                <a:close/>
              </a:path>
              <a:path fill="darkenLess" w="39326" h="21600">
                <a:moveTo>
                  <a:pt x="393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26" y="20200"/>
                </a:lnTo>
                <a:close/>
              </a:path>
              <a:path fill="lighten" w="393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26" h="21600">
                <a:moveTo>
                  <a:pt x="12656" y="10800"/>
                </a:moveTo>
                <a:lnTo>
                  <a:pt x="26669" y="3794"/>
                </a:lnTo>
                <a:lnTo>
                  <a:pt x="26669" y="1780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3" name="Freeform 37"/>
          <p:cNvSpPr/>
          <p:nvPr/>
        </p:nvSpPr>
        <p:spPr>
          <a:xfrm>
            <a:off x="3505320" y="4362480"/>
            <a:ext cx="360360" cy="541440"/>
          </a:xfrm>
          <a:custGeom>
            <a:avLst/>
            <a:gdLst>
              <a:gd name="textAreaLeft" fmla="*/ 0 w 360360"/>
              <a:gd name="textAreaRight" fmla="*/ 360720 w 360360"/>
              <a:gd name="textAreaTop" fmla="*/ 0 h 541440"/>
              <a:gd name="textAreaBottom" fmla="*/ 541440 h 541440"/>
            </a:gdLst>
            <a:ahLst/>
            <a:rect l="textAreaLeft" t="textAreaTop" r="textAreaRight" b="textAreaBottom"/>
            <a:pathLst>
              <a:path w="255" h="341">
                <a:moveTo>
                  <a:pt x="0" y="0"/>
                </a:moveTo>
                <a:lnTo>
                  <a:pt x="255" y="57"/>
                </a:lnTo>
                <a:lnTo>
                  <a:pt x="255" y="341"/>
                </a:lnTo>
              </a:path>
            </a:pathLst>
          </a:custGeom>
          <a:noFill/>
          <a:ln w="3816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3543480" y="4838760"/>
            <a:ext cx="205740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5" name="Oval 23"/>
          <p:cNvSpPr/>
          <p:nvPr/>
        </p:nvSpPr>
        <p:spPr>
          <a:xfrm>
            <a:off x="5549760" y="5162400"/>
            <a:ext cx="152640" cy="152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1f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6" name="Oval 21"/>
          <p:cNvSpPr/>
          <p:nvPr/>
        </p:nvSpPr>
        <p:spPr>
          <a:xfrm>
            <a:off x="3429000" y="4762440"/>
            <a:ext cx="152280" cy="152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8e5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7" name="Freeform 38"/>
          <p:cNvSpPr/>
          <p:nvPr/>
        </p:nvSpPr>
        <p:spPr>
          <a:xfrm>
            <a:off x="3132000" y="4373640"/>
            <a:ext cx="360360" cy="585720"/>
          </a:xfrm>
          <a:custGeom>
            <a:avLst/>
            <a:gdLst>
              <a:gd name="textAreaLeft" fmla="*/ 0 w 360360"/>
              <a:gd name="textAreaRight" fmla="*/ 360720 w 36036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227" h="369">
                <a:moveTo>
                  <a:pt x="227" y="0"/>
                </a:moveTo>
                <a:lnTo>
                  <a:pt x="0" y="85"/>
                </a:lnTo>
                <a:lnTo>
                  <a:pt x="0" y="369"/>
                </a:lnTo>
              </a:path>
            </a:pathLst>
          </a:custGeom>
          <a:noFill/>
          <a:ln w="38160">
            <a:solidFill>
              <a:srgbClr val="1f03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inG</cp:lastModifiedBy>
  <dcterms:modified xsi:type="dcterms:W3CDTF">2022-05-10T23:39:12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