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22.jpeg" ContentType="image/jpeg"/>
  <Override PartName="/ppt/media/image39.png" ContentType="image/png"/>
  <Override PartName="/ppt/media/image28.jpeg" ContentType="image/jpeg"/>
  <Override PartName="/ppt/media/image12.jpeg" ContentType="image/jpeg"/>
  <Override PartName="/ppt/media/image13.png" ContentType="image/png"/>
  <Override PartName="/ppt/media/image35.png" ContentType="image/png"/>
  <Override PartName="/ppt/media/image5.jpeg" ContentType="image/jpeg"/>
  <Override PartName="/ppt/media/image36.jpeg" ContentType="image/jpeg"/>
  <Override PartName="/ppt/media/image9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1.png" ContentType="image/png"/>
  <Override PartName="/ppt/media/image30.jpeg" ContentType="image/jpeg"/>
  <Override PartName="/ppt/media/image31.png" ContentType="image/png"/>
  <Override PartName="/ppt/media/image43.png" ContentType="image/png"/>
  <Override PartName="/ppt/media/image34.jpeg" ContentType="image/jpeg"/>
  <Override PartName="/ppt/media/image37.png" ContentType="image/png"/>
  <Override PartName="/ppt/media/image44.jpeg" ContentType="image/jpeg"/>
  <Override PartName="/ppt/media/image45.png" ContentType="image/png"/>
  <Override PartName="/ppt/media/image18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2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3517-2115-4DEC-B466-37A4AF98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3B7E-672B-469E-82A6-11F2D290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2C4E-E9BD-4B82-8337-C7019658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121-6708-4243-9B4C-047AD2BE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6EE7E-8162-400C-8F4E-6B6C9235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7A57C-4067-4177-BFF1-7D6AF950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0D272-BC66-4617-8D76-544A88C3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9BDFA-D2EC-4C27-A373-A985954B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20C39-9B94-4049-82AE-61B23ACA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4EEAD-B700-4E79-B479-37BC5510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C84CD-6C5E-4246-98BB-CEA949DA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453-31E8-4E6C-B795-8A128E6B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44055-B316-469D-8325-F4F22FE7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D4273-0743-4EEF-99E5-EF5AB0D2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4DFDE-8B31-4936-95F3-4D614A1C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1AA34-445F-42EA-97CB-1C96DD8D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A08CE-1325-4BF7-8720-F3A5B2D0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7FECE-F2AB-442B-AC06-858DD83F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0ACD9-E446-4D3B-8C5A-36B39991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88023-697D-4784-BBFB-7BF29F01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9501-EC0A-4E3A-AD03-4D344885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C3ADD-1ADB-4978-AED4-CE2FD791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ADB8-8AC5-4A97-A63B-D0EE885F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A9E18-D89E-44CB-BABC-ADD378A0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92CA8-70A3-4236-B4A4-8A6A47E2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BEB2E-C69E-4B3E-8A73-2B1E9E2E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D6346-9C39-47DE-8685-528E2C77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6F4BC-3A2B-412D-BDCE-B94B3ABF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C3BC9-D1D0-4FE5-AC05-154FFF91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B7306-94DF-43C4-A399-083DDD4A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B8E356-A7DD-4A0E-8979-B2C74764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10F180-F6E2-4400-8B82-2FE9BBF9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7637E9-78A2-496F-8496-5E9DA13E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6F16-A35A-42FA-846E-24F736F1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BF298D-9891-4307-89EC-1637DB47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7F137B-A8AC-44DB-B78C-C06DAB68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9F5D49-27E6-4F76-8BA5-7FA8E3D6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2E18CA-BA80-4488-9C2D-2F2EAB24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370B84-E2BA-40FB-A2FA-49D65763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ACD5BC-8473-4448-A1F3-A44CA599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421289-5858-4A72-A7D2-F4489986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00A704-E715-413A-899E-A33D9ED8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546B08-97EC-4524-A614-FD0C10E6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29176-0716-45FB-9D1A-DEB48FF8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5B8A-3E32-44B7-A09E-653A13DC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A6C7E-DAD1-4EEB-A5EA-30109C90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8634D-43E8-4C06-9B22-605C7B98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977C8-C90B-4B38-8767-2BD23FAF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CA287-F2D6-4AE5-94F3-CB7FDDA5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92B7D-8C68-451A-A158-B00E1773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A25CE-B79D-4935-9A54-1EFC4245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E173B-940E-4CBA-8804-DBEBE6F3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03293-9720-4817-85EB-56C66A10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C4B31-E950-4A5C-88D0-66E661F1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8216A-A839-4557-BBCC-9A9C9E43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E4F-D10F-4463-B2D9-5447265D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C1BED-5EA7-4944-BBF6-765E708B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8E34-9407-497C-A9B2-A91E6B31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7209-1CC4-462C-8768-EC1CF0A7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9293-DAE5-4BCC-95ED-CBC3BA6E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D8BB-6163-490F-9425-C4C048D0A501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3B9C-A0E7-40A6-A9A9-F97B4AE35D45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700B-74D1-475F-9A90-2A65D5B0995D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5C65-E0C3-4BDD-90D3-ACDCD443C4EC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2DC9-82C6-4A3F-88AB-651DA03667B1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hyperlink" Target="http://kombat.com.ua/" TargetMode="External"/><Relationship Id="rId3" Type="http://schemas.openxmlformats.org/officeDocument/2006/relationships/hyperlink" Target="http://tu160.info/vizivan.html" TargetMode="External"/><Relationship Id="rId4" Type="http://schemas.openxmlformats.org/officeDocument/2006/relationships/hyperlink" Target="http://www.umopit.ru/texts/nature.ht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eeece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Повышение температуры тела, лихорадк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Головные бол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Тошнота, рво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Невозможность движения мышц лица, шеи, верхних и нижних конечносте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Может закончиться и полным выздоровлением, и смертью больног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Нередко человек остается на всю жизнь инвалидо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274680" y="152280"/>
            <a:ext cx="841212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Rectangle 4" descr=""/>
          <p:cNvPicPr/>
          <p:nvPr/>
        </p:nvPicPr>
        <p:blipFill>
          <a:blip r:embed="rId1"/>
          <a:stretch/>
        </p:blipFill>
        <p:spPr>
          <a:xfrm>
            <a:off x="225360" y="274680"/>
            <a:ext cx="8461440" cy="1431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http://f.mypage.ru/8f75e7cc3ff39a652aa54b67812e0618_e9a3c84dac5ef79d6eff642a8aeb736c.jpg"/>
          <p:cNvPicPr/>
          <p:nvPr/>
        </p:nvPicPr>
        <p:blipFill>
          <a:blip r:embed="rId2"/>
          <a:stretch/>
        </p:blipFill>
        <p:spPr>
          <a:xfrm>
            <a:off x="826920" y="1557360"/>
            <a:ext cx="3581640" cy="27147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onstantia"/>
              </a:rPr>
              <a:t>Обнаруженных на поверхности одежды клещей сразу же уничтожьте, бросив в огонь или в банку с керосином. Не следует давить их, особенно руками. Если же это произошло немедленно вымойте руки с мылом!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324000" y="522936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После укуса следует немедленно обратиться к врачу для введения лекарства, предохраняющего от заболевания. Чем скорее будет удален клещ, тем меньше вероятность заболевания энцефалитом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Вымыть руки с мыло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На место, где присосался клещ капнуть каплю масла или вазели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Через 1-2 минуты удалить клеща пинцетом легким покачиванием из стороны в сторону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Место укуса обработать спиртом или йодо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Немедленно отправить пострадавшего в медицинское учрежд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44236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Наиболее велика опасность заражения в мае, июне и первой половине июл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Отправляясь в лес, защитите себя от попадания клещей под одежду и присасывания их к телу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Регулярно проводите само- и взаимоосмотры одежды и тел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Для стоянок выбирайте сухие, незатемненные поляны вдали от кустарников и деревье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По возвращении из леса не входите в дом в верхней одежде, предварительно не осмотрев себя и свою одежду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Rectangle 2" descr=""/>
          <p:cNvPicPr/>
          <p:nvPr/>
        </p:nvPicPr>
        <p:blipFill>
          <a:blip r:embed="rId1"/>
          <a:stretch/>
        </p:blipFill>
        <p:spPr>
          <a:xfrm>
            <a:off x="274680" y="152280"/>
            <a:ext cx="8412120" cy="14511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http://img1.1tv.ru/imgsize480x360/PR20090701173230.GIF"/>
          <p:cNvPicPr/>
          <p:nvPr/>
        </p:nvPicPr>
        <p:blipFill>
          <a:blip r:embed="rId2"/>
          <a:stretch/>
        </p:blipFill>
        <p:spPr>
          <a:xfrm>
            <a:off x="6804000" y="2492280"/>
            <a:ext cx="151452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5" descr="1.jpg"/>
          <p:cNvPicPr/>
          <p:nvPr/>
        </p:nvPicPr>
        <p:blipFill>
          <a:blip r:embed="rId2"/>
          <a:stretch/>
        </p:blipFill>
        <p:spPr>
          <a:xfrm>
            <a:off x="611280" y="1125360"/>
            <a:ext cx="3071880" cy="21625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080" y="3213000"/>
            <a:ext cx="346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Среднеазиатская коб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Крупная змея длиной до 1,6 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Распространена в южных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областях Средней Азии: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юго-запад Таджикистана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юг Узбекистана и Туркмении.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Кобру можно встретить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предгорьях, долинах рек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обычна среди кустарников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нередко встречается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заброшенных строениях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Рисунок 10" descr="2.jpg"/>
          <p:cNvPicPr/>
          <p:nvPr/>
        </p:nvPicPr>
        <p:blipFill>
          <a:blip r:embed="rId3"/>
          <a:stretch/>
        </p:blipFill>
        <p:spPr>
          <a:xfrm>
            <a:off x="4932360" y="1413000"/>
            <a:ext cx="2771640" cy="24796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3995640" y="4076640"/>
            <a:ext cx="484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Обыкновенная гадюка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до 75 см длиной.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 Гадюка — самая широко распространенная ядовитая змея нашей стра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Гадюку можно встретить в европейской части Росси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в Сибири вплоть до Саха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12" descr="8.jpg"/>
          <p:cNvPicPr/>
          <p:nvPr/>
        </p:nvPicPr>
        <p:blipFill>
          <a:blip r:embed="rId1"/>
          <a:stretch/>
        </p:blipFill>
        <p:spPr>
          <a:xfrm>
            <a:off x="611280" y="549360"/>
            <a:ext cx="2843280" cy="19987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5"/>
          <p:cNvSpPr/>
          <p:nvPr/>
        </p:nvSpPr>
        <p:spPr>
          <a:xfrm>
            <a:off x="324000" y="2997360"/>
            <a:ext cx="3981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Обыкновенная медянка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Широко распространенная в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Длина достигает 65 с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В борьбе с крупной и сильной добычей пускает в ход ядовитые зуб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с помощью которых вводит в жертву парализующий ядовитый секр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Рисунок 8" descr="7.jpg"/>
          <p:cNvPicPr/>
          <p:nvPr/>
        </p:nvPicPr>
        <p:blipFill>
          <a:blip r:embed="rId2"/>
          <a:stretch/>
        </p:blipFill>
        <p:spPr>
          <a:xfrm>
            <a:off x="4788000" y="333360"/>
            <a:ext cx="3997080" cy="24289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7"/>
          <p:cNvSpPr/>
          <p:nvPr/>
        </p:nvSpPr>
        <p:spPr>
          <a:xfrm>
            <a:off x="5076720" y="3068640"/>
            <a:ext cx="359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Кошачья змея 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Р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аспространена в Азербайджане, Дагестане. Обитает в сухих каменистых местах, но нередко селится в камышовых кровлях домов. В случае опасности собирает в клубок заднюю часть туловища и поднимает переднюю. Делает стремительные броски в сторону вра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Rectangle 2" descr=""/>
          <p:cNvPicPr/>
          <p:nvPr/>
        </p:nvPicPr>
        <p:blipFill>
          <a:blip r:embed="rId1"/>
          <a:stretch/>
        </p:blipFill>
        <p:spPr>
          <a:xfrm>
            <a:off x="274680" y="139680"/>
            <a:ext cx="8412120" cy="1513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http://www.snakes-kazakhstan.idhost.kz/images/gaduka4.jpg"/>
          <p:cNvPicPr/>
          <p:nvPr/>
        </p:nvPicPr>
        <p:blipFill>
          <a:blip r:embed="rId2"/>
          <a:stretch/>
        </p:blipFill>
        <p:spPr>
          <a:xfrm>
            <a:off x="539640" y="1628640"/>
            <a:ext cx="3791160" cy="38293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onstantia"/>
              </a:rPr>
              <a:t>При укусе ядовитой змеи на коже человека остаются две небольшие красные точки - от проникновения ядовитых зубов. В первые минуты после укуса в этом месте возникает слабая боль и чувство жжения, кожа краснеет, нарастает отек. Через 2-6 часов появляются высокая температура, головокружение, сухость во рту, жажда, тошнота, рвота, иногда сонливость или, наоборот, возбуждени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Rectangle 2" descr=""/>
          <p:cNvPicPr/>
          <p:nvPr/>
        </p:nvPicPr>
        <p:blipFill>
          <a:blip r:embed="rId1"/>
          <a:stretch/>
        </p:blipFill>
        <p:spPr>
          <a:xfrm>
            <a:off x="274680" y="152280"/>
            <a:ext cx="8412120" cy="145116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5" descr="6F7ECADF0BCF0EAF1D67D94088628B8E.jpg"/>
          <p:cNvPicPr/>
          <p:nvPr/>
        </p:nvPicPr>
        <p:blipFill>
          <a:blip r:embed="rId2"/>
          <a:stretch/>
        </p:blipFill>
        <p:spPr>
          <a:xfrm>
            <a:off x="2195640" y="1197000"/>
            <a:ext cx="4762440" cy="328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01" name="Text Box 5"/>
          <p:cNvSpPr/>
          <p:nvPr/>
        </p:nvSpPr>
        <p:spPr>
          <a:xfrm>
            <a:off x="324000" y="4653000"/>
            <a:ext cx="789912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Сразу после укуса необходимо обеспечить пострадавшему покой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горизонтальное положение,  это обеспечит минимальную скорость      переноса яда кров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Успокойте пострадавш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Транспортируйте его в безопасное, защищенное от непогоды мест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4" descr=""/>
          <p:cNvPicPr/>
          <p:nvPr/>
        </p:nvPicPr>
        <p:blipFill>
          <a:blip r:embed="rId1"/>
          <a:stretch/>
        </p:blipFill>
        <p:spPr>
          <a:xfrm>
            <a:off x="274680" y="139680"/>
            <a:ext cx="8412120" cy="15130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648320" y="242064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nstantia"/>
              </a:rPr>
              <a:t>Если имеется шприц и противоядная сыворотка, то наиболее радикальным методом лечения будет немедленное ее введени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4" name="Рисунок 4" descr="8FE1667A9865E15AC83E74B727E5781D.jpg"/>
          <p:cNvPicPr/>
          <p:nvPr/>
        </p:nvPicPr>
        <p:blipFill>
          <a:blip r:embed="rId2"/>
          <a:stretch/>
        </p:blipFill>
        <p:spPr>
          <a:xfrm>
            <a:off x="395280" y="2421000"/>
            <a:ext cx="4038480" cy="278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Rectangle 4" descr=""/>
          <p:cNvPicPr/>
          <p:nvPr/>
        </p:nvPicPr>
        <p:blipFill>
          <a:blip r:embed="rId1"/>
          <a:stretch/>
        </p:blipFill>
        <p:spPr>
          <a:xfrm>
            <a:off x="225360" y="274680"/>
            <a:ext cx="8461440" cy="14317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onstantia"/>
              </a:rPr>
              <a:t>Немедленно приступить к отсасыванию яда из ранки. Для этого сразу после укуса раскройте рану нaдaвливанием пальцев, а затем в течение 15-20 мин отсасывайте яд ртом. Кровянистую жидкость сплевывайте. Эти действия безвредны для оказывающего помощь. При правильном и своевременном проведении отсасывания яда из ранки удается отсосать 50% яд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7" name="Рисунок 4" descr="kadr-sovet-08_08_04.jpg"/>
          <p:cNvPicPr/>
          <p:nvPr/>
        </p:nvPicPr>
        <p:blipFill>
          <a:blip r:embed="rId2"/>
          <a:stretch/>
        </p:blipFill>
        <p:spPr>
          <a:xfrm>
            <a:off x="539640" y="1628640"/>
            <a:ext cx="3810240" cy="28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2925720" cy="4389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3"/>
          <a:stretch/>
        </p:blipFill>
        <p:spPr>
          <a:xfrm>
            <a:off x="4140360" y="1268280"/>
            <a:ext cx="4613040" cy="43563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1259280" y="5805360"/>
            <a:ext cx="15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  <a:ea typeface="Arial"/>
              </a:rPr>
              <a:t>Пче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941800" y="58770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  <a:ea typeface="Arial"/>
              </a:rPr>
              <a:t>О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4" descr=""/>
          <p:cNvPicPr/>
          <p:nvPr/>
        </p:nvPicPr>
        <p:blipFill>
          <a:blip r:embed="rId1"/>
          <a:stretch/>
        </p:blipFill>
        <p:spPr>
          <a:xfrm>
            <a:off x="225360" y="274680"/>
            <a:ext cx="8461440" cy="1431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i?id=498496182-00-72&amp;n=21"/>
          <p:cNvPicPr/>
          <p:nvPr/>
        </p:nvPicPr>
        <p:blipFill>
          <a:blip r:embed="rId2"/>
          <a:stretch/>
        </p:blipFill>
        <p:spPr>
          <a:xfrm>
            <a:off x="826920" y="1989000"/>
            <a:ext cx="3324240" cy="33242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onstantia"/>
              </a:rPr>
              <a:t>Для уменьшения циркуляции крови на место укуса можно наложить холод (целлофановый пакет с холодной водой). Продезинфицируйте ранку йодом или зеленкой и наложите стерильную повязку, которую следует ослаблять по мере нарастания отек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4" descr=""/>
          <p:cNvPicPr/>
          <p:nvPr/>
        </p:nvPicPr>
        <p:blipFill>
          <a:blip r:embed="rId1"/>
          <a:stretch/>
        </p:blipFill>
        <p:spPr>
          <a:xfrm>
            <a:off x="231840" y="262080"/>
            <a:ext cx="8467560" cy="14270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nstantia"/>
              </a:rPr>
              <a:t>Придайте пораженному участку тела возвышенное положение, зафиксируйте его, наложите иммобилизационную повязку или шину. Дайте пострадавшему обильное питье. Употребление кофе противопоказано. Организуйте доставку пострадавшего в лечебное заведени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3" name="Рисунок 4" descr="3-5-2.jpg"/>
          <p:cNvPicPr/>
          <p:nvPr/>
        </p:nvPicPr>
        <p:blipFill>
          <a:blip r:embed="rId2"/>
          <a:stretch/>
        </p:blipFill>
        <p:spPr>
          <a:xfrm>
            <a:off x="571680" y="2428920"/>
            <a:ext cx="3809880" cy="286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Укусы каких насекомых опасны для человека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Как называется реакция организма в ответ на укусы насекомых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Перечислите признаки укуса насекомого. Как оказать первую медицинскую помощь при укусе насекомых?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Чем опасны энцефалитные клещи?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Какое действие оказывает на человека змеиный яд в небольшом количестве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Где используется змеиный яд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Назовите первые признаки укуса змей. Что нужно делать при оказании первой медицинской помощи при укусах змей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Как защитить себя от укусов змей, гуляя по лесу?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7308720" y="5157720"/>
            <a:ext cx="1143000" cy="1390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79912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http://ru.wikipedia.org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  <a:hlinkClick r:id="rId2"/>
              </a:rPr>
              <a:t>http://kombat.com.ua/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onstantia"/>
                <a:hlinkClick r:id="rId3"/>
              </a:rPr>
              <a:t>http://tu160.info/vizivan.htm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onstantia"/>
                <a:hlinkClick r:id="rId4"/>
              </a:rPr>
              <a:t>http://www.umopit.ru/texts/nature.htm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Барри Дэвис «Энциклопедия выживания и спасения», Издательство ВЕЧЕ,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997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68360" y="476280"/>
            <a:ext cx="4770360" cy="31431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1477440" y="386064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  <a:ea typeface="Arial"/>
              </a:rPr>
              <a:t>Слеп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000680" cy="3676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5436720" y="5877000"/>
            <a:ext cx="23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  <a:ea typeface="Arial"/>
              </a:rPr>
              <a:t>Шерш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4" descr=""/>
          <p:cNvPicPr/>
          <p:nvPr/>
        </p:nvPicPr>
        <p:blipFill>
          <a:blip r:embed="rId1"/>
          <a:stretch/>
        </p:blipFill>
        <p:spPr>
          <a:xfrm>
            <a:off x="225360" y="274680"/>
            <a:ext cx="8461440" cy="1431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ttp://www.stihi.ru/pics/2012/04/03/6798.jpg"/>
          <p:cNvPicPr/>
          <p:nvPr/>
        </p:nvPicPr>
        <p:blipFill>
          <a:blip r:embed="rId2"/>
          <a:stretch/>
        </p:blipFill>
        <p:spPr>
          <a:xfrm>
            <a:off x="395280" y="1773360"/>
            <a:ext cx="4038480" cy="27381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nstantia"/>
              </a:rPr>
              <a:t>При укусе насекомого в ранку попадает ядовитое вещество, которое вызывает отравление организм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611280" y="5157720"/>
            <a:ext cx="6913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Реакцию организма на укусы насекомых называют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аллергической реакцие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274680" y="152280"/>
            <a:ext cx="8412120" cy="14511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3" descr="7ac093538eac9bd1e6c00a3dcb80e2be.jpg"/>
          <p:cNvPicPr/>
          <p:nvPr/>
        </p:nvPicPr>
        <p:blipFill>
          <a:blip r:embed="rId2"/>
          <a:stretch/>
        </p:blipFill>
        <p:spPr>
          <a:xfrm>
            <a:off x="428760" y="785880"/>
            <a:ext cx="3214440" cy="29941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clip_image001.jpg"/>
          <p:cNvPicPr/>
          <p:nvPr/>
        </p:nvPicPr>
        <p:blipFill>
          <a:blip r:embed="rId3"/>
          <a:stretch/>
        </p:blipFill>
        <p:spPr>
          <a:xfrm>
            <a:off x="539640" y="4076640"/>
            <a:ext cx="3333960" cy="223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9" name="Text Box 6"/>
          <p:cNvSpPr/>
          <p:nvPr/>
        </p:nvSpPr>
        <p:spPr>
          <a:xfrm>
            <a:off x="3780000" y="184464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Признаки укуса насекомых появляются минут через 15-20 после укус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4356000" y="386064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1. Повышение температуры т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2. Сыпь по всему тел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3. Головная б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25360" y="274680"/>
            <a:ext cx="8461440" cy="1431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nstantia"/>
              </a:rPr>
              <a:t>Наиболее опасны ужаливания пчел, ос, шершней в полость рта, куда насекомое может попасть, когда человек ест фрукт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3" name="Рисунок 3" descr="1217270999_image00013.jpg"/>
          <p:cNvPicPr/>
          <p:nvPr/>
        </p:nvPicPr>
        <p:blipFill>
          <a:blip r:embed="rId2"/>
          <a:stretch/>
        </p:blipFill>
        <p:spPr>
          <a:xfrm>
            <a:off x="611280" y="1628640"/>
            <a:ext cx="380988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4" name="Text Box 7"/>
          <p:cNvSpPr/>
          <p:nvPr/>
        </p:nvSpPr>
        <p:spPr>
          <a:xfrm>
            <a:off x="539640" y="4437000"/>
            <a:ext cx="927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В таких случаях необходима срочная медицинская помощ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так как возникающие отек гортани и удушье смертельно опас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3300"/>
                </a:solidFill>
                <a:latin typeface="Constantia"/>
              </a:rPr>
              <a:t>В первую очередь нужно удалить из кожи жало насекомого, ужаленное место смочить спиртом. Приложить к ужаленному месту холод (полиэтиленовый пакет с холодной водой). Давать пострадавшему обильное питье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Рисунок 3" descr="jalo_s.jpg"/>
          <p:cNvPicPr/>
          <p:nvPr/>
        </p:nvPicPr>
        <p:blipFill>
          <a:blip r:embed="rId2"/>
          <a:stretch/>
        </p:blipFill>
        <p:spPr>
          <a:xfrm>
            <a:off x="611280" y="1628640"/>
            <a:ext cx="380988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281160" y="262080"/>
            <a:ext cx="8418240" cy="13716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рочно достав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медицинское учре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15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18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20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2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2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3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25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26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7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8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29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30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3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рочно достав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медицинское учре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2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имедрола, или супрастина, или тавиг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33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3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36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37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38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39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40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4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42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43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44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225360" y="274680"/>
            <a:ext cx="8461440" cy="1431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http://www.lentachel.ru/image/N4mNYUMbIgNjAVYR.jpg"/>
          <p:cNvPicPr/>
          <p:nvPr/>
        </p:nvPicPr>
        <p:blipFill>
          <a:blip r:embed="rId2"/>
          <a:stretch/>
        </p:blipFill>
        <p:spPr>
          <a:xfrm>
            <a:off x="468360" y="1628640"/>
            <a:ext cx="4000320" cy="30672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Picture 4" descr="http://www.sarov.net/p/1cp.jpg"/>
          <p:cNvPicPr/>
          <p:nvPr/>
        </p:nvPicPr>
        <p:blipFill>
          <a:blip r:embed="rId3"/>
          <a:stretch/>
        </p:blipFill>
        <p:spPr>
          <a:xfrm>
            <a:off x="4716360" y="1628640"/>
            <a:ext cx="4071960" cy="30718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539640" y="4869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При укусе клещи вносят в ранку вместе со слю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вирус энцефалита. Укусы клещей можно и не заметить: для человека они безболезненн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1:33:31Z</dcterms:created>
  <dc:creator>Фролова М.М.</dc:creator>
  <dc:description/>
  <dc:language>en-US</dc:language>
  <cp:lastModifiedBy>SomovaMV</cp:lastModifiedBy>
  <dcterms:modified xsi:type="dcterms:W3CDTF">2021-12-03T11:10:42Z</dcterms:modified>
  <cp:revision>8</cp:revision>
  <dc:subject/>
  <dc:title>Первая помощь при укусах змей и насекомых</dc:title>
</cp:coreProperties>
</file>