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22.jpeg" ContentType="image/jpeg"/>
  <Override PartName="/ppt/media/image39.png" ContentType="image/png"/>
  <Override PartName="/ppt/media/image28.jpeg" ContentType="image/jpeg"/>
  <Override PartName="/ppt/media/image12.jpeg" ContentType="image/jpeg"/>
  <Override PartName="/ppt/media/image13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1.png" ContentType="image/png"/>
  <Override PartName="/ppt/media/image30.jpeg" ContentType="image/jpeg"/>
  <Override PartName="/ppt/media/image31.png" ContentType="image/png"/>
  <Override PartName="/ppt/media/image43.png" ContentType="image/png"/>
  <Override PartName="/ppt/media/image34.jpeg" ContentType="image/jpeg"/>
  <Override PartName="/ppt/media/image37.png" ContentType="image/png"/>
  <Override PartName="/ppt/media/image44.jpeg" ContentType="image/jpeg"/>
  <Override PartName="/ppt/media/image45.png" ContentType="image/png"/>
  <Override PartName="/ppt/media/image18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8FC-27F1-4D35-985C-C07546D9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EE1-DA97-419B-9CEA-8CE7A6DA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B66-12AB-42A1-B21C-2D4B050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D98-11DD-496F-8642-267B9C52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FEA6B-4542-41D6-A1ED-BD1BC8E3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AF3CD-C615-4E83-850F-3EC8FF65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5334-79E4-4436-B1BC-BD33B528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BC6E5-CF36-4C93-A2D1-BED6B880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E2191-F606-46F3-898B-4EC5433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891EF-955C-46A4-ADD9-DCDFF463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7F2A-2723-47C6-8BFA-7C169A9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46E-9448-4A52-B0FD-1B81A735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70AF-708F-4601-8A93-AC556C0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06B90-ABC0-4F27-B3E4-1C8EB8FF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849E2-630C-401A-BCAE-DF77012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1B8A1-90DA-42EB-8197-6CED7FB0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D4DA2-B83D-4839-B1B9-C6D4C4C7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E643-F491-4872-BB1C-411D8F78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D7BF3-B69E-43FE-9410-269B1F2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82C6-881B-490C-A26F-2C93432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79FA-5926-48C0-9D02-447B2D05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81A8-AB85-48E3-86FF-9AD79F8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F55-0779-47FA-9BF2-38C244E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1EFE-835F-4844-A19C-D6BE3C63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EE1E-F557-4265-8ACF-0D62D840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9640-4E60-4C40-BA4D-AACE855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080B-BEC9-4DDC-A17D-82C432D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6AC6-3A7E-4D85-87CA-D32D26E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25AE-5E46-43F4-A8FA-93D64DE1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9715-D58B-455B-BBED-38F78886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3767EC-67D8-4523-B0AC-5CE8AA38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2584D-8D25-4007-A102-1FB34DBB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CB091-1C37-4E3A-8002-BC862C4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AFF-C751-42C6-A5A0-ED38D74C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24121B-8131-493D-B18C-AD904D7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838E8-0A15-47E3-B2B1-70E968F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354FA-5AB3-41A4-8432-4ADDEF75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13BA5F-002C-4D3F-A2AD-2AC7349B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27215E-1A8C-4290-A221-93AE83B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C681D-4F78-41FC-92B7-E93A7AF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11F6F-B73A-4FA0-B6B1-1E4C845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98DBE9-5958-45B5-BAD0-CBF4BCA1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6D865-83CD-4BAF-BA7D-3912D922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470F-FF1A-4571-BEB3-0ABC88CE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EEF-CA01-4D7D-8F07-AF700D9F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9BAC-F263-4E22-A1CE-CE04C80F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CF89-BDD7-4E3A-B18F-57C66752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5267-6F7F-43A0-BE50-9129B9C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08DA-0096-4388-B91B-5C7F2361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23648-D877-4539-AA6A-AD87124E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14F0C-E64B-4DF7-BA15-FE5CF17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65133-FE66-4EE5-BAD1-D52C3285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DEC7-30CA-488D-8DCB-89D1F623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80CFA-136E-496D-83B1-46A53A8D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58AC-CEA9-4AEC-8B16-5D482D3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BF3-9D17-45ED-8292-9E7FB572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BF3C7-E203-4E53-8829-E05F05F5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74B-2ECB-4C70-9677-12C0AA1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391-77CC-4230-AFE0-3C8A1EF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3B8-D196-4C68-ABA1-2FDDCDD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876-EEB1-4321-BC3C-EFBAC9113EB8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F12-5F84-4F8D-B729-EFF6D8A3B33A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A337-4A8E-4FCC-8EE2-48307AC4FD3C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CD94-0EFB-4772-9144-CDF4B830C043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901E-4627-4F4D-B2A2-25A56658BD1B}" type="slidenum">
              <a:rPr b="0" lang="ru-RU" sz="16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kombat.com.ua/" TargetMode="External"/><Relationship Id="rId3" Type="http://schemas.openxmlformats.org/officeDocument/2006/relationships/hyperlink" Target="http://tu160.info/vizivan.html" TargetMode="External"/><Relationship Id="rId4" Type="http://schemas.openxmlformats.org/officeDocument/2006/relationships/hyperlink" Target="http://www.umopit.ru/texts/nature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eeece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Повышение температуры тела, лихорад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Головные бол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Тошнота, рво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возможность движения мышц лица, шеи, верхних и нижних конечност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ожет закончиться и полным выздоровлением, и смертью боль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редко человек остается на всю жизнь инвали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f.mypage.ru/8f75e7cc3ff39a652aa54b67812e0618_e9a3c84dac5ef79d6eff642a8aeb736c.jpg"/>
          <p:cNvPicPr/>
          <p:nvPr/>
        </p:nvPicPr>
        <p:blipFill>
          <a:blip r:embed="rId2"/>
          <a:stretch/>
        </p:blipFill>
        <p:spPr>
          <a:xfrm>
            <a:off x="826920" y="1557360"/>
            <a:ext cx="3581640" cy="27147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Обнаруженных на поверхности одежды клещей сразу же уничтожьте, бросив в огонь или в банку с керосином. Не следует давить их, особенно руками. Если же это произошло немедленно вымойте руки с мылом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24000" y="522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После укуса следует немедленно обратиться к врачу для введения лекарства, предохраняющего от заболевания. Чем скорее будет удален клещ, тем меньше вероятность заболевания энцефалито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Вымыть руки с мыл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а место, где присосался клещ капнуть каплю масла или вазели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Через 1-2 минуты удалить клеща пинцетом легким покачиванием из стороны в сторон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Место укуса обработать спиртом или йод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Constantia"/>
              </a:rPr>
              <a:t>Немедленно отправить пострадавшего в медицинское учрежд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Наиболее велика опасность заражения в мае, июне и первой половине ию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Отправляясь в лес, защитите себя от попадания клещей под одежду и присасывания их к тел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Регулярно проводите само- и взаимоосмотры одежды и те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Для стоянок выбирайте сухие, незатемненные поляны вдали от кустарников и деревь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Constantia"/>
              </a:rPr>
              <a:t>По возвращении из леса не входите в дом в верхней одежде, предварительно не осмотрев себя и свою одежд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buClr>
                <a:srgbClr val="c0504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http://img1.1tv.ru/imgsize480x360/PR20090701173230.GIF"/>
          <p:cNvPicPr/>
          <p:nvPr/>
        </p:nvPicPr>
        <p:blipFill>
          <a:blip r:embed="rId2"/>
          <a:stretch/>
        </p:blipFill>
        <p:spPr>
          <a:xfrm>
            <a:off x="6804000" y="2492280"/>
            <a:ext cx="151452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5" descr="1.jpg"/>
          <p:cNvPicPr/>
          <p:nvPr/>
        </p:nvPicPr>
        <p:blipFill>
          <a:blip r:embed="rId2"/>
          <a:stretch/>
        </p:blipFill>
        <p:spPr>
          <a:xfrm>
            <a:off x="611280" y="1125360"/>
            <a:ext cx="3071880" cy="21625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080" y="3213000"/>
            <a:ext cx="346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Среднеазиатская коб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рупная змея длиной до 1,6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Распространена в южных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ластях Средней Азии: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юго-запад Таджикистана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юг Узбекистана и Туркмении.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обру можно встретить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предгорьях, долинах рек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чна среди кустарников,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нередко встречается в 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заброшенных строениях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10" descr="2.jpg"/>
          <p:cNvPicPr/>
          <p:nvPr/>
        </p:nvPicPr>
        <p:blipFill>
          <a:blip r:embed="rId3"/>
          <a:stretch/>
        </p:blipFill>
        <p:spPr>
          <a:xfrm>
            <a:off x="4932360" y="1413000"/>
            <a:ext cx="2771640" cy="24796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3995640" y="4076640"/>
            <a:ext cx="484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кновенная гадюка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до 75 см длиной.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Гадюка — самая широко распространенная ядовитая змея нашей стр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Гадюку можно встретить в европейской части Росс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в Сибири вплоть до Сах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2" descr="8.jpg"/>
          <p:cNvPicPr/>
          <p:nvPr/>
        </p:nvPicPr>
        <p:blipFill>
          <a:blip r:embed="rId1"/>
          <a:stretch/>
        </p:blipFill>
        <p:spPr>
          <a:xfrm>
            <a:off x="611280" y="549360"/>
            <a:ext cx="2843280" cy="1998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324000" y="2997360"/>
            <a:ext cx="398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Обыкновенная медянка</a:t>
            </a:r>
            <a:br>
              <a:rPr sz="1800"/>
            </a:b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Широко распространенна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Длина достигает 65 с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В борьбе с крупной и сильной добычей пускает в ход ядовитые зуб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с помощью которых вводит в жертву парализующий ядовитый секр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Рисунок 8" descr="7.jpg"/>
          <p:cNvPicPr/>
          <p:nvPr/>
        </p:nvPicPr>
        <p:blipFill>
          <a:blip r:embed="rId2"/>
          <a:stretch/>
        </p:blipFill>
        <p:spPr>
          <a:xfrm>
            <a:off x="4788000" y="333360"/>
            <a:ext cx="3997080" cy="2428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5076720" y="3068640"/>
            <a:ext cx="359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Кошачья змея </a:t>
            </a:r>
            <a:br>
              <a:rPr sz="1800"/>
            </a:br>
            <a:r>
              <a:rPr b="1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аспространена в Азербайджане, Дагестане. Обитает в сухих каменистых местах, но нередко селится в камышовых кровлях домов. В случае опасности собирает в клубок заднюю часть туловища и поднимает переднюю. Делает стремительные броски в сторону вра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274680" y="139680"/>
            <a:ext cx="8412120" cy="1513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http://www.snakes-kazakhstan.idhost.kz/images/gaduka4.jpg"/>
          <p:cNvPicPr/>
          <p:nvPr/>
        </p:nvPicPr>
        <p:blipFill>
          <a:blip r:embed="rId2"/>
          <a:stretch/>
        </p:blipFill>
        <p:spPr>
          <a:xfrm>
            <a:off x="539640" y="1628640"/>
            <a:ext cx="3791160" cy="38293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При укусе ядовитой змеи на коже человека остаются две небольшие красные точки - от проникновения ядовитых зубов. В первые минуты после укуса в этом месте возникает слабая боль и чувство жжения, кожа краснеет, нарастает отек. Через 2-6 часов появляются высокая температура, головокружение, сухость во рту, жажда, тошнота, рвота, иногда сонливость или, наоборот, возбужд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5" descr="6F7ECADF0BCF0EAF1D67D94088628B8E.jpg"/>
          <p:cNvPicPr/>
          <p:nvPr/>
        </p:nvPicPr>
        <p:blipFill>
          <a:blip r:embed="rId2"/>
          <a:stretch/>
        </p:blipFill>
        <p:spPr>
          <a:xfrm>
            <a:off x="2195640" y="1197000"/>
            <a:ext cx="4762440" cy="328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1" name="Text Box 5"/>
          <p:cNvSpPr/>
          <p:nvPr/>
        </p:nvSpPr>
        <p:spPr>
          <a:xfrm>
            <a:off x="324000" y="4653000"/>
            <a:ext cx="789912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Сразу после укуса необходимо обеспечить пострадавшему пок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горизонтальное положение,  это обеспечит минимальную скорость      переноса яд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Успокойте пострадавш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Транспортируйте его в безопасное, защищенное от непогоды мес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4" descr=""/>
          <p:cNvPicPr/>
          <p:nvPr/>
        </p:nvPicPr>
        <p:blipFill>
          <a:blip r:embed="rId1"/>
          <a:stretch/>
        </p:blipFill>
        <p:spPr>
          <a:xfrm>
            <a:off x="274680" y="139680"/>
            <a:ext cx="8412120" cy="15130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48320" y="242064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Если имеется шприц и противоядная сыворотка, то наиболее радикальным методом лечения будет немедленное ее введ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Рисунок 4" descr="8FE1667A9865E15AC83E74B727E5781D.jpg"/>
          <p:cNvPicPr/>
          <p:nvPr/>
        </p:nvPicPr>
        <p:blipFill>
          <a:blip r:embed="rId2"/>
          <a:stretch/>
        </p:blipFill>
        <p:spPr>
          <a:xfrm>
            <a:off x="395280" y="2421000"/>
            <a:ext cx="4038480" cy="27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nstantia"/>
              </a:rPr>
              <a:t>Немедленно приступить к отсасыванию яда из ранки. Для этого сразу после укуса раскройте рану нaдaвливанием пальцев, а затем в течение 15-20 мин отсасывайте яд ртом. Кровянистую жидкость сплевывайте. Эти действия безвредны для оказывающего помощь. При правильном и своевременном проведении отсасывания яда из ранки удается отсосать 50% яд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Рисунок 4" descr="kadr-sovet-08_08_04.jpg"/>
          <p:cNvPicPr/>
          <p:nvPr/>
        </p:nvPicPr>
        <p:blipFill>
          <a:blip r:embed="rId2"/>
          <a:stretch/>
        </p:blipFill>
        <p:spPr>
          <a:xfrm>
            <a:off x="539640" y="1628640"/>
            <a:ext cx="381024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2925720" cy="4389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3"/>
          <a:stretch/>
        </p:blipFill>
        <p:spPr>
          <a:xfrm>
            <a:off x="4140360" y="1268280"/>
            <a:ext cx="4613040" cy="4356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1259280" y="580536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Пче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941800" y="58770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О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i?id=498496182-00-72&amp;n=21"/>
          <p:cNvPicPr/>
          <p:nvPr/>
        </p:nvPicPr>
        <p:blipFill>
          <a:blip r:embed="rId2"/>
          <a:stretch/>
        </p:blipFill>
        <p:spPr>
          <a:xfrm>
            <a:off x="826920" y="1989000"/>
            <a:ext cx="3324240" cy="33242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Constantia"/>
              </a:rPr>
              <a:t>Для уменьшения циркуляции крови на место укуса можно наложить холод (целлофановый пакет с холодной водой). Продезинфицируйте ранку йодом или зеленкой и наложите стерильную повязку, которую следует ослаблять по мере нарастания оте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4" descr=""/>
          <p:cNvPicPr/>
          <p:nvPr/>
        </p:nvPicPr>
        <p:blipFill>
          <a:blip r:embed="rId1"/>
          <a:stretch/>
        </p:blipFill>
        <p:spPr>
          <a:xfrm>
            <a:off x="231840" y="262080"/>
            <a:ext cx="8467560" cy="14270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nstantia"/>
              </a:rPr>
              <a:t>Придайте пораженному участку тела возвышенное положение, зафиксируйте его, наложите иммобилизационную повязку или шину. Дайте пострадавшему обильное питье. Употребление кофе противопоказано. Организуйте доставку пострадавшего в лечебное заведени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Рисунок 4" descr="3-5-2.jpg"/>
          <p:cNvPicPr/>
          <p:nvPr/>
        </p:nvPicPr>
        <p:blipFill>
          <a:blip r:embed="rId2"/>
          <a:stretch/>
        </p:blipFill>
        <p:spPr>
          <a:xfrm>
            <a:off x="571680" y="2428920"/>
            <a:ext cx="3809880" cy="28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Укусы каких насекомых опасны для человека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называется реакция организма в ответ на укусы насекомых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Перечислите признаки укуса насекомого. Как оказать первую медицинскую помощь при укусе насекомых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Чем опасны энцефалитные клещи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ое действие оказывает на человека змеиный яд в небольшом количестве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 </a:t>
            </a: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Где используется змеиный яд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Назовите первые признаки укуса змей. Что нужно делать при оказании первой медицинской помощи при укусах змей?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Constantia"/>
              </a:rPr>
              <a:t>Как защитить себя от укусов змей, гуляя по лесу?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7308720" y="5157720"/>
            <a:ext cx="1143000" cy="139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http://ru.wikipedia.org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2"/>
              </a:rPr>
              <a:t>http://kombat.com.ua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3"/>
              </a:rPr>
              <a:t>http://tu160.info/vizivan.htm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nstantia"/>
                <a:hlinkClick r:id="rId4"/>
              </a:rPr>
              <a:t>http://www.umopit.ru/texts/nature.ht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nstantia"/>
              </a:rPr>
              <a:t>Барри Дэвис «Энциклопедия выживания и спасения», Издательство ВЕЧЕ,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19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476280"/>
            <a:ext cx="4770360" cy="31431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1477440" y="386064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Слеп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00680" cy="3676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436720" y="58770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  <a:ea typeface="Arial"/>
              </a:rPr>
              <a:t>Шерш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4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www.stihi.ru/pics/2012/04/03/6798.jpg"/>
          <p:cNvPicPr/>
          <p:nvPr/>
        </p:nvPicPr>
        <p:blipFill>
          <a:blip r:embed="rId2"/>
          <a:stretch/>
        </p:blipFill>
        <p:spPr>
          <a:xfrm>
            <a:off x="395280" y="1773360"/>
            <a:ext cx="4038480" cy="2738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nstantia"/>
              </a:rPr>
              <a:t>При укусе насекомого в ранку попадает ядовитое вещество, которое вызывает отравление организм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1280" y="5157720"/>
            <a:ext cx="69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Реакцию организма на укусы насекомых называют   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аллергической реакцие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12120" cy="14511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7ac093538eac9bd1e6c00a3dcb80e2be.jpg"/>
          <p:cNvPicPr/>
          <p:nvPr/>
        </p:nvPicPr>
        <p:blipFill>
          <a:blip r:embed="rId2"/>
          <a:stretch/>
        </p:blipFill>
        <p:spPr>
          <a:xfrm>
            <a:off x="428760" y="785880"/>
            <a:ext cx="3214440" cy="29941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clip_image001.jpg"/>
          <p:cNvPicPr/>
          <p:nvPr/>
        </p:nvPicPr>
        <p:blipFill>
          <a:blip r:embed="rId3"/>
          <a:stretch/>
        </p:blipFill>
        <p:spPr>
          <a:xfrm>
            <a:off x="539640" y="4076640"/>
            <a:ext cx="3333960" cy="223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9" name="Text Box 6"/>
          <p:cNvSpPr/>
          <p:nvPr/>
        </p:nvSpPr>
        <p:spPr>
          <a:xfrm>
            <a:off x="3780000" y="1844640"/>
            <a:ext cx="46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Признаки укуса насекомых появляются минут через 15-20 после укус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4356000" y="386064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1. Повышение температуры т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2. Сыпь по всему тел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3. Головная б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Наиболее опасны ужаливания пчел, ос, шершней в полость рта, куда насекомое может попасть, когда человек ест фрукт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Рисунок 3" descr="1217270999_image00013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4" name="Text Box 7"/>
          <p:cNvSpPr/>
          <p:nvPr/>
        </p:nvSpPr>
        <p:spPr>
          <a:xfrm>
            <a:off x="539640" y="4437000"/>
            <a:ext cx="927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В таких случаях необходима срочная медицинская помощ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ак как возникающие отек гортани и удушье смертельно опасн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c3300"/>
                </a:solidFill>
                <a:latin typeface="Constantia"/>
              </a:rPr>
              <a:t>В первую очередь нужно удалить из кожи жало насекомого, ужаленное место смочить спиртом. Приложить к ужаленному месту холод (полиэтиленовый пакет с холодной водой). Давать пострадавшему обильное питье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Рисунок 3" descr="jalo_s.jpg"/>
          <p:cNvPicPr/>
          <p:nvPr/>
        </p:nvPicPr>
        <p:blipFill>
          <a:blip r:embed="rId2"/>
          <a:stretch/>
        </p:blipFill>
        <p:spPr>
          <a:xfrm>
            <a:off x="611280" y="1628640"/>
            <a:ext cx="380988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8418240" cy="13716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5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2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1"/>
          <p:cNvSpPr/>
          <p:nvPr/>
        </p:nvSpPr>
        <p:spPr>
          <a:xfrm>
            <a:off x="2556000" y="573408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остояние ухудшаетс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рочно доста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медицинское учре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2"/>
          <p:cNvSpPr/>
          <p:nvPr/>
        </p:nvSpPr>
        <p:spPr>
          <a:xfrm>
            <a:off x="1979640" y="465300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ать пострадавшему 1-2 табле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имедрола, или супрастина, или тавиги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3"/>
          <p:cNvSpPr/>
          <p:nvPr/>
        </p:nvSpPr>
        <p:spPr>
          <a:xfrm>
            <a:off x="1403280" y="3573360"/>
            <a:ext cx="576108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место укуса наложить хол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468360" y="1557360"/>
            <a:ext cx="568944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ккуратно удалить жа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если оно е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5"/>
          <p:cNvSpPr/>
          <p:nvPr/>
        </p:nvSpPr>
        <p:spPr>
          <a:xfrm>
            <a:off x="900000" y="2565360"/>
            <a:ext cx="5689800" cy="914400"/>
          </a:xfrm>
          <a:prstGeom prst="rect">
            <a:avLst/>
          </a:prstGeom>
          <a:gradFill rotWithShape="0">
            <a:gsLst>
              <a:gs pos="0">
                <a:srgbClr val="5e5e00"/>
              </a:gs>
              <a:gs pos="5000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омыть ранку спиртом и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лабым раствором марганц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36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37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38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39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40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41"/>
          <p:cNvSpPr/>
          <p:nvPr/>
        </p:nvSpPr>
        <p:spPr>
          <a:xfrm>
            <a:off x="611280" y="5373720"/>
            <a:ext cx="1296720" cy="1224000"/>
          </a:xfrm>
          <a:custGeom>
            <a:avLst/>
            <a:gdLst>
              <a:gd name="textAreaLeft" fmla="*/ 173520 w 1296720"/>
              <a:gd name="textAreaRight" fmla="*/ 1123200 w 129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2"/>
          <p:cNvSpPr/>
          <p:nvPr/>
        </p:nvSpPr>
        <p:spPr>
          <a:xfrm>
            <a:off x="0" y="2924280"/>
            <a:ext cx="1187280" cy="1512720"/>
          </a:xfrm>
          <a:custGeom>
            <a:avLst/>
            <a:gdLst>
              <a:gd name="textAreaLeft" fmla="*/ 158760 w 1187280"/>
              <a:gd name="textAreaRight" fmla="*/ 1028520 w 1187280"/>
              <a:gd name="textAreaTop" fmla="*/ 264600 h 1512720"/>
              <a:gd name="textAreaBottom" fmla="*/ 109692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43"/>
          <p:cNvSpPr/>
          <p:nvPr/>
        </p:nvSpPr>
        <p:spPr>
          <a:xfrm>
            <a:off x="6804000" y="1700280"/>
            <a:ext cx="1309680" cy="1584360"/>
          </a:xfrm>
          <a:custGeom>
            <a:avLst/>
            <a:gdLst>
              <a:gd name="textAreaLeft" fmla="*/ 175320 w 1309680"/>
              <a:gd name="textAreaRight" fmla="*/ 1134360 w 130968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4518"/>
                <a:lnTo>
                  <a:pt x="7193" y="21169"/>
                </a:lnTo>
                <a:lnTo>
                  <a:pt x="0" y="17280"/>
                </a:lnTo>
                <a:lnTo>
                  <a:pt x="7193" y="12529"/>
                </a:lnTo>
                <a:lnTo>
                  <a:pt x="7193" y="14689"/>
                </a:lnTo>
                <a:arcTo wR="21600" hR="7560" stAng="2684518" swAng="-232708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4"/>
          <p:cNvSpPr/>
          <p:nvPr/>
        </p:nvSpPr>
        <p:spPr>
          <a:xfrm>
            <a:off x="7885080" y="3573360"/>
            <a:ext cx="878040" cy="1727280"/>
          </a:xfrm>
          <a:custGeom>
            <a:avLst/>
            <a:gdLst>
              <a:gd name="textAreaLeft" fmla="*/ 117360 w 878040"/>
              <a:gd name="textAreaRight" fmla="*/ 760680 w 878040"/>
              <a:gd name="textAreaTop" fmla="*/ 307800 h 1727280"/>
              <a:gd name="textAreaBottom" fmla="*/ 12466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2009483"/>
                <a:lnTo>
                  <a:pt x="10246" y="20678"/>
                </a:lnTo>
                <a:lnTo>
                  <a:pt x="0" y="17421"/>
                </a:lnTo>
                <a:lnTo>
                  <a:pt x="10246" y="12320"/>
                </a:lnTo>
                <a:lnTo>
                  <a:pt x="10246" y="14480"/>
                </a:lnTo>
                <a:arcTo wR="21600" hR="7701" stAng="2009483" swAng="-1677537"/>
                <a:lnTo>
                  <a:pt x="20844" y="9720"/>
                </a:lnTo>
                <a:arcTo wR="21600" hR="7701" stAng="-331946" swAng="-5068054"/>
                <a:close/>
              </a:path>
              <a:path fill="darkenLess" w="21600" h="21600">
                <a:moveTo>
                  <a:pt x="0" y="0"/>
                </a:moveTo>
                <a:arcTo wR="21600" hR="7701" stAng="-5400000" swAng="5400000"/>
                <a:lnTo>
                  <a:pt x="21600" y="11739"/>
                </a:lnTo>
                <a:arcTo wR="21600" hR="7701" stAng="0" swAng="-331946"/>
                <a:lnTo>
                  <a:pt x="20844" y="9720"/>
                </a:lnTo>
                <a:arcTo wR="21600" hR="7701" stAng="-331946" swAng="-5068054"/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1440" cy="1431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lentachel.ru/image/N4mNYUMbIgNjAVYR.jpg"/>
          <p:cNvPicPr/>
          <p:nvPr/>
        </p:nvPicPr>
        <p:blipFill>
          <a:blip r:embed="rId2"/>
          <a:stretch/>
        </p:blipFill>
        <p:spPr>
          <a:xfrm>
            <a:off x="468360" y="1628640"/>
            <a:ext cx="4000320" cy="30672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4" descr="http://www.sarov.net/p/1cp.jpg"/>
          <p:cNvPicPr/>
          <p:nvPr/>
        </p:nvPicPr>
        <p:blipFill>
          <a:blip r:embed="rId3"/>
          <a:stretch/>
        </p:blipFill>
        <p:spPr>
          <a:xfrm>
            <a:off x="4716360" y="1628640"/>
            <a:ext cx="4071960" cy="30718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539640" y="48690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При укусе клещи вносят в ранку вместе со слю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вирус энцефалита. Укусы клещей можно и не заметить: для человека они безболезнен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1:33:31Z</dcterms:created>
  <dc:creator>Фролова М.М.</dc:creator>
  <dc:description/>
  <dc:language>en-US</dc:language>
  <cp:lastModifiedBy>SomovaMV</cp:lastModifiedBy>
  <dcterms:modified xsi:type="dcterms:W3CDTF">2021-12-03T11:10:42Z</dcterms:modified>
  <cp:revision>8</cp:revision>
  <dc:subject/>
  <dc:title>Первая помощь при укусах змей и насекомых</dc:title>
</cp:coreProperties>
</file>