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07C-0DAE-4AD1-A750-79679251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242-202F-43CD-BAF2-85776DCC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01CD-B4AD-4CAF-83D0-3620C89A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493-1C35-4BC8-AFE5-3C772CAB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7471-07E4-4A6D-A640-94C5C76A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5C34-62D1-40C4-8A81-5E4AF923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DF67-D3EE-465A-BFBA-44EBAF92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3204-730D-4F88-99EA-BCB1A897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7CAE-1349-40A3-B649-D102A8AF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9EFC-B2A2-4A2C-8C25-39E4327E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235D-F6CA-4B43-A56D-804A1892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1FB-5B2A-4D84-8EDA-64CFE258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B06C-AA9A-41FD-AE29-AFC7C740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0654-A491-4A92-A951-0D5521E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2950-3895-4479-84F3-34C144CB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3302-8B1D-4973-8F5F-A7D97188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42E2-1D2F-4243-AA87-BBDF36B6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000-5A88-4D53-A0A2-283DA161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930-9C60-44E5-B40D-F7051073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904-CF6D-4E0C-AE25-C74F548B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CD2-F365-4DEE-BAC3-70E62E39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193-7C9A-4905-A02F-CA86C17F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A5B-AECD-4C51-9FE2-83818FCA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3AF5-2E54-4782-A0AD-C88E930B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632B-EEE1-4280-A455-6A788B3689D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7C91-3B0C-4458-9DD4-9760633CF48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687060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Игровые моменты на уроках математики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979280" y="4076640"/>
            <a:ext cx="632772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 математики КОУ  В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 Борисоглебский кадетский корпус»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ронина Ирина Станиславов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025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обое распространение в классной работе по математике получило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использование стихов для придания уроку занимательности.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557360"/>
            <a:ext cx="8207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пример, у  А. С. Пушкина в поэме «Скупой рыцарь» есть такие стро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…Читал я где-то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царь однажды воинам сво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лел снести земли по горсти в кучу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гордый холм возвысился,- и цар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г с вышины с весельем озир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дол, покрытый белыми шатрам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море, где бежали корабли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-431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549000"/>
            <a:ext cx="7696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читая, что численность войска составляет, например, 100000 человек, объём горсти земли имеет 0,2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, а угол при основании холма – 45, получаем задачу на вычисление объёма и высоты конус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тественно поставить исследующую задачу – положив рост царя, скажем 1,7 метра, определить, пользуясь свойством касательной и теоремой Пифагора, как далеко «царь мог с вышины с весельем озирать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-36000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 на уроке не только увлекает, заставляет задуматься, но и развивает самостоятельность, инициативу и волю ребёнка, приучает считаться с интересами товарищей, приучает к дисциплине. Увлечённые игрой дети легче усваивают программный материал, приобретают определённые навыки и зна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1280" y="152280"/>
            <a:ext cx="5545440" cy="18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«Хорошая игра похожа на хорошую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работу… В каждой игре есть прежде всего  рабочее усилие и усилие мысли»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А. С. Макаренк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76640"/>
            <a:ext cx="769608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т что писал об игре Сухомлинский: «…В игре раскрывается перед детьми мир, раскрываются творчески способности личности. Без игры нет, и не может быть полноценного умственного развития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50560" y="1988640"/>
            <a:ext cx="88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жде всего, следует учесть, что научиться решать задачи школьники смогут, лишь решая их. «Если вы хотите научиться плавать, то смело входите в воду, а если хотите научиться решать задачи, то решайте их»,- пишет Д. Пойа в книге «Математическое открытие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7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ояние математического развития учащегося наиболее ярко характеризуется их умением решать задачи.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адачи - это основное средство оттачивания мысли каждого школьн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-431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 при изуче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мы «Умножение» в 5 класс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предложить следующую комбинаторную задачу: «Семь человек обменялись фотографиями. Сколько при этом было роздано фотографий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изуче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емы «Деление с остатком»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ряду с задачей «Найти остаток от деления числа 385 на 7», допускающей стандартное решение, полезно предложить учащимся такие вопрос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2009 году было 52 субботы. Какой день недели был 1 января этого год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009 год начался с четверга. С какого дня недели                                                                     начнутся 2015 и 2016 год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91856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2"/>
          <p:cNvSpPr/>
          <p:nvPr/>
        </p:nvSpPr>
        <p:spPr>
          <a:xfrm>
            <a:off x="539640" y="33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6093000"/>
            <a:ext cx="769608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88640"/>
            <a:ext cx="7696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стоит говорить, сколько ребят делают ошибки в порядке действия. Например, в 5 классе можно вместо традиционного примера на действие решить такую задачу: «При переписывании примера ученик забыл поставить скобки. Выполненная им запись оказалось такой  20 : 5 * 2 + 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. Восстановите скобки, если ответом примера должно быть число:                                                                           1) 38; 2) 196; 3) 152; 4) 25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27092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учая, например, в 5 классе тему «Натуральные числа», учащиеся убеждаются, что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числа возникли из практической деятельности людей и являются продуктом их опыта.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лигии же утверждают друг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440" y="2133720"/>
            <a:ext cx="81342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еду две задачи, связанные со свойствами числа 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авьте все числа от 1 до 10, используя цифру 7 не более четырех раз и применяя знаки действ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ставьте числа 1, 2, 3, 4, 5, 6, 7 по вершинам и в центре шестиугольника так, чтобы сумма трех чисел, лежащих на каждой из диагоналей, равнялась 1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 решении задач, связанных со свойствами чисел, учащиеся убеждаются, что в соотношениях чисел нет волшеб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обую роль на уроках занимают софизмы.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Что же такое софизм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?</a:t>
            </a:r>
            <a:br>
              <a:rPr sz="24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312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физмом называется умышленно- ложное умозаключение, которое имеет видимость правильно выполненного действия. Каков бы ни был софизм,  он обязательно содержит одну или несколько замаскированных ошибок. Особенно часто в математических софизмах выполняются «запрещенные» действия или не учитываются условия применимости теорем, формул и правил. Иногда рассуждения ведутся с использованием ошибочного чертежа или опираются на приводящие к ошибочным заключениям «очевидност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572000" y="1052640"/>
            <a:ext cx="329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427640" y="98100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500720" y="12682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 flipV="1">
            <a:off x="539640" y="35118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иведу примеры софизмов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07560"/>
            <a:ext cx="7696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кажем, что 4 рубля  =  40000 копеек. Возьмём верное равенство        2 р. = 200 к. и возведём его по частям в квадрат. Мы получим                        4 р. =40000 к. В чём ошиб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кажем, что 5 равно 6.                                                                          Возьмём верное числовое тождество 35 +10 – 45 = 42 + 12 – 54. У левой и правой частей вынесем общий множитель за скобки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 5 ( 7 + 2 – 9 ) = 6 ( 7 + 2 – 9 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м обе части на общий множитель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7+2-9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аем 5= 6. В чём ошиб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4312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кажем, что спичка вдвое длиннее телеграфного столб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усть а - длина спички (дм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- длина столба (д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ность межд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бозначим через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мее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– а = с , в = а + 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множая два эти равенства по частям, находим: 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ав = са + 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чтем из обеих частей вс. Получим: 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ав – вс = са + 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- вс,  или     в (в – а - с) = - с (в – а – с ), откуда в = -с . Но с = в – а, поэтому в = а – в, или а = 2 в.    В чём ошиб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2:49:22Z</dcterms:created>
  <dc:creator>Стас</dc:creator>
  <dc:description/>
  <dc:language>en-US</dc:language>
  <cp:lastModifiedBy>User</cp:lastModifiedBy>
  <dcterms:modified xsi:type="dcterms:W3CDTF">2017-01-15T11:37:49Z</dcterms:modified>
  <cp:revision>13</cp:revision>
  <dc:subject/>
  <dc:title>Популярно о криптограф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