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D37-AB88-466E-974F-D420312C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33B-A711-4DBC-A00F-1F86E3E0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4DC-ACAC-44C8-8120-3E8B659D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488-3A09-4DD0-A496-DB96730E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5A76-0C85-420B-9268-2B719760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9B26-8C9B-4B16-964C-2C20ADDC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9DAD-DD88-4E37-999E-97255D90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650-9C0D-4999-9DBA-7807AE6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8EEF-E6D1-4244-8DAC-ED0DAEE3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72FE-5E65-4A11-AE7A-51F9A6C0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0904-94E4-4193-9315-641DC8E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1B2-A361-4E82-A6CD-1CEC293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399-3C0D-40BE-BB9E-639247E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1682-8D9F-4A37-910E-BCFADFB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2F4-6BF1-4BB1-BD84-79136F1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C4EF-ECB8-4556-BE87-F424470B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8E5-1AEC-4691-AC51-AEA69941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C34-0111-41FD-B98C-C291265A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4A9-DD38-413A-9F80-07ACF1A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50B-85AC-4771-AF4C-C9359F2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7A5-1A07-41D2-967F-0F2C261C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998-9B21-4390-A5D2-13634B6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415-2F39-4460-88BC-A786F77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92A-8CFE-4B9B-9B25-BBCB1CB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779-BE51-48D6-80BC-A87D871BA8F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5D1-8223-41BF-9BA9-9B6E2412FE9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Игровые моменты на уроках математик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79280" y="4076640"/>
            <a:ext cx="6327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математики КОУ  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 Борисоглебский кадетский корпус»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нина Ирина Станислав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бое распространение в классной работе по математике получил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спользование стихов для придания уроку занимательности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57360"/>
            <a:ext cx="8207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ример, у  А. С. Пушкина в поэме «Скупой рыцарь» есть такие стро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…Читал я где-т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царь однажды воинам сво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лел снести земли по горсти в куч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гордый холм возвысился,- и цар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г с вышины с весельем озир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дол, покрытый белыми шатрам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море, где бежали корабл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549000"/>
            <a:ext cx="7696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читая, что численность войска составляет, например, 100000 человек, объём горсти земли имеет 0,2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, а угол при основании холма – 45, получаем задачу на вычисление объёма и высоты конус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ественно поставить исследующую задачу – положив рост царя, скажем 1,7 метра, определить, пользуясь свойством касательной и теоремой Пифагора, как далеко «царь мог с вышины с весельем озират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00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 на уроке не только увлекает, заставляет задуматься, но и развивает самостоятельность, инициативу и волю ребёнка, приучает считаться с интересами товарищей, приучает к дисциплине. Увлечённые игрой дети легче усваивают программный материал, приобретают определённые навыки и зн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1280" y="152280"/>
            <a:ext cx="554544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«Хорошая игра похожа на хорошую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боту… В каждой игре есть прежде всего  рабочее усилие и усилие мысли»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. С. Макаренк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76640"/>
            <a:ext cx="7696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что писал об игре Сухомлинский: «…В игре раскрывается перед детьми мир, раскрываются творчески способности личности. Без игры нет, и не может быть полноценного умственного развити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198864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жде всего, следует учесть, что научиться решать задачи школьники смогут, лишь решая их. «Если вы хотите научиться плавать, то смело входите в воду, а если хотите научиться решать задачи, то решайте их»,- пишет Д. Пойа в книге «Математическое открыти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яние математического развития учащегося наиболее ярко характеризуется их умением решать задачи.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чи - это основное средство оттачивания мысли каждого школьн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при изу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мы «Умножение» в 5 класс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предложить следующую комбинаторную задачу: «Семь человек обменялись фотографиями. Сколько при этом было роздано фотографий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изу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мы «Деление с остатком»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яду с задачей «Найти остаток от деления числа 385 на 7», допускающей стандартное решение, полезно предложить учащимся такие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2009 году было 52 субботы. Какой день недели был 1 января этого год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09 год начался с четверга. С какого дня недели                                                                     начнутся 2015 и 2016 го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9185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2"/>
          <p:cNvSpPr/>
          <p:nvPr/>
        </p:nvSpPr>
        <p:spPr>
          <a:xfrm>
            <a:off x="53964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093000"/>
            <a:ext cx="76960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88640"/>
            <a:ext cx="7696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тоит говорить, сколько ребят делают ошибки в порядке действия. Например, в 5 классе можно вместо традиционного примера на действие решить такую задачу: «При переписывании примера ученик забыл поставить скобки. Выполненная им запись оказалось такой  20 : 5 * 2 + 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. Восстановите скобки, если ответом примера должно быть число:                                                                           1) 38; 2) 196; 3) 152; 4) 25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ая, например, в 5 классе тему «Натуральные числа», учащиеся убеждаются, чт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исла возникли из практической деятельности людей и являются продуктом их опыта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лигии же утверждают друг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213372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еду две задачи, связанные со свойствами числа 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ьте все числа от 1 до 10, используя цифру 7 не более четырех раз и применяя знаки действ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авьте числа 1, 2, 3, 4, 5, 6, 7 по вершинам и в центре шестиугольника так, чтобы сумма трех чисел, лежащих на каждой из диагоналей, равнялась 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решении задач, связанных со свойствами чисел, учащиеся убеждаются, что в соотношениях чисел нет волшеб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обую роль на уроках занимают софизмы.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 же такое софизм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?</a:t>
            </a:r>
            <a:br>
              <a:rPr sz="24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физмом называется умышленно- ложное умозаключение, которое имеет видимость правильно выполненного действия. Каков бы ни был софизм,  он обязательно содержит одну или несколько замаскированных ошибок. Особенно часто в математических софизмах выполняются «запрещенные» действия или не учитываются условия применимости теорем, формул и правил. Иногда рассуждения ведутся с использованием ошибочного чертежа или опираются на приводящие к ошибочным заключениям «очевидност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0" y="1052640"/>
            <a:ext cx="32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27640" y="981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00720" y="1268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 flipV="1">
            <a:off x="539640" y="35118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иведу примеры софизм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0756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4 рубля  =  40000 копеек. Возьмём верное равенство        2 р. = 200 к. и возведём его по частям в квадрат. Мы получим                        4 р. =40000 к.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5 равно 6.                                                                          Возьмём верное числовое тождество 35 +10 – 45 = 42 + 12 – 54. У левой и правой частей вынесем общий множитель за скоб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 5 ( 7 + 2 – 9 ) = 6 ( 7 + 2 – 9 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м обе части на общий множител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7+2-9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аем 5= 6.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спичка вдвое длиннее телеграфного столб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а - длина спички (дм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- длина столба (д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ность меж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бозначим чере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– а = с , в = а + 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множая два эти равенства по частям, находим: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ав = са +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чтем из обеих частей вс. Получим: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ав – вс = са +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вс,  или     в (в – а - с) = - с (в – а – с ), откуда в = -с . Но с = в – а, поэтому в = а – в, или а = 2 в.   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2:49:22Z</dcterms:created>
  <dc:creator>Стас</dc:creator>
  <dc:description/>
  <dc:language>en-US</dc:language>
  <cp:lastModifiedBy>User</cp:lastModifiedBy>
  <dcterms:modified xsi:type="dcterms:W3CDTF">2017-01-15T11:37:49Z</dcterms:modified>
  <cp:revision>13</cp:revision>
  <dc:subject/>
  <dc:title>Популярно о криптограф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