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DA92-6AF9-4987-96A8-478A6571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4265-ED04-4555-A1FA-FB2C6D86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F84-8047-4C1C-B0C7-034CCA77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BC0F-CCDB-4B79-9EBE-D03309BF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2283-84D4-4DAF-B501-3A879A75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46BB-6A7B-42BD-ADFB-9DC4ED83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FCD3-F93B-4AC4-ACE2-CC2809E3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A23D-F485-4568-B4A0-06046A91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A7CF-D152-4F66-8B0C-3829495D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9E81-87F9-4C4B-85DE-A06A06BD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ABC-9AED-4DED-9569-2B6AA1C2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8DB-75B9-4A7A-B921-C7D7B237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6A57-CA90-4BDF-8A6E-C373F13F0B54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70440" y="544788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Arial"/>
                <a:ea typeface="Arial"/>
              </a:rPr>
              <a:t>учитель-логопед Кориневская Р.Г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984807"/>
                </a:solidFill>
                <a:latin typeface="Arial"/>
                <a:ea typeface="Arial"/>
              </a:rPr>
              <a:t>МАДОУ ЦРР –д/с № 1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Arial"/>
                <a:ea typeface="Arial"/>
              </a:rPr>
              <a:t>Кавказский район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4114800" y="3279600"/>
            <a:ext cx="4114800" cy="1384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380880" y="1726920"/>
            <a:ext cx="830592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ru-RU" sz="4800" spc="-1" strike="noStrike">
                <a:solidFill>
                  <a:srgbClr val="8b513f"/>
                </a:solidFill>
                <a:latin typeface="Constantia"/>
              </a:rPr>
              <a:t>«По страницам сказок </a:t>
            </a:r>
            <a:br>
              <a:rPr sz="4800"/>
            </a:br>
            <a:r>
              <a:rPr b="1" lang="ru-RU" sz="4800" spc="-1" strike="noStrike">
                <a:solidFill>
                  <a:srgbClr val="8b513f"/>
                </a:solidFill>
                <a:latin typeface="Constantia"/>
              </a:rPr>
              <a:t>дедушки Корнея»</a:t>
            </a:r>
            <a:br>
              <a:rPr sz="4800"/>
            </a:br>
            <a:br>
              <a:rPr sz="6600"/>
            </a:b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2"/>
          <a:stretch/>
        </p:blipFill>
        <p:spPr>
          <a:xfrm>
            <a:off x="1066680" y="2268360"/>
            <a:ext cx="29289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990720" y="464832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Times New Roman"/>
              </a:rPr>
              <a:t>В последние годы жизни Корней Иванович проживал в подмосковном посёлке Переделкино на даче. Часто у себя он собирал детишек, приглашал на такие встречи известных людей – артистов, лётчиков, поэтов и писателей. Детвора обожала эти посиделки с чаем на даче у дедушки Корне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2316240" y="758880"/>
            <a:ext cx="4662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tretch/>
        </p:blipFill>
        <p:spPr>
          <a:xfrm>
            <a:off x="1638360" y="858960"/>
            <a:ext cx="5819760" cy="41702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1562040" y="5181480"/>
            <a:ext cx="59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Open Sans"/>
              </a:rPr>
              <a:t>Талант у Чуковского неиссякаемый, умный, блистательный, весёлый, праздничный. С таким писателем не расставайтесь всю жизнь!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onstantia"/>
              </a:rPr>
              <a:t>Корней Чуковский</a:t>
            </a:r>
            <a:br>
              <a:rPr sz="4400"/>
            </a:br>
            <a:r>
              <a:rPr b="1" lang="ru-RU" sz="2800" spc="-1" strike="noStrike">
                <a:solidFill>
                  <a:srgbClr val="663300"/>
                </a:solidFill>
                <a:latin typeface="Constantia"/>
              </a:rPr>
              <a:t>(он же Николай Корнейчуков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1011240" y="4191120"/>
            <a:ext cx="378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Родился 31 марта 1882 года  в Петербурге, детство провёл в Одессе. Он жил с мамой Екатериной Осиповной Корнейчук и сестрой Марус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944640" y="1725480"/>
            <a:ext cx="3848040" cy="24656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2"/>
          <a:stretch/>
        </p:blipFill>
        <p:spPr>
          <a:xfrm>
            <a:off x="5181480" y="1725480"/>
            <a:ext cx="295776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onstantia"/>
              </a:rPr>
              <a:t>Детские годы писателя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4191120" y="5486400"/>
            <a:ext cx="7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3778200" y="1639800"/>
            <a:ext cx="45561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Arial"/>
                <a:ea typeface="Arial"/>
              </a:rPr>
              <a:t>Николай был очень способным мальчиком, и Екатерина Осиповна делала всё, чтобы он мог учиться в гимназии. Она очень много работала: стирала чужим людям с утра до вечера. Однажды ей заплатили так мало, что бедная женщина не смогла заплатить за обучение сына. И Колю исключили из пятого класса гимназии. С тех пор Николаю пришлось работать. А учился он дальше сам, по книгам. И выучился так хорошо, что даже по-английски говорил замечательно, и люди потом не раз поражались его учёности. Он написал много книг для взрослых и детей. И стал известным во всем мире Корнеем Чуковс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866880" y="1639800"/>
            <a:ext cx="2911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onstantia"/>
              </a:rPr>
              <a:t>Дом – музей Корнея Ивановича Чуковского в Переделкино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3493800" cy="37018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"/>
          <p:cNvPicPr/>
          <p:nvPr/>
        </p:nvPicPr>
        <p:blipFill>
          <a:blip r:embed="rId2"/>
          <a:stretch/>
        </p:blipFill>
        <p:spPr>
          <a:xfrm>
            <a:off x="4800600" y="2158920"/>
            <a:ext cx="33498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8000" y="49860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onstantia"/>
              </a:rPr>
              <a:t>Добрые сказки К.Чуковского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 rot="20602200">
            <a:off x="686880" y="2114280"/>
            <a:ext cx="1819440" cy="24238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"/>
          <p:cNvPicPr/>
          <p:nvPr/>
        </p:nvPicPr>
        <p:blipFill>
          <a:blip r:embed="rId2"/>
          <a:stretch/>
        </p:blipFill>
        <p:spPr>
          <a:xfrm rot="409200">
            <a:off x="4574880" y="1360440"/>
            <a:ext cx="1947960" cy="25671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3"/>
          <a:stretch/>
        </p:blipFill>
        <p:spPr>
          <a:xfrm rot="1025400">
            <a:off x="6554520" y="1746000"/>
            <a:ext cx="1850760" cy="23223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4"/>
          <a:stretch/>
        </p:blipFill>
        <p:spPr>
          <a:xfrm rot="21022200">
            <a:off x="1962000" y="3828960"/>
            <a:ext cx="1686240" cy="25624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"/>
          <p:cNvPicPr/>
          <p:nvPr/>
        </p:nvPicPr>
        <p:blipFill>
          <a:blip r:embed="rId5"/>
          <a:stretch/>
        </p:blipFill>
        <p:spPr>
          <a:xfrm rot="685200">
            <a:off x="5837040" y="3873600"/>
            <a:ext cx="1900080" cy="25272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9" descr=""/>
          <p:cNvPicPr/>
          <p:nvPr/>
        </p:nvPicPr>
        <p:blipFill>
          <a:blip r:embed="rId6"/>
          <a:stretch/>
        </p:blipFill>
        <p:spPr>
          <a:xfrm>
            <a:off x="3817800" y="3895560"/>
            <a:ext cx="1820880" cy="24274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2" descr=""/>
          <p:cNvPicPr/>
          <p:nvPr/>
        </p:nvPicPr>
        <p:blipFill>
          <a:blip r:embed="rId7"/>
          <a:stretch/>
        </p:blipFill>
        <p:spPr>
          <a:xfrm rot="21310800">
            <a:off x="2495520" y="1347840"/>
            <a:ext cx="18972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968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Constantia"/>
              </a:rPr>
              <a:t>    </a:t>
            </a:r>
            <a:r>
              <a:rPr b="1" lang="ru-RU" sz="4000" spc="-1" strike="noStrike">
                <a:solidFill>
                  <a:srgbClr val="663300"/>
                </a:solidFill>
                <a:latin typeface="Constantia"/>
              </a:rPr>
              <a:t>Путешествие по сказкам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1600200" y="13003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Веселится народ -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Муха замуж идёт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За лихого, удалого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Молодого… (комара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4800600" y="1430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Нет – нет! Соловей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Не поёт для свиней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Позовите-ка лучше…(ворону)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1"/>
          <a:stretch/>
        </p:blipFill>
        <p:spPr>
          <a:xfrm>
            <a:off x="1600200" y="2630520"/>
            <a:ext cx="2425680" cy="33796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"/>
          <p:cNvPicPr/>
          <p:nvPr/>
        </p:nvPicPr>
        <p:blipFill>
          <a:blip r:embed="rId2"/>
          <a:stretch/>
        </p:blipFill>
        <p:spPr>
          <a:xfrm>
            <a:off x="4967280" y="2652840"/>
            <a:ext cx="2409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onstantia"/>
              </a:rPr>
              <a:t>Путешествие по сказкам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838080" y="1243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Лечит маленьких детей,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Лечит птичек и зверей,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Сквозь очки свои глядит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Добрый доктор…(Айбол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4724280" y="12654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Только вдруг из – за кусточка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Из-за синего лесочка,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Из далёких из полей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Прилетает… (воробей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"/>
          <p:cNvPicPr/>
          <p:nvPr/>
        </p:nvPicPr>
        <p:blipFill>
          <a:blip r:embed="rId1"/>
          <a:stretch/>
        </p:blipFill>
        <p:spPr>
          <a:xfrm>
            <a:off x="5181480" y="2741760"/>
            <a:ext cx="2557440" cy="33526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"/>
          <p:cNvPicPr/>
          <p:nvPr/>
        </p:nvPicPr>
        <p:blipFill>
          <a:blip r:embed="rId2"/>
          <a:stretch/>
        </p:blipFill>
        <p:spPr>
          <a:xfrm>
            <a:off x="1463760" y="2793960"/>
            <a:ext cx="246528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1101600" y="533520"/>
            <a:ext cx="69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onstantia"/>
              </a:rPr>
              <a:t>Путешествие по сказ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1143000" y="13716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А посуда вперёд и вперёд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По полям, по болотам идёт.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И чайник сказал утюгу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- Я больше идти…( не мог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5105520" y="13716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Солнце по небу гуляло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И за тучку забежало.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Глянул заинька в окно,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Стало заиньке…(тем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" descr=""/>
          <p:cNvPicPr/>
          <p:nvPr/>
        </p:nvPicPr>
        <p:blipFill>
          <a:blip r:embed="rId1"/>
          <a:stretch/>
        </p:blipFill>
        <p:spPr>
          <a:xfrm>
            <a:off x="1523880" y="2728800"/>
            <a:ext cx="2390760" cy="31845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"/>
          <p:cNvPicPr/>
          <p:nvPr/>
        </p:nvPicPr>
        <p:blipFill>
          <a:blip r:embed="rId2"/>
          <a:stretch/>
        </p:blipFill>
        <p:spPr>
          <a:xfrm>
            <a:off x="5324400" y="2728800"/>
            <a:ext cx="24210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101600" y="533520"/>
            <a:ext cx="69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onstantia"/>
              </a:rPr>
              <a:t>Путешествие по сказ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1143000" y="144792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Свинки замяукали – мяу – мяу,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Кошечки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(захрюкали, хрю-хрю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5105520" y="13716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Скачет сито по полям,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А корыто по луг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За лопатою мет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Вдоль по улице ... (пош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6" descr=""/>
          <p:cNvPicPr/>
          <p:nvPr/>
        </p:nvPicPr>
        <p:blipFill>
          <a:blip r:embed="rId1"/>
          <a:stretch/>
        </p:blipFill>
        <p:spPr>
          <a:xfrm>
            <a:off x="1523880" y="2641680"/>
            <a:ext cx="2481480" cy="32716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7" descr=""/>
          <p:cNvPicPr/>
          <p:nvPr/>
        </p:nvPicPr>
        <p:blipFill>
          <a:blip r:embed="rId2"/>
          <a:stretch/>
        </p:blipFill>
        <p:spPr>
          <a:xfrm>
            <a:off x="4876920" y="3111480"/>
            <a:ext cx="33750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Teacher</cp:lastModifiedBy>
  <dcterms:modified xsi:type="dcterms:W3CDTF">2022-03-20T07:46:31Z</dcterms:modified>
  <cp:revision>62</cp:revision>
  <dc:subject/>
  <dc:title>Название презентации</dc:title>
</cp:coreProperties>
</file>