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5FE9-12D7-426A-BFD5-B21A7A1F5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21D0-2E57-406C-9A90-D8E44A66A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E3A7-0802-486E-BF5F-7EE452EC8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A9D3-0381-44C6-9317-B1E7ADC59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A6D9-9FB5-456A-86C4-4FFA5EC76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254C-B9D2-4B4D-B472-46A5C80D6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A987-8E3E-4F3F-A8F5-D40A7DEC8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D827-1499-4D7A-BCCB-3ED2C225E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4608-E356-4C0F-B4EC-B1054893E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3617-8236-4EC7-9E4A-175854C92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A530-A531-40F0-B149-BEF59D967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B356-3527-492A-BB36-55C4BD246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0826D-EDDC-4B1B-83E7-B14D968DA76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3"/>
          <p:cNvSpPr/>
          <p:nvPr/>
        </p:nvSpPr>
        <p:spPr>
          <a:xfrm>
            <a:off x="684360" y="620640"/>
            <a:ext cx="755964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00ff"/>
                </a:solidFill>
                <a:latin typeface="Times New Roman"/>
              </a:rPr>
              <a:t>«Практико-ориентированные задачи на уроках математики»</a:t>
            </a:r>
            <a:endParaRPr b="0" lang="en-US" sz="5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Text Box 13"/>
          <p:cNvSpPr/>
          <p:nvPr/>
        </p:nvSpPr>
        <p:spPr>
          <a:xfrm>
            <a:off x="755640" y="4869000"/>
            <a:ext cx="735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4d4d4d"/>
                </a:solidFill>
                <a:latin typeface="Arial"/>
              </a:rPr>
              <a:t>Подготовила: учитель математики КОУ ВО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«Борисоглебский кадетский корпус»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d4d4d"/>
                </a:solidFill>
                <a:latin typeface="Arial"/>
              </a:rPr>
              <a:t>Воронина Ирина Станиславовна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WordArt 5"/>
          <p:cNvSpPr txBox="1"/>
          <p:nvPr/>
        </p:nvSpPr>
        <p:spPr>
          <a:xfrm>
            <a:off x="809640" y="1844640"/>
            <a:ext cx="7416720" cy="471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ff33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 </a:t>
            </a:r>
            <a:endParaRPr b="0" lang="en-US" sz="2800" spc="1" strike="noStrike">
              <a:ln w="12600">
                <a:solidFill>
                  <a:srgbClr val="ff33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4" name="Прямоугольник 1"/>
          <p:cNvSpPr/>
          <p:nvPr/>
        </p:nvSpPr>
        <p:spPr>
          <a:xfrm>
            <a:off x="1187280" y="189000"/>
            <a:ext cx="681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250920" y="228240"/>
            <a:ext cx="88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ча  №1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179280" y="3760920"/>
            <a:ext cx="896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216000" y="640800"/>
            <a:ext cx="8604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fff"/>
                </a:solidFill>
                <a:latin typeface="Comic Sans MS"/>
              </a:rPr>
              <a:t>На картинке в журнале девочка увидела шарф и решила связать себе такой же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fff"/>
                </a:solidFill>
                <a:latin typeface="Comic Sans MS"/>
              </a:rPr>
              <a:t>У девочки есть  клубок синих и клубок красных  шерстяных ниток по 70 г каждый. Хватит ли ей этих ниток, чтобы связать шарф, если на вывязывание каждого квадрата размером 10см*10см потребуется по  6 граммов ниток? Каковы размеры шарфа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78" name="Рисунок 3" descr="Безымянный"/>
          <p:cNvPicPr/>
          <p:nvPr/>
        </p:nvPicPr>
        <p:blipFill>
          <a:blip r:embed="rId1"/>
          <a:stretch/>
        </p:blipFill>
        <p:spPr>
          <a:xfrm>
            <a:off x="1187280" y="4869000"/>
            <a:ext cx="6553440" cy="143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5"/>
          <p:cNvSpPr txBox="1"/>
          <p:nvPr/>
        </p:nvSpPr>
        <p:spPr>
          <a:xfrm>
            <a:off x="809640" y="1844640"/>
            <a:ext cx="7416720" cy="471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ff33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 </a:t>
            </a:r>
            <a:endParaRPr b="0" lang="en-US" sz="2800" spc="1" strike="noStrike">
              <a:ln w="12600">
                <a:solidFill>
                  <a:srgbClr val="ff33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0" name="Прямоугольник 1"/>
          <p:cNvSpPr/>
          <p:nvPr/>
        </p:nvSpPr>
        <p:spPr>
          <a:xfrm>
            <a:off x="1187280" y="189000"/>
            <a:ext cx="681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179280" y="2828880"/>
            <a:ext cx="896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539640" y="12492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ча  №2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Прямоугольник 28"/>
          <p:cNvSpPr/>
          <p:nvPr/>
        </p:nvSpPr>
        <p:spPr>
          <a:xfrm>
            <a:off x="2286000" y="2136600"/>
            <a:ext cx="4572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Прямоугольник 29"/>
          <p:cNvSpPr/>
          <p:nvPr/>
        </p:nvSpPr>
        <p:spPr>
          <a:xfrm>
            <a:off x="539640" y="1125360"/>
            <a:ext cx="7993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fff"/>
                </a:solidFill>
                <a:latin typeface="Times New Roman"/>
                <a:ea typeface="Times New Roman"/>
              </a:rPr>
              <a:t>Мастер изготовил 100 ящиков для посадки цветов из дощечек размером 30 см * 30 см. Эти ящики нужно покрасить снаружи. Сколько банок краски по 1 кг нужно приобрести мастеру при норме расходования 160 г на квадратный метр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85" name="Рисунок 2" descr="images"/>
          <p:cNvPicPr/>
          <p:nvPr/>
        </p:nvPicPr>
        <p:blipFill>
          <a:blip r:embed="rId1"/>
          <a:stretch/>
        </p:blipFill>
        <p:spPr>
          <a:xfrm>
            <a:off x="2340000" y="3933720"/>
            <a:ext cx="3240000" cy="21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5"/>
          <p:cNvSpPr txBox="1"/>
          <p:nvPr/>
        </p:nvSpPr>
        <p:spPr>
          <a:xfrm>
            <a:off x="809640" y="1844640"/>
            <a:ext cx="7416720" cy="471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ff33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 </a:t>
            </a:r>
            <a:endParaRPr b="0" lang="en-US" sz="2800" spc="1" strike="noStrike">
              <a:ln w="12600">
                <a:solidFill>
                  <a:srgbClr val="ff33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7" name="Прямоугольник 1"/>
          <p:cNvSpPr/>
          <p:nvPr/>
        </p:nvSpPr>
        <p:spPr>
          <a:xfrm>
            <a:off x="1187280" y="189000"/>
            <a:ext cx="681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179280" y="2828880"/>
            <a:ext cx="896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Rectangle 37"/>
          <p:cNvSpPr/>
          <p:nvPr/>
        </p:nvSpPr>
        <p:spPr>
          <a:xfrm>
            <a:off x="971640" y="5267160"/>
            <a:ext cx="71895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0" name="Прямоугольник 14"/>
          <p:cNvSpPr/>
          <p:nvPr/>
        </p:nvSpPr>
        <p:spPr>
          <a:xfrm>
            <a:off x="395280" y="692280"/>
            <a:ext cx="820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ча №3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ятиклассник Вася попросил вас помочь рассчитать стоимость туристической путевки. Он вместе с родителями и четырехлетней сестрой едет на неделю в Турцию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е предложенную рекламу турагентства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:  реклама турагентства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1"/>
          <p:cNvSpPr/>
          <p:nvPr/>
        </p:nvSpPr>
        <p:spPr>
          <a:xfrm>
            <a:off x="2286000" y="212076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" name="Прямоугольник 2"/>
          <p:cNvSpPr/>
          <p:nvPr/>
        </p:nvSpPr>
        <p:spPr>
          <a:xfrm>
            <a:off x="539640" y="-63360"/>
            <a:ext cx="8353440" cy="67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ча № 5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fff"/>
                </a:solidFill>
                <a:latin typeface="Times New Roman"/>
                <a:ea typeface="Times New Roman"/>
              </a:rPr>
              <a:t>Подсчитано, что каждый курящий человек выкуривает за год 1кг 500г табака. Каждая выкуренная сигарета сокращает жизнь на 10 минут, а каждые 13 секунд умирает человек от заболевания, связанного  с табакокурением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2fff"/>
                </a:solidFill>
                <a:latin typeface="Times New Roman"/>
                <a:ea typeface="Times New Roman"/>
              </a:rPr>
              <a:t>Историческая справка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fff"/>
                </a:solidFill>
                <a:latin typeface="Times New Roman"/>
                <a:ea typeface="Calibri"/>
              </a:rPr>
              <a:t>Табак известен человечеству с давних времён. Один из европейских путешественников – Христофор  Колумб 12 октября 1492года увидел, как краснокожие люди Америки выпускают дым изо рта и носа. Они сворачивали сухие листья в длинные трубки. Такой свёрток называли тобако. Путешественники смотрели с отвращением. Индейцы таким образом  отпугивали  москитов. У них курили все: мужчины, женщины, дети. Матросы тоже в знак дружбы стали курить и пристрастились к курению.   Табак в Россию завезли в 1585году, и курение стало распространяться среди населения</a:t>
            </a:r>
            <a:r>
              <a:rPr b="0" lang="ru-RU" sz="2800" spc="-1" strike="noStrike">
                <a:solidFill>
                  <a:srgbClr val="2f2fff"/>
                </a:solidFill>
                <a:latin typeface="Times New Roman"/>
                <a:ea typeface="Calibri"/>
              </a:rPr>
              <a:t>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5"/>
          <p:cNvSpPr txBox="1"/>
          <p:nvPr/>
        </p:nvSpPr>
        <p:spPr>
          <a:xfrm>
            <a:off x="809640" y="1844640"/>
            <a:ext cx="7416720" cy="471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ff33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 </a:t>
            </a:r>
            <a:endParaRPr b="0" lang="en-US" sz="2800" spc="1" strike="noStrike">
              <a:ln w="12600">
                <a:solidFill>
                  <a:srgbClr val="ff33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94" name="Прямоугольник 1"/>
          <p:cNvSpPr/>
          <p:nvPr/>
        </p:nvSpPr>
        <p:spPr>
          <a:xfrm>
            <a:off x="1187280" y="189000"/>
            <a:ext cx="681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250920" y="289080"/>
            <a:ext cx="88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a4"/>
                </a:solidFill>
                <a:latin typeface="Arial"/>
              </a:rPr>
              <a:t>Методика обучения решению практико-ориентированных задач в курсе математики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0" y="1629720"/>
            <a:ext cx="8964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К этапам решения можно отнести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 анализ текста задачи;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перевод текста на язык математики;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 установление отношений между данными и вопросом;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) составление плана решения задачи;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) осуществление плана решения;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) проверка и оценка решения задачи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a4"/>
                </a:solidFill>
                <a:latin typeface="Arial"/>
              </a:rPr>
              <a:t>Удивление</a:t>
            </a:r>
            <a:r>
              <a:rPr b="1" lang="ru-RU" sz="3000" spc="-1" strike="noStrike">
                <a:solidFill>
                  <a:srgbClr val="0000a4"/>
                </a:solidFill>
                <a:latin typeface="Arial"/>
              </a:rPr>
              <a:t> - д</a:t>
            </a:r>
            <a:r>
              <a:rPr b="1" lang="en-US" sz="3000" spc="-1" strike="noStrike">
                <a:solidFill>
                  <a:srgbClr val="0000a4"/>
                </a:solidFill>
                <a:latin typeface="Arial"/>
              </a:rPr>
              <a:t>вигател</a:t>
            </a:r>
            <a:r>
              <a:rPr b="1" lang="ru-RU" sz="3000" spc="-1" strike="noStrike">
                <a:solidFill>
                  <a:srgbClr val="0000a4"/>
                </a:solidFill>
                <a:latin typeface="Arial"/>
              </a:rPr>
              <a:t>ь</a:t>
            </a:r>
            <a:r>
              <a:rPr b="1" lang="en-US" sz="3000" spc="-1" strike="noStrike">
                <a:solidFill>
                  <a:srgbClr val="0000a4"/>
                </a:solidFill>
                <a:latin typeface="Arial"/>
              </a:rPr>
              <a:t> учени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a4"/>
                </a:solidFill>
                <a:latin typeface="Arial"/>
              </a:rPr>
              <a:t>Именно </a:t>
            </a:r>
            <a:r>
              <a:rPr b="1" lang="ru-RU" sz="3000" spc="-1" strike="noStrike">
                <a:solidFill>
                  <a:srgbClr val="0000a4"/>
                </a:solidFill>
                <a:latin typeface="Arial"/>
              </a:rPr>
              <a:t>удивление</a:t>
            </a:r>
            <a:r>
              <a:rPr b="1" lang="en-US" sz="3000" spc="-1" strike="noStrike">
                <a:solidFill>
                  <a:srgbClr val="0000a4"/>
                </a:solidFill>
                <a:latin typeface="Arial"/>
              </a:rPr>
              <a:t> влечет и манит, ведет детей к «полету мысли и фантазии», к открытию, к озарению. Не сухой расчет, не вереница огромных цифр, не вызубренные правила и теоремы, а удивительные задачи – вот, что нужно для озарения.</a:t>
            </a:r>
            <a:r>
              <a:rPr b="0" lang="ru-RU" sz="3000" spc="-1" strike="noStrike">
                <a:solidFill>
                  <a:srgbClr val="0000a4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1"/>
          <p:cNvSpPr/>
          <p:nvPr/>
        </p:nvSpPr>
        <p:spPr>
          <a:xfrm>
            <a:off x="611280" y="333360"/>
            <a:ext cx="7416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тематические задачи – 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жасно интересная вещь, а если еще их уметь решать,                                    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о можно получать удовольствие от процесса решения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.А. Скаткин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9" name="Рисунок 2" descr="4.png"/>
          <p:cNvPicPr/>
          <p:nvPr/>
        </p:nvPicPr>
        <p:blipFill>
          <a:blip r:embed="rId1"/>
          <a:stretch/>
        </p:blipFill>
        <p:spPr>
          <a:xfrm>
            <a:off x="1692360" y="3789360"/>
            <a:ext cx="410364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9" descr="4601546031433"/>
          <p:cNvPicPr/>
          <p:nvPr/>
        </p:nvPicPr>
        <p:blipFill>
          <a:blip r:embed="rId1"/>
          <a:stretch/>
        </p:blipFill>
        <p:spPr>
          <a:xfrm rot="20740200">
            <a:off x="250560" y="259920"/>
            <a:ext cx="3173400" cy="19051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2920" y="5444640"/>
            <a:ext cx="7772400" cy="6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" name="Text Box 10"/>
          <p:cNvSpPr/>
          <p:nvPr/>
        </p:nvSpPr>
        <p:spPr>
          <a:xfrm>
            <a:off x="2050920" y="2276640"/>
            <a:ext cx="5400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1116000" y="189000"/>
            <a:ext cx="75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a4"/>
                </a:solidFill>
                <a:latin typeface="Arial"/>
              </a:rPr>
              <a:t>                   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Прямоугольник 6"/>
          <p:cNvSpPr/>
          <p:nvPr/>
        </p:nvSpPr>
        <p:spPr>
          <a:xfrm>
            <a:off x="684360" y="1916280"/>
            <a:ext cx="8064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a4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2f2fff"/>
                </a:solidFill>
                <a:latin typeface="Times New Roman"/>
                <a:ea typeface="Times New Roman"/>
              </a:rPr>
              <a:t>Глобальная цель        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fff"/>
                </a:solidFill>
                <a:latin typeface="Times New Roman"/>
                <a:ea typeface="Times New Roman"/>
              </a:rPr>
              <a:t>образования состоит в том, что бы научить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fff"/>
                </a:solidFill>
                <a:latin typeface="Times New Roman"/>
                <a:ea typeface="Times New Roman"/>
              </a:rPr>
              <a:t>человека лучше понимать жизнь, ориентироваться в современном обществе, сделать его способным найти свое местов нем в соответствии с индивидуальными способностями, интересами и возможностями. Следовательно, задача учителя состоит в том, чтобы помочь ученику стать свободной, творческой и ответственной личностью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01680" y="475920"/>
            <a:ext cx="8540640" cy="56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2fff"/>
                </a:solidFill>
                <a:latin typeface="Times New Roman"/>
                <a:ea typeface="Times New Roman"/>
              </a:rPr>
              <a:t>Целью моей деятельности является формирование средствами математики компетенций, необходимых человеку для полноценной жизни в современном обществ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2fff"/>
                </a:solidFill>
                <a:latin typeface="Times New Roman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2f2fff"/>
                </a:solidFill>
                <a:latin typeface="Times New Roman"/>
                <a:ea typeface="Times New Roman"/>
              </a:rPr>
              <a:t>Если при обучении математике учащихся основной школы систематически и целенаправленно использовать практико-ориентированные задания, то повысится интерес к предмету, и, как следствие, качество математической подготовки к предмет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a4"/>
                </a:solidFill>
                <a:latin typeface="Arial"/>
              </a:rPr>
              <a:t>Сравнительная характеристика учебников математики 5-6 классов по количеству сюжетных задач</a:t>
            </a:r>
            <a:endParaRPr b="0" lang="en-US" sz="26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403280" y="1844640"/>
          <a:ext cx="6732720" cy="4314960"/>
        </p:xfrm>
        <a:graphic>
          <a:graphicData uri="http://schemas.openxmlformats.org/drawingml/2006/table">
            <a:tbl>
              <a:tblPr/>
              <a:tblGrid>
                <a:gridCol w="4094280"/>
                <a:gridCol w="1246320"/>
                <a:gridCol w="1392120"/>
              </a:tblGrid>
              <a:tr h="6894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звание учебни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личество текстовых задач, в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клас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 клас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.Я. Виленкин, В.И. Жохов и др. Математика. УМК для 5-6 класс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.В. Дорофеев, Л.Г. Петерсон. Математика. Учебник для 5 кл в 2-х частях. Учебник для 6 кл. в 2-х частя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.В. Дорофеев, И.Ф. Шарыгин. Математика. УМК для 5-6 класс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.И. Зубарева, А.Г. Мордкович. Математика.5,6кл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42920" y="5444640"/>
            <a:ext cx="7772400" cy="6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3" name="Picture 7" descr="MC900240777[1]"/>
          <p:cNvPicPr/>
          <p:nvPr/>
        </p:nvPicPr>
        <p:blipFill>
          <a:blip r:embed="rId1"/>
          <a:stretch/>
        </p:blipFill>
        <p:spPr>
          <a:xfrm>
            <a:off x="5076720" y="-171360"/>
            <a:ext cx="4248360" cy="25099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0"/>
          <p:cNvSpPr/>
          <p:nvPr/>
        </p:nvSpPr>
        <p:spPr>
          <a:xfrm>
            <a:off x="3111480" y="3141720"/>
            <a:ext cx="4340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Text Box 13"/>
          <p:cNvSpPr/>
          <p:nvPr/>
        </p:nvSpPr>
        <p:spPr>
          <a:xfrm>
            <a:off x="395280" y="2276640"/>
            <a:ext cx="8278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a4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a4"/>
                </a:solidFill>
                <a:latin typeface="Arial"/>
              </a:rPr>
              <a:t>«Скажи мне - и я забуду. Покажи мне - и я запомню. Дай мне действовать самому - и я научусь»</a:t>
            </a:r>
            <a:r>
              <a:rPr b="0" lang="ru-RU" sz="3600" spc="-1" strike="noStrike">
                <a:solidFill>
                  <a:srgbClr val="0000a4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1547640" y="4941720"/>
            <a:ext cx="735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a4"/>
                </a:solidFill>
                <a:latin typeface="Arial"/>
              </a:rPr>
              <a:t>Конф</a:t>
            </a:r>
            <a:r>
              <a:rPr b="1" i="1" lang="ru-RU" sz="2800" spc="-1" strike="noStrike">
                <a:solidFill>
                  <a:srgbClr val="0000a4"/>
                </a:solidFill>
                <a:latin typeface="Arial"/>
              </a:rPr>
              <a:t>уций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a4"/>
                </a:solidFill>
                <a:latin typeface="Arial"/>
              </a:rPr>
              <a:t>Решение практико-ориентированных задач на уроках</a:t>
            </a:r>
            <a:r>
              <a:rPr b="1" lang="ru-RU" sz="2600" spc="-1" strike="noStrike">
                <a:solidFill>
                  <a:srgbClr val="0000a4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a4"/>
                </a:solidFill>
                <a:latin typeface="Arial"/>
              </a:rPr>
              <a:t>математики  должно иметь конкретные цели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н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учиться решать  задачи, с которыми каждый из нас  может столкнуться в повседневной жизн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овергнуть  мнение, что не всем нужно учиться математик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д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казать, что математика нужна всем, чем бы человек не занимался, какой бы профессией не овладевал, где бы не училс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готовиться к Единому Государственному Экзамену, в который входят практико-ориентированные задач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WordArt 5"/>
          <p:cNvSpPr txBox="1"/>
          <p:nvPr/>
        </p:nvSpPr>
        <p:spPr>
          <a:xfrm>
            <a:off x="809640" y="1844640"/>
            <a:ext cx="7416720" cy="471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ff33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 </a:t>
            </a:r>
            <a:endParaRPr b="0" lang="en-US" sz="2800" spc="1" strike="noStrike">
              <a:ln w="12600">
                <a:solidFill>
                  <a:srgbClr val="ff33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9" name="Прямоугольник 1"/>
          <p:cNvSpPr/>
          <p:nvPr/>
        </p:nvSpPr>
        <p:spPr>
          <a:xfrm>
            <a:off x="1187280" y="189000"/>
            <a:ext cx="681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Rectangle 218"/>
          <p:cNvSpPr/>
          <p:nvPr/>
        </p:nvSpPr>
        <p:spPr>
          <a:xfrm>
            <a:off x="336240" y="403920"/>
            <a:ext cx="843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a4"/>
                </a:solidFill>
                <a:latin typeface="Arial"/>
              </a:rPr>
              <a:t>Т</a:t>
            </a:r>
            <a:r>
              <a:rPr b="1" lang="en-US" sz="2800" spc="-1" strike="noStrike">
                <a:solidFill>
                  <a:srgbClr val="0000a4"/>
                </a:solidFill>
                <a:latin typeface="Arial"/>
              </a:rPr>
              <a:t>ри группы практико-ориентированных задач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Rectangle 219"/>
          <p:cNvSpPr/>
          <p:nvPr/>
        </p:nvSpPr>
        <p:spPr>
          <a:xfrm>
            <a:off x="0" y="920160"/>
            <a:ext cx="896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1 группа-это задачи профориентационного направления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ожно использовать готовые задачи, а также можно предложить ученикам самим составить задачи данного направления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Rectangle 263"/>
          <p:cNvSpPr/>
          <p:nvPr/>
        </p:nvSpPr>
        <p:spPr>
          <a:xfrm>
            <a:off x="395280" y="2571840"/>
            <a:ext cx="85694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  Мама решила приготовить салат из огурцов, помидоров и редиски. Вся масса салата должна составить 400 г. Сколько нужно положить помидоров, если масса огурцов составляет 150 г., а масса редиски в 2 раза меньше массы огурцов?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Хозяйка собрала 17 кг яблок. Сколько получится свежевыжатого сока, если сок составляет 80% от массы всех яблок?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Купили 15 кг груш. На компот решили истратить 40% все груш, а остальное пошло на варенье. Сколько кг сахара нужно купить для варенья, если на 1 кг свежих груш нужно 800 г. сахара?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WordArt 5"/>
          <p:cNvSpPr txBox="1"/>
          <p:nvPr/>
        </p:nvSpPr>
        <p:spPr>
          <a:xfrm>
            <a:off x="809640" y="1844640"/>
            <a:ext cx="7416720" cy="471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ff33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 </a:t>
            </a:r>
            <a:endParaRPr b="0" lang="en-US" sz="2800" spc="1" strike="noStrike">
              <a:ln w="12600">
                <a:solidFill>
                  <a:srgbClr val="ff33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4" name="Прямоугольник 1"/>
          <p:cNvSpPr/>
          <p:nvPr/>
        </p:nvSpPr>
        <p:spPr>
          <a:xfrm>
            <a:off x="1187280" y="189000"/>
            <a:ext cx="681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336240" y="403920"/>
            <a:ext cx="843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a4"/>
                </a:solidFill>
                <a:latin typeface="Arial"/>
              </a:rPr>
              <a:t>Т</a:t>
            </a:r>
            <a:r>
              <a:rPr b="1" lang="en-US" sz="2800" spc="-1" strike="noStrike">
                <a:solidFill>
                  <a:srgbClr val="0000a4"/>
                </a:solidFill>
                <a:latin typeface="Arial"/>
              </a:rPr>
              <a:t>ри группы практико-ориентированных задач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179280" y="116388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2 группа</a:t>
            </a: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- геометрические задачи, связанные с жизнью, с практической деятельностью человека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179280" y="2546640"/>
            <a:ext cx="87854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адача №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На берегу реки требуется построить водонапорную башню для снабжения водой двух сел так, чтобы общая длина труб от водонапорной башни до обоих сел была наименьшей.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ча №2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обходимо соединить шоссейной дорогой, включая постройку моста через реку, два села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к должна пройти эта дорога, чтобы путь между селами был кратчайшим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ча №3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ямоугольный лист жести размером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)надо выгнуть в желоб с квадратным сечением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сследовать, какой сгиб дает желоб с наибольшим объемом.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WordArt 5"/>
          <p:cNvSpPr txBox="1"/>
          <p:nvPr/>
        </p:nvSpPr>
        <p:spPr>
          <a:xfrm>
            <a:off x="809640" y="1844640"/>
            <a:ext cx="7416720" cy="471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ff33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 </a:t>
            </a:r>
            <a:endParaRPr b="0" lang="en-US" sz="2800" spc="1" strike="noStrike">
              <a:ln w="12600">
                <a:solidFill>
                  <a:srgbClr val="ff33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9" name="Прямоугольник 1"/>
          <p:cNvSpPr/>
          <p:nvPr/>
        </p:nvSpPr>
        <p:spPr>
          <a:xfrm>
            <a:off x="1187280" y="189000"/>
            <a:ext cx="681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336240" y="403920"/>
            <a:ext cx="843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a4"/>
                </a:solidFill>
                <a:latin typeface="Arial"/>
              </a:rPr>
              <a:t>Т</a:t>
            </a:r>
            <a:r>
              <a:rPr b="1" lang="en-US" sz="2800" spc="-1" strike="noStrike">
                <a:solidFill>
                  <a:srgbClr val="0000a4"/>
                </a:solidFill>
                <a:latin typeface="Arial"/>
              </a:rPr>
              <a:t>ри группы практико-ориентированных задач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179280" y="116388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3 группа – задачи семейно-практического содержания.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Например, «один день из жизни семьи»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0" y="2241360"/>
            <a:ext cx="8964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адача  № 1. 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ольному прописано лекарство, которое нужно пить по 0,5 г  3 раза в день в течение 8 дней. В одной упаковке 10 таблеток лекарства по 0,25 г. Какого наименьшего количества упаковок хватит на весь курс лечения?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адача  № 2. 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акетик сока стоит 14 рублей 50 копеек. Какое наибольшее число пакетиков сока можно купить на 100 рублей?  (Хватит ли денег Вите, если он захочет купить сок себе и угостить пятерых друзей; если «да», то сколько денег у него останется?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адача  № 3.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ня купила месячный проездной билет на автобус. За месяц она сделала 45 поездок. Сколько рублей она сэкономила, если проездной билет стоит  750 рублей, а разовая поездка  25 рублей? 28 рублей?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2T08:54:22Z</dcterms:created>
  <dc:creator>Пользователь</dc:creator>
  <dc:description/>
  <dc:language>en-US</dc:language>
  <cp:lastModifiedBy>User</cp:lastModifiedBy>
  <dcterms:modified xsi:type="dcterms:W3CDTF">2016-03-13T11:48:10Z</dcterms:modified>
  <cp:revision>146</cp:revision>
  <dc:subject/>
  <dc:title>Слайд 1</dc:title>
</cp:coreProperties>
</file>