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2820-C5B0-40C2-9347-8CC34FD4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092-733E-4E94-8E5F-E029268A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CB5-EF75-4118-A4C8-E0D94537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7471-EE22-440D-B601-17DB8D2F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CF4-D78B-472E-B418-1A770194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0AF-E4E4-44CD-BA3C-7B5523F3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4A3-4072-4B0B-8418-D24B093F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653-327B-4992-82AB-DF94B6DB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3CC-CB6F-474C-88CA-23EC01C7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60D-220C-421E-9E9A-79C8215E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30EE-2DD1-4EE9-8445-9DB07E3C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5EE-44DD-47A7-AD33-BD64F80C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044D-2A57-4A54-86E1-F01CFF7AD51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684360" y="620640"/>
            <a:ext cx="7559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ff"/>
                </a:solidFill>
                <a:latin typeface="Times New Roman"/>
              </a:rPr>
              <a:t>«Практико-ориентированные задачи на уроках математики»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755640" y="4869000"/>
            <a:ext cx="73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Подготовила: учитель математики КОУ ВО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«Борисоглебский кадетский корпус»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d4d4d"/>
                </a:solidFill>
                <a:latin typeface="Arial"/>
              </a:rPr>
              <a:t>Воронина Ирина Станиславовна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50920" y="2282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 №1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79280" y="376092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16000" y="640800"/>
            <a:ext cx="86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Comic Sans MS"/>
              </a:rPr>
              <a:t>На картинке в журнале девочка увидела шарф и решила связать себе такой же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Comic Sans MS"/>
              </a:rPr>
              <a:t>У девочки есть  клубок синих и клубок красных  шерстяных ниток по 70 г каждый. Хватит ли ей этих ниток, чтобы связать шарф, если на вывязывание каждого квадрата размером 10см*10см потребуется по  6 граммов ниток? Каковы размеры шарфа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8" name="Рисунок 3" descr="Безымянный"/>
          <p:cNvPicPr/>
          <p:nvPr/>
        </p:nvPicPr>
        <p:blipFill>
          <a:blip r:embed="rId1"/>
          <a:stretch/>
        </p:blipFill>
        <p:spPr>
          <a:xfrm>
            <a:off x="1187280" y="4869000"/>
            <a:ext cx="655344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79280" y="282888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39640" y="1249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 №2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Прямоугольник 28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Прямоугольник 29"/>
          <p:cNvSpPr/>
          <p:nvPr/>
        </p:nvSpPr>
        <p:spPr>
          <a:xfrm>
            <a:off x="539640" y="112536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Мастер изготовил 100 ящиков для посадки цветов из дощечек размером 30 см * 30 см. Эти ящики нужно покрасить снаружи. Сколько банок краски по 1 кг нужно приобрести мастеру при норме расходования 160 г на квадратный метр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5" name="Рисунок 2" descr="images"/>
          <p:cNvPicPr/>
          <p:nvPr/>
        </p:nvPicPr>
        <p:blipFill>
          <a:blip r:embed="rId1"/>
          <a:stretch/>
        </p:blipFill>
        <p:spPr>
          <a:xfrm>
            <a:off x="2340000" y="3933720"/>
            <a:ext cx="32400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282888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37"/>
          <p:cNvSpPr/>
          <p:nvPr/>
        </p:nvSpPr>
        <p:spPr>
          <a:xfrm>
            <a:off x="971640" y="5267160"/>
            <a:ext cx="71895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14"/>
          <p:cNvSpPr/>
          <p:nvPr/>
        </p:nvSpPr>
        <p:spPr>
          <a:xfrm>
            <a:off x="395280" y="69228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3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классник Вася попросил вас помочь рассчитать стоимость туристической путевки. Он вместе с родителями и четырехлетней сестрой едет на неделю в Турцию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е предложенную рекламу турагентства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 реклама турагентства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286000" y="21207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39640" y="-63360"/>
            <a:ext cx="8353440" cy="67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№ 5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Подсчитано, что каждый курящий человек выкуривает за год 1кг 500г табака. Каждая выкуренная сигарета сокращает жизнь на 10 минут, а каждые 13 секунд умирает человек от заболевания, связанного  с табакокурением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Историческая справк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fff"/>
                </a:solidFill>
                <a:latin typeface="Times New Roman"/>
                <a:ea typeface="Calibri"/>
              </a:rPr>
              <a:t>Табак известен человечеству с давних времён. Один из европейских путешественников – Христофор  Колумб 12 октября 1492года увидел, как краснокожие люди Америки выпускают дым изо рта и носа. Они сворачивали сухие листья в длинные трубки. Такой свёрток называли тобако. Путешественники смотрели с отвращением. Индейцы таким образом  отпугивали  москитов. У них курили все: мужчины, женщины, дети. Матросы тоже в знак дружбы стали курить и пристрастились к курению.   Табак в Россию завезли в 1585году, и курение стало распространяться среди населения</a:t>
            </a: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Calibri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50920" y="2890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a4"/>
                </a:solidFill>
                <a:latin typeface="Arial"/>
              </a:rPr>
              <a:t>Методика обучения решению практико-ориентированных задач в курсе математики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162972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 этапам решения можно отнести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анализ текста задач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перевод текста на язык математик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установление отношений между данными и вопросом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составление плана решения задачи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осуществление плана решения;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проверка и оценка решения задачи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Удивление</a:t>
            </a:r>
            <a:r>
              <a:rPr b="1" lang="ru-RU" sz="3000" spc="-1" strike="noStrike">
                <a:solidFill>
                  <a:srgbClr val="0000a4"/>
                </a:solidFill>
                <a:latin typeface="Arial"/>
              </a:rPr>
              <a:t> - д</a:t>
            </a: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вигател</a:t>
            </a:r>
            <a:r>
              <a:rPr b="1" lang="ru-RU" sz="3000" spc="-1" strike="noStrike">
                <a:solidFill>
                  <a:srgbClr val="0000a4"/>
                </a:solidFill>
                <a:latin typeface="Arial"/>
              </a:rPr>
              <a:t>ь</a:t>
            </a: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 уч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Именно </a:t>
            </a:r>
            <a:r>
              <a:rPr b="1" lang="ru-RU" sz="3000" spc="-1" strike="noStrike">
                <a:solidFill>
                  <a:srgbClr val="0000a4"/>
                </a:solidFill>
                <a:latin typeface="Arial"/>
              </a:rPr>
              <a:t>удивление</a:t>
            </a:r>
            <a:r>
              <a:rPr b="1" lang="en-US" sz="3000" spc="-1" strike="noStrike">
                <a:solidFill>
                  <a:srgbClr val="0000a4"/>
                </a:solidFill>
                <a:latin typeface="Arial"/>
              </a:rPr>
              <a:t> влечет и манит, ведет детей к «полету мысли и фантазии», к открытию, к озарению. Не сухой расчет, не вереница огромных цифр, не вызубренные правила и теоремы, а удивительные задачи – вот, что нужно для озарения.</a:t>
            </a:r>
            <a:r>
              <a:rPr b="0" lang="ru-RU" sz="3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611280" y="333360"/>
            <a:ext cx="74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еские задачи –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жасно интересная вещь, а если еще их уметь решать,         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 можно получать удовольствие от процесса решения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А. Скаткин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Рисунок 2" descr="4.png"/>
          <p:cNvPicPr/>
          <p:nvPr/>
        </p:nvPicPr>
        <p:blipFill>
          <a:blip r:embed="rId1"/>
          <a:stretch/>
        </p:blipFill>
        <p:spPr>
          <a:xfrm>
            <a:off x="1692360" y="3789360"/>
            <a:ext cx="41036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4601546031433"/>
          <p:cNvPicPr/>
          <p:nvPr/>
        </p:nvPicPr>
        <p:blipFill>
          <a:blip r:embed="rId1"/>
          <a:stretch/>
        </p:blipFill>
        <p:spPr>
          <a:xfrm rot="20740200">
            <a:off x="250560" y="259920"/>
            <a:ext cx="3173400" cy="190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050920" y="2276640"/>
            <a:ext cx="5400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116000" y="189000"/>
            <a:ext cx="75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684360" y="191628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Глобальная цель      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образования состоит в том, что бы научить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человека лучше понимать жизнь, ориентироваться в современном обществе, сделать его способным найти свое местов нем в соответствии с индивидуальными способностями, интересами и возможностями. Следовательно, задача учителя состоит в том, чтобы помочь ученику стать свободной, творческой и ответственной личность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Целью моей деятельности является формирование средствами математики компетенций, необходимых человеку для полноценной жизни в современном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2f2fff"/>
                </a:solidFill>
                <a:latin typeface="Times New Roman"/>
                <a:ea typeface="Times New Roman"/>
              </a:rPr>
              <a:t>Если при обучении математике учащихся основной школы систематически и целенаправленно использовать практико-ориентированные задания, то повысится интерес к предмету, и, как следствие, качество математической подготовки к предме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a4"/>
                </a:solidFill>
                <a:latin typeface="Arial"/>
              </a:rPr>
              <a:t>Сравнительная характеристика учебников математики 5-6 классов по количеству сюжетных задач</a:t>
            </a:r>
            <a:endParaRPr b="0" lang="en-US" sz="2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1844640"/>
          <a:ext cx="6732720" cy="4314960"/>
        </p:xfrm>
        <a:graphic>
          <a:graphicData uri="http://schemas.openxmlformats.org/drawingml/2006/table">
            <a:tbl>
              <a:tblPr/>
              <a:tblGrid>
                <a:gridCol w="4094280"/>
                <a:gridCol w="1246320"/>
                <a:gridCol w="1392120"/>
              </a:tblGrid>
              <a:tr h="68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учеб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текстовых задач, в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клас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.Я. Виленкин, В.И. Жохов и др. Математика. УМК для 5-6 клас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.В. Дорофеев, Л.Г. Петерсон. Математика. Учебник для 5 кл в 2-х частях. Учебник для 6 кл. в 2-х част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.В. Дорофеев, И.Ф. Шарыгин. Математика. УМК для 5-6 клас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.И. Зубарева, А.Г. Мордкович. Математика.5,6к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920" y="5444640"/>
            <a:ext cx="7772400" cy="6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3" name="Picture 7" descr="MC900240777[1]"/>
          <p:cNvPicPr/>
          <p:nvPr/>
        </p:nvPicPr>
        <p:blipFill>
          <a:blip r:embed="rId1"/>
          <a:stretch/>
        </p:blipFill>
        <p:spPr>
          <a:xfrm>
            <a:off x="5076720" y="-171360"/>
            <a:ext cx="4248360" cy="2509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3111480" y="3141720"/>
            <a:ext cx="434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395280" y="2276640"/>
            <a:ext cx="827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a4"/>
                </a:solidFill>
                <a:latin typeface="Arial"/>
              </a:rPr>
              <a:t>«Скажи мне - и я забуду. Покажи мне - и я запомню. Дай мне действовать самому - и я научусь»</a:t>
            </a: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1547640" y="4941720"/>
            <a:ext cx="73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a4"/>
                </a:solidFill>
                <a:latin typeface="Arial"/>
              </a:rPr>
              <a:t>Конф</a:t>
            </a:r>
            <a:r>
              <a:rPr b="1" i="1" lang="ru-RU" sz="2800" spc="-1" strike="noStrike">
                <a:solidFill>
                  <a:srgbClr val="0000a4"/>
                </a:solidFill>
                <a:latin typeface="Arial"/>
              </a:rPr>
              <a:t>уций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a4"/>
                </a:solidFill>
                <a:latin typeface="Arial"/>
              </a:rPr>
              <a:t>Решение практико-ориентированных задач на уроках</a:t>
            </a:r>
            <a:r>
              <a:rPr b="1" lang="ru-RU" sz="2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a4"/>
                </a:solidFill>
                <a:latin typeface="Arial"/>
              </a:rPr>
              <a:t>математики  должно иметь конкретные цел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учиться решать  задачи, с которыми каждый из нас  может столкнуться в повседневной жиз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вергнуть  мнение, что не всем нужно учиться математик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азать, что математика нужна всем, чем бы человек не занимался, какой бы профессией не овладевал, где бы не учил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товиться к Единому Государственному Экзамену, в который входят практико-ориентированные задач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Rectangle 218"/>
          <p:cNvSpPr/>
          <p:nvPr/>
        </p:nvSpPr>
        <p:spPr>
          <a:xfrm>
            <a:off x="336240" y="403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ри группы практико-ориентированных задач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Rectangle 219"/>
          <p:cNvSpPr/>
          <p:nvPr/>
        </p:nvSpPr>
        <p:spPr>
          <a:xfrm>
            <a:off x="0" y="9201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1 группа-это задачи профориентационного направления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использовать готовые задачи, а также можно предложить ученикам самим составить задачи данного направления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Rectangle 263"/>
          <p:cNvSpPr/>
          <p:nvPr/>
        </p:nvSpPr>
        <p:spPr>
          <a:xfrm>
            <a:off x="395280" y="2571840"/>
            <a:ext cx="8569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  Мама решила приготовить салат из огурцов, помидоров и редиски. Вся масса салата должна составить 400 г. Сколько нужно положить помидоров, если масса огурцов составляет 150 г., а масса редиски в 2 раза меньше массы огурцов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Хозяйка собрала 17 кг яблок. Сколько получится свежевыжатого сока, если сок составляет 80% от массы всех яблок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Купили 15 кг груш. На компот решили истратить 40% все груш, а остальное пошло на варенье. Сколько кг сахара нужно купить для варенья, если на 1 кг свежих груш нужно 800 г. сахара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36240" y="403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ри группы практико-ориентированных задач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79280" y="11638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2 группа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- геометрические задачи, связанные с жизнью, с практической деятельностью человека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79280" y="25466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На берегу реки требуется построить водонапорную башню для снабжения водой двух сел так, чтобы общая длина труб от водонапорной башни до обоих сел была наименьшей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оединить шоссейной дорогой, включая постройку моста через реку, два села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должна пройти эта дорога, чтобы путь между селами был кратчайшим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№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угольный лист жести размер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надо выгнуть в желоб с квадратным сечением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следовать, какой сгиб дает желоб с наибольшим объемом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809640" y="1844640"/>
            <a:ext cx="7416720" cy="471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 </a:t>
            </a:r>
            <a:endParaRPr b="0" lang="en-US" sz="2800" spc="1" strike="noStrike">
              <a:ln w="12600">
                <a:solidFill>
                  <a:srgbClr val="ff33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" name="Прямоугольник 1"/>
          <p:cNvSpPr/>
          <p:nvPr/>
        </p:nvSpPr>
        <p:spPr>
          <a:xfrm>
            <a:off x="1187280" y="189000"/>
            <a:ext cx="681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36240" y="403920"/>
            <a:ext cx="84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Т</a:t>
            </a:r>
            <a:r>
              <a:rPr b="1" lang="en-US" sz="2800" spc="-1" strike="noStrike">
                <a:solidFill>
                  <a:srgbClr val="0000a4"/>
                </a:solidFill>
                <a:latin typeface="Arial"/>
              </a:rPr>
              <a:t>ри группы практико-ориентированных задач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1638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3 группа – задачи семейно-практического содержания.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Например, «один день из жизни семьи»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2241360"/>
            <a:ext cx="896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 № 1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ному прописано лекарство, которое нужно пить по 0,5 г  3 раза в день в течение 8 дней. В одной упаковке 10 таблеток лекарства по 0,25 г. Какого наименьшего количества упаковок хватит на весь курс лечения?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 № 2.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кетик сока стоит 14 рублей 50 копеек. Какое наибольшее число пакетиков сока можно купить на 100 рублей?  (Хватит ли денег Вите, если он захочет купить сок себе и угостить пятерых друзей; если «да», то сколько денег у него останется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дача  № 3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я купила месячный проездной билет на автобус. За месяц она сделала 45 поездок. Сколько рублей она сэкономила, если проездной билет стоит  750 рублей, а разовая поездка  25 рублей? 28 рублей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54:22Z</dcterms:created>
  <dc:creator>Пользователь</dc:creator>
  <dc:description/>
  <dc:language>en-US</dc:language>
  <cp:lastModifiedBy>User</cp:lastModifiedBy>
  <dcterms:modified xsi:type="dcterms:W3CDTF">2016-03-13T11:48:10Z</dcterms:modified>
  <cp:revision>146</cp:revision>
  <dc:subject/>
  <dc:title>Слайд 1</dc:title>
</cp:coreProperties>
</file>