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6189-71C1-44CC-A443-19B714BB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7407-F0FE-4101-8652-B43393AF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B379-044C-4D25-A6ED-4621A748E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2553-B113-4EA9-BD2E-496279D1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8EF5-0C37-4A00-902C-CA87AFE0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3D5B-5637-48B3-81B5-93F75E23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18AE-2B1B-4CF2-890D-018326F1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704A-1306-4419-8EF2-7EBCF36E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60A1-21C3-4DDF-BC7E-55CD6D7A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F9AC-6F50-4A28-866D-518B2766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A4E4-757A-4901-B0B1-64BD6953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73CD-B4D0-45B6-9D0E-696489E6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B343-7543-4C20-8C3F-29123DFFB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95280" y="333000"/>
            <a:ext cx="85694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Экспериментально-исследователь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проек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Arial"/>
              </a:rPr>
              <a:t>«Зелёная грядка на подоконник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Arial"/>
              </a:rPr>
              <a:t>(посадка лука-сев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Подготовительная группа № 11 ГБДОУ д/с №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Руководители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воспитатель Дегтярёва Ольг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учитель-логопед Хохлова Маргарит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 u="sng">
                <a:solidFill>
                  <a:srgbClr val="006600"/>
                </a:solidFill>
                <a:uFillTx/>
                <a:latin typeface="Arial"/>
              </a:rPr>
              <a:t>Актуальность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проведения заключается в соответствии лексической теме: «Труд людей весной», в необходимости потребления витаминов в весеннее время и приобщении детей к совместному труду.</a:t>
            </a:r>
            <a:br>
              <a:rPr sz="1400"/>
            </a:br>
            <a:r>
              <a:rPr b="1" lang="en-US" sz="1600" spc="-1" strike="noStrike" u="sng">
                <a:solidFill>
                  <a:srgbClr val="006600"/>
                </a:solidFill>
                <a:uFillTx/>
                <a:latin typeface="Arial"/>
              </a:rPr>
              <a:t>Практическая направленность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заключается в том, что каждый ребенок может принять активное участие в посадке лука, уходе за ним и наблюдать за ростом овощной культуры.</a:t>
            </a:r>
            <a:br>
              <a:rPr sz="1400"/>
            </a:br>
            <a:r>
              <a:rPr b="1" lang="en-US" sz="1600" spc="-1" strike="noStrike" u="sng">
                <a:solidFill>
                  <a:srgbClr val="006600"/>
                </a:solidFill>
                <a:uFillTx/>
                <a:latin typeface="Arial"/>
              </a:rPr>
              <a:t>Цель: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создание условий, необходимых для роста лука и наблюдение на практике за изменениями, происходящими с растением.</a:t>
            </a:r>
            <a:br>
              <a:rPr sz="1400"/>
            </a:br>
            <a:r>
              <a:rPr b="1" lang="en-US" sz="1600" spc="-1" strike="noStrike" u="sng">
                <a:solidFill>
                  <a:srgbClr val="006600"/>
                </a:solidFill>
                <a:uFillTx/>
                <a:latin typeface="Arial"/>
              </a:rPr>
              <a:t>Задачи:</a:t>
            </a:r>
            <a:br>
              <a:rPr sz="1400"/>
            </a:b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Образовательные:</a:t>
            </a:r>
            <a:br>
              <a:rPr sz="1600"/>
            </a:b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расширять и углублять представления о луке;</a:t>
            </a:r>
            <a:br>
              <a:rPr sz="1400"/>
            </a:b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                                закреплять представление о том, что для роста репчатого лука в домашних условиях  нужны свет, влага, тепло, почва;</a:t>
            </a:r>
            <a:br>
              <a:rPr sz="1400"/>
            </a:b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                                закреплять знания детей об особенностях строения репчатого лука;</a:t>
            </a:r>
            <a:br>
              <a:rPr sz="1400"/>
            </a:b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                                упражнять в правильных приёмах посадки луковиц и ухода за ним.</a:t>
            </a:r>
            <a:br>
              <a:rPr sz="1400"/>
            </a:b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                                развивать любознательность, активность, инициативность в познавательной деятельности, умение делать выводы на основе своих наблюдений; </a:t>
            </a:r>
            <a:br>
              <a:rPr sz="1400"/>
            </a:b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Коррекционные: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1400"/>
            </a:b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                                развивать диалогическую речь;</a:t>
            </a:r>
            <a:br>
              <a:rPr sz="1400"/>
            </a:b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                                продолжать расширять  словарный запас детей;</a:t>
            </a:r>
            <a:br>
              <a:rPr sz="1400"/>
            </a:b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                                закреплять умение подбирать омонимы и антонимы.</a:t>
            </a:r>
            <a:br>
              <a:rPr sz="1400"/>
            </a:b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Воспитательные:</a:t>
            </a:r>
            <a:br>
              <a:rPr sz="1600"/>
            </a:b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                                воспитывать интерес к экспериментальной деятельности;</a:t>
            </a:r>
            <a:br>
              <a:rPr sz="1400"/>
            </a:b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                                воспитывать желание ухаживать за луком, выращенным своими руками;</a:t>
            </a:r>
            <a:br>
              <a:rPr sz="1400"/>
            </a:b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                                воспитывать умение работать в коман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692800"/>
            <a:ext cx="7138800" cy="85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800" spc="-1" strike="noStrike" u="sng">
                <a:solidFill>
                  <a:srgbClr val="006600"/>
                </a:solidFill>
                <a:uFillTx/>
                <a:latin typeface="Arial"/>
              </a:rPr>
              <a:t>Подготовительная  работа: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беседы с детьми «Лук, его внешний вид и строение», «История возникновения лука», «Польза лука»; рассматривание и наблюдение за комнатными  и овощными растениями в домашних условиях; чтение сказки «Чипполино» Д.Родари; разучивание стихов, пословиц, загадок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006600"/>
                </a:solidFill>
                <a:uFillTx/>
                <a:latin typeface="Arial"/>
              </a:rPr>
              <a:t>Участники проекта: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воспитанники группы, родители, руководители проекта. </a:t>
            </a:r>
            <a:br>
              <a:rPr sz="1600"/>
            </a:br>
            <a:br>
              <a:rPr sz="1600"/>
            </a:br>
            <a:r>
              <a:rPr b="1" lang="en-US" sz="1800" spc="-1" strike="noStrike" u="sng">
                <a:solidFill>
                  <a:srgbClr val="006600"/>
                </a:solidFill>
                <a:uFillTx/>
                <a:latin typeface="Arial"/>
              </a:rPr>
              <a:t>Оборудование: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шестнадцать штук репчатого лука одинокого размера; лейки с водой; фартуки; лопатки или одноразовые столовые ложки; клеёнка; материал для посадки (опилки, грунт, земля, удобрение для растений); тряпочки; таз с водой.</a:t>
            </a:r>
            <a:br>
              <a:rPr sz="1600"/>
            </a:br>
            <a:br>
              <a:rPr sz="1600"/>
            </a:br>
            <a:r>
              <a:rPr b="1" lang="en-US" sz="1800" spc="-1" strike="noStrike" u="sng">
                <a:solidFill>
                  <a:srgbClr val="006600"/>
                </a:solidFill>
                <a:uFillTx/>
                <a:latin typeface="Arial"/>
              </a:rPr>
              <a:t>Методы и приёмы: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показ, объяснение, художественное слово, вопросы, практическая деятельность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67464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00"/>
                </a:solidFill>
                <a:uFillTx/>
                <a:latin typeface="Arial"/>
              </a:rPr>
              <a:t>Первый этап: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подготовительная словарная работа, чтение художественной литературы, заучивание стихов с помощью мнемотаблиц, картотека загадок, изучение схемы посадк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16000" y="907920"/>
            <a:ext cx="2563920" cy="3097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35640" y="907920"/>
            <a:ext cx="2665440" cy="2952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340000" y="3500280"/>
            <a:ext cx="43718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9640" y="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00"/>
                </a:solidFill>
                <a:uFillTx/>
                <a:latin typeface="Arial"/>
              </a:rPr>
              <a:t>Второй этап: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подготовка необходимого оборудования, изучение строения лука и поса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84360" y="765000"/>
            <a:ext cx="4100400" cy="30751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" descr=""/>
          <p:cNvPicPr/>
          <p:nvPr/>
        </p:nvPicPr>
        <p:blipFill>
          <a:blip r:embed="rId3"/>
          <a:stretch/>
        </p:blipFill>
        <p:spPr>
          <a:xfrm>
            <a:off x="4427640" y="3284640"/>
            <a:ext cx="4103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539720"/>
            <a:ext cx="822960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00"/>
                </a:solidFill>
                <a:uFillTx/>
                <a:latin typeface="Arial"/>
              </a:rPr>
              <a:t>Третий этап: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наблюдение за изменениями, вы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4391280" cy="3311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5" descr="D:\Изображения\Аттестация\Атт фото\DSCN1742.JPG"/>
          <p:cNvPicPr/>
          <p:nvPr/>
        </p:nvPicPr>
        <p:blipFill>
          <a:blip r:embed="rId3"/>
          <a:stretch/>
        </p:blipFill>
        <p:spPr>
          <a:xfrm>
            <a:off x="4427640" y="3357720"/>
            <a:ext cx="446544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67464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00"/>
                </a:solidFill>
                <a:uFillTx/>
                <a:latin typeface="Arial"/>
              </a:rPr>
              <a:t>Четвёртый этап: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срезаем зелёное перо, проводим беседу о пользе лу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3014640" cy="24699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7" descr=""/>
          <p:cNvPicPr/>
          <p:nvPr/>
        </p:nvPicPr>
        <p:blipFill>
          <a:blip r:embed="rId3"/>
          <a:stretch/>
        </p:blipFill>
        <p:spPr>
          <a:xfrm>
            <a:off x="4067280" y="1413000"/>
            <a:ext cx="2735280" cy="20872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9" descr=""/>
          <p:cNvPicPr/>
          <p:nvPr/>
        </p:nvPicPr>
        <p:blipFill>
          <a:blip r:embed="rId4"/>
          <a:stretch/>
        </p:blipFill>
        <p:spPr>
          <a:xfrm>
            <a:off x="5867280" y="4005360"/>
            <a:ext cx="3025800" cy="244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"/>
          <p:cNvPicPr/>
          <p:nvPr/>
        </p:nvPicPr>
        <p:blipFill>
          <a:blip r:embed="rId5"/>
          <a:stretch/>
        </p:blipFill>
        <p:spPr>
          <a:xfrm>
            <a:off x="2340000" y="3500280"/>
            <a:ext cx="280836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ДО НОВЫХ ВСТРЕЧ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1T15:39:11Z</dcterms:created>
  <dc:creator>КАТКОВ ДМИТРИЙ</dc:creator>
  <dc:description/>
  <dc:language>en-US</dc:language>
  <cp:lastModifiedBy>КАТКОВ ДМИТРИЙ</cp:lastModifiedBy>
  <dcterms:modified xsi:type="dcterms:W3CDTF">2019-05-12T13:17:23Z</dcterms:modified>
  <cp:revision>5</cp:revision>
  <dc:subject/>
  <dc:title>Слайд 1</dc:title>
</cp:coreProperties>
</file>