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601-4E49-443C-948A-0F81520856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FA5-B0E0-45C0-B2D9-92C6D4C2A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43C-0E0B-40EC-91B4-6484F4EF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86D-A977-409E-A46D-5CAC6CA2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3F3-51A2-452B-9B08-9919FAD3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F07-8CF6-4F09-9E2F-F8D53C0C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F6D6-871C-4793-A0BE-41C8FC8C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ABB-8154-4EE0-814A-43E09362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40A-BA14-4740-968E-D4952FB4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8F9-F413-413F-9422-3DE972A5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E9C-6CA4-4825-BEED-EC0C4C37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18F-D3E0-4BA6-8ECE-12BB0FD1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7DC-4774-49B7-92C9-FD485CC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5AD-20E9-4A50-9013-2449495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8B5D-E138-4E12-8400-2436D5D4B4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125360"/>
            <a:ext cx="741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Афганская вой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916360" y="2637000"/>
            <a:ext cx="338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Impact"/>
              </a:rPr>
              <a:t>1979 - 198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Impact"/>
              <a:ea typeface="Impac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8" descr=""/>
          <p:cNvPicPr/>
          <p:nvPr/>
        </p:nvPicPr>
        <p:blipFill>
          <a:blip r:embed="rId1"/>
          <a:stretch/>
        </p:blipFill>
        <p:spPr>
          <a:xfrm>
            <a:off x="17640" y="-17640"/>
            <a:ext cx="5111640" cy="6875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129280" y="2465280"/>
            <a:ext cx="40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макин Виктор Александ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19680" y="1844280"/>
            <a:ext cx="424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ов Александр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7920" y="0"/>
            <a:ext cx="4783320" cy="6942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0" y="227628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зычев Серге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rcRect l="0" t="0" r="-10145" b="0"/>
          <a:stretch/>
        </p:blipFill>
        <p:spPr>
          <a:xfrm>
            <a:off x="179280" y="15840"/>
            <a:ext cx="4897440" cy="685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6360" y="2185560"/>
            <a:ext cx="346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теев Виктор Анато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7920" y="0"/>
            <a:ext cx="47847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3280" y="2303280"/>
            <a:ext cx="33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ов Александр Нико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C:\Users\История\Desktop\афганистан\интернационалисты ИНФОРМАЦИЯ\IMG_4831.jpg"/>
          <p:cNvPicPr/>
          <p:nvPr/>
        </p:nvPicPr>
        <p:blipFill>
          <a:blip r:embed="rId1"/>
          <a:stretch/>
        </p:blipFill>
        <p:spPr>
          <a:xfrm>
            <a:off x="31680" y="34920"/>
            <a:ext cx="4108680" cy="682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28240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нин Алексей Анато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"/>
          <p:cNvPicPr/>
          <p:nvPr/>
        </p:nvPicPr>
        <p:blipFill>
          <a:blip r:embed="rId1"/>
          <a:stretch/>
        </p:blipFill>
        <p:spPr>
          <a:xfrm>
            <a:off x="0" y="-6480"/>
            <a:ext cx="514836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35280" y="270792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уреченский Геннадий Василь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https://sun9-83.userapi.com/sun9-13/impf/c844618/v844618737/1affa6/cLGp8PXV8Ng.jpg?size=1280x871&amp;quality=96&amp;sign=7817b5583b338adfbb3467e253c7e812&amp;type=album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8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44640" y="1417680"/>
            <a:ext cx="8229600" cy="15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фганистане произошел переворот, к власти пришла прокоммунистическая Народно-демократическая партия Афганистана.Сопротив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мунистам возглавили ислам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"/>
          <p:cNvSpPr/>
          <p:nvPr/>
        </p:nvSpPr>
        <p:spPr>
          <a:xfrm>
            <a:off x="4012200" y="3244680"/>
            <a:ext cx="271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Arial"/>
              </a:rPr>
              <a:t>1979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979640" y="45813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Ограниченного контингента советских войск в Афган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468360" y="5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ский десант выса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толице страны Каб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штурмом взял дворец диктатора 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715000" cy="36860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18900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йска оказались втянутыми в гражданскую войну между афганскими войсками и моджахе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59756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ar"/>
          <p:cNvPicPr/>
          <p:nvPr/>
        </p:nvPicPr>
        <p:blipFill>
          <a:blip r:embed="rId1"/>
          <a:stretch/>
        </p:blipFill>
        <p:spPr>
          <a:xfrm>
            <a:off x="2306520" y="1916280"/>
            <a:ext cx="4530960" cy="417168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й вернулись письма и портре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нем мальчишка, нет – теперь муж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Через горнило Афганской войны прошли и наши выпуск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rcRect l="0" t="0" r="-1745" b="0"/>
          <a:stretch/>
        </p:blipFill>
        <p:spPr>
          <a:xfrm>
            <a:off x="541440" y="4056120"/>
            <a:ext cx="4187880" cy="2663640"/>
          </a:xfrm>
          <a:prstGeom prst="rect">
            <a:avLst/>
          </a:prstGeom>
          <a:ln w="0">
            <a:noFill/>
          </a:ln>
        </p:spPr>
      </p:pic>
      <p:pic>
        <p:nvPicPr>
          <p:cNvPr id="63" name="Объект 4" descr=""/>
          <p:cNvPicPr/>
          <p:nvPr/>
        </p:nvPicPr>
        <p:blipFill>
          <a:blip r:embed="rId2"/>
          <a:stretch/>
        </p:blipFill>
        <p:spPr>
          <a:xfrm>
            <a:off x="5003640" y="4056120"/>
            <a:ext cx="3800520" cy="266364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8" descr=""/>
          <p:cNvPicPr/>
          <p:nvPr/>
        </p:nvPicPr>
        <p:blipFill>
          <a:blip r:embed="rId3"/>
          <a:stretch/>
        </p:blipFill>
        <p:spPr>
          <a:xfrm>
            <a:off x="5148360" y="1125360"/>
            <a:ext cx="3560760" cy="2791080"/>
          </a:xfrm>
          <a:prstGeom prst="rect">
            <a:avLst/>
          </a:prstGeom>
          <a:ln w="0">
            <a:noFill/>
          </a:ln>
        </p:spPr>
      </p:pic>
      <p:pic>
        <p:nvPicPr>
          <p:cNvPr id="65" name="Объект 10" descr=""/>
          <p:cNvPicPr/>
          <p:nvPr/>
        </p:nvPicPr>
        <p:blipFill>
          <a:blip r:embed="rId4"/>
          <a:stretch/>
        </p:blipFill>
        <p:spPr>
          <a:xfrm>
            <a:off x="541440" y="1125360"/>
            <a:ext cx="4030560" cy="27622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5518080" y="623268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тее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43000" y="6159600"/>
            <a:ext cx="31669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531720" y="352116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ыч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319720" y="334476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макин 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"/>
          <p:cNvPicPr/>
          <p:nvPr/>
        </p:nvPicPr>
        <p:blipFill>
          <a:blip r:embed="rId2"/>
          <a:stretch/>
        </p:blipFill>
        <p:spPr>
          <a:xfrm>
            <a:off x="5580000" y="515880"/>
            <a:ext cx="2867040" cy="49626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5580000" y="545472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теев Ви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395280" y="619272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зыч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539640" y="3068640"/>
            <a:ext cx="31687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ов Алекс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см"/>
          <p:cNvPicPr/>
          <p:nvPr/>
        </p:nvPicPr>
        <p:blipFill>
          <a:blip r:embed="rId3"/>
          <a:stretch/>
        </p:blipFill>
        <p:spPr>
          <a:xfrm>
            <a:off x="500040" y="3611520"/>
            <a:ext cx="3247920" cy="26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Дома нас ждут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826920" y="1411200"/>
            <a:ext cx="6883560" cy="5172120"/>
          </a:xfrm>
          <a:prstGeom prst="rect">
            <a:avLst/>
          </a:prstGeom>
          <a:ln w="25560">
            <a:solidFill>
              <a:srgbClr val="990033"/>
            </a:solidFill>
            <a:miter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"/>
          <p:cNvPicPr/>
          <p:nvPr/>
        </p:nvPicPr>
        <p:blipFill>
          <a:blip r:embed="rId1"/>
          <a:srcRect l="0" t="0" r="-4163" b="0"/>
          <a:stretch/>
        </p:blipFill>
        <p:spPr>
          <a:xfrm>
            <a:off x="611280" y="1268280"/>
            <a:ext cx="810108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ины-интернационалисты Крутих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2:32:34Z</dcterms:created>
  <dc:creator>Пользователь</dc:creator>
  <dc:description/>
  <dc:language>en-US</dc:language>
  <cp:lastModifiedBy>Пользователь Windows</cp:lastModifiedBy>
  <dcterms:modified xsi:type="dcterms:W3CDTF">2022-05-11T02:59:58Z</dcterms:modified>
  <cp:revision>26</cp:revision>
  <dc:subject/>
  <dc:title>В1979 - 1989</dc:title>
</cp:coreProperties>
</file>