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5E1-6A1D-43C0-A08C-CAB7C2B9F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D1D9-1228-4A81-82CC-1C08150E0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2D8-6D25-4463-98AA-E21B8C76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A45-006A-4628-BF18-8C0B5B8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1A5-E8DD-4F5D-B2F7-543D87B6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5D6-A7A4-41EE-B5AA-A7DB0601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276-E134-4A5D-8A09-B04C362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911-0D2D-4C64-86AF-8BBC2D66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F71-278F-462B-BDDA-BE86B5CC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6F9-04EA-47B2-8A29-308780F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02C-F14E-4D31-B7C6-4F6F0A7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20B-451B-4E90-997B-C758E85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B10-12E4-4338-B02F-8A3B5D4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AD8-883F-459C-B6FA-E958B1C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057-781C-4BA4-A8BE-1F6493E5E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125360"/>
            <a:ext cx="741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Афганская вой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637000"/>
            <a:ext cx="338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1979 - 198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8" descr=""/>
          <p:cNvPicPr/>
          <p:nvPr/>
        </p:nvPicPr>
        <p:blipFill>
          <a:blip r:embed="rId1"/>
          <a:stretch/>
        </p:blipFill>
        <p:spPr>
          <a:xfrm>
            <a:off x="17640" y="-17640"/>
            <a:ext cx="5111640" cy="6875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129280" y="2465280"/>
            <a:ext cx="40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макин Виктор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19680" y="1844280"/>
            <a:ext cx="424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ов Александр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7920" y="0"/>
            <a:ext cx="478332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0" y="227628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ычев Серге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rcRect l="0" t="0" r="-10145" b="0"/>
          <a:stretch/>
        </p:blipFill>
        <p:spPr>
          <a:xfrm>
            <a:off x="179280" y="15840"/>
            <a:ext cx="489744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6360" y="2185560"/>
            <a:ext cx="346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теев Виктор Анато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920" y="0"/>
            <a:ext cx="47847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2303280"/>
            <a:ext cx="33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в Александр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C:\Users\История\Desktop\афганистан\интернационалисты ИНФОРМАЦИЯ\IMG_4831.jpg"/>
          <p:cNvPicPr/>
          <p:nvPr/>
        </p:nvPicPr>
        <p:blipFill>
          <a:blip r:embed="rId1"/>
          <a:stretch/>
        </p:blipFill>
        <p:spPr>
          <a:xfrm>
            <a:off x="31680" y="34920"/>
            <a:ext cx="4108680" cy="682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28240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ин Алексей Анато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1"/>
          <a:stretch/>
        </p:blipFill>
        <p:spPr>
          <a:xfrm>
            <a:off x="0" y="-6480"/>
            <a:ext cx="514836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280" y="27079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реченский Геннадий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https://sun9-83.userapi.com/sun9-13/impf/c844618/v844618737/1affa6/cLGp8PXV8Ng.jpg?size=1280x871&amp;quality=96&amp;sign=7817b5583b338adfbb3467e253c7e812&amp;type=album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8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640" y="1417680"/>
            <a:ext cx="822960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фганистане произошел переворот, к власти пришла прокоммунистическая Народно-демократическая партия Афганистана.Сопроти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стам возглавили ислам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4012200" y="3244680"/>
            <a:ext cx="27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9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979640" y="4581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Ограниченного контингента советских войск в Афган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68360" y="5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ский десант выса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олице страны Каб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штурмом взял дворец диктатора 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715000" cy="3686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8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йска оказались втянутыми в гражданскую войну между афганскими войсками и моджахе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5975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ar"/>
          <p:cNvPicPr/>
          <p:nvPr/>
        </p:nvPicPr>
        <p:blipFill>
          <a:blip r:embed="rId1"/>
          <a:stretch/>
        </p:blipFill>
        <p:spPr>
          <a:xfrm>
            <a:off x="2306520" y="1916280"/>
            <a:ext cx="4530960" cy="41716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й вернулись письма и портр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м мальчишка, нет – теперь муж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Через горнило Афганской войны прошли и наши выпуск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rcRect l="0" t="0" r="-1745" b="0"/>
          <a:stretch/>
        </p:blipFill>
        <p:spPr>
          <a:xfrm>
            <a:off x="541440" y="4056120"/>
            <a:ext cx="4187880" cy="266364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4" descr=""/>
          <p:cNvPicPr/>
          <p:nvPr/>
        </p:nvPicPr>
        <p:blipFill>
          <a:blip r:embed="rId2"/>
          <a:stretch/>
        </p:blipFill>
        <p:spPr>
          <a:xfrm>
            <a:off x="5003640" y="4056120"/>
            <a:ext cx="3800520" cy="266364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8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3560760" cy="279108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0" descr=""/>
          <p:cNvPicPr/>
          <p:nvPr/>
        </p:nvPicPr>
        <p:blipFill>
          <a:blip r:embed="rId4"/>
          <a:stretch/>
        </p:blipFill>
        <p:spPr>
          <a:xfrm>
            <a:off x="541440" y="1125360"/>
            <a:ext cx="4030560" cy="27622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5518080" y="623268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тее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43000" y="6159600"/>
            <a:ext cx="3166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531720" y="352116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ыч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319720" y="334476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макин 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5580000" y="515880"/>
            <a:ext cx="2867040" cy="49626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5580000" y="545472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тее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395280" y="619272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ыч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39640" y="306864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см"/>
          <p:cNvPicPr/>
          <p:nvPr/>
        </p:nvPicPr>
        <p:blipFill>
          <a:blip r:embed="rId3"/>
          <a:stretch/>
        </p:blipFill>
        <p:spPr>
          <a:xfrm>
            <a:off x="500040" y="3611520"/>
            <a:ext cx="324792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Дома нас ждут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826920" y="1411200"/>
            <a:ext cx="6883560" cy="5172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"/>
          <p:cNvPicPr/>
          <p:nvPr/>
        </p:nvPicPr>
        <p:blipFill>
          <a:blip r:embed="rId1"/>
          <a:srcRect l="0" t="0" r="-4163" b="0"/>
          <a:stretch/>
        </p:blipFill>
        <p:spPr>
          <a:xfrm>
            <a:off x="611280" y="1268280"/>
            <a:ext cx="810108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ы-интернационалисты Крутих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2:32:34Z</dcterms:created>
  <dc:creator>Пользователь</dc:creator>
  <dc:description/>
  <dc:language>en-US</dc:language>
  <cp:lastModifiedBy>Пользователь Windows</cp:lastModifiedBy>
  <dcterms:modified xsi:type="dcterms:W3CDTF">2022-05-11T02:59:58Z</dcterms:modified>
  <cp:revision>26</cp:revision>
  <dc:subject/>
  <dc:title>В1979 - 1989</dc:title>
</cp:coreProperties>
</file>