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1102-A61A-4982-A650-F6DC179D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F496-BBE0-4CC2-A8E2-B2925479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35B3-FB82-4BBB-9CCE-676384AC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54E9-722E-45C4-A495-80062463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180B-98BB-46FA-B9E2-3D4EF607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FBCA-114F-43FC-ABBA-3473B5C6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5E5C-1B42-4E29-B36C-211CA75E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B946-4607-428A-9989-053F0077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CFC5-45B1-4C31-82C2-1F3C9AAF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280E-DD29-440D-8A38-5AA5F179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D1EE-4E93-44C0-B6AA-2B31C017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6C61-91B7-4F4A-995B-9B2D9ECA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95B7-42CC-470E-9396-E75CC44D14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333360"/>
            <a:ext cx="604872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8a"/>
                </a:solidFill>
                <a:latin typeface="Times New Roman"/>
              </a:rPr>
              <a:t>Муниципальный конкурс «Была война…Была Победа…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Прямоугольник 5" descr=""/>
          <p:cNvPicPr/>
          <p:nvPr/>
        </p:nvPicPr>
        <p:blipFill>
          <a:blip r:embed="rId1"/>
          <a:stretch/>
        </p:blipFill>
        <p:spPr>
          <a:xfrm>
            <a:off x="1133640" y="1676520"/>
            <a:ext cx="7175160" cy="147456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3635280" y="4076640"/>
            <a:ext cx="524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ила: Кирдяшкина Дарья Виктор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3 лет, ученица7 клас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общеобразовательное бюджетное                                           учреждение основная общеобразовательн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кола № 20 им. Н.Н.Вербина х. Горькая Балка Новокубанский рай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ководитель: учитель биологии Ермакова Н.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Неизвестен — Очень красивая нежная романтическая мелодия (www.mixmuz.ru).mp3" descr=""/>
          <p:cNvPicPr/>
          <p:nvPr/>
        </p:nvPicPr>
        <p:blipFill>
          <a:blip r:embed="rId2"/>
          <a:stretch/>
        </p:blipFill>
        <p:spPr>
          <a:xfrm>
            <a:off x="1763640" y="52293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116000" y="274680"/>
            <a:ext cx="770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      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В 1957 году окончил Ульяновский педагогический институт. 32 года работал директором школы г. Сенгилея Ульяновской области. За доблестный педагогический труд к наградам Героя Советского Союза Николая Николаевича Вербина прибавились: Орден «Трудового Красного Знамени», «Заслуженный учитель России», «Отличник просвещения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http://sengil1.ucoz.ru/istoria/verbin.jpg"/>
          <p:cNvPicPr/>
          <p:nvPr/>
        </p:nvPicPr>
        <p:blipFill>
          <a:blip r:embed="rId1"/>
          <a:stretch/>
        </p:blipFill>
        <p:spPr>
          <a:xfrm>
            <a:off x="1425600" y="2374920"/>
            <a:ext cx="2509920" cy="3603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http://sengil1.ucoz.ru/istoria/verbin1.jpg"/>
          <p:cNvPicPr/>
          <p:nvPr/>
        </p:nvPicPr>
        <p:blipFill>
          <a:blip r:embed="rId2"/>
          <a:stretch/>
        </p:blipFill>
        <p:spPr>
          <a:xfrm>
            <a:off x="4140360" y="2637000"/>
            <a:ext cx="458604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8200" y="33480"/>
            <a:ext cx="71280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аша школа носит имя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иколая Николаевича Верб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2301840" y="562752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та Геро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F:\Парта Героя\IMG_20191018_123751.jpg"/>
          <p:cNvPicPr/>
          <p:nvPr/>
        </p:nvPicPr>
        <p:blipFill>
          <a:blip r:embed="rId1"/>
          <a:stretch/>
        </p:blipFill>
        <p:spPr>
          <a:xfrm>
            <a:off x="2179800" y="1413000"/>
            <a:ext cx="564516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формлен стенд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 рекреации школ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" descr="F:\учителя\IMG_20191011_134308.jpg"/>
          <p:cNvPicPr/>
          <p:nvPr/>
        </p:nvPicPr>
        <p:blipFill>
          <a:blip r:embed="rId1"/>
          <a:stretch/>
        </p:blipFill>
        <p:spPr>
          <a:xfrm>
            <a:off x="1619280" y="1700280"/>
            <a:ext cx="63928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01760" y="331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ждый класс носит имя Геро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F:\IMG_20191018_132844.jpg"/>
          <p:cNvPicPr/>
          <p:nvPr/>
        </p:nvPicPr>
        <p:blipFill>
          <a:blip r:embed="rId1"/>
          <a:stretch/>
        </p:blipFill>
        <p:spPr>
          <a:xfrm>
            <a:off x="5108400" y="1146240"/>
            <a:ext cx="3706920" cy="2427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F:\учителя\IMG_20191011_133933.jpg"/>
          <p:cNvPicPr/>
          <p:nvPr/>
        </p:nvPicPr>
        <p:blipFill>
          <a:blip r:embed="rId2"/>
          <a:stretch/>
        </p:blipFill>
        <p:spPr>
          <a:xfrm>
            <a:off x="1211400" y="1125360"/>
            <a:ext cx="3865320" cy="244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F:\учителя\IMG_20191011_133957.jpg"/>
          <p:cNvPicPr/>
          <p:nvPr/>
        </p:nvPicPr>
        <p:blipFill>
          <a:blip r:embed="rId3"/>
          <a:stretch/>
        </p:blipFill>
        <p:spPr>
          <a:xfrm>
            <a:off x="1116000" y="3573360"/>
            <a:ext cx="3971880" cy="2519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4978440" y="3573360"/>
            <a:ext cx="3836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6400" y="284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Уроки Мужест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D:\ОТЧЕТЫ ПО ВР\1 сентября 2019\IMG_20190902_093648.jpg"/>
          <p:cNvPicPr/>
          <p:nvPr/>
        </p:nvPicPr>
        <p:blipFill>
          <a:blip r:embed="rId2"/>
          <a:stretch/>
        </p:blipFill>
        <p:spPr>
          <a:xfrm>
            <a:off x="45594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D:\НАДЕЖДА\Последний звонок\P_20190523_093815.jpg"/>
          <p:cNvPicPr/>
          <p:nvPr/>
        </p:nvPicPr>
        <p:blipFill>
          <a:blip r:embed="rId3"/>
          <a:stretch/>
        </p:blipFill>
        <p:spPr>
          <a:xfrm>
            <a:off x="611280" y="836640"/>
            <a:ext cx="48844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3" descr=""/>
          <p:cNvPicPr/>
          <p:nvPr/>
        </p:nvPicPr>
        <p:blipFill>
          <a:blip r:embed="rId1"/>
          <a:stretch/>
        </p:blipFill>
        <p:spPr>
          <a:xfrm>
            <a:off x="469800" y="291960"/>
            <a:ext cx="8229600" cy="1176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042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рхив МОБУООШ № 20 им. Н.Н.Верб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нига Памяти Краснодарского кр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кипед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йт «Герои стран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6492960" cy="1963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img059"/>
          <p:cNvPicPr/>
          <p:nvPr/>
        </p:nvPicPr>
        <p:blipFill>
          <a:blip r:embed="rId2"/>
          <a:stretch/>
        </p:blipFill>
        <p:spPr>
          <a:xfrm>
            <a:off x="5724360" y="1989000"/>
            <a:ext cx="3051360" cy="41022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1"/>
          <p:cNvSpPr/>
          <p:nvPr/>
        </p:nvSpPr>
        <p:spPr>
          <a:xfrm>
            <a:off x="1187280" y="2133720"/>
            <a:ext cx="457200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Script MT Bold"/>
              </a:rPr>
              <a:t>«Скольких детей я     недоучил из-за войны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Script MT Bold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Script MT Bold"/>
              </a:rPr>
              <a:t>Скольких война выучила вместо меня, по-своему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Script MT Bold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Script MT Bold"/>
              </a:rPr>
              <a:t>А скольких детей вообще унесла с собой!»… </a:t>
            </a:r>
            <a:r>
              <a:rPr b="0" lang="ru-RU" sz="2400" spc="-1" strike="noStrike">
                <a:solidFill>
                  <a:srgbClr val="ffffff"/>
                </a:solidFill>
                <a:latin typeface="Script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8"/>
          <p:cNvSpPr/>
          <p:nvPr/>
        </p:nvSpPr>
        <p:spPr>
          <a:xfrm>
            <a:off x="5581080" y="530064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1409760" y="917640"/>
            <a:ext cx="7056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Родился 25 декабря 1920 года в станице Новокубанской, ныне город Новокубанск, Новокубанского района, Краснодарского края. Окончил в 1939 г. Армавирское педучилище, работал учителем начальной школы на хуторе Новокубанского района. В 1940г. призван в Советскую Армию, окончил курсы младших лейтенантов в г. Ейск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Изображение 012"/>
          <p:cNvPicPr/>
          <p:nvPr/>
        </p:nvPicPr>
        <p:blipFill>
          <a:blip r:embed="rId1"/>
          <a:stretch/>
        </p:blipFill>
        <p:spPr>
          <a:xfrm>
            <a:off x="4140360" y="2843280"/>
            <a:ext cx="4033800" cy="30225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1116000" y="393372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Дом,  в котором жил Н.Н.Верб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1979640" y="33336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ОВОЕННЫЕ Г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42920" y="476280"/>
            <a:ext cx="42498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262673"/>
              </a:solidFill>
              <a:latin typeface="Times New Roman"/>
            </a:endParaRPr>
          </a:p>
        </p:txBody>
      </p:sp>
      <p:pic>
        <p:nvPicPr>
          <p:cNvPr id="54" name="Picture 2" descr="C:\Documents and Settings\Гость\Мои документы\P1020007.JPG"/>
          <p:cNvPicPr/>
          <p:nvPr/>
        </p:nvPicPr>
        <p:blipFill>
          <a:blip r:embed="rId1"/>
          <a:stretch/>
        </p:blipFill>
        <p:spPr>
          <a:xfrm>
            <a:off x="1835280" y="1417680"/>
            <a:ext cx="6072120" cy="485604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1403280" y="115920"/>
            <a:ext cx="72835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ВИДЕТЕЛЬСТВО об окончании                      7 классов школы № 5 г. Армави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0000" y="4756320"/>
            <a:ext cx="49165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C:\Documents and Settings\Гость\Мои документы\P1020011.JPG"/>
          <p:cNvPicPr/>
          <p:nvPr/>
        </p:nvPicPr>
        <p:blipFill>
          <a:blip r:embed="rId1"/>
          <a:stretch/>
        </p:blipFill>
        <p:spPr>
          <a:xfrm>
            <a:off x="1224000" y="1341360"/>
            <a:ext cx="7616880" cy="4572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1332000" y="403200"/>
            <a:ext cx="740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РМАВИРСКОЕ ПЕДУЧИЛИЩ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Жизненный пу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img051"/>
          <p:cNvPicPr/>
          <p:nvPr/>
        </p:nvPicPr>
        <p:blipFill>
          <a:blip r:embed="rId1"/>
          <a:stretch/>
        </p:blipFill>
        <p:spPr>
          <a:xfrm>
            <a:off x="4859280" y="1268280"/>
            <a:ext cx="4038480" cy="29257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1266840" y="981000"/>
            <a:ext cx="3592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С мая 1947 по сентябрь 1948 гг. работает директором Сенгилеевского детского до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С сентября 1948 по август 1953 второй секретарь Сенгилеевского РК КПС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С августа 1953 по май 1954 –председатель Сенгилеевского райисполко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С июня 1954 по май 1957 – завуч вечерней шко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С мая 1957 по сентябрь 1989 директор Сенгилеевской средней школы №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одвиг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1187280" y="1197000"/>
            <a:ext cx="74170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        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При прорыве сильно укрепленной обороны противника 14 января 1945 года гвардии капитан Вербин первым ворвался в траншею врага и силами своей роты обеспечил ввод в бой основных сил наступающих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            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«Когда рота вышла на лед Пилицы (Польша), противник открыл ураганный огонь. От разрывов мин и снарядов крошился лед, падали убитые и раненые. Рота залегла. Головы нельзя было поднять. Первыми поднялись ротный Вербин и взводный Храбров … к девяти часам рота прорвалась на западный берег в районе излучины Затар и закрепилась на плацдарме. Гвардии капитан геройски дрался с врагами и умело руководил действиями подчиненны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24000" y="260280"/>
            <a:ext cx="6696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очетное звани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4211640" y="2708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"/>
          <p:cNvSpPr/>
          <p:nvPr/>
        </p:nvSpPr>
        <p:spPr>
          <a:xfrm>
            <a:off x="1332000" y="1125360"/>
            <a:ext cx="698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Указом Президиума Верховного Совета СССР гвардии капитан Вербин Николай Николаевич был удостоен звания Героя Советского Союза. Высокую правительственную награду Герой получил в госпитале. В том бою он был сильно ране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1" descr="звезда героя"/>
          <p:cNvPicPr/>
          <p:nvPr/>
        </p:nvPicPr>
        <p:blipFill>
          <a:blip r:embed="rId2"/>
          <a:stretch/>
        </p:blipFill>
        <p:spPr>
          <a:xfrm>
            <a:off x="1547640" y="2924280"/>
            <a:ext cx="24148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Наград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оугольник 1"/>
          <p:cNvSpPr/>
          <p:nvPr/>
        </p:nvSpPr>
        <p:spPr>
          <a:xfrm>
            <a:off x="1476360" y="1413000"/>
            <a:ext cx="698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Орден «Ленин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Орден «Отечественная война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I,II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ст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Орден «Трудового Красного Знамен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Медаль «Золотая Звезда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Медали: «За Варшаву», «За оборону Киева», «За взятие Берлин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User</cp:lastModifiedBy>
  <dcterms:modified xsi:type="dcterms:W3CDTF">2022-05-11T15:42:23Z</dcterms:modified>
  <cp:revision>57</cp:revision>
  <dc:subject/>
  <dc:title>Слайд 1</dc:title>
</cp:coreProperties>
</file>