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183-8218-4F9F-8B07-1F7616DF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63B-B921-4D43-B926-F8E441A0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570-B1EF-4A4E-8DF2-A10B6004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F6F-5F50-4D00-8F76-B6831C81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7E4C-6959-4842-9792-41380303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F2B7-B196-4A78-873B-0769ECA7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7369-C5D7-496B-A64F-452FFA16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AAA6-BA3D-47F2-AD28-576F2EAA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1B00-A1C9-4D37-A060-7211AC19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7112-DB26-4268-AB36-5B640459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4D24-C1BA-4E5E-A740-187CE72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448-29C5-4FE1-BFF4-AF268D43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2154-8CF9-47E0-8A4F-06B50F7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5626-810B-4306-B6C6-7BB0177D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5544-4AF4-442C-BB22-23AA542A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8482-BBED-49D9-8C70-AA3E30CC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C1CD-89A3-4D15-9AC4-70FF2499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75E2-8C58-427F-835F-2D71A346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322-6605-4E62-B426-8A47B8C4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33BD-C7FC-45FA-ADA2-16178601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5BF-22F9-401A-82F7-709C4695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E98-D909-48B7-908A-339851CF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939-2CE0-464C-AA67-3954F605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A01-4BAA-4FE9-AEBF-D23205E6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341A-7AD3-4514-8361-58E392F5BEB5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636F-3E9B-4BEA-B0B0-3CF10687B5B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7815240" cy="335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c2b"/>
                </a:solidFill>
                <a:latin typeface="Arial"/>
                <a:ea typeface="Arial"/>
              </a:rPr>
              <a:t>Логопедическая игра «Помоги дракончику»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Звук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[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Р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] </a:t>
            </a: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28760" y="4785840"/>
            <a:ext cx="40719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Выполнила: : учитель - логопед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МБДОУ «ЦРР – д/с «Сказка»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Ковылкинского муниципального   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района, г. Ковылкино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 Поникаева Н. 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Picture 7" descr="https://avatars.mds.yandex.net/get-pdb/1734828/7fb6e307-a4fa-43ea-aa81-9ece77ccc8f8/s1200?webp=false"/>
          <p:cNvPicPr/>
          <p:nvPr/>
        </p:nvPicPr>
        <p:blipFill>
          <a:blip r:embed="rId1"/>
          <a:srcRect l="0" t="0" r="5874" b="0"/>
          <a:stretch/>
        </p:blipFill>
        <p:spPr>
          <a:xfrm>
            <a:off x="357120" y="2786040"/>
            <a:ext cx="4214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"/>
          <p:cNvSpPr/>
          <p:nvPr/>
        </p:nvSpPr>
        <p:spPr>
          <a:xfrm>
            <a:off x="571680" y="571680"/>
            <a:ext cx="8001000" cy="585756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1" name="Picture 2" descr="https://topslide.ru/files/49/653/12.jpg"/>
          <p:cNvPicPr/>
          <p:nvPr/>
        </p:nvPicPr>
        <p:blipFill>
          <a:blip r:embed="rId1"/>
          <a:srcRect l="1783" t="2260" r="1783" b="3239"/>
          <a:stretch/>
        </p:blipFill>
        <p:spPr>
          <a:xfrm>
            <a:off x="714240" y="714240"/>
            <a:ext cx="7715520" cy="5572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2"/>
          <p:cNvSpPr/>
          <p:nvPr/>
        </p:nvSpPr>
        <p:spPr>
          <a:xfrm>
            <a:off x="571680" y="571680"/>
            <a:ext cx="8001000" cy="585756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25" name="Picture 2" descr="https://topslide.ru/files/49/653/13.jpg"/>
          <p:cNvPicPr/>
          <p:nvPr/>
        </p:nvPicPr>
        <p:blipFill>
          <a:blip r:embed="rId1"/>
          <a:srcRect l="1783" t="2376" r="1783" b="2754"/>
          <a:stretch/>
        </p:blipFill>
        <p:spPr>
          <a:xfrm>
            <a:off x="714240" y="714240"/>
            <a:ext cx="7715520" cy="557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Ребенок соотносит картинки с цифрой, правильно произнося звук Р.  Н-р: « Одна ракета, две ракеты, пять ракет, девять ракет».   </a:t>
            </a:r>
            <a:endParaRPr b="0" lang="en-US" sz="17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571680" y="714240"/>
            <a:ext cx="8001000" cy="571500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9" name="Picture 7" descr="https://ds04.infourok.ru/uploads/ex/0e2f/00068a56-71438692/img1.jpg"/>
          <p:cNvPicPr/>
          <p:nvPr/>
        </p:nvPicPr>
        <p:blipFill>
          <a:blip r:embed="rId1"/>
          <a:stretch/>
        </p:blipFill>
        <p:spPr>
          <a:xfrm>
            <a:off x="714240" y="857160"/>
            <a:ext cx="7715520" cy="542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42560"/>
            <a:ext cx="750096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Ребенок повторяет за взрослым текст и определяет место ( начало, середина, конец) звука Р в названиях картинок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Прямоугольник 4"/>
          <p:cNvSpPr/>
          <p:nvPr/>
        </p:nvSpPr>
        <p:spPr>
          <a:xfrm>
            <a:off x="1071720" y="785880"/>
            <a:ext cx="6929280" cy="585792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3" name="Picture 2" descr="https://img1.liveinternet.ru/images/attach/d/2/147/97/147097925_Bolshaya_kniga_logopedicheskikh_igr_106.jpg"/>
          <p:cNvPicPr/>
          <p:nvPr/>
        </p:nvPicPr>
        <p:blipFill>
          <a:blip r:embed="rId1"/>
          <a:srcRect l="1845" t="14848" r="7862" b="8219"/>
          <a:stretch/>
        </p:blipFill>
        <p:spPr>
          <a:xfrm>
            <a:off x="1214280" y="928800"/>
            <a:ext cx="6643800" cy="5572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Выучить стихотворение с помощью предметных картинок, предложите ребенку рассказать прочитанное (взрослым) по памяти.</a:t>
            </a:r>
            <a:endParaRPr b="0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214280" y="785880"/>
            <a:ext cx="6786720" cy="578628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7" name="Picture 4" descr="https://img0.liveinternet.ru/images/attach/d/2/147/97/147097914_Bolshaya_kniga_logopedicheskikh_igr_95.jpg"/>
          <p:cNvPicPr/>
          <p:nvPr/>
        </p:nvPicPr>
        <p:blipFill>
          <a:blip r:embed="rId1">
            <a:lum contrast="20000"/>
          </a:blip>
          <a:srcRect l="8537" t="14065" r="919" b="32817"/>
          <a:stretch/>
        </p:blipFill>
        <p:spPr>
          <a:xfrm>
            <a:off x="1357200" y="928800"/>
            <a:ext cx="6500880" cy="5500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c2b"/>
                </a:solidFill>
                <a:latin typeface="Times New Roman"/>
              </a:rPr>
              <a:t>Молодец!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40" name="Picture 11" descr="https://i.pinimg.com/originals/55/7a/9d/557a9dc1d940262889bd5409038a826e.png"/>
          <p:cNvPicPr/>
          <p:nvPr/>
        </p:nvPicPr>
        <p:blipFill>
          <a:blip r:embed="rId1"/>
          <a:stretch/>
        </p:blipFill>
        <p:spPr>
          <a:xfrm>
            <a:off x="4286160" y="928800"/>
            <a:ext cx="4691160" cy="5643360"/>
          </a:xfrm>
          <a:prstGeom prst="rect">
            <a:avLst/>
          </a:prstGeom>
          <a:ln w="0">
            <a:noFill/>
          </a:ln>
        </p:spPr>
      </p:pic>
      <p:sp>
        <p:nvSpPr>
          <p:cNvPr id="141" name="Овальная выноска 7"/>
          <p:cNvSpPr/>
          <p:nvPr/>
        </p:nvSpPr>
        <p:spPr>
          <a:xfrm rot="19211400">
            <a:off x="2376000" y="1588680"/>
            <a:ext cx="2522520" cy="1063800"/>
          </a:xfrm>
          <a:prstGeom prst="wedgeEllipseCallout">
            <a:avLst>
              <a:gd name="adj1" fmla="val -38009"/>
              <a:gd name="adj2" fmla="val -45643"/>
            </a:avLst>
          </a:prstGeom>
          <a:solidFill>
            <a:srgbClr val="ffff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Спасибо!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2" name="Picture 11" descr="https://i.pinimg.com/originals/55/7a/9d/557a9dc1d940262889bd5409038a826e.png"/>
          <p:cNvPicPr/>
          <p:nvPr/>
        </p:nvPicPr>
        <p:blipFill>
          <a:blip r:embed="rId2"/>
          <a:stretch/>
        </p:blipFill>
        <p:spPr>
          <a:xfrm>
            <a:off x="4438800" y="1214280"/>
            <a:ext cx="4491000" cy="5286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ttps://avatars.mds.yandex.net/get-pdb/1734828/7fb6e307-a4fa-43ea-aa81-9ece77ccc8f8/s1200?webp=false"/>
          <p:cNvPicPr/>
          <p:nvPr/>
        </p:nvPicPr>
        <p:blipFill>
          <a:blip r:embed="rId3"/>
          <a:srcRect l="0" t="0" r="5874" b="0"/>
          <a:stretch/>
        </p:blipFill>
        <p:spPr>
          <a:xfrm>
            <a:off x="357120" y="1500120"/>
            <a:ext cx="2714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71960" y="857160"/>
            <a:ext cx="485784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2b"/>
                </a:solidFill>
                <a:latin typeface="Arial"/>
                <a:ea typeface="Arial"/>
              </a:rPr>
              <a:t>Дракончик заблудился, не может найти дорогу к своему замку.                    Давай ему поможем найти дорогу, но для этого нужно выполнить задания.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7" name="Picture 7" descr="https://avatars.mds.yandex.net/get-pdb/1734828/7fb6e307-a4fa-43ea-aa81-9ece77ccc8f8/s1200?webp=false"/>
          <p:cNvPicPr/>
          <p:nvPr/>
        </p:nvPicPr>
        <p:blipFill>
          <a:blip r:embed="rId1"/>
          <a:srcRect l="0" t="0" r="5874" b="0"/>
          <a:stretch/>
        </p:blipFill>
        <p:spPr>
          <a:xfrm>
            <a:off x="0" y="357120"/>
            <a:ext cx="4286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77151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Задание. Как рычит дракончик? </a:t>
            </a:r>
            <a:br>
              <a:rPr sz="1800"/>
            </a:b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29160" y="3500280"/>
            <a:ext cx="35719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ебенок длительно произносит звук Р: Р-Р-Р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0" name="Picture 6" descr="https://ds04.infourok.ru/uploads/ex/069e/000634a5-d577b8bc/img28.jpg"/>
          <p:cNvPicPr/>
          <p:nvPr/>
        </p:nvPicPr>
        <p:blipFill>
          <a:blip r:embed="rId1"/>
          <a:srcRect l="2197" t="1465" r="40661" b="10625"/>
          <a:stretch/>
        </p:blipFill>
        <p:spPr>
          <a:xfrm>
            <a:off x="2143080" y="642960"/>
            <a:ext cx="5072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Овальная выноска 8"/>
          <p:cNvSpPr/>
          <p:nvPr/>
        </p:nvSpPr>
        <p:spPr>
          <a:xfrm rot="19993200">
            <a:off x="3323880" y="3916440"/>
            <a:ext cx="2416320" cy="1063440"/>
          </a:xfrm>
          <a:prstGeom prst="wedgeEllipseCallout">
            <a:avLst>
              <a:gd name="adj1" fmla="val -38009"/>
              <a:gd name="adj2" fmla="val -45643"/>
            </a:avLst>
          </a:prstGeom>
          <a:solidFill>
            <a:srgbClr val="ffffff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333333"/>
                </a:solidFill>
                <a:latin typeface="Times New Roman"/>
              </a:rPr>
              <a:t>Р-Р-Р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1071720" y="3643200"/>
            <a:ext cx="3071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c2b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571680" y="785880"/>
            <a:ext cx="7929360" cy="578628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5" name="Picture 4" descr="https://topslide.ru/files/49/653/6.jpg"/>
          <p:cNvPicPr/>
          <p:nvPr/>
        </p:nvPicPr>
        <p:blipFill>
          <a:blip r:embed="rId1">
            <a:lum bright="10000"/>
          </a:blip>
          <a:srcRect l="1725" t="2453" r="1725" b="3278"/>
          <a:stretch/>
        </p:blipFill>
        <p:spPr>
          <a:xfrm>
            <a:off x="714240" y="928800"/>
            <a:ext cx="7643880" cy="5500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642924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Назови картинки, выделяя звук Р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1000080" y="928800"/>
            <a:ext cx="7286760" cy="571500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Picture 2" descr="https://avatars.mds.yandex.net/get-pdb/1823123/66ba2477-30fd-4450-a9d8-8363d2ef5da1/s1200?webp=false"/>
          <p:cNvPicPr/>
          <p:nvPr/>
        </p:nvPicPr>
        <p:blipFill>
          <a:blip r:embed="rId1"/>
          <a:srcRect l="0" t="3273" r="0" b="2303"/>
          <a:stretch/>
        </p:blipFill>
        <p:spPr>
          <a:xfrm>
            <a:off x="1143000" y="1071720"/>
            <a:ext cx="7000920" cy="542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s://avatars.mds.yandex.net/get-pdb/1734828/7fb6e307-a4fa-43ea-aa81-9ece77ccc8f8/s1200?webp=false"/>
          <p:cNvPicPr/>
          <p:nvPr/>
        </p:nvPicPr>
        <p:blipFill>
          <a:blip r:embed="rId2"/>
          <a:stretch/>
        </p:blipFill>
        <p:spPr>
          <a:xfrm>
            <a:off x="0" y="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571680" y="785880"/>
            <a:ext cx="7929360" cy="578628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Picture 5" descr="https://ds04.infourok.ru/uploads/ex/07dc/00110b53-f6461cfe/img5.jpg"/>
          <p:cNvPicPr/>
          <p:nvPr/>
        </p:nvPicPr>
        <p:blipFill>
          <a:blip r:embed="rId1"/>
          <a:stretch/>
        </p:blipFill>
        <p:spPr>
          <a:xfrm>
            <a:off x="714240" y="928800"/>
            <a:ext cx="7643880" cy="5500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s://avatars.mds.yandex.net/get-pdb/1734828/7fb6e307-a4fa-43ea-aa81-9ece77ccc8f8/s1200?webp=false"/>
          <p:cNvPicPr/>
          <p:nvPr/>
        </p:nvPicPr>
        <p:blipFill>
          <a:blip r:embed="rId2"/>
          <a:stretch/>
        </p:blipFill>
        <p:spPr>
          <a:xfrm>
            <a:off x="6000840" y="114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вал 2"/>
          <p:cNvSpPr/>
          <p:nvPr/>
        </p:nvSpPr>
        <p:spPr>
          <a:xfrm flipV="1">
            <a:off x="1000080" y="857160"/>
            <a:ext cx="214200" cy="214560"/>
          </a:xfrm>
          <a:prstGeom prst="ellipse">
            <a:avLst/>
          </a:prstGeom>
          <a:solidFill>
            <a:srgbClr val="00b968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642960" y="642960"/>
            <a:ext cx="7929720" cy="585792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Picture 2" descr="https://ds04.infourok.ru/uploads/ex/11ca/0012fd89-ce5fa4f4/img37.jpg"/>
          <p:cNvPicPr/>
          <p:nvPr/>
        </p:nvPicPr>
        <p:blipFill>
          <a:blip r:embed="rId1"/>
          <a:srcRect l="0" t="14336" r="0" b="0"/>
          <a:stretch/>
        </p:blipFill>
        <p:spPr>
          <a:xfrm>
            <a:off x="785880" y="785880"/>
            <a:ext cx="7643880" cy="557208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9"/>
          <p:cNvSpPr/>
          <p:nvPr/>
        </p:nvSpPr>
        <p:spPr>
          <a:xfrm flipV="1">
            <a:off x="5072040" y="6072120"/>
            <a:ext cx="214200" cy="214560"/>
          </a:xfrm>
          <a:prstGeom prst="ellipse">
            <a:avLst/>
          </a:prstGeom>
          <a:solidFill>
            <a:srgbClr val="00b968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Овал 10"/>
          <p:cNvSpPr/>
          <p:nvPr/>
        </p:nvSpPr>
        <p:spPr>
          <a:xfrm flipV="1">
            <a:off x="1000080" y="857160"/>
            <a:ext cx="214200" cy="214560"/>
          </a:xfrm>
          <a:prstGeom prst="ellipse">
            <a:avLst/>
          </a:prstGeom>
          <a:solidFill>
            <a:srgbClr val="00b968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6010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1800" spc="-1" strike="noStrike">
                <a:solidFill>
                  <a:srgbClr val="333333"/>
                </a:solidFill>
                <a:latin typeface="Arial"/>
                <a:ea typeface="Arial"/>
              </a:rPr>
              <a:t>Задание. Ребенок повторяет за взрослым чистоговорки.                                         Следите за правильным произнесение звука Р.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571680" y="785880"/>
            <a:ext cx="8001000" cy="585792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2" descr="https://topslide.ru/files/49/653/9.jpg"/>
          <p:cNvPicPr/>
          <p:nvPr/>
        </p:nvPicPr>
        <p:blipFill>
          <a:blip r:embed="rId1"/>
          <a:srcRect l="1725" t="2468" r="1725" b="2383"/>
          <a:stretch/>
        </p:blipFill>
        <p:spPr>
          <a:xfrm>
            <a:off x="714240" y="928800"/>
            <a:ext cx="7715520" cy="5572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571680" y="500040"/>
            <a:ext cx="8001000" cy="5857920"/>
          </a:xfrm>
          <a:prstGeom prst="rect">
            <a:avLst/>
          </a:prstGeom>
          <a:solidFill>
            <a:srgbClr val="00b050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2" descr="https://topslide.ru/files/49/653/11.jpg"/>
          <p:cNvPicPr/>
          <p:nvPr/>
        </p:nvPicPr>
        <p:blipFill>
          <a:blip r:embed="rId1"/>
          <a:srcRect l="1783" t="2383" r="1783" b="2352"/>
          <a:stretch/>
        </p:blipFill>
        <p:spPr>
          <a:xfrm>
            <a:off x="714240" y="642960"/>
            <a:ext cx="7715520" cy="557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https://avatars.mds.yandex.net/get-pdb/1734828/7fb6e307-a4fa-43ea-aa81-9ece77ccc8f8/s1200?webp=false"/>
          <p:cNvPicPr/>
          <p:nvPr/>
        </p:nvPicPr>
        <p:blipFill>
          <a:blip r:embed="rId2"/>
          <a:srcRect l="0" t="0" r="5874" b="0"/>
          <a:stretch/>
        </p:blipFill>
        <p:spPr>
          <a:xfrm>
            <a:off x="0" y="0"/>
            <a:ext cx="1357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9:41:10Z</dcterms:created>
  <dc:creator>Алексей</dc:creator>
  <dc:description/>
  <dc:language>en-US</dc:language>
  <cp:lastModifiedBy>User</cp:lastModifiedBy>
  <dcterms:modified xsi:type="dcterms:W3CDTF">2022-05-11T21:20:57Z</dcterms:modified>
  <cp:revision>53</cp:revision>
  <dc:subject/>
  <dc:title>Автоматизация  [р]  в  начале   слова</dc:title>
</cp:coreProperties>
</file>