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674-86A8-4951-BFBD-3981B97E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7B7-2972-4442-B7EF-ECA76F2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7CB-9294-4321-981F-061E9904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F6C-392B-4278-9818-1B4BEEB7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10C-0449-4632-97EB-E43977BB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271-2B59-4F57-A5CE-9F9A8AC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8CAB-0B56-48C0-9165-C910135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54FB-E748-4A7D-87B2-89901DA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0B7A-8736-421C-BF1B-211D93B2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FF01-E971-40FE-824E-9EBDBFD1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6B1-73BC-43EE-9B38-6506BBF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410-D5AC-4862-A67C-46A2826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C04-FDCE-49D5-8D6C-336A819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0C8-5579-48D2-9CB6-1CDD054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065-1BD3-4C7B-85C9-FA692F7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339-2CCA-4359-8BC2-1A36724A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C368-E825-4751-BA62-33F97B29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A8E2-5834-44A4-ADA8-C206024E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8B73-297A-4C3E-BC5E-D13DCFBF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4758-2FC9-4962-8AA0-EDD1813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E9E2-A7A3-4326-8FB1-2DD218F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41CB-8DE1-4268-8B91-E768F7E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080-7E6C-408B-875E-791EDBF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CD07-2E6F-4E77-8641-33325B25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F6E1-DE10-448A-A9CD-953897C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0EFC-AE34-40F4-8B63-0631E99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B12E-7581-472E-BBCB-FD71673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4047-06B9-4BD6-865C-680EC7F7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199B-3F29-4103-9EEB-6CDC79B3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AD92-EEDF-49F4-8FD9-D3BD091A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261-9477-42D0-90D3-D2B8623E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D7B-07EC-4FFB-B5FF-D2EBCFB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45B-7F21-4F31-B82D-0E29510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FD1-D84F-4578-A2EB-1BF28CF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D09-CEC1-4108-AA48-5310D82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BBE-0861-4D0F-BC6D-5F53D62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6600" spc="-100" strike="noStrike">
                <a:solidFill>
                  <a:srgbClr val="675e47"/>
                </a:solidFill>
                <a:latin typeface="Cambria"/>
              </a:rPr>
              <a:t>Образец заголовка</a:t>
            </a:r>
            <a:endParaRPr b="0" lang="ru-RU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FA6E12-C38B-4D0D-B025-49B6CADFB6D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00" strike="noStrike">
                <a:solidFill>
                  <a:srgbClr val="675e47"/>
                </a:solidFill>
                <a:latin typeface="Cambria"/>
              </a:rPr>
              <a:t>Образец заголовка</a:t>
            </a:r>
            <a:endParaRPr b="0" lang="ru-RU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бразец текста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2DACA7-73FD-493B-BB78-B4B03DBEA2B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CE0E0D-DFD4-4936-AEC8-A301BE7C771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6840" y="2493000"/>
            <a:ext cx="6897600" cy="18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3600" spc="-100" strike="noStrike">
                <a:solidFill>
                  <a:srgbClr val="675e47"/>
                </a:solidFill>
                <a:latin typeface="Cambria"/>
              </a:rPr>
              <a:t>Выступление на педагогическом совете в ДОУ</a:t>
            </a:r>
            <a:br>
              <a:rPr sz="3600"/>
            </a:br>
            <a:r>
              <a:rPr b="1" i="1" lang="ru-RU" sz="3600" spc="-100" strike="noStrike">
                <a:solidFill>
                  <a:srgbClr val="675e47"/>
                </a:solidFill>
                <a:latin typeface="Cambria"/>
              </a:rPr>
              <a:t>«Дошкольники с ОВЗ в современном образовательном пространстве»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07640" y="260640"/>
            <a:ext cx="8856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художественно-эстетическому развитию детей № 7 «Бере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города Новочебоксарска Чуваш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3132000" y="5589360"/>
            <a:ext cx="525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Подготовила: воспитатель – А. М. Анан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00" strike="noStrike">
                <a:solidFill>
                  <a:srgbClr val="675e47"/>
                </a:solidFill>
                <a:latin typeface="Cambria"/>
              </a:rPr>
              <a:t>Определение: </a:t>
            </a:r>
            <a:r>
              <a:rPr b="0" i="1" lang="ru-RU" sz="4600" spc="-100" strike="noStrike">
                <a:solidFill>
                  <a:srgbClr val="ff0000"/>
                </a:solidFill>
                <a:latin typeface="Cambria"/>
              </a:rPr>
              <a:t>кто же такие дети с ОВЗ?</a:t>
            </a:r>
            <a:endParaRPr b="0" lang="ru-RU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79"/>
              </a:spcBef>
              <a:buClr>
                <a:srgbClr val="a9a57c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ти с ограниченными возможностями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- это дети, имеющие различные отклонения психического или физического характера, которые обусловливают нарушения общего развития, не позволяющие детям вести полноценную жизнь.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79"/>
              </a:spcBef>
              <a:buClr>
                <a:srgbClr val="a9a57c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ти с ограниченными возможностями здоровья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– это дети, состояние здоровья которых препятствует освоению образовательных программ вне специальных условий обучения и воспитания. 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7897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600" spc="-100" strike="noStrike">
                <a:solidFill>
                  <a:srgbClr val="675e47"/>
                </a:solidFill>
                <a:latin typeface="Cambria"/>
              </a:rPr>
              <a:t>Классификация детей с ОВЗ</a:t>
            </a:r>
            <a:br>
              <a:rPr sz="4600"/>
            </a:br>
            <a:r>
              <a:rPr b="0" lang="ru-RU" sz="3100" spc="-100" strike="noStrike">
                <a:solidFill>
                  <a:srgbClr val="675e47"/>
                </a:solidFill>
                <a:latin typeface="Cambria"/>
              </a:rPr>
              <a:t>(по классификации В. А. Лапшина и Б. П. Пузанова)</a:t>
            </a:r>
            <a:endParaRPr b="0" lang="ru-RU" sz="3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7640" y="1556640"/>
            <a:ext cx="2493720" cy="2030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615040" y="206100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499280" y="234900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6383880" y="267912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251640" y="393300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2108520" y="451728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7"/>
          <a:stretch/>
        </p:blipFill>
        <p:spPr>
          <a:xfrm>
            <a:off x="3992760" y="484236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8"/>
          <a:stretch/>
        </p:blipFill>
        <p:spPr>
          <a:xfrm>
            <a:off x="5877000" y="5046840"/>
            <a:ext cx="1883880" cy="181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323640" y="260640"/>
            <a:ext cx="7704360" cy="64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ети с ОВЗ – это дети с особыми образовательными потребностями, в процессе обучения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начать специальное обучение ребенка сразу же после выявления первичного нарушения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ввести в содержание обучения ребенка специальные разделы, не присутствующие в программах образования нормально развивающихся 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спользовать специальные методы, приемы и средства обучения (в том числе специализированные компьютерные технолог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ндивидуализировать обучение в большей степени, чем требуется для нормально развивающегося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обеспечить особую пространственную и временную организацию образователь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максимально раздвинуть образовательное пространство за пределы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00" strike="noStrike">
                <a:solidFill>
                  <a:srgbClr val="675e47"/>
                </a:solidFill>
                <a:latin typeface="Cambria"/>
              </a:rPr>
              <a:t>Типичные затруднения у детей с ОВЗ: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683640" y="134064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Отсутствует мотивация к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683640" y="370152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ая самооценка и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6"/>
          <p:cNvSpPr/>
          <p:nvPr/>
        </p:nvSpPr>
        <p:spPr>
          <a:xfrm>
            <a:off x="683640" y="29250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ий уровень развития мышления 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649440" y="21330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ий уровень свойств внимания </a:t>
            </a:r>
            <a:r>
              <a:rPr b="0" lang="ru-RU" sz="1600" spc="-1" strike="noStrike">
                <a:solidFill>
                  <a:schemeClr val="lt1"/>
                </a:solidFill>
                <a:latin typeface="Calibri"/>
              </a:rPr>
              <a:t>(устойчивость, концентрация, переключ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683640" y="531612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лохо развита крупная и мелкая мото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683640" y="45072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арушение координации движений и пространственной ориент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683640" y="615924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уждаются в постоянной помощи взрос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13"/>
          <p:cNvSpPr/>
          <p:nvPr/>
        </p:nvSpPr>
        <p:spPr>
          <a:xfrm>
            <a:off x="4055400" y="108972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низ 20"/>
          <p:cNvSpPr/>
          <p:nvPr/>
        </p:nvSpPr>
        <p:spPr>
          <a:xfrm>
            <a:off x="4055400" y="1989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низ 21"/>
          <p:cNvSpPr/>
          <p:nvPr/>
        </p:nvSpPr>
        <p:spPr>
          <a:xfrm>
            <a:off x="4048560" y="2781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Стрелка вниз 22"/>
          <p:cNvSpPr/>
          <p:nvPr/>
        </p:nvSpPr>
        <p:spPr>
          <a:xfrm>
            <a:off x="4048560" y="3492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Стрелка вниз 23"/>
          <p:cNvSpPr/>
          <p:nvPr/>
        </p:nvSpPr>
        <p:spPr>
          <a:xfrm>
            <a:off x="4004280" y="43146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Стрелка вниз 24"/>
          <p:cNvSpPr/>
          <p:nvPr/>
        </p:nvSpPr>
        <p:spPr>
          <a:xfrm>
            <a:off x="4019400" y="51552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Стрелка вниз 25"/>
          <p:cNvSpPr/>
          <p:nvPr/>
        </p:nvSpPr>
        <p:spPr>
          <a:xfrm>
            <a:off x="4014000" y="596772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77763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00" strike="noStrike">
                <a:solidFill>
                  <a:srgbClr val="675e47"/>
                </a:solidFill>
                <a:latin typeface="Cambria"/>
              </a:rPr>
              <a:t>Правила обучения дошкольников с ОВЗ</a:t>
            </a:r>
            <a:endParaRPr b="0" lang="ru-RU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Загнутый угол 5"/>
          <p:cNvSpPr/>
          <p:nvPr/>
        </p:nvSpPr>
        <p:spPr>
          <a:xfrm>
            <a:off x="179640" y="1174320"/>
            <a:ext cx="2016000" cy="1728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учающийся с ОВЗ-физическое лицо, имеющее недостатки в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6"/>
          <p:cNvSpPr/>
          <p:nvPr/>
        </p:nvSpPr>
        <p:spPr>
          <a:xfrm>
            <a:off x="2267640" y="1628640"/>
            <a:ext cx="647640" cy="57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bebd"/>
          </a:solidFill>
          <a:ln>
            <a:solidFill>
              <a:srgbClr val="738c8b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Загнутый угол 10"/>
          <p:cNvSpPr/>
          <p:nvPr/>
        </p:nvSpPr>
        <p:spPr>
          <a:xfrm>
            <a:off x="2988000" y="1484640"/>
            <a:ext cx="2016000" cy="2016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анный статус подтверждаетс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сихолого-медико-педагогической комиссией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ПМП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127480" y="2116800"/>
            <a:ext cx="676080" cy="639360"/>
          </a:xfrm>
          <a:prstGeom prst="rect">
            <a:avLst/>
          </a:prstGeom>
          <a:ln w="0">
            <a:noFill/>
          </a:ln>
        </p:spPr>
      </p:pic>
      <p:sp>
        <p:nvSpPr>
          <p:cNvPr id="164" name="Загнутый угол 12"/>
          <p:cNvSpPr/>
          <p:nvPr/>
        </p:nvSpPr>
        <p:spPr>
          <a:xfrm>
            <a:off x="5868000" y="2032200"/>
            <a:ext cx="2448000" cy="2880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гда родители предоставляют в ОУ документ о том, что их ребенок имеет данный статус организация не в праве отказать в обучении и создании специаль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9"/>
          <p:cNvCxnSpPr/>
          <p:nvPr/>
        </p:nvCxnSpPr>
        <p:spPr>
          <a:xfrm flipH="1">
            <a:off x="3527640" y="3537000"/>
            <a:ext cx="252360" cy="504360"/>
          </a:xfrm>
          <a:prstGeom prst="straightConnector1">
            <a:avLst/>
          </a:prstGeom>
          <a:ln>
            <a:solidFill>
              <a:srgbClr val="a6a278"/>
            </a:solidFill>
            <a:round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>
            <a:off x="4097520" y="3548160"/>
            <a:ext cx="225360" cy="479160"/>
          </a:xfrm>
          <a:prstGeom prst="straightConnector1">
            <a:avLst/>
          </a:prstGeom>
          <a:ln>
            <a:solidFill>
              <a:srgbClr val="a6a278"/>
            </a:solidFill>
            <a:round/>
            <a:tailEnd len="med" type="arrow" w="med"/>
          </a:ln>
        </p:spPr>
      </p:cxnSp>
      <p:sp>
        <p:nvSpPr>
          <p:cNvPr id="167" name="Прямоугольник 19"/>
          <p:cNvSpPr/>
          <p:nvPr/>
        </p:nvSpPr>
        <p:spPr>
          <a:xfrm>
            <a:off x="2199960" y="4108680"/>
            <a:ext cx="1241640" cy="129564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МПК обследует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3623040" y="4293000"/>
            <a:ext cx="2154240" cy="223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Даёт рекомендации по оказанию детям психолого-медико-педагогической помощи и созданию для них условий в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  <Words>308</Words>
  <Paragraphs>3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9:58:24Z</dcterms:created>
  <dc:creator>Svetlana</dc:creator>
  <dc:description/>
  <dc:language>en-US</dc:language>
  <cp:lastModifiedBy>Angelina</cp:lastModifiedBy>
  <dcterms:modified xsi:type="dcterms:W3CDTF">2022-01-29T16:56:22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