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1E5-690A-4DFE-90EC-6D5FE7F4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896-0594-41DB-8568-ABEB6A2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640E-9B19-4BE4-9D97-40071FB0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9302-5553-48BA-BE81-A5AF50B2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F812-2DC8-4C1F-9874-DF696E0D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4D6C-285C-4C51-AD69-951550A1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BA1F-6358-46B0-AF8D-4AA3070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B551-0589-4AA6-A2D9-B9A53271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AF54-4B11-49A7-8382-C0FEE2A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585-9835-4A11-AFE0-6F6413CB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67CA-11E4-4353-960B-2E9F18C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8A2-5A47-4BF6-8328-198D5F71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6866-477A-43B3-BEC5-449369E4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0A4-8148-4CB7-844C-6CF3EC3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D5B3-36DD-4A7B-AEF9-9E023D3C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9D1D-811B-414F-AC8D-56DC365C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F2D5-130D-4192-AC10-13244FE7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1E95-4AF0-4EE6-B62D-292B4E39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DE7F-61D4-4256-B284-DC463B90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73D4-8434-4228-96EA-90FC2078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62DF-5CD6-4699-BCB0-071A2044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57151-A74F-4BA8-B054-77268A27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E44-0A54-4442-BBA5-52722B2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AE45-9390-4BF8-834A-E471C846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621E8-E356-4711-9B7E-351F0C0D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A3C4-D5D3-464C-887B-DED310F9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6CD4-FB2F-4ECE-8DDE-AFB2121B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1253-CC48-4F9D-9A4E-C2D63069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D4C1-A509-47E6-9F9B-CF2FA378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6863-9659-4FE3-A7E0-397FE865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5CE-1912-4A5E-94AF-FF850C64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111-9848-48AA-98F4-DC82A05E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391-3419-480B-AE93-354A6C6A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BBA-0D78-4346-ABDA-D6B555C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945-6018-4577-97CD-F813FC5A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2A2-1535-468E-88D6-B3D96EB2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6600" spc="-100" strike="noStrike">
                <a:solidFill>
                  <a:srgbClr val="675e47"/>
                </a:solidFill>
                <a:latin typeface="Cambria"/>
              </a:rPr>
              <a:t>Образец заголовка</a:t>
            </a:r>
            <a:endParaRPr b="0" lang="ru-RU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AD4E7A-3252-4CB2-91BC-2923349D2FD6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00" strike="noStrike">
                <a:solidFill>
                  <a:srgbClr val="675e47"/>
                </a:solidFill>
                <a:latin typeface="Cambria"/>
              </a:rPr>
              <a:t>Образец заголовка</a:t>
            </a:r>
            <a:endParaRPr b="0" lang="ru-RU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бразец текста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Пятый уровень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8ADAE6-A91E-4B2C-BA94-DA831A8BC9B7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3C97F52-EB1A-4037-8857-F9EE4D678F6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ru-RU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ru-RU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86840" y="2493000"/>
            <a:ext cx="6897600" cy="186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3600" spc="-100" strike="noStrike">
                <a:solidFill>
                  <a:srgbClr val="675e47"/>
                </a:solidFill>
                <a:latin typeface="Cambria"/>
              </a:rPr>
              <a:t>Выступление на педагогическом совете в ДОУ</a:t>
            </a:r>
            <a:br>
              <a:rPr sz="3600"/>
            </a:br>
            <a:r>
              <a:rPr b="1" i="1" lang="ru-RU" sz="3600" spc="-100" strike="noStrike">
                <a:solidFill>
                  <a:srgbClr val="675e47"/>
                </a:solidFill>
                <a:latin typeface="Cambria"/>
              </a:rPr>
              <a:t>«Дошкольники с ОВЗ в современном образовательном пространстве»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107640" y="260640"/>
            <a:ext cx="8856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художественно-эстетическому развитию детей № 7 «Березк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города Новочебоксарска Чувашской 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3132000" y="5589360"/>
            <a:ext cx="525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Подготовила: воспитатель – А. М. Анан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0" lang="ru-RU" sz="4600" spc="-100" strike="noStrike">
                <a:solidFill>
                  <a:srgbClr val="675e47"/>
                </a:solidFill>
                <a:latin typeface="Cambria"/>
              </a:rPr>
              <a:t>Определение: </a:t>
            </a:r>
            <a:r>
              <a:rPr b="0" i="1" lang="ru-RU" sz="4600" spc="-100" strike="noStrike">
                <a:solidFill>
                  <a:srgbClr val="ff0000"/>
                </a:solidFill>
                <a:latin typeface="Cambria"/>
              </a:rPr>
              <a:t>кто же такие дети с ОВЗ?</a:t>
            </a:r>
            <a:endParaRPr b="0" lang="ru-RU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79"/>
              </a:spcBef>
              <a:buClr>
                <a:srgbClr val="a9a57c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ти с ограниченными возможностями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- это дети, имеющие различные отклонения психического или физического характера, которые обусловливают нарушения общего развития, не позволяющие детям вести полноценную жизнь.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ru-RU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79"/>
              </a:spcBef>
              <a:buClr>
                <a:srgbClr val="a9a57c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Дети с ограниченными возможностями здоровья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</a:rPr>
              <a:t>– это дети, состояние здоровья которых препятствует освоению образовательных программ вне специальных условий обучения и воспитания. </a:t>
            </a:r>
            <a:endParaRPr b="0" lang="ru-RU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78973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600" spc="-100" strike="noStrike">
                <a:solidFill>
                  <a:srgbClr val="675e47"/>
                </a:solidFill>
                <a:latin typeface="Cambria"/>
              </a:rPr>
              <a:t>Классификация детей с ОВЗ</a:t>
            </a:r>
            <a:br>
              <a:rPr sz="4600"/>
            </a:br>
            <a:r>
              <a:rPr b="0" lang="ru-RU" sz="3100" spc="-100" strike="noStrike">
                <a:solidFill>
                  <a:srgbClr val="675e47"/>
                </a:solidFill>
                <a:latin typeface="Cambria"/>
              </a:rPr>
              <a:t>(по классификации В. А. Лапшина и Б. П. Пузанова)</a:t>
            </a:r>
            <a:endParaRPr b="0" lang="ru-RU" sz="31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7640" y="1556640"/>
            <a:ext cx="2493720" cy="2030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615040" y="206100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4499280" y="234900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6383880" y="267912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251640" y="393300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2108520" y="4517280"/>
            <a:ext cx="1883880" cy="1810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7"/>
          <a:stretch/>
        </p:blipFill>
        <p:spPr>
          <a:xfrm>
            <a:off x="3992760" y="4842360"/>
            <a:ext cx="1883880" cy="1815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8"/>
          <a:stretch/>
        </p:blipFill>
        <p:spPr>
          <a:xfrm>
            <a:off x="5877000" y="5046840"/>
            <a:ext cx="1883880" cy="181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323640" y="260640"/>
            <a:ext cx="7704360" cy="64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ети с ОВЗ – это дети с особыми образовательными потребностями, в процессе обучения необход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начать специальное обучение ребенка сразу же после выявления первичного нарушения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ввести в содержание обучения ребенка специальные разделы, не присутствующие в программах образования нормально развивающихся свер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спользовать специальные методы, приемы и средства обучения (в том числе специализированные компьютерные технолог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индивидуализировать обучение в большей степени, чем требуется для нормально развивающегося реб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обеспечить особую пространственную и временную организацию образовательной ср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f2b2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2f2b20"/>
                </a:solidFill>
                <a:latin typeface="Times New Roman"/>
              </a:rPr>
              <a:t>максимально раздвинуть образовательное пространство за пределы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00" strike="noStrike">
                <a:solidFill>
                  <a:srgbClr val="675e47"/>
                </a:solidFill>
                <a:latin typeface="Cambria"/>
              </a:rPr>
              <a:t>Типичные затруднения у детей с ОВЗ:</a:t>
            </a:r>
            <a:endParaRPr b="0" lang="ru-RU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Скругленный прямоугольник 3"/>
          <p:cNvSpPr/>
          <p:nvPr/>
        </p:nvSpPr>
        <p:spPr>
          <a:xfrm>
            <a:off x="683640" y="134064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Отсутствует мотивация к позна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683640" y="370152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ая самооценка и повышенная трево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6"/>
          <p:cNvSpPr/>
          <p:nvPr/>
        </p:nvSpPr>
        <p:spPr>
          <a:xfrm>
            <a:off x="683640" y="29250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ий уровень развития мышления и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649440" y="21330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изкий уровень свойств внимания </a:t>
            </a:r>
            <a:r>
              <a:rPr b="0" lang="ru-RU" sz="1600" spc="-1" strike="noStrike">
                <a:solidFill>
                  <a:schemeClr val="lt1"/>
                </a:solidFill>
                <a:latin typeface="Calibri"/>
              </a:rPr>
              <a:t>(устойчивость, концентрация, переключ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10"/>
          <p:cNvSpPr/>
          <p:nvPr/>
        </p:nvSpPr>
        <p:spPr>
          <a:xfrm>
            <a:off x="683640" y="531612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лохо развита крупная и мелкая мотор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11"/>
          <p:cNvSpPr/>
          <p:nvPr/>
        </p:nvSpPr>
        <p:spPr>
          <a:xfrm>
            <a:off x="683640" y="450720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арушение координации движений и пространственной ориент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12"/>
          <p:cNvSpPr/>
          <p:nvPr/>
        </p:nvSpPr>
        <p:spPr>
          <a:xfrm>
            <a:off x="683640" y="6159240"/>
            <a:ext cx="7344360" cy="647640"/>
          </a:xfrm>
          <a:prstGeom prst="roundRect">
            <a:avLst>
              <a:gd name="adj" fmla="val 16667"/>
            </a:avLst>
          </a:prstGeom>
          <a:solidFill>
            <a:srgbClr val="c89f5d"/>
          </a:solidFill>
          <a:ln w="0">
            <a:noFill/>
          </a:ln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Нуждаются в постоянной помощи взросл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низ 13"/>
          <p:cNvSpPr/>
          <p:nvPr/>
        </p:nvSpPr>
        <p:spPr>
          <a:xfrm>
            <a:off x="4055400" y="108972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Стрелка вниз 20"/>
          <p:cNvSpPr/>
          <p:nvPr/>
        </p:nvSpPr>
        <p:spPr>
          <a:xfrm>
            <a:off x="4055400" y="1989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Стрелка вниз 21"/>
          <p:cNvSpPr/>
          <p:nvPr/>
        </p:nvSpPr>
        <p:spPr>
          <a:xfrm>
            <a:off x="4048560" y="2781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Стрелка вниз 22"/>
          <p:cNvSpPr/>
          <p:nvPr/>
        </p:nvSpPr>
        <p:spPr>
          <a:xfrm>
            <a:off x="4048560" y="34920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Стрелка вниз 23"/>
          <p:cNvSpPr/>
          <p:nvPr/>
        </p:nvSpPr>
        <p:spPr>
          <a:xfrm>
            <a:off x="4004280" y="43146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Стрелка вниз 24"/>
          <p:cNvSpPr/>
          <p:nvPr/>
        </p:nvSpPr>
        <p:spPr>
          <a:xfrm>
            <a:off x="4019400" y="515520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Стрелка вниз 25"/>
          <p:cNvSpPr/>
          <p:nvPr/>
        </p:nvSpPr>
        <p:spPr>
          <a:xfrm>
            <a:off x="4014000" y="5967720"/>
            <a:ext cx="215640" cy="21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9a57c"/>
          </a:solidFill>
          <a:ln>
            <a:solidFill>
              <a:srgbClr val="7d7a5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777636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00" strike="noStrike">
                <a:solidFill>
                  <a:srgbClr val="675e47"/>
                </a:solidFill>
                <a:latin typeface="Cambria"/>
              </a:rPr>
              <a:t>Правила обучения дошкольников с ОВЗ</a:t>
            </a:r>
            <a:endParaRPr b="0" lang="ru-RU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Загнутый угол 5"/>
          <p:cNvSpPr/>
          <p:nvPr/>
        </p:nvSpPr>
        <p:spPr>
          <a:xfrm>
            <a:off x="179640" y="1174320"/>
            <a:ext cx="2016000" cy="1728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учающийся с ОВЗ-физическое лицо, имеющее недостатки в разви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6"/>
          <p:cNvSpPr/>
          <p:nvPr/>
        </p:nvSpPr>
        <p:spPr>
          <a:xfrm>
            <a:off x="2267640" y="1628640"/>
            <a:ext cx="647640" cy="575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bebd"/>
          </a:solidFill>
          <a:ln>
            <a:solidFill>
              <a:srgbClr val="738c8b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Загнутый угол 10"/>
          <p:cNvSpPr/>
          <p:nvPr/>
        </p:nvSpPr>
        <p:spPr>
          <a:xfrm>
            <a:off x="2988000" y="1484640"/>
            <a:ext cx="2016000" cy="2016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анный статус подтверждаетс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сихолого-медико-педагогической комиссией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ПМП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127480" y="2116800"/>
            <a:ext cx="676080" cy="639360"/>
          </a:xfrm>
          <a:prstGeom prst="rect">
            <a:avLst/>
          </a:prstGeom>
          <a:ln w="0">
            <a:noFill/>
          </a:ln>
        </p:spPr>
      </p:pic>
      <p:sp>
        <p:nvSpPr>
          <p:cNvPr id="164" name="Загнутый угол 12"/>
          <p:cNvSpPr/>
          <p:nvPr/>
        </p:nvSpPr>
        <p:spPr>
          <a:xfrm>
            <a:off x="5868000" y="2032200"/>
            <a:ext cx="2448000" cy="2880000"/>
          </a:xfrm>
          <a:prstGeom prst="foldedCorner">
            <a:avLst>
              <a:gd name="adj" fmla="val 16667"/>
            </a:avLst>
          </a:prstGeom>
          <a:solidFill>
            <a:srgbClr val="d0dedd"/>
          </a:solidFill>
          <a:ln>
            <a:solidFill>
              <a:srgbClr val="97bab9"/>
            </a:solidFill>
            <a:round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огда родители предоставляют в ОУ документ о том, что их ребенок имеет данный статус организация не в праве отказать в обучении и создании специаль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9"/>
          <p:cNvCxnSpPr/>
          <p:nvPr/>
        </p:nvCxnSpPr>
        <p:spPr>
          <a:xfrm flipH="1">
            <a:off x="3527640" y="3537000"/>
            <a:ext cx="252360" cy="504360"/>
          </a:xfrm>
          <a:prstGeom prst="straightConnector1">
            <a:avLst/>
          </a:prstGeom>
          <a:ln>
            <a:solidFill>
              <a:srgbClr val="a6a278"/>
            </a:solidFill>
            <a:round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>
            <a:off x="4097520" y="3548160"/>
            <a:ext cx="225360" cy="479160"/>
          </a:xfrm>
          <a:prstGeom prst="straightConnector1">
            <a:avLst/>
          </a:prstGeom>
          <a:ln>
            <a:solidFill>
              <a:srgbClr val="a6a278"/>
            </a:solidFill>
            <a:round/>
            <a:tailEnd len="med" type="arrow" w="med"/>
          </a:ln>
        </p:spPr>
      </p:cxnSp>
      <p:sp>
        <p:nvSpPr>
          <p:cNvPr id="167" name="Прямоугольник 19"/>
          <p:cNvSpPr/>
          <p:nvPr/>
        </p:nvSpPr>
        <p:spPr>
          <a:xfrm>
            <a:off x="2199960" y="4108680"/>
            <a:ext cx="1241640" cy="129564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МПК обследует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3623040" y="4293000"/>
            <a:ext cx="2154240" cy="2232000"/>
          </a:xfrm>
          <a:prstGeom prst="rect">
            <a:avLst/>
          </a:prstGeom>
          <a:solidFill>
            <a:srgbClr val="9cbebd"/>
          </a:solidFill>
          <a:ln w="0">
            <a:noFill/>
          </a:ln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Даёт рекомендации по оказанию детям психолого-медико-педагогической помощи и созданию для них условий в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седство">
  <a:themeElements>
    <a:clrScheme name="Соседство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  <Words>308</Words>
  <Paragraphs>3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9:58:24Z</dcterms:created>
  <dc:creator>Svetlana</dc:creator>
  <dc:description/>
  <dc:language>en-US</dc:language>
  <cp:lastModifiedBy>Angelina</cp:lastModifiedBy>
  <dcterms:modified xsi:type="dcterms:W3CDTF">2022-01-29T16:56:22Z</dcterms:modified>
  <cp:revision>1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