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2E3-3820-4606-8F51-64BF0CD6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A18F-8AE6-4ECB-B49D-1615488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4586-29A8-48D7-8877-B86BF4D7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268-0053-49BD-90BC-A6A59D9B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D86-45BF-4AF2-BDED-72306AFB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982-D88B-459A-B432-70E7D91E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B66-B4AB-4605-942B-696C2DB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D26-4E55-48AD-83A3-9CE77023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BD4-3E8F-4C7A-9AF2-1962648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722-4805-4302-AB6B-1FEF9702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282-E784-4AB8-8518-7B46619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F4F-375A-4390-90A8-82E6CF1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6FA-130A-4E44-9B28-B6035ABFB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554280" y="1474920"/>
            <a:ext cx="5602320" cy="336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708000" y="4869000"/>
            <a:ext cx="525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996633"/>
                </a:solidFill>
                <a:latin typeface="Calibri"/>
              </a:rPr>
              <a:t>Автор слов: Зинаида Трубицы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24000" y="272520"/>
            <a:ext cx="2962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я люблю эти добрые ру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ины руки, любимые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6" descr=""/>
          <p:cNvPicPr/>
          <p:nvPr/>
        </p:nvPicPr>
        <p:blipFill>
          <a:blip r:embed="rId1"/>
          <a:stretch/>
        </p:blipFill>
        <p:spPr>
          <a:xfrm>
            <a:off x="1403280" y="0"/>
            <a:ext cx="39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651280" y="272520"/>
            <a:ext cx="3035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ся они мне в минуты разлу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нежные, мамины ру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1116000" y="95400"/>
            <a:ext cx="441000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866920" y="501120"/>
            <a:ext cx="3265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им ли летом, холодной ль зимо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ины руки не знают поко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rcRect l="8227" t="0" r="0" b="0"/>
          <a:stretch/>
        </p:blipFill>
        <p:spPr>
          <a:xfrm>
            <a:off x="1116000" y="93600"/>
            <a:ext cx="427212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724360" y="333000"/>
            <a:ext cx="310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т, готовят, шьют и стирают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быть ночью они отдыха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"/>
          <p:cNvPicPr/>
          <p:nvPr/>
        </p:nvPicPr>
        <p:blipFill>
          <a:blip r:embed="rId1"/>
          <a:stretch/>
        </p:blipFill>
        <p:spPr>
          <a:xfrm>
            <a:off x="1403280" y="0"/>
            <a:ext cx="368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56000" y="501120"/>
            <a:ext cx="2746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ную голову гладят ребён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ежно-нежно меняют пелен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"/>
          <p:cNvPicPr/>
          <p:nvPr/>
        </p:nvPicPr>
        <p:blipFill>
          <a:blip r:embed="rId1"/>
          <a:stretch/>
        </p:blipFill>
        <p:spPr>
          <a:xfrm>
            <a:off x="1258920" y="14400"/>
            <a:ext cx="46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796000" y="501120"/>
            <a:ext cx="310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до утра колыбельку кач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т как они по ночам отдыхаю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1"/>
          <a:stretch/>
        </p:blipFill>
        <p:spPr>
          <a:xfrm>
            <a:off x="1187280" y="0"/>
            <a:ext cx="39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4200" y="313920"/>
            <a:ext cx="3322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и любимой и ласковой мам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йте прижмусь к вам своими губ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826920" y="0"/>
            <a:ext cx="47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27280" y="333000"/>
            <a:ext cx="2746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ую трещинку в вас поцелу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и люблю свою маму таку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971640" y="3024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4:03:24Z</dcterms:created>
  <dc:creator>User</dc:creator>
  <dc:description/>
  <dc:language>en-US</dc:language>
  <cp:lastModifiedBy>user</cp:lastModifiedBy>
  <dcterms:modified xsi:type="dcterms:W3CDTF">2018-03-25T08:47:46Z</dcterms:modified>
  <cp:revision>5</cp:revision>
  <dc:subject/>
  <dc:title>Презентация PowerPoint</dc:title>
</cp:coreProperties>
</file>