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ECC-9FC0-483E-974D-14EF372A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EBC-CE06-4E0E-8F1D-C8F6F7E6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1B7-D114-4600-A9AC-FE825148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141-9035-4DC7-9C99-73BB34D6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5F5-7C59-4C02-A7D7-08E65C07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F9A-8FD5-4824-87BE-51C88D6B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DDD-1408-475D-A3AA-279F1B9D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A0B-8B6A-4992-A56D-AFD67BF4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0B1-BB5F-47D0-81C4-56336462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5F3-CFB8-42B8-9573-EBC232B2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CF4-76EA-4C1E-80B5-63DE9D2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282-AF62-40E5-9F02-0D429ED6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F700-AF91-4341-A61E-EDFE1493E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554280" y="1474920"/>
            <a:ext cx="5602320" cy="336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525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6633"/>
                </a:solidFill>
                <a:latin typeface="Calibri"/>
              </a:rPr>
              <a:t>Автор слов: Зинаида Трубицы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24000" y="272520"/>
            <a:ext cx="2962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я люблю эти добрые ру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ины руки, любимые р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6" descr=""/>
          <p:cNvPicPr/>
          <p:nvPr/>
        </p:nvPicPr>
        <p:blipFill>
          <a:blip r:embed="rId1"/>
          <a:stretch/>
        </p:blipFill>
        <p:spPr>
          <a:xfrm>
            <a:off x="1403280" y="0"/>
            <a:ext cx="396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651280" y="272520"/>
            <a:ext cx="3035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ся они мне в минуты разлу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нежные, мамины р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1116000" y="95400"/>
            <a:ext cx="44100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866920" y="501120"/>
            <a:ext cx="32655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ким ли летом, холодной ль зимо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ины руки не знают поко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rcRect l="8227" t="0" r="0" b="0"/>
          <a:stretch/>
        </p:blipFill>
        <p:spPr>
          <a:xfrm>
            <a:off x="1116000" y="93600"/>
            <a:ext cx="427212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24360" y="333000"/>
            <a:ext cx="310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ют, готовят, шьют и стирают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быть ночью они отдых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"/>
          <p:cNvPicPr/>
          <p:nvPr/>
        </p:nvPicPr>
        <p:blipFill>
          <a:blip r:embed="rId1"/>
          <a:stretch/>
        </p:blipFill>
        <p:spPr>
          <a:xfrm>
            <a:off x="1403280" y="0"/>
            <a:ext cx="368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56000" y="501120"/>
            <a:ext cx="2746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ную голову гладят ребён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жно-нежно меняют пелен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1258920" y="14400"/>
            <a:ext cx="46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96000" y="501120"/>
            <a:ext cx="310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о утра колыбельку качаю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т как они по ночам отдыхаю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"/>
          <p:cNvPicPr/>
          <p:nvPr/>
        </p:nvPicPr>
        <p:blipFill>
          <a:blip r:embed="rId1"/>
          <a:stretch/>
        </p:blipFill>
        <p:spPr>
          <a:xfrm>
            <a:off x="1187280" y="0"/>
            <a:ext cx="39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94200" y="313920"/>
            <a:ext cx="3322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и любимой и ласковой мам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йте прижмусь к вам своими губ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826920" y="0"/>
            <a:ext cx="47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27280" y="333000"/>
            <a:ext cx="2746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ую трещинку в вас поцелу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и люблю свою маму таку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1"/>
          <a:stretch/>
        </p:blipFill>
        <p:spPr>
          <a:xfrm>
            <a:off x="971640" y="3024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4:03:24Z</dcterms:created>
  <dc:creator>User</dc:creator>
  <dc:description/>
  <dc:language>en-US</dc:language>
  <cp:lastModifiedBy>user</cp:lastModifiedBy>
  <dcterms:modified xsi:type="dcterms:W3CDTF">2018-03-25T08:47:46Z</dcterms:modified>
  <cp:revision>5</cp:revision>
  <dc:subject/>
  <dc:title>Презентация PowerPoint</dc:title>
</cp:coreProperties>
</file>