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FFB-2E7F-478E-A0E6-889A6C347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яснить, за что можно сказать спасибо семье, в которой вы живете ; чем для вас является семья;  можете ли вы гордиться своей семьей, ч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A8A-CC99-4368-8AEE-376B9F3AF2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сня «Любимый пап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ом эта пес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у так же интересно общаться со своим папой? Поднимите ру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ваш пап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4F7-D4D1-4CB2-A416-56F100890B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живет вместе с бабуш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часто ездит к ней в г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ая ваша бабушка? Охарактеризуй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вас любит свою бабушку. Когда наступают каникулы и выходные дни – вы едете к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у вас радость – они радуются вместе с вами, если вам грустно, они успокоят, утешат, вместе с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ереживаете свои неудачи. Порой родители не знают о вас то, что знают мудрые бабушки. А какие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ые руки у них, сколько они умеют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B79-554B-457B-ABF5-68A067B2F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сня «Колыбельная медведиц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бы мог петь для вас эту песню? Ког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ем для вас является мама? Какая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 с первых дней рождения ребенка согревает его своим теплом, лаской, заботой. Когда вы болеете, рядом с вами мама, когда у вас радость, то и лицо мамы озаряет улыбка, если неприятности, то и у мамы огорченн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1B5-1E68-47EE-8DB9-EB16FD5E3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B79-5891-4C94-BD04-A62A25BD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410-1EBA-426A-B2B1-916BFEA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2EB-114E-4F6B-95B4-4C55F5B7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036-61A0-4578-B319-D7B5EDA9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1D9-1993-40F0-A908-5BC81FFA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E9A1-1FA7-45C9-8D23-C850F68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2D6F-B07E-4557-AD35-B981D118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1AD-753F-46CF-B3D0-3AF03E9B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6308-C11C-4C04-A299-130E5E5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CD16-6DAF-469B-BC07-50C98CC0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3E54-00F8-4046-91F7-45E47B1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0C8-4203-4380-AAD4-B66DFD7D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C5BF-35B3-4C77-A628-D18804E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EA20-4D24-4288-9F2A-60689C0D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6D31-7DD5-4728-A9D6-359106C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6133-65BE-4888-ADE6-FF9B83DA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B02E-BF2B-4783-B820-238B638A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2BDC9-C858-43F2-919A-8A6F3B6F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4ED23-A6F0-44DE-9CC3-27FC3523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4193B-FCA6-457E-B5B1-E0C5CBF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5AED6-0E26-4B10-A17B-3F5FC26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E446C-7CAE-43B4-9526-0374AE76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FD8-F6C2-4797-9E6D-8B9D2793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6AB93-E880-4BEA-82CF-6FD51C53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43371-421F-433A-B1CF-FDBEC80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242C4-42BD-426D-A960-B1864A70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9DDAE-20FE-465C-B772-D4FA754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65D5A-051A-46DA-B2B6-941929B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44966-DD0E-40A9-A6DA-53CBFCCF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72BF8-7F24-4F8E-91FE-18312069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9DE0-7665-4ACA-B988-6C781D56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3C95-FE74-407B-993C-3B19FC2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E838-2C00-4DB3-9A71-083910AA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6DC-06D8-4DB2-9410-2BED0F3E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3965-1425-41CD-A5D0-EEA66A2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9E10-D7D6-42A5-AA46-0B8F159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A76D-6B03-4727-A0AD-4DBA5F6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2F80-FE15-4DBF-9202-128454D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EC00-621D-4681-B1E5-2E0E6EB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69C2-4BC3-4B88-B498-BCB1A55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7AE9-61F5-4766-9C1F-FED3129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3394-CFC7-4F48-9F97-494C9549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5E8A-B2C5-427D-980F-143E260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F6891-2C43-4078-8608-29C8D560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2E5-7D11-4BE0-AC66-8F612B6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5A90F-03D7-4857-A90C-FD0DB05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7E12B-8D17-4B5E-BA4D-6E403DAC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D6990-708D-444F-BE9D-61BD5E61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04008-6C0A-4B11-839E-AA99A86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FBA1E-E1D1-43DB-8871-7ED24BF5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1112E-D15A-4394-B050-CF4B5CAE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C6D66-82B3-4123-B098-A6EFC86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9DF1E-8B4F-4874-BF57-8DF6D11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94BEC-CD45-473F-BE12-CCBDA889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683FA-C633-4322-884F-06BF58CC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449-8360-401B-BC7B-F406F168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F20E1-35C9-48CE-B0D7-A3DCF5BC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35284-FB9F-486E-9703-71A5B37E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8E497-A911-4C95-8421-C1D7F03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41415-AC3B-48F1-A1D7-381EA701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80E41-E7C5-46A7-BD29-040A54B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CD77A-08FC-4919-8566-6BE66E3C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369A7-4D09-4537-A064-8D02126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940E9-4009-47AD-9332-3B2003C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F96D3-3381-4947-AEEC-43674F2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166F7-F9C9-48EB-9B55-7006023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6EF-8893-44AA-9F2F-9430395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B3762-A52E-4581-A85A-49AC711F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621A5-45F0-4958-8DD3-B9097403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85222-73CA-459B-A217-9B541EB3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5004D-3653-46F7-BC2F-C37AA2AF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49E62-45C1-49C6-B237-22B99B2D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97A3C-39A5-4721-AF60-5424B50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047C4-472E-45EB-8866-EB04BC3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1A271-8293-459B-AE79-0ECA1BD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871AB-D692-4044-AA8F-A7AC12E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54611-C05A-40D4-8BD4-6A5DBBD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941-4F52-4DDB-86A1-34DC387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97C5B-8EBA-4153-84C8-5814331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53694-B2F7-4159-A04E-63B39005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D2E11-AD34-49AD-B976-1156D47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33246-5280-4C21-AF68-6FAAEC05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C633D-2263-4D2E-AC46-D8E12CDC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D49-ED17-4A6E-8BDD-98BF6EE2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BC0-C895-4D12-8E31-F3337023ADC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3CD1-9D6E-4FBA-BD08-C6C77A2375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A2F-10CC-43DA-B0BA-78306F188F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3B32-C41B-4A1E-B73F-A8D65C6D1B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DFB8-FA77-4964-BCC4-164FF09F5A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DA1-FE4B-48E0-A8B4-A3A7C64A5B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A62C-CD1D-4AC0-9D20-ACDC28CEA7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684360" y="761040"/>
            <a:ext cx="7488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ей семье я говорю: «Спасибо!»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1403280" y="115920"/>
            <a:ext cx="41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емья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6" descr="http://www.tulahouse.ru/files/photos/news_274.jpg"/>
          <p:cNvPicPr/>
          <p:nvPr/>
        </p:nvPicPr>
        <p:blipFill>
          <a:blip r:embed="rId1"/>
          <a:stretch/>
        </p:blipFill>
        <p:spPr>
          <a:xfrm>
            <a:off x="250920" y="1916280"/>
            <a:ext cx="3952800" cy="309708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572000" y="98100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ковый словарь»: семья – группа живущих вместе близких родственни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4572000" y="2060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связывают живущих вместе близких родственников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1116000" y="5457240"/>
            <a:ext cx="77040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 понимает эту пословицу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емья крепка ладом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Лад – согласи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4788000" y="350028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юбовь, нежность, ответственность друг за друг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заимопомощ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68360" y="362160"/>
            <a:ext cx="763272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сказать об отношениях в этой семь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Усталая, с работы                  2. И мать ему с обидой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под вечер м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Промолвил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идит, что у сы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- Сынок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брана кровать,                  Когда-нибудь ты мам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тынет чай в стакане,           Хоть чем-нибудь помог? -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л не подметён,                  А сын ответил хмур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ёжа на диване                     Едва взглянув на мат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 книжку он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мама , про Тимур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ешь мне читать. -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3" descr="http://uploads.ru/i/n/M/3/nM3go.jpg"/>
          <p:cNvPicPr/>
          <p:nvPr/>
        </p:nvPicPr>
        <p:blipFill>
          <a:blip r:embed="rId1"/>
          <a:stretch/>
        </p:blipFill>
        <p:spPr>
          <a:xfrm>
            <a:off x="1908000" y="3668760"/>
            <a:ext cx="4464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539640" y="620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логотип –победитель Всероссийского конкурса, посвящённого году семь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что хотел отразить на этой эмблеме автор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ttp://www.oblivsk.ru/raznoe/god_sem/logo.jpg"/>
          <p:cNvPicPr/>
          <p:nvPr/>
        </p:nvPicPr>
        <p:blipFill>
          <a:blip r:embed="rId1"/>
          <a:stretch/>
        </p:blipFill>
        <p:spPr>
          <a:xfrm>
            <a:off x="2305080" y="2492280"/>
            <a:ext cx="46432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3"/>
          <p:cNvSpPr/>
          <p:nvPr/>
        </p:nvSpPr>
        <p:spPr>
          <a:xfrm>
            <a:off x="1332000" y="508464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 семья вместе, так и душа на месте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мысл пословиц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о своих семейных традиция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3" descr="http://stranamasterov.ru/files/imagecache/orig_with_logo/i1002/CIMG4062.JPG"/>
          <p:cNvPicPr/>
          <p:nvPr/>
        </p:nvPicPr>
        <p:blipFill>
          <a:blip r:embed="rId1"/>
          <a:stretch/>
        </p:blipFill>
        <p:spPr>
          <a:xfrm>
            <a:off x="1908000" y="765000"/>
            <a:ext cx="51120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611280" y="335520"/>
            <a:ext cx="79214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глянем в будущее.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 себя в роли папы (мамы), бабушки (дедушки),      прабабушки (прадедушки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ми вы себя видит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бы вы хотели, чтобы к вам относились ваши близки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память вы оставите потомкам? Чем они могут в будущем гордиться вами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http://img11.nnm.ru/7/a/1/c/d/1bef730a9b84efdc45442ec6495.jpg"/>
          <p:cNvPicPr/>
          <p:nvPr/>
        </p:nvPicPr>
        <p:blipFill>
          <a:blip r:embed="rId1"/>
          <a:stretch/>
        </p:blipFill>
        <p:spPr>
          <a:xfrm>
            <a:off x="3059280" y="2997360"/>
            <a:ext cx="3473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755640" y="6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что вы говорите своей семье:      «Спасибо?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http://msk-opros.ru/_pu/0/91151048.jpg"/>
          <p:cNvPicPr/>
          <p:nvPr/>
        </p:nvPicPr>
        <p:blipFill>
          <a:blip r:embed="rId1"/>
          <a:stretch/>
        </p:blipFill>
        <p:spPr>
          <a:xfrm>
            <a:off x="1187280" y="2079720"/>
            <a:ext cx="6685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250920" y="549360"/>
            <a:ext cx="496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счастье, любовь и удач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летом поездки на дачу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праздник, семейные даты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ки, покупки, приятные трат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детей, первый шаг, первый лепет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чты о хорошем, волнение и трепе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труд, друг о друге забот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много домашней работ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важно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сложно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частливо жить одному невозможно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будьте вместе, любовь берегит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ы и ссоры подальше гонит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, чтоб про нас говорили друзья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3" descr="http://t1.gstatic.com/images?q=tbn:ANd9GcQXxVF0G8RSKPqNw2D87rJgtxvpBIizWHZCLRvRuvPvvNGn9Z8akg&amp;t=1"/>
          <p:cNvPicPr/>
          <p:nvPr/>
        </p:nvPicPr>
        <p:blipFill>
          <a:blip r:embed="rId1"/>
          <a:stretch/>
        </p:blipFill>
        <p:spPr>
          <a:xfrm>
            <a:off x="4932360" y="1052640"/>
            <a:ext cx="33148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media.worldbulletin.net/250x190/2012/08/23/father-children.jpg"/>
          <p:cNvPicPr/>
          <p:nvPr/>
        </p:nvPicPr>
        <p:blipFill>
          <a:blip r:embed="rId1"/>
          <a:stretch/>
        </p:blipFill>
        <p:spPr>
          <a:xfrm>
            <a:off x="826920" y="1557360"/>
            <a:ext cx="7581960" cy="5040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2"/>
          <p:cNvSpPr/>
          <p:nvPr/>
        </p:nvSpPr>
        <p:spPr>
          <a:xfrm>
            <a:off x="1258920" y="62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– надёжная опора семь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static.newsland.ru/news_images/429/big_429713.jpg"/>
          <p:cNvPicPr/>
          <p:nvPr/>
        </p:nvPicPr>
        <p:blipFill>
          <a:blip r:embed="rId1"/>
          <a:stretch/>
        </p:blipFill>
        <p:spPr>
          <a:xfrm>
            <a:off x="2268360" y="3213000"/>
            <a:ext cx="4175280" cy="32576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250920" y="837360"/>
            <a:ext cx="8066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арежки пёстрые вяжет,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песни поет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зку такую расскажет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нится всю ночь напролёт?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оворит: «Какой ты лохматый!                Чьи волосы снега белее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нем пытаясь пригладить вихор?            А руки желты и сухи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ерпеливо вам ставит заплаты,              Кого я люблю и жалею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рвутся штаны о забор?                      О ком сочиняю стихи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оугольник 3"/>
          <p:cNvSpPr/>
          <p:nvPr/>
        </p:nvSpPr>
        <p:spPr>
          <a:xfrm>
            <a:off x="1476360" y="189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Отгадайте, о ком идёт речь в этом стихотворен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www.statusyblog.ru/1/mama_i_doch.jpg"/>
          <p:cNvPicPr/>
          <p:nvPr/>
        </p:nvPicPr>
        <p:blipFill>
          <a:blip r:embed="rId1"/>
          <a:stretch/>
        </p:blipFill>
        <p:spPr>
          <a:xfrm>
            <a:off x="1827360" y="473040"/>
            <a:ext cx="4905360" cy="36036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611280" y="402588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я люблю ее тёплые руки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т никого моей мамы дороже,                                  Тихого голоса нежные звук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кого справедливей и строже,                           С мамой и солнце нам светит сильней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кого моей мамы добрей,                                    Холодно в мире без мамы мо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ковой мамочки милой мо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пожалеет и кто обогреет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и не спит, когда мы болеем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кого в целом мире родне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ы единственной милой мо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yavin.ru/images/stories/family/family2.jpg"/>
          <p:cNvPicPr/>
          <p:nvPr/>
        </p:nvPicPr>
        <p:blipFill>
          <a:blip r:embed="rId1"/>
          <a:stretch/>
        </p:blipFill>
        <p:spPr>
          <a:xfrm>
            <a:off x="2843280" y="1844640"/>
            <a:ext cx="6151320" cy="42483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2"/>
          <p:cNvSpPr/>
          <p:nvPr/>
        </p:nvSpPr>
        <p:spPr>
          <a:xfrm>
            <a:off x="250920" y="40464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мама, бабушка, …     Продолжите этот спис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одним словом назвать перечисленных людей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179280" y="118800"/>
            <a:ext cx="30942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у очень я люблю.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у тоже я люб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мне печёт      ковриж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4643280" y="47628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мне читает книж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мамочка и я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ружная семья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http://angrygirls.ru/wp-content/uploads/2012/06/family2.png"/>
          <p:cNvPicPr/>
          <p:nvPr/>
        </p:nvPicPr>
        <p:blipFill>
          <a:blip r:embed="rId1"/>
          <a:stretch/>
        </p:blipFill>
        <p:spPr>
          <a:xfrm>
            <a:off x="966960" y="2060640"/>
            <a:ext cx="684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0" y="333360"/>
            <a:ext cx="25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бабушку люблю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дедушку люб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им помога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мету и пыль стира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дед и 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 бабушка моя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ружная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http://www.vseodetyah.com/editorfiles/babushka-i-dedushka-01.jpg"/>
          <p:cNvPicPr/>
          <p:nvPr/>
        </p:nvPicPr>
        <p:blipFill>
          <a:blip r:embed="rId1"/>
          <a:stretch/>
        </p:blipFill>
        <p:spPr>
          <a:xfrm>
            <a:off x="2556000" y="1052640"/>
            <a:ext cx="637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79280" y="-647280"/>
            <a:ext cx="1944720" cy="71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стрёнку я люблю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ратишку я любл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ратом плаваем, ныряем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сестрой в снежки играе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дед и я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, брат, сестра моя –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ружная семь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3" descr="http://help4family.ru/wp-content/uploads/2009/06/sibs-2.gif"/>
          <p:cNvPicPr/>
          <p:nvPr/>
        </p:nvPicPr>
        <p:blipFill>
          <a:blip r:embed="rId1"/>
          <a:stretch/>
        </p:blipFill>
        <p:spPr>
          <a:xfrm>
            <a:off x="2239920" y="1052640"/>
            <a:ext cx="63309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1187280" y="18900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воей семье я говорю: «Спасибо!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61128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для вас является семья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понимает эту пословицу?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 без семьи, что баран в мор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http://medicini.info/uploads/posts/2011-11/1322570785_1310040061_semya.jpg"/>
          <p:cNvPicPr/>
          <p:nvPr/>
        </p:nvPicPr>
        <p:blipFill>
          <a:blip r:embed="rId1"/>
          <a:stretch/>
        </p:blipFill>
        <p:spPr>
          <a:xfrm>
            <a:off x="1835280" y="1125360"/>
            <a:ext cx="5155920" cy="38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k-FiliN XP</cp:lastModifiedBy>
  <dcterms:modified xsi:type="dcterms:W3CDTF">2015-11-17T16:02:08Z</dcterms:modified>
  <cp:revision>15</cp:revision>
  <dc:subject/>
  <dc:title>Слайд 1</dc:title>
</cp:coreProperties>
</file>