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A86-8154-44F6-950B-0C99A8F218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ыяснить, за что можно сказать спасибо семье, в которой вы живете ; чем для вас является семья;  можете ли вы гордиться своей семьей, ч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2A0E-512A-462D-81C8-2CF4F1AC1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сня «Любимый пап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ом эта пес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ому так же интересно общаться со своим папой? Поднимите ру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ой ваш пап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6D7-79C0-49F3-963B-5C0768C070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живет вместе с бабуш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часто ездит к ней в г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ая ваша бабушка? Охарактеризуй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вас любит свою бабушку. Когда наступают каникулы и выходные дни – вы едете к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у вас радость – они радуются вместе с вами, если вам грустно, они успокоят, утешат, вместе с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ереживаете свои неудачи. Порой родители не знают о вас то, что знают мудрые бабушки. А какие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ые руки у них, сколько они умеют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2406-6460-4CB8-9BE0-107D42B27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сня «Колыбельная медведиц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то бы мог петь для вас эту песню? Ког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ем для вас является мама? Какая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а с первых дней рождения ребенка согревает его своим теплом, лаской, заботой. Когда вы болеете, рядом с вами мама, когда у вас радость, то и лицо мамы озаряет улыбка, если неприятности, то и у мамы огорченн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0A7-5F92-4647-A680-B0A8C97E51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EAB-CA5B-47AF-90DC-B0596B4E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BFB-25DA-4EF1-81A9-C03432F1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B22-E3C6-4EED-B8EB-4E1CF334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BF5-34F4-417F-9F33-83591154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14A4-368A-4638-845E-715D3E04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E528-75E6-4FF3-A0BA-23D9770F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6602-63AC-4F60-9383-5267FDAB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A576-20F5-4D62-81AD-FA0A0263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5318-F63F-4E52-9AE0-491B3CBF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7B8-D920-4311-9B6B-C856A3D6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11BB-755A-4A50-92A6-8AE2F5F1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197-24AB-4F81-8263-FDAB2A71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BF20-BE29-4091-B9EB-958C7065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8179-BD17-4E14-9AC8-11793C8D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D517-34D5-4C5C-A433-8C1BF7F7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0C6-7806-4336-A4E3-64EC932A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F09E-242F-40EC-9F32-C8CD5BA2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30F17-4052-44A9-A9AD-0A7093A4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8659D-60D9-48E8-A5F6-0CF989E5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16D19-BE19-421D-8048-297BCBDC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13563-F16B-4BBF-9BFA-4F299E4A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245BB-367D-4A7F-91B1-1EF0D6D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279-FA1D-4683-B513-4DD5FA0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8969A-58E8-4C43-9387-F90DA1A5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D4356-E689-4000-9528-596A6D34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E4542-AA3E-46F8-9EA8-BA6695E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C6B14-9A1F-4DBE-AD0E-38C982B0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4987A-DAA0-4EB7-BB75-DED3372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43DC1-2270-4B4E-BBD7-FC7407C1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65817-C551-41AA-BA45-1E6EAC2E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E91B-B9CA-4085-B229-9E2C84FA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1DEC-9A57-4D62-84AC-5B9F974E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C8A2F-3777-43E5-9680-3A38489F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95C-A639-4983-A6A8-A2DA4BBA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F15A-4BFF-4AEC-AB91-B6A60F67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A7D5-D2E8-4C67-B3F3-6BDCC7AC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4E54-30B6-492B-AEA3-2C1DAEFF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C052-3363-42FE-BBD0-DF39797F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9ABF-B9A5-4899-AF05-1BBB22DE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26DA-FE59-4D78-935F-508810E4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F1CD-601E-43B3-B199-F0F8FE64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1E4E-BA42-4755-B394-2B60E2DA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F04D-B4FE-4C42-9B8F-59B8071E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C56D6-6E72-4DC6-BF1D-3E1F8ED4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B69-6D0F-4E0E-B8FC-E5ADBD93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BFC1A-D334-4FBF-8C9D-738C39A2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5417D-AA73-4FA6-AC86-327A74A0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2BD3D-5B6D-4C14-8CD7-04CC49DF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06B95-CF4C-48C3-A138-C534C7FE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4A276-E694-4CC0-AAFA-26138AE6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DE98D-6BCC-46DA-9A04-8E9A82C5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E51C6-2584-4CCF-8186-A9D6FDB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818A9-A63F-41F9-AFB3-F7D7AF65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0CD01C-D403-4114-A5F7-C9921247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5551B-0B1E-4CC3-A981-D67AF138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C8A-43A1-44EE-AA39-AC070150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136E56-350B-493F-9963-27BD282B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38B64-9C00-45D0-AF9D-FD57367D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FE04E-5BD8-4379-9DD4-A823479A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4AE66-A095-40DE-B3A8-0023F0A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3F71E8-C2B4-4084-B6EF-5523A83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9A152-DB75-45E9-9E0D-4EEB171C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F19BA-96FE-4548-8136-A078FF48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C7D2E-368D-4729-8CCA-E7DB25F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DA8BD4-E64C-4309-9E26-459521D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31C95B-D05D-4A54-8F5B-DE7095C2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DD0-F32B-48D4-8F6B-602DB81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D3F39-B6F6-4414-B6D1-2A7AF9D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04972-E201-4C4B-8852-F5318B62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205AC-08EE-45D2-A0EF-8A3B3390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259BA-8A11-44C9-99DE-F756E060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183F8-BEDA-4D2E-94E7-7755CD43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00015-78D2-415C-82C9-23F91A5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11561F-4F23-4945-BF97-BB83CAB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39E4B4-4090-4027-AA09-C423C96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3B65E-B091-4937-BD3B-8CC23F26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FE93D-393D-48E3-984D-9CDB901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1D5-A6D6-4D20-8AE4-4A5FAC19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E1D0A-527E-43E3-8CD7-A8BF91B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970B0-CAEB-4122-8AB1-36606FF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774B0-F82B-421E-9776-A1F70523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B4DE9D-71D0-4BEF-92C7-515F05C2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66106-F5AE-42D6-A7DF-D82E574D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B4A-AA5D-4B0B-BE1C-4106F81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657-35A3-4FDD-9D54-85F32D0FEFD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83B7-FD17-4F8B-A9FD-DFE24BE9DC3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E469-4B86-460D-A884-09E7C7FB85D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C1C-FA51-4AE0-A710-4024F82682C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DDE4-B6B4-4608-AC25-654166CD112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5104-6AC5-4AD6-9560-40028FA1F10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5DF9-F84B-4397-A75F-97FCE6F54BE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684360" y="761040"/>
            <a:ext cx="7488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ей семье я говорю: «Спасибо!»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1403280" y="115920"/>
            <a:ext cx="41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емья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6" descr="http://www.tulahouse.ru/files/photos/news_274.jpg"/>
          <p:cNvPicPr/>
          <p:nvPr/>
        </p:nvPicPr>
        <p:blipFill>
          <a:blip r:embed="rId1"/>
          <a:stretch/>
        </p:blipFill>
        <p:spPr>
          <a:xfrm>
            <a:off x="250920" y="1916280"/>
            <a:ext cx="3952800" cy="309708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5"/>
          <p:cNvSpPr/>
          <p:nvPr/>
        </p:nvSpPr>
        <p:spPr>
          <a:xfrm>
            <a:off x="4572000" y="981000"/>
            <a:ext cx="43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ковый словарь»: семья – группа живущих вместе близких родственник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4572000" y="2060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увства связывают живущих вместе близких родственников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1116000" y="5457240"/>
            <a:ext cx="77040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 понимает эту пословицу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емья крепка ладом.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Лад – согласи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4788000" y="350028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юбовь, нежность, ответственность друг за друг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заимопомощи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468360" y="362160"/>
            <a:ext cx="763272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сказать об отношениях в этой семь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Усталая, с работы                  2. И мать ему с обидой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а под вечер ма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Промолвил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идит, что у сын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- Сынок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брана кровать,                  Когда-нибудь ты мам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тынет чай в стакане,           Хоть чем-нибудь помог? -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л не подметён,                  А сын ответил хмуро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ёжа на диване                     Едва взглянув на мать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т книжку он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, мама , про Тимура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ешь мне читать. -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4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3" descr="http://uploads.ru/i/n/M/3/nM3go.jpg"/>
          <p:cNvPicPr/>
          <p:nvPr/>
        </p:nvPicPr>
        <p:blipFill>
          <a:blip r:embed="rId1"/>
          <a:stretch/>
        </p:blipFill>
        <p:spPr>
          <a:xfrm>
            <a:off x="1908000" y="3668760"/>
            <a:ext cx="44643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Прямоугольник 1"/>
          <p:cNvSpPr/>
          <p:nvPr/>
        </p:nvSpPr>
        <p:spPr>
          <a:xfrm>
            <a:off x="539640" y="6206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логотип –победитель Всероссийского конкурса, посвящённого году семь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что хотел отразить на этой эмблеме автор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ttp://www.oblivsk.ru/raznoe/god_sem/logo.jpg"/>
          <p:cNvPicPr/>
          <p:nvPr/>
        </p:nvPicPr>
        <p:blipFill>
          <a:blip r:embed="rId1"/>
          <a:stretch/>
        </p:blipFill>
        <p:spPr>
          <a:xfrm>
            <a:off x="2305080" y="2492280"/>
            <a:ext cx="46432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Прямоугольник 3"/>
          <p:cNvSpPr/>
          <p:nvPr/>
        </p:nvSpPr>
        <p:spPr>
          <a:xfrm>
            <a:off x="1332000" y="508464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 семья вместе, так и душа на месте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смысл пословиц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о своих семейных традициях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3" descr="http://stranamasterov.ru/files/imagecache/orig_with_logo/i1002/CIMG4062.JPG"/>
          <p:cNvPicPr/>
          <p:nvPr/>
        </p:nvPicPr>
        <p:blipFill>
          <a:blip r:embed="rId1"/>
          <a:stretch/>
        </p:blipFill>
        <p:spPr>
          <a:xfrm>
            <a:off x="1908000" y="765000"/>
            <a:ext cx="51120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611280" y="335520"/>
            <a:ext cx="79214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глянем в будущее.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те себя в роли папы (мамы), бабушки (дедушки),      прабабушки (прадедушки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ми вы себя видит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бы вы хотели, чтобы к вам относились ваши близкие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память вы оставите потомкам? Чем они могут в будущем гордиться вами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http://img11.nnm.ru/7/a/1/c/d/1bef730a9b84efdc45442ec6495.jpg"/>
          <p:cNvPicPr/>
          <p:nvPr/>
        </p:nvPicPr>
        <p:blipFill>
          <a:blip r:embed="rId1"/>
          <a:stretch/>
        </p:blipFill>
        <p:spPr>
          <a:xfrm>
            <a:off x="3059280" y="2997360"/>
            <a:ext cx="34732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755640" y="692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что вы говорите своей семье:      «Спасибо?»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http://msk-opros.ru/_pu/0/91151048.jpg"/>
          <p:cNvPicPr/>
          <p:nvPr/>
        </p:nvPicPr>
        <p:blipFill>
          <a:blip r:embed="rId1"/>
          <a:stretch/>
        </p:blipFill>
        <p:spPr>
          <a:xfrm>
            <a:off x="1187280" y="2079720"/>
            <a:ext cx="66852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оугольник 1"/>
          <p:cNvSpPr/>
          <p:nvPr/>
        </p:nvSpPr>
        <p:spPr>
          <a:xfrm>
            <a:off x="250920" y="549360"/>
            <a:ext cx="496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счастье, любовь и удач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летом поездки на дачу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праздник, семейные даты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ки, покупки, приятные траты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детей, первый шаг, первый лепет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чты о хорошем, волнение и трепет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труд, друг о друге забот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много домашней работы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важно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это сложно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частливо жить одному невозможно!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будьте вместе, любовь берегит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ды и ссоры подальше гонит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у, чтоб про нас говорили друзья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3" descr="http://t1.gstatic.com/images?q=tbn:ANd9GcQXxVF0G8RSKPqNw2D87rJgtxvpBIizWHZCLRvRuvPvvNGn9Z8akg&amp;t=1"/>
          <p:cNvPicPr/>
          <p:nvPr/>
        </p:nvPicPr>
        <p:blipFill>
          <a:blip r:embed="rId1"/>
          <a:stretch/>
        </p:blipFill>
        <p:spPr>
          <a:xfrm>
            <a:off x="4932360" y="1052640"/>
            <a:ext cx="33148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media.worldbulletin.net/250x190/2012/08/23/father-children.jpg"/>
          <p:cNvPicPr/>
          <p:nvPr/>
        </p:nvPicPr>
        <p:blipFill>
          <a:blip r:embed="rId1"/>
          <a:stretch/>
        </p:blipFill>
        <p:spPr>
          <a:xfrm>
            <a:off x="826920" y="1557360"/>
            <a:ext cx="7581960" cy="504036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2"/>
          <p:cNvSpPr/>
          <p:nvPr/>
        </p:nvSpPr>
        <p:spPr>
          <a:xfrm>
            <a:off x="1258920" y="620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– надёжная опора семь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ttp://static.newsland.ru/news_images/429/big_429713.jpg"/>
          <p:cNvPicPr/>
          <p:nvPr/>
        </p:nvPicPr>
        <p:blipFill>
          <a:blip r:embed="rId1"/>
          <a:stretch/>
        </p:blipFill>
        <p:spPr>
          <a:xfrm>
            <a:off x="2268360" y="3213000"/>
            <a:ext cx="4175280" cy="325764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3"/>
          <p:cNvSpPr/>
          <p:nvPr/>
        </p:nvSpPr>
        <p:spPr>
          <a:xfrm>
            <a:off x="250920" y="837360"/>
            <a:ext cx="8066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арежки пёстрые вяжет,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ые песни поет?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казку такую расскажет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нится всю ночь напролёт?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говорит: «Какой ты лохматый!                Чьи волосы снега белее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нем пытаясь пригладить вихор?            А руки желты и сухи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терпеливо вам ставит заплаты,              Кого я люблю и жалею,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60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орвутся штаны о забор?                      О ком сочиняю стихи?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оугольник 3"/>
          <p:cNvSpPr/>
          <p:nvPr/>
        </p:nvSpPr>
        <p:spPr>
          <a:xfrm>
            <a:off x="1476360" y="189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Отгадайте, о ком идёт речь в этом стихотворени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www.statusyblog.ru/1/mama_i_doch.jpg"/>
          <p:cNvPicPr/>
          <p:nvPr/>
        </p:nvPicPr>
        <p:blipFill>
          <a:blip r:embed="rId1"/>
          <a:stretch/>
        </p:blipFill>
        <p:spPr>
          <a:xfrm>
            <a:off x="1827360" y="473040"/>
            <a:ext cx="4905360" cy="36036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611280" y="4025880"/>
            <a:ext cx="799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я люблю ее тёплые руки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т никого моей мамы дороже,                                  Тихого голоса нежные звук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кого справедливей и строже,                           С мамой и солнце нам светит сильней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кого моей мамы добрей,                                    Холодно в мире без мамы мо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сковой мамочки милой мо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пожалеет и кто обогреет,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и не спит, когда мы болеем?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кого в целом мире родней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ы единственной милой мое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yavin.ru/images/stories/family/family2.jpg"/>
          <p:cNvPicPr/>
          <p:nvPr/>
        </p:nvPicPr>
        <p:blipFill>
          <a:blip r:embed="rId1"/>
          <a:stretch/>
        </p:blipFill>
        <p:spPr>
          <a:xfrm>
            <a:off x="2843280" y="1844640"/>
            <a:ext cx="6151320" cy="42483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2"/>
          <p:cNvSpPr/>
          <p:nvPr/>
        </p:nvSpPr>
        <p:spPr>
          <a:xfrm>
            <a:off x="250920" y="40464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, мама, бабушка, …     Продолжите этот список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одним словом назвать перечисленных людей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179280" y="118800"/>
            <a:ext cx="30942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у очень я люблю.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у тоже я любл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мне печёт      коврижк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Прямоугольник 3"/>
          <p:cNvSpPr/>
          <p:nvPr/>
        </p:nvSpPr>
        <p:spPr>
          <a:xfrm>
            <a:off x="4643280" y="47628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мне читает книжк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, мамочка и я -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ружная семья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3" descr="http://angrygirls.ru/wp-content/uploads/2012/06/family2.png"/>
          <p:cNvPicPr/>
          <p:nvPr/>
        </p:nvPicPr>
        <p:blipFill>
          <a:blip r:embed="rId1"/>
          <a:stretch/>
        </p:blipFill>
        <p:spPr>
          <a:xfrm>
            <a:off x="966960" y="2060640"/>
            <a:ext cx="6840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рямоугольник 1"/>
          <p:cNvSpPr/>
          <p:nvPr/>
        </p:nvSpPr>
        <p:spPr>
          <a:xfrm>
            <a:off x="0" y="333360"/>
            <a:ext cx="2556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бабушку люблю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 дедушку любл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им помога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мету и пыль стира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дед и 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 бабушка моя –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ружная семья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http://www.vseodetyah.com/editorfiles/babushka-i-dedushka-01.jpg"/>
          <p:cNvPicPr/>
          <p:nvPr/>
        </p:nvPicPr>
        <p:blipFill>
          <a:blip r:embed="rId1"/>
          <a:stretch/>
        </p:blipFill>
        <p:spPr>
          <a:xfrm>
            <a:off x="2556000" y="1052640"/>
            <a:ext cx="6372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79280" y="-647280"/>
            <a:ext cx="1944720" cy="71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стрёнку я люблю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ратишку я любл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ратом плаваем, ныряем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 сестрой в снежки играе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папа, дед и я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, брат, сестра моя –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дружная семья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38160"/>
                <a:tab algn="l" pos="295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3" descr="http://help4family.ru/wp-content/uploads/2009/06/sibs-2.gif"/>
          <p:cNvPicPr/>
          <p:nvPr/>
        </p:nvPicPr>
        <p:blipFill>
          <a:blip r:embed="rId1"/>
          <a:stretch/>
        </p:blipFill>
        <p:spPr>
          <a:xfrm>
            <a:off x="2239920" y="1052640"/>
            <a:ext cx="63309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Прямоугольник 1"/>
          <p:cNvSpPr/>
          <p:nvPr/>
        </p:nvSpPr>
        <p:spPr>
          <a:xfrm>
            <a:off x="1187280" y="18900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воей семье я говорю: «Спасибо!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Прямоугольник 2"/>
          <p:cNvSpPr/>
          <p:nvPr/>
        </p:nvSpPr>
        <p:spPr>
          <a:xfrm>
            <a:off x="61128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для вас является семья?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понимает эту пословицу?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овек без семьи, что баран в мор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http://medicini.info/uploads/posts/2011-11/1322570785_1310040061_semya.jpg"/>
          <p:cNvPicPr/>
          <p:nvPr/>
        </p:nvPicPr>
        <p:blipFill>
          <a:blip r:embed="rId1"/>
          <a:stretch/>
        </p:blipFill>
        <p:spPr>
          <a:xfrm>
            <a:off x="1835280" y="1125360"/>
            <a:ext cx="5155920" cy="38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rk-FiliN XP</cp:lastModifiedBy>
  <dcterms:modified xsi:type="dcterms:W3CDTF">2015-11-17T16:02:08Z</dcterms:modified>
  <cp:revision>15</cp:revision>
  <dc:subject/>
  <dc:title>Слайд 1</dc:title>
</cp:coreProperties>
</file>