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4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3.jpeg" ContentType="image/jpeg"/>
  <Override PartName="/ppt/media/image27.png" ContentType="image/pn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8E3-BA69-464E-B78D-18ADD39B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92BE-2C5D-4279-8211-7274E459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78DD-21AD-493A-9B66-AFAEB776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17AB-7B4D-4D74-AC17-7354D9C4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B4B91-59BF-4734-8A23-9557FD01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A9141-5C9E-448E-BE17-B963DFAB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FCB14-7CD4-466E-9B55-7530C076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FDD4E-7980-41F5-A4F6-CACC67E6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EE469-E9CE-45AA-A423-3C5A6CFE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C0E91-9AAC-4B41-A89B-EF0125AA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7FE6F-5933-4FA0-8D90-5AA81F04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525-19A5-4A9B-84AF-5E2B3D5E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BC73D-D075-4688-AC83-C54647DC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692D2-E8F5-4202-BF1F-4D3678D9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58BCA-CFFF-459B-9D13-E89F8F9A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71DF5-470D-4C6F-8F65-3FFF6C0A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63E99-0CA5-414D-8FE5-46737417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7BCF-D180-46F9-B1C9-0CE52D00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73D7-20ED-445B-BFE9-4B8C76E3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85A6-6FE8-4777-B515-77383D46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642-6EDF-4228-9884-6DAAEACB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348C-9430-4C07-9C17-CA353FA0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3E7C-67B8-46FE-9160-FD07EBB3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54DA-0731-4D03-AFDD-99DC9B0A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560A-895E-46CA-80F9-4828B1E3B3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A2F3-79FA-46D2-BA63-5731028B49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959280" cy="633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53276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История</a:t>
            </a:r>
            <a:br>
              <a:rPr sz="4400"/>
            </a:b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787640" y="2276280"/>
            <a:ext cx="38876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Tahoma"/>
              </a:rPr>
              <a:t>Цель: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ознакомление старших дошкольников с первоначальными сведениями об истории олимпийского движения древности и современности как достижения общечеловеческой культу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вушка поднимает факел над головой и замирает. Её подруги опускают правые руки к земле, принося торжественную клят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332000" y="1125360"/>
            <a:ext cx="6335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 девушке подходит атлет. Юноша принимает факел и в сопровождении группы бегунов отправляется в пу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763640" y="1125360"/>
            <a:ext cx="53294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О спорт! Ты – наслаждение</a:t>
            </a: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 всем дорогам Греции люди спешили на празднества в Олимпию. Некоторые ехали верхом или на повозках, но большинство народа шло просто пешком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19280" y="1214280"/>
            <a:ext cx="568944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 спорт! Ты – зодчий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507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отя в празднествах принимали участие и присутствовали только мужчины, все равно число гостей измерялось многими тысячами. Олимпийский стадион, где происходил бег и другие гимнастические упражнения, вмещал 40 тысяч человек и был всегда переполнен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908000" y="1268280"/>
            <a:ext cx="5328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ahoma"/>
              </a:rPr>
              <a:t>О спорт! Ты – справедливость</a:t>
            </a: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утник, попавший в Олимпию после долгих дней пути, оглушен шумом многотысячной толпы, наполняющей священную рощу и достопримечательные места: храмы, жертвенники, стадион, ипподромы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538280" y="1143000"/>
            <a:ext cx="60674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О спорт! Ты – вызов</a:t>
            </a: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ступает первый ден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гр. Он открывает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стязаниями в бег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 восходе солнц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даемся звук трубы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удьи и руководител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стязаний в пурпуров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деяниях переходя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ерез все поле на глазах у тысяч зрителей и занимают специально отведенные для них места возле старта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48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О спорт! Ты – благородство</a:t>
            </a: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сле бега начинает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орьб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уществовал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сколько видо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орьбы: самый просто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 них заключался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ом, что противник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ходили друг проти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руга с голыми рука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4319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О спорт! Ты – радость</a:t>
            </a: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торой день состязани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чинается с пятиборья.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го входят, кроме бега 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орьбы, метание диска, копь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прыжки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3195720" cy="5211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724360" y="2997360"/>
            <a:ext cx="3165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ahoma"/>
              </a:rPr>
              <a:t>О спорт! Ты – плодотворность</a:t>
            </a:r>
            <a:r>
              <a:rPr b="1" i="1" lang="en-US" sz="28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следний день игр посвящается состязаниям на ипподроме. Самым старинным и излюбленным видом этих состязании были бега колесниц, запряженных четверкой лошадей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619280" y="1197000"/>
            <a:ext cx="5689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О спорт! Ты – прогресс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перь состязания окончены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днако празднество этим н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вершается, наступает один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 самых торжественн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оментов — раздача наград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лашатаи снова торжественн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бъявляют имен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бедителей в отдельн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ревнован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дача наград происходит у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рама Зевса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80988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История Олимпиа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Создать у детей представления об олимпийских играх как мирного соревнования в целях физического совершенствования людей, в котором участвуют народы всего ми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Ознакомить дошкольников с доступными для детей этого возраста сведения из истории олимпийского дви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Способствовать формированию у детей интереса к занятиям физическими упражнениями через нравственный и эстетический опыт олимп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 спорт! Ты – мир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чинает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оржественное шествие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переди идут судьи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тем новы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оники в ярки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ветных одеждах, с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нками на головах,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уках они держа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альмовые ветв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бедитель олимпийских игр всю жизнь оставался почитаемым человеком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4535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пятнадцать столетий Олимпия вообще как бы исчезла с лица зем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же само её название было забыто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всё же Олимпийские игры яркой звездой горели в памяти человечества. Свет этой звезды прошел сквозь века и вспыхнул с новой сил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6350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ужен был человек, которы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ыл бы предан иде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такой человек нашел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го звали Пьер де Куберт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н был совсем молоды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еловеком, когда высказа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нение о возрождени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х иг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шли столетия, и Олимпийские игры теперь благодаря ему – самый яркий праздник человеч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35989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ремена меняются, и мы меняемся вместе с ними, как говорили древние римляне… Каков же он, современный олимпийский символ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 ведь его знает всякий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пять переплетенных колец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6337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16000" y="1773360"/>
            <a:ext cx="674388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 планете, в нашем мире,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ять жилых материков.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Шлют спортивные отряды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 призыв Олимпиады.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вет травы, зелены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вет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 Австралии при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47512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востоке рано-ра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лнце окна золот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тому-то желтый цвет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Это Азии привет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7973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нают все, что черны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вет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нойной Афри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4680000" cy="52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Америке негож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ыть без собственн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м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расный цвет – ва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шлет при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8927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 Европы дружбы троп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 нам спешат – препятстви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т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 какой же цвет Европ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лубой Европы ц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608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26792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истории возникновени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х иг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ревности немал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ясностей, а поро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легенд и мифов. Н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есспорно, что родино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х иг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является Древня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реция, а именно почитаемое греками святилище Олимпия. Здесь у подножия горы Кронос, в дали реки Алфей, до сих пор зажигается олимпийской огонь современных Иг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сюда начинается факельная эстафет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395280" y="1268280"/>
            <a:ext cx="4608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6300720" cy="3167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ять колец, пять кругов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нак пяти матер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нак, который означа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о, что спорт, как общий друг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се народы приглаша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свой всемирный, мирный кру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Легенды разные, но во всех случая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ворится о том, что Герак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считал шестьсот стоп – расстояни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один стад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сюда и пошло название стадио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ам Геракл принял участие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стязаниях по бегу на одну стадию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в память о своей победе посади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берегу реки Алфей куст оливы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тками которой награждалис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том Олимпийские чемпио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2808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е игры проводились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«священном» для древних греко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круге Альтис, который называл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акже Олимп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рдостью всей Олимпии был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атуя Зевса, находящаяся в храм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евса Олимпийс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вестно, что маленьки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сударства Пелопоннеса постоянн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евали друг с другом. Разорялис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рода, гибли плоды человеческог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ру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ремление людей к миру было заложено в идее олимпиа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273528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 востока от Альтис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мыкал стадион, южне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сположен ипподром. К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паду от Альтиса начиналис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стройки, предназначенны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ля атлетов – жилища, 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акже купальни и ба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се эти здания подолгу стоял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устыми. Ничто не нарушал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ишины священного округ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о каждый пятый год, по мере приближения праздника Зевса, повседневная жизнь Олимпии резко менялась. Все готовились к любимейшему празднику – Олимпийским игр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 всем греческим города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ъезжали специальные послы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ни сообщали о дне предстоящег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ликого празднества — знаменит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х играх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н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возглашали условия священног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ира, который объявлялся на врем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азднест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сякие военные действия, где бы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ни ни происходили, немедленн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кращалис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664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центрально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адионе город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столицы Олимпиады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жигает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й огон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является групп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вушек в белоснежн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нтичных туниках. Одн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 молодых гречанок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ржит в руке факел. В сопровождении подруг она подходит к зеркальной линз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324000" y="1268280"/>
            <a:ext cx="4679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йманные линзой солнечные лучи направляются на факе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инута и показывается лёгкий дым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щё мгновение – и вспыхивает плам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258920" y="1125360"/>
            <a:ext cx="6265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5T09:57:47Z</dcterms:created>
  <dc:creator>User</dc:creator>
  <dc:description/>
  <dc:language>en-US</dc:language>
  <cp:lastModifiedBy>User</cp:lastModifiedBy>
  <dcterms:modified xsi:type="dcterms:W3CDTF">2011-09-28T17:10:50Z</dcterms:modified>
  <cp:revision>9</cp:revision>
  <dc:subject/>
  <dc:title>Слайд 1</dc:title>
</cp:coreProperties>
</file>