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3.jpeg" ContentType="image/jpeg"/>
  <Override PartName="/ppt/media/image27.png" ContentType="image/pn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1FC4-2A25-4A16-B973-9600DE4D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2F52-2A01-4CFF-8F97-460B2804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50CB-C73A-4CCE-A039-83C3F2AE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B41-A30F-4B0F-AB63-C69F7756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969A8-B1D5-45FE-B3E8-896DEC10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8A8C4-286C-45F5-AF45-29148C28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1DC85-FCEE-4FA6-ABDB-416BE1E3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0F790-904F-4393-AE89-8414F4CB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2D6B3-BF6E-4794-8D4D-6EE548EB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C4990-A0BE-4185-8A62-73D64AB8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2E2DD-42AF-4313-B884-FF3A3405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8FA-875F-49AB-A2F4-2333B730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0EB72-BD62-4DD6-9990-E9CFBD47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B0471-862F-4B5C-A42F-BA06A9C4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448A9-FA4B-4AD9-B2DD-F556C552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02142-34DD-4576-B243-DC437AD8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7D2B9-970D-4B2E-96D4-31B6F514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3BCD-2EE3-439A-A198-9CE9B371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15F-C2E9-4F2E-B1D9-C9B0F105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D513-4E4E-4970-B475-51FA5F8B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BC4-B319-4481-B6C2-4C01A125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5D8-B5F2-404E-8E8F-2BCAC3BA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3D0-C6C4-4CF0-B8E0-ED6F5CE6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CB6-1EF8-4B30-A9E6-15B4319D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0628-2B5D-43A9-A0AE-AFE8D15EE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AFDC-B02B-4CD9-A4C5-D95853D86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959280" cy="633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53276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История</a:t>
            </a:r>
            <a:br>
              <a:rPr sz="4400"/>
            </a:b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787640" y="2276280"/>
            <a:ext cx="38876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Цель: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ознакомление старших дошкольников с первоначальными сведениями об истории олимпийского движения древности и современности как достижения общечеловеческой культу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вушка поднимает факел над головой и замирает. Её подруги опускают правые руки к земле, принося торжественную клят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332000" y="1125360"/>
            <a:ext cx="6335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 девушке подходит атлет. Юноша принимает факел и в сопровождении группы бегунов отправляется в пу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763640" y="1125360"/>
            <a:ext cx="53294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наслаждение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 всем дорогам Греции люди спешили на празднества в Олимпию. Некоторые ехали верхом или на повозках, но большинство народа шло просто пешком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19280" y="1214280"/>
            <a:ext cx="568944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 спорт! Ты – зодчий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507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отя в празднествах принимали участие и присутствовали только мужчины, все равно число гостей измерялось многими тысячами. Олимпийский стадион, где происходил бег и другие гимнастические упражнения, вмещал 40 тысяч человек и был всегда переполнен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908000" y="1268280"/>
            <a:ext cx="5328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ahoma"/>
              </a:rPr>
              <a:t>О спорт! Ты – справедливость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утник, попавший в Олимпию после долгих дней пути, оглушен шумом многотысячной толпы, наполняющей священную рощу и достопримечательные места: храмы, жертвенники, стадион, ипподромы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538280" y="1143000"/>
            <a:ext cx="60674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вызов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ступает первый ден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гр. Он открывае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стязаниями в бег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 восходе солнц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даемся звук трубы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дьи и руководител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стязаний в пурпуров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деяниях переходя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ерез все поле на глазах у тысяч зрителей и занимают специально отведенные для них места возле старта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89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благородство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ле бега начинае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рьб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ществовал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сколько видо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рьбы: самый просто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них заключался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ом, что противник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ходили друг проти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руга с голыми рука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4319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радость</a:t>
            </a: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торой день состязани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чинается с пятиборья.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го входят, кроме бега 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рьбы, метание диска, копь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прыжк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195720" cy="521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724360" y="2997360"/>
            <a:ext cx="3165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ahoma"/>
              </a:rPr>
              <a:t>О спорт! Ты – плодотворность</a:t>
            </a:r>
            <a:r>
              <a:rPr b="1" i="1" lang="en-US" sz="2800" spc="-1" strike="noStrike">
                <a:solidFill>
                  <a:srgbClr val="0066ff"/>
                </a:solidFill>
                <a:latin typeface="Tahom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ледний день игр посвящается состязаниям на ипподроме. Самым старинным и излюбленным видом этих состязании были бега колесниц, запряженных четверкой лошадей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619280" y="1197000"/>
            <a:ext cx="5689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О спорт! Ты – прогресс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перь состязания окончены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днако празднество этим н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вершается, наступает один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самых торжественн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ментов — раздача наград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лашатаи снова торжественн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бъявляют имен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бедителей в отдельн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ревнования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дача наград происходит у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рама Зевса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80988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История Олимпиа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ahoma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Создать у детей представления об олимпийских играх как мирного соревнования в целях физического совершенствования людей, в котором участвуют народы всего ми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Ознакомить дошкольников с доступными для детей этого возраста сведения из истории олимпийского дви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Способствовать формированию у детей интереса к занятиям физическими упражнениями через нравственный и эстетический опыт олимп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 спорт! Ты – мир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чинае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оржественное шествие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переди идут судьи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тем новы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оники в ярки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ветных одеждах, 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нками на головах,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уках они держа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альмовые ветв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бедитель олимпийских игр всю жизнь оставался почитаемым человеком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4535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пятнадцать столетий Олимпия вообще как бы исчезла с лица зем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же само её название было забыт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всё же Олимпийские игры яркой звездой горели в памяти человечества. Свет этой звезды прошел сквозь века и вспыхнул с новой сил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6350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ужен был человек, которы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ыл бы предан иде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такой человек нашел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го звали Пьер де Куберт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н был совсем молоды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еловеком, когда высказа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нение о возрождени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х иг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шли столетия, и Олимпийские игры теперь благодаря ему – самый яркий праздник челове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35989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ремена меняются, и мы меняемся вместе с ними, как говорили древние римляне… Каков же он, современный олимпийский симво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 ведь его знает всякий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пять переплетенных колец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03280" y="1052640"/>
            <a:ext cx="6337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16000" y="1773360"/>
            <a:ext cx="674388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планете, в нашем мире,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ять жилых материков.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Шлют спортивные отряды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 призыв Олимпиады.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вет травы, зелены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Австралии 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47512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востоке рано-ра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лнце окна золот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тому-то желтый 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Это Азии приве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7973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ают все, что черны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вет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ойной Афри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4680000" cy="52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Америке него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ыть без собственн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м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расный цвет – ва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шлет при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8927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Европы дружбы троп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 нам спешат – препятстви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т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 какой же цвет Европ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лубой Европы цв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608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26792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истории возникновени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х иг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ревности немал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ясностей, а поро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легенд и мифов. Н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есспорно, что родино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х иг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является Древня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реция, а именно почитаемое греками святилище Олимпия. Здесь у подножия горы Кронос, в дали реки Алфей, до сих пор зажигается олимпийской огонь современных Иг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сюда начинается факельная эстафет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395280" y="1268280"/>
            <a:ext cx="4608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300720" cy="31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ять колец, пять кругов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ак пяти матер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нак, который означа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о, что спорт, как общий друг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се народы приглаша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свой всемирный, мирный кру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Легенды разные, но во всех случая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ворится о том, что Герак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считал шестьсот стоп – расстояни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один стад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сюда и пошло название стадио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ам Геракл принял участие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стязаниях по бегу на одну стадию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в память о своей победе посади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берегу реки Алфей куст оливы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тками которой награждалис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том Олимпийские чемпио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2808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е игры проводились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«священном» для древних греко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круге Альтис, который называл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акже Олимп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рдостью всей Олимпии был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атуя Зевса, находящаяся в храм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евса Олимпийс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вестно, что маленьки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сударства Пелопоннеса постоянн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евали друг с другом. Разорялис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рода, гибли плоды человеческог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ру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ремление людей к миру было заложено в идее олимпиа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73528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 востока от Альтис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мыкал стадион, южне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положен ипподром. 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паду от Альтиса начинались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тройки, предназначенны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ля атлетов – жилища, 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акже купальни и ба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се эти здания подолгу стоял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устыми. Ничто не нарушал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ишины священного округ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о каждый пятый год, по мере приближения праздника Зевса, повседневная жизнь Олимпии резко менялась. Все готовились к любимейшему празднику – Олимпийским игр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 всем греческим города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ъезжали специальные послы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ни сообщали о дне предстоящег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ликого празднества — знаменит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х играх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н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возглашали условия священног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ира, который объявлялся на врем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азднест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сякие военные действия, где бы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ни ни происходили, немедленн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кращалис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664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центрально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адионе город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столицы Олимпиады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жигаетс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импийский ого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является групп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вушек в белоснежных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нтичных туниках. Одн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 молодых гречанок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ржит в руке факел. В сопровождении подруг она подходит к зеркальной линз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324000" y="1268280"/>
            <a:ext cx="4679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ff"/>
                </a:solidFill>
                <a:latin typeface="Tahoma"/>
              </a:rPr>
              <a:t>Олимпиа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йманные линзой солнечные лучи направляются на фак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инута и показывается лёгкий дым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Ещё мгновение – и вспыхивает плам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258920" y="1125360"/>
            <a:ext cx="6265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09:57:47Z</dcterms:created>
  <dc:creator>User</dc:creator>
  <dc:description/>
  <dc:language>en-US</dc:language>
  <cp:lastModifiedBy>User</cp:lastModifiedBy>
  <dcterms:modified xsi:type="dcterms:W3CDTF">2011-09-28T17:10:50Z</dcterms:modified>
  <cp:revision>9</cp:revision>
  <dc:subject/>
  <dc:title>Слайд 1</dc:title>
</cp:coreProperties>
</file>