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1.png" ContentType="image/png"/>
  <Override PartName="/ppt/media/image4.png" ContentType="image/png"/>
  <Override PartName="/ppt/media/image13.jpeg" ContentType="image/jpeg"/>
  <Override PartName="/ppt/media/image19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4702DE-DC1E-46E0-B271-1B6346937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DEC5A-EBD5-495A-BA45-0BB1E21C4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33362-7C76-4451-81C7-FA5394B49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6C3E5-6508-4468-8259-5C9701686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04E9A-0022-484D-B6B8-944457F79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21848-0983-4AEC-A695-3BEB5EB32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85EFF-7E35-4D07-AD4B-A74C00527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F1025-6EC7-411E-AC70-ECBDAA79B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61D68-B2DC-4617-BA24-C2371198C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F3A1B5-7A7B-49F3-A99B-D1AB12199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68175-ECB5-4B51-96F4-7C4FFDE89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9540F-30D0-45B9-9902-517FDE227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C443A-8DF2-4F57-9C6D-3431ACAF6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2C393-2B0C-4BAB-A8D9-39CBEA09B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263F5-FC0E-4239-96E4-EFB378AB7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49E39-FF56-4D10-8240-B75ECFA42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9C2FD-212E-4CAE-A52E-C7B1371EB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320E9-E222-4289-93F1-BC34844BC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16545-5050-4BBC-9D4F-9E513421A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1442880" y="1847880"/>
            <a:ext cx="6572520" cy="144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"/>
          <p:cNvSpPr/>
          <p:nvPr/>
        </p:nvSpPr>
        <p:spPr>
          <a:xfrm>
            <a:off x="1835280" y="2093760"/>
            <a:ext cx="6192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5156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Bookman Old Style"/>
              </a:rPr>
              <a:t>ИССЛЕДОВАТЕЛЬСКИЙ ПРОЕКТ</a:t>
            </a:r>
            <a:r>
              <a:rPr b="0" lang="ru-RU" sz="1600" spc="-1" strike="noStrike">
                <a:solidFill>
                  <a:srgbClr val="800000"/>
                </a:solidFill>
                <a:latin typeface="Bookman Old Style"/>
              </a:rPr>
              <a:t> 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4341960" y="335772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Автор:  Борзистый Максим,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Краснодарский край, Ленинградский район, 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МБОУ СОШ №7,  9 класс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 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Руководитель: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Канакова Оксана Михайловна, 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педагог-психолог МБОУ СОШ №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917640" y="2327400"/>
            <a:ext cx="770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Bookman Old Style"/>
              </a:rPr>
              <a:t>«Война...Победа...Память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3995640" y="609300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304920" y="2908440"/>
            <a:ext cx="2498760" cy="22176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1039680" y="109440"/>
            <a:ext cx="792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едняя общеобразовательная школа №7 им. И.П.Шевчука  поселка Первомайского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ого образования Ленинградский рай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"/>
          <p:cNvSpPr/>
          <p:nvPr/>
        </p:nvSpPr>
        <p:spPr>
          <a:xfrm>
            <a:off x="1042920" y="18900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ТЯЖЁЛЫЕ ДНИ СТА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117360" y="1197000"/>
            <a:ext cx="4824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5156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Gill Sans MT"/>
              </a:rPr>
              <a:t>    </a:t>
            </a:r>
            <a:r>
              <a:rPr b="1" lang="ru-RU" sz="1600" spc="-1" strike="noStrike">
                <a:solidFill>
                  <a:srgbClr val="002060"/>
                </a:solidFill>
                <a:latin typeface="Bookman Old Style"/>
              </a:rPr>
              <a:t>В первых числах августа 1942 года до февраля 1943 года нашу станицу Ленинградскую тоже оккупировали немецко-фашистские захватчики. Они сразу сформировали полицейскую часть из местного населения под командованием гестапо и тайной полевой полиции. За время оккупации в станице полицейскими, под руководством немецких офицеров было казнено 47 человек. В оккупированных деревнях фашисты обязывали людей носить на шее бирки с названием деревни, где они живу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5089680" y="1652760"/>
            <a:ext cx="3852720" cy="27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914400" y="2779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ОСВОБОЖДЕНИЕ РАЙ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250920" y="1052640"/>
            <a:ext cx="86421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lang="ru-RU" sz="2000" spc="-1" strike="noStrike">
                <a:solidFill>
                  <a:srgbClr val="002060"/>
                </a:solidFill>
                <a:latin typeface="Bookman Old Style"/>
              </a:rPr>
              <a:t>С Ленинградским районом связана судьба многих воинских подразделений и частей Красной Армии. Летом 1942 года в станице формировалась знаменитая 302-я горнострелковая дивизия. Организацией обороны Северного Кавказа занимался Будённый С.М., который лично побывал в станице Ленинград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1" lang="ru-RU" sz="2000" spc="-1" strike="noStrike">
                <a:solidFill>
                  <a:srgbClr val="002060"/>
                </a:solidFill>
                <a:latin typeface="Bookman Old Style"/>
              </a:rPr>
              <a:t>В ночь с 3-го на 4 февраля 1943 года передовые части Красной Армии освободили Ленинградский район. На рассвете морозного дня местные жители со слезами на глазах встречали уставших после стремительного марш-броска бойцов 417-й Сивашской стрелковой  дивизии, освободивших стан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"/>
          <p:cNvSpPr/>
          <p:nvPr/>
        </p:nvSpPr>
        <p:spPr>
          <a:xfrm>
            <a:off x="2122560" y="189000"/>
            <a:ext cx="3313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МОЙ ПРАД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297000" y="1293840"/>
            <a:ext cx="45669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515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1" lang="ru-RU" sz="1400" spc="-1" strike="noStrike">
                <a:solidFill>
                  <a:srgbClr val="002060"/>
                </a:solidFill>
                <a:latin typeface="Bookman Old Style"/>
              </a:rPr>
              <a:t>Мне бы хотелось немного рассказать о моём прадеде Антоненко Федоре Андреевиче. Он был ветераном Великой Отечественной войны. Родился 9 мая 1916 г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5156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</a:rPr>
              <a:t>      </a:t>
            </a:r>
            <a:r>
              <a:rPr b="1" lang="ru-RU" sz="1400" spc="-1" strike="noStrike">
                <a:solidFill>
                  <a:srgbClr val="002060"/>
                </a:solidFill>
                <a:latin typeface="Bookman Old Style"/>
              </a:rPr>
              <a:t>В 1938 году был призван служить в армию, в город Ровно. По окончании службы в 1941 году должен был демобилизоваться, но началась война. Воевал он на 1-м Украинском фронте под командованием генерала Белова под Москвой. 7 ноября 1941 года прадед был участником парада на Красной площади и оттуда сразу в б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5954760" y="289080"/>
            <a:ext cx="2881440" cy="3166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7674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07" name="Picture 4" descr=""/>
          <p:cNvPicPr/>
          <p:nvPr/>
        </p:nvPicPr>
        <p:blipFill>
          <a:blip r:embed="rId2"/>
          <a:stretch/>
        </p:blipFill>
        <p:spPr>
          <a:xfrm>
            <a:off x="5462640" y="3716280"/>
            <a:ext cx="3384360" cy="2233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7674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1635120" y="189000"/>
            <a:ext cx="336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МОЙ ПРАДЕ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0" y="1052640"/>
            <a:ext cx="42782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lang="ru-RU" sz="1800" spc="-1" strike="noStrike">
                <a:solidFill>
                  <a:srgbClr val="002060"/>
                </a:solidFill>
                <a:latin typeface="Bookman Old Style"/>
              </a:rPr>
              <a:t>В конце войны в 1945 году, на переправе реки Эльба, прадед был ранен. Долго был на излечении. Демобилизован 25 сентября 1945 года. Имел много медалей и орденов – за освобождение Москвы, Польши, Герм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5156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</a:rPr>
              <a:t>    </a:t>
            </a:r>
            <a:r>
              <a:rPr b="1" lang="ru-RU" sz="1800" spc="-1" strike="noStrike">
                <a:solidFill>
                  <a:srgbClr val="002060"/>
                </a:solidFill>
                <a:latin typeface="Bookman Old Style"/>
              </a:rPr>
              <a:t>После войны работал в совхозе «Соревнование» простым рабочим. Проработал до 1990 года, имел стаж 60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6810480" y="760320"/>
            <a:ext cx="2160360" cy="3095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7674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11" name="Picture 4" descr=""/>
          <p:cNvPicPr/>
          <p:nvPr/>
        </p:nvPicPr>
        <p:blipFill>
          <a:blip r:embed="rId2"/>
          <a:stretch/>
        </p:blipFill>
        <p:spPr>
          <a:xfrm>
            <a:off x="4340160" y="4005360"/>
            <a:ext cx="4675320" cy="1800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7674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12" name="Picture 5" descr=""/>
          <p:cNvPicPr/>
          <p:nvPr/>
        </p:nvPicPr>
        <p:blipFill>
          <a:blip r:embed="rId3"/>
          <a:stretch/>
        </p:blipFill>
        <p:spPr>
          <a:xfrm>
            <a:off x="4381560" y="760320"/>
            <a:ext cx="2303280" cy="3095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7674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"/>
          <p:cNvSpPr/>
          <p:nvPr/>
        </p:nvSpPr>
        <p:spPr>
          <a:xfrm>
            <a:off x="1763640" y="0"/>
            <a:ext cx="337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5156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Bookman Old Style"/>
              </a:rPr>
              <a:t>БЕССМЕРТНЫЙ ПОЛК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236520" y="1268280"/>
            <a:ext cx="5256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5156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Gill Sans MT"/>
              </a:rPr>
              <a:t>    </a:t>
            </a: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Ежегодно в День победы проходит шествие «Бессмертного полка»: это международное общественное  гражданско-патриотическое движение по сохранению личной памяти о поколении Великой Отечественной Войны. Участники проходят колонной по улицам городов и посёлков с фотографиями своих родственников – ветеранов армии и флота, партизан, бойцов, тружеников тыла, блокадников, детей вой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5651640" y="152280"/>
            <a:ext cx="3311280" cy="2952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7674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16" name="Picture 4" descr=""/>
          <p:cNvPicPr/>
          <p:nvPr/>
        </p:nvPicPr>
        <p:blipFill>
          <a:blip r:embed="rId2"/>
          <a:stretch/>
        </p:blipFill>
        <p:spPr>
          <a:xfrm>
            <a:off x="5543640" y="3284640"/>
            <a:ext cx="3419280" cy="2519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7674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1042920" y="264960"/>
            <a:ext cx="842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5156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РАКТИЧЕСКАЯ ЧАСТЬ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34920" y="1052640"/>
            <a:ext cx="52927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1" lang="ru-RU" sz="1800" spc="-1" strike="noStrike">
                <a:solidFill>
                  <a:srgbClr val="002060"/>
                </a:solidFill>
                <a:latin typeface="Bookman Old Style"/>
              </a:rPr>
              <a:t>Я решил создать инсталляцию, посвящённую прадеду. Мне захотелось сохранить память о родном человеке, который прошёл всю вой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  <a:ea typeface="Times New Roman"/>
              </a:rPr>
              <a:t>Созданную мной инсталляцию я хочу передать в музей поселка Первомайского, чтобы пополнить экспозицию, посвященную Великой Отечественной вой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5508720" y="1195560"/>
            <a:ext cx="3311280" cy="4466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7674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"/>
          <p:cNvSpPr/>
          <p:nvPr/>
        </p:nvSpPr>
        <p:spPr>
          <a:xfrm>
            <a:off x="914400" y="277920"/>
            <a:ext cx="7905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981600" y="1197000"/>
            <a:ext cx="51465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  <a:ea typeface="Times New Roman"/>
              </a:rPr>
              <a:t>Прошли десятилетия с тех пор, как отгремели последние залпы Великой Отечественной войны. За это время многое изменилось в нашей жизни. Другим стал мир. Другие люди творят его истор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В ходе исследования моя гипотеза  подтвердилась: </a:t>
            </a:r>
            <a:r>
              <a:rPr b="1" lang="ru-RU" sz="1800" spc="-1" strike="noStrike">
                <a:solidFill>
                  <a:srgbClr val="800000"/>
                </a:solidFill>
                <a:latin typeface="Bookman Old Style"/>
                <a:ea typeface="Times New Roman"/>
              </a:rPr>
              <a:t>боевой путь моего прадеда является ярким свидетельством того, что наших земляков в годы войны принимали активное участие в боевых действиях и внесли огромный вклад в Победу.</a:t>
            </a: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Мне удалось увековечить память о моем прадеде, </a:t>
            </a:r>
            <a:r>
              <a:rPr b="1" lang="ru-RU" sz="1800" spc="-1" strike="noStrike">
                <a:solidFill>
                  <a:srgbClr val="800000"/>
                </a:solidFill>
                <a:latin typeface="Bookman Old Style"/>
                <a:ea typeface="Times New Roman"/>
              </a:rPr>
              <a:t>Антоненко Федоре Андреевиче, у</a:t>
            </a: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крепить связь между поколен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144360" y="1557360"/>
            <a:ext cx="3706920" cy="3166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7674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AutoShape 1"/>
          <p:cNvSpPr/>
          <p:nvPr/>
        </p:nvSpPr>
        <p:spPr>
          <a:xfrm>
            <a:off x="4572000" y="1773360"/>
            <a:ext cx="4392720" cy="3385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Навсегда останется в наш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памяти беспримерный подви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солдат и тружеников тыл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ценой неимоверных усил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и миллионов жизней одержавш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Великую Победу. Благодаря 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сейчас мы радуемся полно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красок нашего мира, кажд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мимолётному ощущению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Слава героям войны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Слава героям труд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334800" y="1238400"/>
            <a:ext cx="3133800" cy="4406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2"/>
          <a:stretch/>
        </p:blipFill>
        <p:spPr>
          <a:xfrm>
            <a:off x="1122480" y="3139920"/>
            <a:ext cx="3132000" cy="521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"/>
          <p:cNvSpPr/>
          <p:nvPr/>
        </p:nvSpPr>
        <p:spPr>
          <a:xfrm>
            <a:off x="1376280" y="198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5156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Bookman Old Style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1368360" y="1015920"/>
            <a:ext cx="6912000" cy="4826160"/>
          </a:xfrm>
          <a:prstGeom prst="rect">
            <a:avLst/>
          </a:prstGeom>
          <a:ln w="0">
            <a:noFill/>
          </a:ln>
          <a:effectLst>
            <a:outerShdw dist="13898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"/>
          <p:cNvSpPr/>
          <p:nvPr/>
        </p:nvSpPr>
        <p:spPr>
          <a:xfrm>
            <a:off x="826920" y="2062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ЦЕЛИ, ЗАДАЧИ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"/>
          <p:cNvSpPr/>
          <p:nvPr/>
        </p:nvSpPr>
        <p:spPr>
          <a:xfrm>
            <a:off x="2209680" y="2743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209800" h="4572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2895480" y="2209680"/>
            <a:ext cx="1524240" cy="45720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524000" h="4572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228600" y="2760840"/>
            <a:ext cx="857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447480" algn="just">
              <a:lnSpc>
                <a:spcPct val="150000"/>
              </a:lnSpc>
              <a:tabLst>
                <a:tab algn="l" pos="0"/>
                <a:tab algn="l" pos="2682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  <a:ea typeface="Calibri"/>
              </a:rPr>
              <a:t>Задачи исслед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447480" algn="just">
              <a:lnSpc>
                <a:spcPct val="15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0"/>
                <a:tab algn="l" pos="2682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  <a:ea typeface="Calibri"/>
              </a:rPr>
              <a:t>Расширить знания о Великой Отечественной вой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447480" algn="just">
              <a:lnSpc>
                <a:spcPct val="15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0"/>
                <a:tab algn="l" pos="2682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  <a:ea typeface="Calibri"/>
              </a:rPr>
              <a:t>Сохранение памяти о солдатах этой вой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447480" algn="just">
              <a:lnSpc>
                <a:spcPct val="15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0"/>
                <a:tab algn="l" pos="2682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  <a:ea typeface="Calibri"/>
              </a:rPr>
              <a:t>Изучить семейный архив (фотографии, военный билет, другие документы) времён Великой Отечественной вой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447480" algn="just">
              <a:lnSpc>
                <a:spcPct val="15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0"/>
                <a:tab algn="l" pos="2682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  <a:ea typeface="Calibri"/>
              </a:rPr>
              <a:t>Создать инсталляцию в память о моем праде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250920" y="1197000"/>
            <a:ext cx="83484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2682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  <a:ea typeface="Calibri"/>
              </a:rPr>
              <a:t>Цель исследования: </a:t>
            </a:r>
            <a:r>
              <a:rPr b="1" lang="ru-RU" sz="1800" spc="-1" strike="noStrike">
                <a:solidFill>
                  <a:srgbClr val="002060"/>
                </a:solidFill>
                <a:latin typeface="Bookman Old Style"/>
                <a:ea typeface="Calibri"/>
              </a:rPr>
              <a:t>увековечить память погибших в годы Великой Отечественной войны. Укрепить связь между поколени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"/>
          <p:cNvSpPr/>
          <p:nvPr/>
        </p:nvSpPr>
        <p:spPr>
          <a:xfrm>
            <a:off x="1857240" y="260280"/>
            <a:ext cx="70390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5156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ОБЪЕКТ, МЕТОДЫ, ГИПОТЕЗА ИССЛЕ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390600" y="682560"/>
            <a:ext cx="847872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2682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682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  <a:ea typeface="Calibri"/>
              </a:rPr>
              <a:t>Объект исследования: </a:t>
            </a:r>
            <a:r>
              <a:rPr b="1" lang="ru-RU" sz="1800" spc="-1" strike="noStrike">
                <a:solidFill>
                  <a:srgbClr val="002060"/>
                </a:solidFill>
                <a:latin typeface="Bookman Old Style"/>
                <a:ea typeface="Calibri"/>
              </a:rPr>
              <a:t>информация и фотодокументы 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682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682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  <a:ea typeface="Calibri"/>
              </a:rPr>
              <a:t>Предмет исследования: </a:t>
            </a:r>
            <a:r>
              <a:rPr b="1" lang="ru-RU" sz="1800" spc="-1" strike="noStrike">
                <a:solidFill>
                  <a:srgbClr val="002060"/>
                </a:solidFill>
                <a:latin typeface="Bookman Old Style"/>
                <a:ea typeface="Calibri"/>
              </a:rPr>
              <a:t>боевой путь моего прадеда Антоненко Федоре Андрееви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682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682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682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14360" y="2021040"/>
            <a:ext cx="831528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2682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682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682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682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  <a:ea typeface="Calibri"/>
              </a:rPr>
              <a:t>Гипотеза исследования: </a:t>
            </a:r>
            <a:r>
              <a:rPr b="1" lang="ru-RU" sz="1800" spc="-1" strike="noStrike">
                <a:solidFill>
                  <a:srgbClr val="002060"/>
                </a:solidFill>
                <a:latin typeface="Bookman Old Style"/>
                <a:ea typeface="Calibri"/>
              </a:rPr>
              <a:t>боевой путь моего прадеда является ярким свидетельством того, что наших земляков в годы войны принимали активное участие в боевых действиях и внесли огромный вклад в Победу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682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1"/>
          <p:cNvSpPr/>
          <p:nvPr/>
        </p:nvSpPr>
        <p:spPr>
          <a:xfrm>
            <a:off x="3419640" y="2724120"/>
            <a:ext cx="5473440" cy="1770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man Old Style"/>
                <a:ea typeface="Calibri"/>
              </a:rPr>
              <a:t>Методы исследов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Bookman Old Style"/>
                <a:ea typeface="Calibri"/>
              </a:rPr>
              <a:t>1. Изучение информационных источ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Bookman Old Style"/>
                <a:ea typeface="Calibri"/>
              </a:rPr>
              <a:t>2. Интер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Bookman Old Style"/>
                <a:ea typeface="Calibri"/>
              </a:rPr>
              <a:t>3. Рассказы родствен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"/>
          <p:cNvSpPr/>
          <p:nvPr/>
        </p:nvSpPr>
        <p:spPr>
          <a:xfrm>
            <a:off x="684360" y="1197000"/>
            <a:ext cx="8208720" cy="1190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  <a:ea typeface="Times New Roman"/>
              </a:rPr>
              <a:t>Продукт деятельности: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инсталляция в память о моем праде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811080" y="2335320"/>
            <a:ext cx="2181240" cy="274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"/>
          <p:cNvSpPr/>
          <p:nvPr/>
        </p:nvSpPr>
        <p:spPr>
          <a:xfrm>
            <a:off x="1333440" y="18900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ИСТОРИЧЕСКАЯ СПРА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"/>
          <p:cNvSpPr/>
          <p:nvPr/>
        </p:nvSpPr>
        <p:spPr>
          <a:xfrm>
            <a:off x="2209680" y="2743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209800" h="4572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3"/>
          <p:cNvSpPr/>
          <p:nvPr/>
        </p:nvSpPr>
        <p:spPr>
          <a:xfrm>
            <a:off x="2895480" y="2209680"/>
            <a:ext cx="1524240" cy="45720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524000" h="4572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179280" y="1052640"/>
            <a:ext cx="504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Bookman Old Style"/>
              </a:rPr>
              <a:t>1941 год - 22июня. Начало войны. В четвёртом часу утра фашистская авиация одновременно атаковала 66 советских аэродромов. В 3 часа 15 минут с румынской территории гитлеровские самолеты совершили первый групповой налет на главную базу Черноморского флота – город Севастополь. А около 4 часов утра тысячи немецких орудий открыли огонь по советским пограничным заставам западных округов. Вероломно нарушив Пакт о ненападении, заключенный в СССР в 1939 году, Германия без объявления войны напала на нашу страну.</a:t>
            </a:r>
            <a:r>
              <a:rPr b="1" lang="ru-RU" sz="1800" spc="-1" strike="noStrike">
                <a:solidFill>
                  <a:srgbClr val="002060"/>
                </a:solidFill>
                <a:latin typeface="Bookman Old Styl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4919760" y="768240"/>
            <a:ext cx="4127400" cy="510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2209680" y="2743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209800" h="4572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1258920" y="18900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ИСТОРИЧЕСКАЯ СПРА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179280" y="1179360"/>
            <a:ext cx="50403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Bookman Old Style"/>
              </a:rPr>
              <a:t>С первых дней войны Советские люди сражались на фронте, трудились в тылу, боролись с врагом в партизанских отрядах. 23 июня стал первым днем мобилизации. В армию призывались сразу 14 возрастов, то есть все военнообязанные, которые родились  в период с 1905 года по 1918 год. Им предстояло участвовать в сражениях самого тяжелого первого периода вой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Bookman Old Style"/>
              </a:rPr>
              <a:t>Все невзгоды военного времени легли на плечи стариков, детей и женщин. В планах немцев было уничтожение русского народа: людей лишали крова, расстреливали. Но наш народ упорно работал и не сдавал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5200560" y="1682640"/>
            <a:ext cx="3857760" cy="27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1"/>
          <p:cNvSpPr/>
          <p:nvPr/>
        </p:nvSpPr>
        <p:spPr>
          <a:xfrm>
            <a:off x="2209680" y="2743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209800" h="4572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-396720" y="1052640"/>
            <a:ext cx="54003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5396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</a:rPr>
              <a:t>Женщины были на линии фронта медиками, лётчицами, снайперами, связистками, разведчицами, шоферами, артиллеристами,  служили в пехоте и даже танкистами. Активно участвовали в партизанском движении. Женщины взяли на себя множество мужских специальностей в тылу, так как мужчины ушли на войну, и кто-то должен был встать за станок, сесть за руль трактора и многое друго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5396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5396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</a:rPr>
              <a:t>Страшное время выпало на долю детей – голод, лагеря, потеря родных и близких. Они тоже были активными участниками войны, работали в тылу, вступали в  партизанские ряды. За мужество и героизм , проявленные в годы Великой Отечественной войны, тысячи детей и подростков были награждены орденами и медал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1116000" y="150840"/>
            <a:ext cx="777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ИСТОРИЧЕСКАЯ СПРА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5724360" y="3573360"/>
            <a:ext cx="3167280" cy="2448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7674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90" name="Picture 5" descr=""/>
          <p:cNvPicPr/>
          <p:nvPr/>
        </p:nvPicPr>
        <p:blipFill>
          <a:blip r:embed="rId2"/>
          <a:stretch/>
        </p:blipFill>
        <p:spPr>
          <a:xfrm>
            <a:off x="5076720" y="1065240"/>
            <a:ext cx="3888000" cy="2305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7674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"/>
          <p:cNvSpPr/>
          <p:nvPr/>
        </p:nvSpPr>
        <p:spPr>
          <a:xfrm>
            <a:off x="1042920" y="1890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ВОЙНА НА КУБА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25560" y="1633680"/>
            <a:ext cx="4859280" cy="35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1" lang="ru-RU" sz="1800" spc="-1" strike="noStrike">
                <a:solidFill>
                  <a:srgbClr val="002060"/>
                </a:solidFill>
                <a:latin typeface="Bookman Old Style"/>
              </a:rPr>
              <a:t>Не обошла стороной эта война и нашу Кубань. Известие о том, что началась война пришло в наш край 22 июня. Только за период с июня 1941 по июль 1942 годов в ряды вооружённых сил СССР военными комиссариатами было призвано 600 000 человек, то есть каждый пятый житель Куба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840200" y="1749600"/>
            <a:ext cx="399888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"/>
          <p:cNvSpPr/>
          <p:nvPr/>
        </p:nvSpPr>
        <p:spPr>
          <a:xfrm>
            <a:off x="1047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5156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ВОЙНА НА КУБА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27000" y="1341360"/>
            <a:ext cx="5041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1" lang="ru-RU" sz="1400" spc="-1" strike="noStrike">
                <a:solidFill>
                  <a:srgbClr val="002060"/>
                </a:solidFill>
                <a:latin typeface="Bookman Old Style"/>
              </a:rPr>
              <a:t>С 9 августа 1942 года до 12 февраля 1943 года город Краснодар был оккупирован немецкими войсками. Это было самое страшное время в истории Краснодар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716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</a:rPr>
              <a:t>    </a:t>
            </a:r>
            <a:r>
              <a:rPr b="1" lang="ru-RU" sz="1400" spc="-1" strike="noStrike">
                <a:solidFill>
                  <a:srgbClr val="002060"/>
                </a:solidFill>
                <a:latin typeface="Bookman Old Style"/>
              </a:rPr>
              <a:t>В годы оккупации было создано 86 партизанских отрядов на Кубани. Тысячи кубанцев ушли в партизанские отряды, чтобы в тылу вести борьбу с немецко-фашистскими захватчиками. Отважные кубанцы пускали под откос поезда, совершали на гитлеровцев неожиданные атаки под покровом ночи, печатали антифашистские листовки. Не щадя свои жизни, они приближали освобождение родной зем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2209680" y="2743200"/>
            <a:ext cx="2210040" cy="4572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209800" h="4572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2895480" y="2209680"/>
            <a:ext cx="1524240" cy="45720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524000" h="4572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5148360" y="1521000"/>
            <a:ext cx="3816360" cy="3816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7674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23:14:07Z</dcterms:created>
  <dc:creator>User</dc:creator>
  <dc:description/>
  <dc:language>en-US</dc:language>
  <cp:lastModifiedBy>Оксана Канакова</cp:lastModifiedBy>
  <dcterms:modified xsi:type="dcterms:W3CDTF">2022-05-12T20:55:24Z</dcterms:modified>
  <cp:revision>78</cp:revision>
  <dc:subject/>
  <dc:title>Как разговаривает улица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