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4A33-FBC0-4B5C-8D4C-E1FFEB9EB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ADCD3-9DFD-4CC2-BF80-C4BC363C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80E0-42C2-45E9-B574-A91581440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316A-9257-4F34-B5E5-316EDA93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3169-347F-4F8C-8593-C325A7646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C8FAE-9E3F-4DAE-A69D-512CDCE4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0065-74E2-45EA-9518-841E00F42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63E3-5253-47D5-AC3B-8C8794791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40C9-E6F6-4538-9E20-BA2C9FB8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860ED-37AD-45AE-836F-14DE7A7D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95689-B6BC-415B-BDD4-F8E2D1D8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BA22-C094-4D68-B951-E8CD65321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D6992-9DBA-4A5B-80DB-D98581380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F260B-1012-423B-B69E-CA78C95B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2570B-2E0B-4D2E-A572-626DB8E37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0925-CD5D-4AB3-9BAA-2547C99A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BE34B-3955-474C-864B-42A6303B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377CD-E4DD-4C0A-98AF-3C074E9AB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AE823-66B6-4767-B48F-8D3F6241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442880" y="1847880"/>
            <a:ext cx="6572520" cy="144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835280" y="209376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ССЛЕДОВАТЕЛЬСКИЙ ПРОЕКТ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341960" y="3357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Автор:  Борзистый Максим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раснодарский край, Ленинградский район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БОУ СОШ №7,  9 класс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уководитель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анакова Оксана Михайловна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едагог-психолог МБОУ СОШ №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17640" y="23274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«Война...Победа...Памят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95640" y="609300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304920" y="2908440"/>
            <a:ext cx="2498760" cy="2217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039680" y="109440"/>
            <a:ext cx="792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7 им. И.П.Шевчука  поселка Первомайского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042920" y="18900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ТЯЖЁЛЫЕ ДНИ СТ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7360" y="1197000"/>
            <a:ext cx="4824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В первых числах августа 1942 года до февраля 1943 года нашу станицу Ленинградскую тоже оккупировали немецко-фашистские захватчики. Они сразу сформировали полицейскую часть из местного населения под командованием гестапо и тайной полевой полиции. За время оккупации в станице полицейскими, под руководством немецких офицеров было казнено 47 человек. В оккупированных деревнях фашисты обязывали людей носить на шее бирки с названием деревни, где они жи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089680" y="1652760"/>
            <a:ext cx="385272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91440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ОСВОБОЖДЕНИЕ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50920" y="1052640"/>
            <a:ext cx="8642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С Ленинградским районом связана судьба многих воинских подразделений и частей Красной Армии. Летом 1942 года в станице формировалась знаменитая 302-я горнострелковая дивизия. Организацией обороны Северного Кавказа занимался Будённый С.М., который лично побывал в станице Ленинград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В ночь с 3-го на 4 февраля 1943 года передовые части Красной Армии освободили Ленинградский район. На рассвете морозного дня местные жители со слезами на глазах встречали уставших после стремительного марш-броска бойцов 417-й Сивашской стрелковой  дивизии, освободивших ст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122560" y="189000"/>
            <a:ext cx="331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ОЙ ПРА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97000" y="1293840"/>
            <a:ext cx="45669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Мне бы хотелось немного рассказать о моём прадеде Антоненко Федоре Андреевиче. Он был ветераном Великой Отечественной войны. Родился 9 мая 1916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  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В 1938 году был призван служить в армию, в город Ровно. По окончании службы в 1941 году должен был демобилизоваться, но началась война. Воевал он на 1-м Украинском фронте под командованием генерала Белова под Москвой. 7 ноября 1941 года прадед был участником парада на Красной площади и оттуда сразу в 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954760" y="289080"/>
            <a:ext cx="2881440" cy="316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5462640" y="3716280"/>
            <a:ext cx="3384360" cy="2233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1635120" y="189000"/>
            <a:ext cx="336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ОЙ ПРАД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1052640"/>
            <a:ext cx="42782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В конце войны в 1945 году, на переправе реки Эльба, прадед был ранен. Долго был на излечении. Демобилизован 25 сентября 1945 года. Имел много медалей и орденов – за освобождение Москвы, Польши,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После войны работал в совхозе «Соревнование» простым рабочим. Проработал до 1990 года, имел стаж 6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6810480" y="760320"/>
            <a:ext cx="2160360" cy="30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340160" y="4005360"/>
            <a:ext cx="4675320" cy="180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4381560" y="760320"/>
            <a:ext cx="2303280" cy="30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1763640" y="0"/>
            <a:ext cx="337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man Old Style"/>
              </a:rPr>
              <a:t>БЕССМЕРТНЫЙ ПОЛ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36520" y="1268280"/>
            <a:ext cx="52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Gill Sans MT"/>
              </a:rPr>
              <a:t>   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Ежегодно в День победы проходит шествие «Бессмертного полка»: это международное общественное  гражданско-патриотическое движение по сохранению личной памяти о поколении Великой Отечественной Войны. Участники проходят колонной по улицам городов и посёлков с фотографиями своих родственников – ветеранов армии и флота, партизан, бойцов, тружеников тыла, блокадников, дете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651640" y="152280"/>
            <a:ext cx="3311280" cy="295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5543640" y="3284640"/>
            <a:ext cx="3419280" cy="25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042920" y="264960"/>
            <a:ext cx="842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АКТИЧЕСКАЯ ЧА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4920" y="1052640"/>
            <a:ext cx="529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Я решил создать инсталляцию, посвящённую прадеду. Мне захотелось сохранить память о родном человеке, который прошёл вс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Созданную мной инсталляцию я хочу передать в музей поселка Первомайского, чтобы пополнить экспозицию, посвященную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508720" y="1195560"/>
            <a:ext cx="3311280" cy="44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914400" y="277920"/>
            <a:ext cx="7905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981600" y="1197000"/>
            <a:ext cx="5146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ошли десятилетия с тех пор, как отгремели последние залпы Великой Отечественной войны. За это время многое изменилось в нашей жизни. Другим стал мир. Другие люди творят его ис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ходе исследования моя гипотеза  подтвердилась: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боевой путь моего прадеда является ярким свидетельством того, что наших земляков в годы войны принимали активное участие в боевых действиях и внесли огромный вклад в Победу.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не удалось увековечить память о моем прадеде,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Антоненко Федоре Андреевиче, у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репить связь между покол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3706920" cy="316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"/>
          <p:cNvSpPr/>
          <p:nvPr/>
        </p:nvSpPr>
        <p:spPr>
          <a:xfrm>
            <a:off x="4572000" y="1773360"/>
            <a:ext cx="4392720" cy="33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Навсегда останется в на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памяти беспримерный подв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олдат и тружеников ты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ценой неимоверных усил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 миллионов жизней одержавш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Великую Победу. Благодаря 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ейчас мы радуемся полн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красок нашего мира, кажд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мимолётному ощущению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лава героям войн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лава героям тру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34800" y="1238400"/>
            <a:ext cx="3133800" cy="4406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122480" y="3139920"/>
            <a:ext cx="3132000" cy="521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1376280" y="19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368360" y="1015920"/>
            <a:ext cx="6912000" cy="482616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826920" y="20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ЦЕЛИ,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276084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447480"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Расширить знания 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охранение памяти о солдатах эт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зучить семейный архив (фотографии, военный билет, другие документы) времён Великой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оздать инсталляцию в память о моем прад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50920" y="1197000"/>
            <a:ext cx="8348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Цель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увековечить память погибших в годы Великой Отечественной войны. Укрепить связь между поколе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857240" y="260280"/>
            <a:ext cx="7039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ОБЪЕКТ, МЕТОДЫ, ГИПОТЕЗ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0600" y="682560"/>
            <a:ext cx="84787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Объект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нформация и фотодокументы 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Предмет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боевой путь моего прадеда Антоненко Федоре Андрееви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14360" y="2021040"/>
            <a:ext cx="8315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Гипотеза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боевой путь моего прадеда является ярким свидетельством того, что наших земляков в годы войны принимали активное участие в боевых действиях и внесли огромный вклад в Победу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"/>
          <p:cNvSpPr/>
          <p:nvPr/>
        </p:nvSpPr>
        <p:spPr>
          <a:xfrm>
            <a:off x="3419640" y="2724120"/>
            <a:ext cx="5473440" cy="177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  <a:ea typeface="Calibri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1. Изучение информацион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2.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3. Рассказы родств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684360" y="1197000"/>
            <a:ext cx="8208720" cy="1190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одукт деятельности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нсталляция в память о моем прад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811080" y="2335320"/>
            <a:ext cx="218124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333440" y="18900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9280" y="105264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1941 год - 22июня. Начало войны. В четвёртом часу утра фашистская авиация одновременно атаковала 66 советских аэродромов. В 3 часа 15 минут с румынской территории гитлеровские самолеты совершили первый групповой налет на главную базу Черноморского флота – город Севастополь. А около 4 часов утра тысячи немецких орудий открыли огонь по советским пограничным заставам западных округов. Вероломно нарушив Пакт о ненападении, заключенный в СССР в 1939 году, Германия без объявления войны напала на нашу страну.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919760" y="768240"/>
            <a:ext cx="412740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58920" y="18900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79280" y="1179360"/>
            <a:ext cx="504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С первых дней войны Советские люди сражались на фронте, трудились в тылу, боролись с врагом в партизанских отрядах. 23 июня стал первым днем мобилизации. В армию призывались сразу 14 возрастов, то есть все военнообязанные, которые родились  в период с 1905 года по 1918 год. Им предстояло участвовать в сражениях самого тяжелого первого периода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Все невзгоды военного времени легли на плечи стариков, детей и женщин. В планах немцев было уничтожение русского народа: людей лишали крова, расстреливали. Но наш народ упорно работал и не сдава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00560" y="1682640"/>
            <a:ext cx="385776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1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-396720" y="1052640"/>
            <a:ext cx="540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Женщины были на линии фронта медиками, лётчицами, снайперами, связистками, разведчицами, шоферами, артиллеристами,  служили в пехоте и даже танкистами. Активно участвовали в партизанском движении. Женщины взяли на себя множество мужских специальностей в тылу, так как мужчины ушли на войну, и кто-то должен был встать за станок, сесть за руль трактора и многое дру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Страшное время выпало на долю детей – голод, лагеря, потеря родных и близких. Они тоже были активными участниками войны, работали в тылу, вступали в  партизанские ряды. За мужество и героизм , проявленные в годы Великой Отечественной войны, тысячи детей и подростков были награждены орденами и меда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116000" y="150840"/>
            <a:ext cx="77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724360" y="3573360"/>
            <a:ext cx="3167280" cy="244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5076720" y="1065240"/>
            <a:ext cx="388800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1042920" y="189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ОЙНА НА КУБ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5560" y="1633680"/>
            <a:ext cx="48592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Не обошла стороной эта война и нашу Кубань. Известие о том, что началась война пришло в наш край 22 июня. Только за период с июня 1941 по июль 1942 годов в ряды вооружённых сил СССР военными комиссариатами было призвано 600 000 человек, то есть каждый пятый житель Куб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840200" y="1749600"/>
            <a:ext cx="39988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1047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ОЙНА НА КУБ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7000" y="1341360"/>
            <a:ext cx="5041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С 9 августа 1942 года до 12 февраля 1943 года город Краснодар был оккупирован немецкими войсками. Это было самое страшное время в истории Краснода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В годы оккупации было создано 86 партизанских отрядов на Кубани. Тысячи кубанцев ушли в партизанские отряды, чтобы в тылу вести борьбу с немецко-фашистскими захватчиками. Отважные кубанцы пускали под откос поезда, совершали на гитлеровцев неожиданные атаки под покровом ночи, печатали антифашистские листовки. Не щадя свои жизни, они приближали освобождение родной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5148360" y="1521000"/>
            <a:ext cx="3816360" cy="381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14:07Z</dcterms:created>
  <dc:creator>User</dc:creator>
  <dc:description/>
  <dc:language>en-US</dc:language>
  <cp:lastModifiedBy>Оксана Канакова</cp:lastModifiedBy>
  <dcterms:modified xsi:type="dcterms:W3CDTF">2022-05-12T20:55:24Z</dcterms:modified>
  <cp:revision>78</cp:revision>
  <dc:subject/>
  <dc:title>Как разговаривает улиц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