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6.gif" ContentType="image/gif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BF6-4518-4567-822A-1F399E13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BB2-A56A-49B2-8AF7-D9BC83C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077-8992-438C-B926-4BB6B123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027-7953-43D3-9C97-0AE8D5F8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2D1F-3FBA-4651-9EE6-E20F8D26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966B-1C27-4F6E-A605-36338D3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ECF4-6B79-4D8D-92EA-565D5120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1576-3B48-454D-8E3B-76F19507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2677-C91E-424B-B328-A9EFD38D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9563-3D6D-4F97-8129-C0D00FE2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8EE8-475E-4A7C-9389-28AB0C3C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FE8-5A84-46E0-8098-6B99E337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7666-F79F-4C68-9279-1970EE9C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E6B1-FDBA-4BC5-8BC1-E458683E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C956-A8C0-41CD-A0FB-CA8B6F5F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B68E-F035-4B79-9498-10A1EA44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1241-9D5A-4E26-8541-6472DB8E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8A1D-5C59-4E96-8DDC-9F04B42A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0172-FE81-4036-84D1-CAD99476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200B-9A0F-4B43-A0A1-82FC302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3C61-1A90-44E9-8C5C-2B7ADBD9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A2D2-7DED-47CC-89B7-90639390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0E9-E9F9-4DEB-8ED7-286CD16D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26DC-4BDC-48E9-ABCE-EFC998F9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F238-DB36-4AF8-864C-64C08BB8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5C8E-0C66-4CC0-B39D-BB26996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C38C-544B-4B2A-8587-190043C3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5B98-7806-4C8F-BEAE-F328D48D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C9F9-C132-440F-88D4-71136C8B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35FB-75A2-4927-9752-3892020A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95E8B-ED10-4A24-A0D2-1C76FB57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FC01-307B-4482-B234-9F21B5D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54586-5F44-4892-836B-2187851F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0B0-CBE7-4E42-9639-6B1FDDE8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2E6B-CD46-4DAC-A5A9-6D51D487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011F-5FFA-4E4D-A5B9-B542EBF9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57BD-AAF1-45E5-9045-649D81E1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0794-01D7-4DBA-8156-9C93F8E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8F936-6A68-4D72-817D-3CD29FA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4B0A-0DD2-4A27-B7AA-E4FC9D2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FE373-90B4-423A-8667-11FA1D6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AF366-A08E-4C4F-BCA7-159D3BB1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8767D-2892-49F2-B0A7-3ACC90C1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4F44-FB27-4E8B-A05B-E2B4E45D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2B3-01BD-4D5E-9E1A-531D8E7C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93E98-4BE8-4F20-8982-D351B75F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7397C-C55D-4F32-A0CC-802D5A2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CADF4-02EA-4277-B842-27572113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8F85E-E873-4EF8-8D06-5541BCEF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231A3-F345-4D54-A0A1-9F6940DC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5B26-55CC-4F83-9B38-8DC4516A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DBCC5-5CFD-4C65-95B5-B2EB896C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1EED9-64F4-4C80-9176-ACD151E1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30509-660C-4665-9088-C274EED6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B92C-3170-4A34-A824-CE129A2B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538-D33C-4F78-AFF3-BFD25487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68F2F-1A8A-4B34-A67C-A76FA83E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187A-2A68-45A9-A3B5-F907DC94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ACF2-4728-4E08-8862-86674CC5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9870C-2360-46F7-86F6-8887F194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E025C-8FBB-4310-B2C6-14CC7527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57A76-DB79-49C6-A439-26226AD6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34A85-94D0-401A-A01D-BA4DB89D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8E6EA-A626-4D90-B535-FCA8939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81DAE-41C8-4037-B864-FFE6F4AC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EA5AA-3A77-42B2-8DEF-ED2DAB6A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74C-F176-43C1-9833-F435043D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C53A-D87E-4596-A065-9750339F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505A2-BFC7-4875-8F12-03F06942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153FD-33A5-4045-96D9-D76D3242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F9C85-DE17-4E9D-8561-831EC72A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74521-3612-4AA9-A7E5-F86EEDE2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5CC3-5B9B-45A1-A9F8-EBE1E9BD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A412-65F8-46C3-A312-559F773A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C7D78-66A4-4C86-8394-638BA532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9E62-56BC-465A-B254-A1D4CAD1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02FF-CCA9-498E-A8C0-9A500BF4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4C1-89C7-4836-9168-EA3D903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A0709-B98C-4328-89C9-1BC2468E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0F81-462D-4CD9-98D4-46E05FE2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EFB5C-C50D-43CC-A39D-9894C567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D03CB-1882-4E7B-957C-820F3E3F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BD219-E44C-40D7-9322-A02D8C92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BA9-76C7-4682-AE66-55D571B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3034-91E0-4D31-BFEB-DE0F28CD3D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6DD8-222D-4126-A4E2-2C51707F09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19D5-DDF6-4BE5-923A-9E4900BE73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4043-3DFC-404D-B42E-F1DCC795F9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E9D8-F1B1-44B2-BF1C-7C6901106F3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5527-6E8B-41AC-9B7E-D309BFB4913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2D84-FE26-40A7-8E6B-0AD5DC9660F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a50021"/>
                </a:solidFill>
                <a:uFillTx/>
                <a:latin typeface="Corbel"/>
              </a:rPr>
              <a:t>Еда, которая вредн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618920" y="3573000"/>
            <a:ext cx="7219800" cy="2784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Выполнила Сургучева Диана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еница 8 класс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МКОУ ХМР «СОШ д.Согом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Руководитель: Кожевникова М.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Безымянный"/>
          <p:cNvPicPr/>
          <p:nvPr/>
        </p:nvPicPr>
        <p:blipFill>
          <a:blip r:embed="rId1"/>
          <a:stretch/>
        </p:blipFill>
        <p:spPr>
          <a:xfrm>
            <a:off x="1000080" y="2071800"/>
            <a:ext cx="302256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8184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Исследование состава продуктов </a:t>
            </a:r>
            <a:br>
              <a:rPr sz="2400"/>
            </a:b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(по информации на упаковке) для определения наличия вредных пищевых добавок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5" descr="DSC01767"/>
          <p:cNvPicPr/>
          <p:nvPr/>
        </p:nvPicPr>
        <p:blipFill>
          <a:blip r:embed="rId1"/>
          <a:stretch/>
        </p:blipFill>
        <p:spPr>
          <a:xfrm>
            <a:off x="1116000" y="2349360"/>
            <a:ext cx="3683160" cy="31672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5076720" y="1069920"/>
            <a:ext cx="37101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ип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Lays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хар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рие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рам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упа-чупс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евательная рези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евательные конфе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ttl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околадны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атонч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Snickers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ад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зированные  напит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«Бурати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 является рекла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a50021"/>
                </a:solidFill>
                <a:latin typeface="Arial"/>
              </a:rPr>
              <a:t>Результаты исследован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Picture 7" descr="DSC01773"/>
          <p:cNvPicPr/>
          <p:nvPr/>
        </p:nvPicPr>
        <p:blipFill>
          <a:blip r:embed="rId1"/>
          <a:stretch/>
        </p:blipFill>
        <p:spPr>
          <a:xfrm>
            <a:off x="5357880" y="928800"/>
            <a:ext cx="3240000" cy="24336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8"/>
          <p:cNvSpPr/>
          <p:nvPr/>
        </p:nvSpPr>
        <p:spPr>
          <a:xfrm>
            <a:off x="3635280" y="3645000"/>
            <a:ext cx="244800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1042920" y="4708800"/>
            <a:ext cx="785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621 (глутамат натр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итель вк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е усваивается организмом и вызывает воспалительные симптомы, задерживает воду в организме и может вызывать отеки, ведущие к повышенному дав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330 (лимонная кисл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улятор кислот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рицательно воздействует на эмаль зуб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7" descr="E:\Фото0566.jpg"/>
          <p:cNvPicPr/>
          <p:nvPr/>
        </p:nvPicPr>
        <p:blipFill>
          <a:blip r:embed="rId2"/>
          <a:stretch/>
        </p:blipFill>
        <p:spPr>
          <a:xfrm>
            <a:off x="1214280" y="928800"/>
            <a:ext cx="350064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a50021"/>
                </a:solidFill>
                <a:latin typeface="Arial"/>
              </a:rPr>
              <a:t>Сухарики «Кириешк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87280" y="1125360"/>
          <a:ext cx="4608720" cy="5507280"/>
        </p:xfrm>
        <a:graphic>
          <a:graphicData uri="http://schemas.openxmlformats.org/drawingml/2006/table">
            <a:tbl>
              <a:tblPr/>
              <a:tblGrid>
                <a:gridCol w="4608720"/>
              </a:tblGrid>
              <a:tr h="55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627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ь вкус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зывает расстройство кишечн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63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ь вкус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зывает расстройство кишечн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621 (глутамат натр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ь вкус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не усваивается организмом и вызывает воспалительные симптомы, задерживает воду в организме и может вызывать отеки, ведущие к повышенному давл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330 (лимонная кислота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ор кислотност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рицательно воздействует на эмаль зуб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0" name="Picture 18" descr="DSC01771"/>
          <p:cNvPicPr/>
          <p:nvPr/>
        </p:nvPicPr>
        <p:blipFill>
          <a:blip r:embed="rId1"/>
          <a:stretch/>
        </p:blipFill>
        <p:spPr>
          <a:xfrm rot="327600">
            <a:off x="6084720" y="1341360"/>
            <a:ext cx="265752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4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Карамель «Чупа-чупс»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143000" y="3288960"/>
            <a:ext cx="7858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монная кислота, яблочная кисл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торы кислот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трицательно воздействует на эмаль зу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которые чупа-чупсы содержат подозрительные красители, которые очень опасны для здоровья детей (Е102, Е120,Е13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DSC01772"/>
          <p:cNvPicPr/>
          <p:nvPr/>
        </p:nvPicPr>
        <p:blipFill>
          <a:blip r:embed="rId1"/>
          <a:stretch/>
        </p:blipFill>
        <p:spPr>
          <a:xfrm>
            <a:off x="3643200" y="1143000"/>
            <a:ext cx="2863800" cy="2149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60000" y="115920"/>
            <a:ext cx="6643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Arial"/>
              </a:rPr>
              <a:t>Жевательная резинка </a:t>
            </a:r>
            <a:r>
              <a:rPr b="1" lang="en-US" sz="3600" spc="-1" strike="noStrike" u="sng">
                <a:solidFill>
                  <a:srgbClr val="a50021"/>
                </a:solidFill>
                <a:uFillTx/>
                <a:latin typeface="Arial"/>
              </a:rPr>
              <a:t>Orbi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1239840" y="976680"/>
            <a:ext cx="7534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7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дозрительная пищевая доб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13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зывает нарушение строения кл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32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ислит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рицательно сказывается на печени и п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33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ная кисл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гулятор кислотности – отрицательно воздействует на эмаль зу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296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чная кисл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нсервант, не рекомендуется употребление в больших количест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422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абилизатор, отрицательно влияет на кровообращение и состояние сосу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41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вызывать заболевания органов пищева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21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менитель сахара, вызывает боли в жив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50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ласт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накапливаться, вызывать разные забол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41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илиза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ет вызывать алл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951 (аспарт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озамен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ызывает аллергию, негативно действует на сетчатку глаза, снижая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25560" y="3909600"/>
            <a:ext cx="10512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00080" y="1071360"/>
            <a:ext cx="7934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ная кислота, яблочная кислота – регуляторы кислот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331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рвант, нельзя принимать в больших количеств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903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нарушение пищевар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904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вызвать аллерги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20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, может вызвать аллерги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71-Е17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дозрительная пищевая добав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32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вызвать аллерги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60а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вызвать различные нарушения зоровь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33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зывает нарушение строения клет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3298320" y="428760"/>
            <a:ext cx="31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Драже 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Arial"/>
              </a:rPr>
              <a:t>Skittles</a:t>
            </a: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a50021"/>
                </a:solidFill>
                <a:latin typeface="Arial"/>
              </a:rPr>
              <a:t>Шоколадные батончик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1332000" y="1859040"/>
            <a:ext cx="73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околадный батончик «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nickers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айдены вредные пищевые доба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DSC01774"/>
          <p:cNvPicPr/>
          <p:nvPr/>
        </p:nvPicPr>
        <p:blipFill>
          <a:blip r:embed="rId1"/>
          <a:stretch/>
        </p:blipFill>
        <p:spPr>
          <a:xfrm>
            <a:off x="3571920" y="3429000"/>
            <a:ext cx="3286080" cy="2239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8915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Arial"/>
              </a:rPr>
              <a:t>Сладкие газированные напитки</a:t>
            </a:r>
            <a:r>
              <a:rPr b="0" lang="ru-RU" sz="3900" spc="-1" strike="noStrike">
                <a:solidFill>
                  <a:srgbClr val="572314"/>
                </a:solidFill>
                <a:latin typeface="Arial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410544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33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мон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гулятор кислотности – отрицательно воздействует на эмаль зуб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глекислый г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ывает расстройство пищеварения или болевой приступ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8000" y="1197000"/>
            <a:ext cx="4146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глекислый г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зывает расстройство пищеварения или болевой приступ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тофосфорная кисл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улятор кислот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пособна вымывать кальций из костей, что опасно развитием остеопороза, при котором возникает повышенная ломкость костей даже при минимальных нагрузках, способствует развитию мочекаменной болезн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фе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зывает истощение нервной системы, усталость, апатию или раздражительность, головные боли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9" descr="C:\Documents and Settings\Администратор\Рабочий стол\fanta.jpg"/>
          <p:cNvPicPr/>
          <p:nvPr/>
        </p:nvPicPr>
        <p:blipFill>
          <a:blip r:embed="rId1"/>
          <a:stretch/>
        </p:blipFill>
        <p:spPr>
          <a:xfrm rot="20617200">
            <a:off x="3564000" y="2420640"/>
            <a:ext cx="735120" cy="1439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Documents and Settings\Администратор\Рабочий стол\71789f3fc807.jpg"/>
          <p:cNvPicPr/>
          <p:nvPr/>
        </p:nvPicPr>
        <p:blipFill>
          <a:blip r:embed="rId2"/>
          <a:stretch/>
        </p:blipFill>
        <p:spPr>
          <a:xfrm rot="525000">
            <a:off x="3433320" y="5179680"/>
            <a:ext cx="565200" cy="104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Arial"/>
              </a:rPr>
              <a:t>Выводы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71280" y="836280"/>
            <a:ext cx="79628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все продукты (6 из 7), которые были исследованы, содержат те или иные вредные пищевые добавк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ких продуктах, как сухарики «Кириешки», жевательная резинка «Орбит», конфеты «Скиттлс» содержится большое количество добавок с индексом Е, частое употребление которых ведёт к различным заболеваниям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отребл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х продуктов нужн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ключ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ежедневного рациона люд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дкие газированные напитки  «Буратино»,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c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содержат вредные кислоты и углекислый газ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льзя употребл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напитки детям и подросткам. Лучше пить со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одном продукте из семи, шоколадном батончике «Сникерс», не было обнаружено вредных пищевых добавок согласно указанной информации на упаковк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a50021"/>
                </a:solidFill>
                <a:uFillTx/>
                <a:latin typeface="Arial"/>
              </a:rPr>
              <a:t>Итоги работы над проектом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8000" y="1447560"/>
            <a:ext cx="84661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твержде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вкусная еда может быть вредной для здоровья челове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работы достигну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я нашёл и представил доказательства вредности некоторых продуктов, часто употребляемых детьми и подростк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ставленные в начале проекта, успеш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071360" y="142920"/>
            <a:ext cx="78627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Corbel"/>
              </a:rPr>
              <a:t>Гипотез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кусная еда может быть вредной для здоровья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Corbe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найти и представить доказательства вредности некоторых продуктов, часто употребляемых детьми и подростк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Corbe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йти в литературе и других источниках сведения о вредных пищевых добавк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вести опрос среди друзей и знакомых по выявлению предпочтений в еде «для удовольствия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следовать состав отобранных продуктов по информации, данной  на упаковк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явить среди ряда продуктов, часто употребляемых детьми и подростками, продукты, содержащие вредные пищевые добав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учиться представлять результаты работы с помощью информационных технологий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72314"/>
                </a:solidFill>
                <a:uFillTx/>
                <a:latin typeface="Arial"/>
              </a:rPr>
              <a:t>Список   информационных источников</a:t>
            </a:r>
            <a:r>
              <a:rPr b="0" lang="ru-RU" sz="3200" spc="-1" strike="noStrike" u="sng">
                <a:solidFill>
                  <a:srgbClr val="57231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71280" y="1447560"/>
            <a:ext cx="79628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да М.И. Запрет пищевой добавки. - «ТВС – анонс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йская А.  Аллергия.  Скажи ей "прощай". – Санкт-Петербург: Издательство «Кристалл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я для детей «Биология». – Москва: «Аванта+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ческий справочник медицины и здоровья. – Москва: «Русское энциклопедическое товарищество»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http://www.medzone.r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http://www.</a:t>
            </a: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citycat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.r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http://www.soyuzopttorg.ru/catalog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xumuk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Picture 5" descr="12"/>
          <p:cNvPicPr/>
          <p:nvPr/>
        </p:nvPicPr>
        <p:blipFill>
          <a:blip r:embed="rId1"/>
          <a:stretch/>
        </p:blipFill>
        <p:spPr>
          <a:xfrm>
            <a:off x="8388360" y="1773360"/>
            <a:ext cx="5698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5"/>
          <p:cNvSpPr txBox="1"/>
          <p:nvPr/>
        </p:nvSpPr>
        <p:spPr>
          <a:xfrm>
            <a:off x="250920" y="1125360"/>
            <a:ext cx="8208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БУДЬТЕ ЗДОРОВ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p:transition spd="slow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99720" y="142560"/>
            <a:ext cx="8001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Этапы работы</a:t>
            </a:r>
            <a:r>
              <a:rPr b="0" lang="ru-RU" sz="1800" spc="-1" strike="noStrike">
                <a:solidFill>
                  <a:srgbClr val="a50021"/>
                </a:solidFill>
                <a:latin typeface="Corbel"/>
              </a:rPr>
              <a:t>: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тановка проблемы. Выдвижение гипотезы. Определение задач. Изучение информационных источников о вредных пищевых добавка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кетирование среди школьников. Исследование состава «вкусных» продуктов (по информации на упаковке) для определения в них наличия вредных пищевых добавок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едставление результатов. Подведение итогов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Объект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: чипсы, сухарики-кириешки, безалкогольные газированные напитки, жевательная резинка, шоколадные батончики, карамель «чупа-чупс»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Предмет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: наличие вредных пищевых добавок в продуктах пита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        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Методы</a:t>
            </a:r>
            <a:r>
              <a:rPr b="0" lang="ru-RU" sz="1600" spc="-1" strike="noStrike">
                <a:solidFill>
                  <a:srgbClr val="713204"/>
                </a:solidFill>
                <a:latin typeface="Corbe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зучение литературы и других источников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кетирование школьников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ализ состава продуктов по данным на упаковк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Область применения</a:t>
            </a:r>
            <a:r>
              <a:rPr b="1" lang="en-US" sz="1800" spc="-1" strike="noStrike" u="sng">
                <a:solidFill>
                  <a:srgbClr val="a50021"/>
                </a:solidFill>
                <a:uFillTx/>
                <a:latin typeface="Corbel"/>
              </a:rPr>
              <a:t> </a:t>
            </a:r>
            <a:r>
              <a:rPr b="1" lang="ru-RU" sz="1800" spc="-1" strike="noStrike" u="sng">
                <a:solidFill>
                  <a:srgbClr val="a50021"/>
                </a:solidFill>
                <a:uFillTx/>
                <a:latin typeface="Arial"/>
              </a:rPr>
              <a:t>получен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ыту,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лассные часы на тему правильного питания, уроки окружающего мир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  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a50021"/>
                </a:solidFill>
                <a:latin typeface="Arial"/>
              </a:rPr>
              <a:t>Что такое пищевые добавки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16000" y="1844280"/>
            <a:ext cx="7818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 u="sng">
                <a:solidFill>
                  <a:srgbClr val="584604"/>
                </a:solidFill>
                <a:uFillTx/>
                <a:latin typeface="Arial"/>
              </a:rPr>
              <a:t>Пищевые доба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вещества, которые вводят в продукты по технологическим соображениям, чтобы увеличить срок пригодности продуктов, улучшить их вкусовые качества, внешний вид, получить необходимую консистенцию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Е - коды пищевых добавок:</a:t>
            </a:r>
            <a:r>
              <a:rPr b="1" lang="ru-RU" sz="3200" spc="-1" strike="noStrike">
                <a:solidFill>
                  <a:srgbClr val="572314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71280" y="836280"/>
            <a:ext cx="79628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100-E182 – красители (устанавливают или восстанавливают цвет продукта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200-E299 – консерванты (повышают срок хранения продуктов, защищая их от микробов, грибков)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300-E399 – антиокислители (защищают от окисления, например от прогорания жиров и изменения цвета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400-E499 – стабилизаторы (сохраняют заданную консистенцию) и загустители (повышают вязкость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500-E599 – эмульгаторы (создают однородную смесь несмешиваемых фаз, например воды и масла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600-E699 – усилители вкуса и арома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700-E899 – запасные индекс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900-E999 – пеногасители (предупреждают или снижают образование пены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1100-E1105 – ферменты, биологические катализатор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1400-E1450 – модифицированные крахмалы для создания необходимой консистен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1510-E1520 – растворите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2.jpg"/>
          <p:cNvPicPr/>
          <p:nvPr/>
        </p:nvPicPr>
        <p:blipFill>
          <a:blip r:embed="rId1"/>
          <a:stretch/>
        </p:blipFill>
        <p:spPr>
          <a:xfrm>
            <a:off x="7451640" y="3068640"/>
            <a:ext cx="154476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8184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Не разрешены в России следующие пищевые добавки: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9628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103, E107, E125, E127, E128, E140, E153-155, E160d, E160f, E166, E173-175, E180, E182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209, E213-219, E225-228, E230-233, E237, E238, E241, E263, E264, E282, E283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302, E303, E305, E308-314, E317, E318, E323-325, E328, E329, E343-345, E349-352, E355-357, E359, E365-368, E370, E375, E381, E384, E387-390, E399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403, E408, E409, E418, E419, E429-E436, E441-444, E446, E462, E463, E465, E467, E474, E476-480, E482-489, E491-496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505, E512, E519, E521-523, E535, E537, E538, E541, E542, E550, E554-557, E559, E560, E574, E576, E577, E580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622-625, E628, E629, E632-635, E640, E641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906, E908, E909-911, E913, E916-919, E922, E923, E924b, E925, E926, E929, E943a, E943b, E944-946, E957, E959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1000, E1001, E1105, E1503, E1521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ЗАПРЕЩЕН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121 (краситель цитрусовый красный 2)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123 (красный эмарант)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240 (консервант формальдегид)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71600" y="356760"/>
            <a:ext cx="4862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Анкетирование </a:t>
            </a:r>
            <a:br>
              <a:rPr sz="2900"/>
            </a:br>
            <a:r>
              <a:rPr b="1" lang="ru-RU" sz="2900" spc="-1" strike="noStrike" u="sng">
                <a:solidFill>
                  <a:srgbClr val="a50021"/>
                </a:solidFill>
                <a:uFillTx/>
                <a:latin typeface="Arial"/>
              </a:rPr>
              <a:t>«Любишь ли ты это есть?»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00080" y="2285640"/>
            <a:ext cx="79344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шь  ли ты есть чипсы, кириешки, сладкие шоколадные батончики, чупа-чупсы, жевать резинку, пить сладкую газированную воду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 ли ты употребляешь в пищу эти продукты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ешь ли ты о вредности этих «вкусняшек» для  человек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читос"/>
          <p:cNvPicPr/>
          <p:nvPr/>
        </p:nvPicPr>
        <p:blipFill>
          <a:blip r:embed="rId1"/>
          <a:stretch/>
        </p:blipFill>
        <p:spPr>
          <a:xfrm rot="20611800">
            <a:off x="8034480" y="2452320"/>
            <a:ext cx="793440" cy="8524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fanta"/>
          <p:cNvPicPr/>
          <p:nvPr/>
        </p:nvPicPr>
        <p:blipFill>
          <a:blip r:embed="rId2"/>
          <a:stretch/>
        </p:blipFill>
        <p:spPr>
          <a:xfrm rot="20617200">
            <a:off x="1141200" y="2968200"/>
            <a:ext cx="458640" cy="900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Фото0568"/>
          <p:cNvPicPr/>
          <p:nvPr/>
        </p:nvPicPr>
        <p:blipFill>
          <a:blip r:embed="rId3"/>
          <a:stretch/>
        </p:blipFill>
        <p:spPr>
          <a:xfrm>
            <a:off x="1214280" y="214200"/>
            <a:ext cx="264348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817"/>
                </a:solidFill>
                <a:latin typeface="Arial"/>
              </a:rPr>
              <a:t>Результаты опроса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Диаграмма 9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2622240" cy="1781280"/>
          </a:xfrm>
          <a:prstGeom prst="rect">
            <a:avLst/>
          </a:prstGeom>
          <a:ln w="0">
            <a:noFill/>
          </a:ln>
        </p:spPr>
      </p:pic>
      <p:pic>
        <p:nvPicPr>
          <p:cNvPr id="341" name="Диаграмма 10" descr=""/>
          <p:cNvPicPr/>
          <p:nvPr/>
        </p:nvPicPr>
        <p:blipFill>
          <a:blip r:embed="rId2"/>
          <a:stretch/>
        </p:blipFill>
        <p:spPr>
          <a:xfrm>
            <a:off x="3357720" y="1000080"/>
            <a:ext cx="2622240" cy="1781280"/>
          </a:xfrm>
          <a:prstGeom prst="rect">
            <a:avLst/>
          </a:prstGeom>
          <a:ln w="0">
            <a:noFill/>
          </a:ln>
        </p:spPr>
      </p:pic>
      <p:pic>
        <p:nvPicPr>
          <p:cNvPr id="342" name="Диаграмма 11" descr=""/>
          <p:cNvPicPr/>
          <p:nvPr/>
        </p:nvPicPr>
        <p:blipFill>
          <a:blip r:embed="rId3"/>
          <a:stretch/>
        </p:blipFill>
        <p:spPr>
          <a:xfrm>
            <a:off x="500040" y="2786040"/>
            <a:ext cx="2622600" cy="1781280"/>
          </a:xfrm>
          <a:prstGeom prst="rect">
            <a:avLst/>
          </a:prstGeom>
          <a:ln w="0">
            <a:noFill/>
          </a:ln>
        </p:spPr>
      </p:pic>
      <p:pic>
        <p:nvPicPr>
          <p:cNvPr id="343" name="Диаграмма 12" descr=""/>
          <p:cNvPicPr/>
          <p:nvPr/>
        </p:nvPicPr>
        <p:blipFill>
          <a:blip r:embed="rId4"/>
          <a:stretch/>
        </p:blipFill>
        <p:spPr>
          <a:xfrm>
            <a:off x="6357960" y="785880"/>
            <a:ext cx="2622600" cy="1781280"/>
          </a:xfrm>
          <a:prstGeom prst="rect">
            <a:avLst/>
          </a:prstGeom>
          <a:ln w="0">
            <a:noFill/>
          </a:ln>
        </p:spPr>
      </p:pic>
      <p:pic>
        <p:nvPicPr>
          <p:cNvPr id="344" name="Диаграмма 13" descr=""/>
          <p:cNvPicPr/>
          <p:nvPr/>
        </p:nvPicPr>
        <p:blipFill>
          <a:blip r:embed="rId5"/>
          <a:stretch/>
        </p:blipFill>
        <p:spPr>
          <a:xfrm>
            <a:off x="3500280" y="3000240"/>
            <a:ext cx="2622600" cy="1781280"/>
          </a:xfrm>
          <a:prstGeom prst="rect">
            <a:avLst/>
          </a:prstGeom>
          <a:ln w="0">
            <a:noFill/>
          </a:ln>
        </p:spPr>
      </p:pic>
      <p:pic>
        <p:nvPicPr>
          <p:cNvPr id="345" name="Диаграмма 14" descr=""/>
          <p:cNvPicPr/>
          <p:nvPr/>
        </p:nvPicPr>
        <p:blipFill>
          <a:blip r:embed="rId6"/>
          <a:stretch/>
        </p:blipFill>
        <p:spPr>
          <a:xfrm>
            <a:off x="6357960" y="2857680"/>
            <a:ext cx="2622600" cy="1780920"/>
          </a:xfrm>
          <a:prstGeom prst="rect">
            <a:avLst/>
          </a:prstGeom>
          <a:ln w="0">
            <a:noFill/>
          </a:ln>
        </p:spPr>
      </p:pic>
      <p:pic>
        <p:nvPicPr>
          <p:cNvPr id="346" name="Диаграмма 15" descr=""/>
          <p:cNvPicPr/>
          <p:nvPr/>
        </p:nvPicPr>
        <p:blipFill>
          <a:blip r:embed="rId7"/>
          <a:stretch/>
        </p:blipFill>
        <p:spPr>
          <a:xfrm>
            <a:off x="714240" y="4786200"/>
            <a:ext cx="2622600" cy="1781280"/>
          </a:xfrm>
          <a:prstGeom prst="rect">
            <a:avLst/>
          </a:prstGeom>
          <a:ln w="0">
            <a:noFill/>
          </a:ln>
        </p:spPr>
      </p:pic>
      <p:pic>
        <p:nvPicPr>
          <p:cNvPr id="347" name="Диаграмма 16" descr=""/>
          <p:cNvPicPr/>
          <p:nvPr/>
        </p:nvPicPr>
        <p:blipFill>
          <a:blip r:embed="rId8"/>
          <a:stretch/>
        </p:blipFill>
        <p:spPr>
          <a:xfrm>
            <a:off x="6357960" y="4857840"/>
            <a:ext cx="2622600" cy="1780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a50021"/>
                </a:solidFill>
                <a:uFillTx/>
                <a:latin typeface="Arial"/>
              </a:rPr>
              <a:t>Вывод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9280" y="1447560"/>
            <a:ext cx="8394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(от 68% до 90%) опрошенных школьников любят употреблять в пищу чипсы, кириешки, сладкие шоколадные батончики, чупа-чупсы, жевать резинку, пить сладкую газированную вод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% участников анкетирования часто едят эти продук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 – 95% опрошенных знают о вреде такой е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7:59:30Z</dcterms:created>
  <dc:creator>user</dc:creator>
  <dc:description/>
  <dc:language>en-US</dc:language>
  <cp:lastModifiedBy>школа</cp:lastModifiedBy>
  <dcterms:modified xsi:type="dcterms:W3CDTF">2022-05-12T04:02:53Z</dcterms:modified>
  <cp:revision>68</cp:revision>
  <dc:subject/>
  <dc:title>Вкусная вредная еда</dc:title>
</cp:coreProperties>
</file>