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26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768-D1D5-424B-9134-3DA97211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E33-7540-4DF7-B59B-D74BC86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A2DC-91A7-4B2C-A4C2-6B8E958C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76C-6BFA-4E78-8EA7-E5FCCA2E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4843-EA34-42E2-9D73-379B8812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FC6-E59B-4EF8-8E1C-EE00AD6D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44E5-FB08-41AC-9D86-84B6D55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C157-FF12-4E52-9EB8-86B60644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7605-7395-4889-A5FC-3CCFF6DB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9718-D7FE-4103-8D4D-F1EBF4D6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682-8EF0-41C5-8831-2F05F14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2FC-25A5-43AA-8696-C6060542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9EF5-C882-45A1-A504-35C7B9E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733-4C6C-4256-B14F-BECACB5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3454-7F6C-445F-997B-E2FBF5D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B3A4-B843-4BB3-8E2C-0F9B39B5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CD51-5716-4C5C-ADFF-17F70652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C2C9-B0CF-46D5-B455-B04AA181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42A3-3F7F-4347-A712-D71047B7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2B35-02C7-4EBD-8A4F-6D42442E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605B-92B3-485B-8657-C2F56FFD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244DE-ABE0-45F5-84CE-5F3A183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FF0-026D-4643-AEA5-043018F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4F5C-0801-464A-BC2A-DD31E01A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9AF7-660C-4546-92EC-52654391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30B10-1A82-4B0E-A13C-F16926F3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D000-0288-4CD9-B1E8-95C3EA7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DFCB-4936-4BED-AB2D-B7D55ABB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22AF1-73DB-4E05-8780-DA1FF6A6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6CDF-F658-45CF-A91B-218D36A0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63D1-06B1-4E89-AAF3-BECB7543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0602-4D23-45CE-B434-A8E44E80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7E45-762B-454A-99D8-FA198361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D6A-F134-4C2C-8E0A-3EE8F031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2342-D309-43F5-B4BC-C012C55C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B4CB6-A504-46C0-8E45-C94C584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B6EE-0957-4604-8335-47B8F664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B691F-A882-4A78-B9FC-190EF93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37B0C-E0B0-4293-8094-E9865D0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BBB0-B279-493B-A0CF-9955668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57D0-F894-479A-8488-2CB968D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4EF47-4CFB-4656-8BBE-C04623EB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DD6B-5EEA-4FD3-B749-3ECE6D9E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E17E-3489-430D-A840-ABEB5627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43A-EA6E-46BE-A912-92BEF484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2435-9F21-4FAC-94B8-5F1A6766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612A1-6AE9-4480-A766-BA5F092D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6F3B-65C1-4CC1-AAA8-A1931890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0E38-5650-42E3-8D1F-F1AA5111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D9470-C9BF-437D-8352-927678F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17738-6AEB-48B2-B069-411E93B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F637-14A6-4F06-B8C9-CEB6CAA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2F408-9015-4728-B8C2-86F25F8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E4535-9DC8-4475-9287-23DA8E75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9C63E-42D5-4833-9AEA-A2CE9376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C28-967C-4902-9203-7CA7193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DDBB-FB60-4E18-BA7E-70AA0BD6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6E36-B6C3-43C3-B1C1-8E641D50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B6470-402B-41CF-B55E-5B150D64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AF07-1A3C-493C-81D3-A30EC02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4A37-96B6-4A66-8DB4-19A89F4C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E473-4246-405A-9FD7-3B759C32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7E125-30EC-4AE8-B7DF-5650155B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3B993-B95E-4BA3-B2EF-E8971FA6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8D46-300D-4FA2-9D61-E6A05211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CD03-7816-46B0-BD3C-B73F6B3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4FE-67B6-447D-9C73-B0C592A6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3E58-A252-4F2F-97AB-B2EC8546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05387-4F75-4030-84E2-1A8E1629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B443D-91BB-4BE1-B66B-C971AFB1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16294-ED59-46E5-A06E-CEE38790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42080-E5A5-4C03-B5FD-F328E55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D150F-EDC9-4408-A2F7-0F17BEDE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0396-F4E2-43DF-BFA3-319DC470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CFF98-9B80-4320-BD43-F7E921A1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72F99-E64D-4A15-B9BB-16A7EF3C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B06E-A98B-4D43-ABCF-C9151C4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AC7-5162-4D5E-9C9E-711DDA8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36A94-EF17-46C8-B940-02B26C5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8D46-D711-4731-B5BE-3933D4E0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BEAC8-BD61-4CDA-BC0E-91B3C3A0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D9DC1-3733-4F9E-9DD9-6C37DEB1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60687-C01D-4AC8-BDBD-56DDD11B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0A1-F8B4-400E-A144-1C3FA625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875-2827-40CF-B34E-673F22D8F92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17CE-2DA0-4A8E-94D1-2CBC66439FC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1AB5-80F5-47BB-A698-A7E0FD7B77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34DC-1BB1-4693-8E27-F8DDC5B840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7642-9C0D-4985-B303-CD1BD6A14D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3A08-A00C-4A96-91F8-C269C737F42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2174-1F7E-472F-8D87-56B811A489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a50021"/>
                </a:solidFill>
                <a:uFillTx/>
                <a:latin typeface="Corbel"/>
              </a:rPr>
              <a:t>Еда, которая вредна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18920" y="3573000"/>
            <a:ext cx="7219800" cy="278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Выполнила Сургучева Диана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еница 8 класс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МКОУ ХМР «СОШ д.Согом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Руководитель: Кожевникова М.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Безымянный"/>
          <p:cNvPicPr/>
          <p:nvPr/>
        </p:nvPicPr>
        <p:blipFill>
          <a:blip r:embed="rId1"/>
          <a:stretch/>
        </p:blipFill>
        <p:spPr>
          <a:xfrm>
            <a:off x="1000080" y="2071800"/>
            <a:ext cx="30225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184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Исследование состава продуктов </a:t>
            </a:r>
            <a:br>
              <a:rPr sz="2400"/>
            </a:b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(по информации на упаковке) для определения наличия вредных пищевых добавок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5" descr="DSC01767"/>
          <p:cNvPicPr/>
          <p:nvPr/>
        </p:nvPicPr>
        <p:blipFill>
          <a:blip r:embed="rId1"/>
          <a:stretch/>
        </p:blipFill>
        <p:spPr>
          <a:xfrm>
            <a:off x="1116000" y="2349360"/>
            <a:ext cx="3683160" cy="31672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5076720" y="1069920"/>
            <a:ext cx="37101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ип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Lays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ха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рие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рам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упа-чупс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евательная рези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bi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евательные конфе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ttl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околадны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атонч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Snickers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ад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азированные  напит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«Бурати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 является рекла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50021"/>
                </a:solidFill>
                <a:latin typeface="Arial"/>
              </a:rPr>
              <a:t>Результаты исследования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Picture 7" descr="DSC01773"/>
          <p:cNvPicPr/>
          <p:nvPr/>
        </p:nvPicPr>
        <p:blipFill>
          <a:blip r:embed="rId1"/>
          <a:stretch/>
        </p:blipFill>
        <p:spPr>
          <a:xfrm>
            <a:off x="5357880" y="928800"/>
            <a:ext cx="3240000" cy="24336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8"/>
          <p:cNvSpPr/>
          <p:nvPr/>
        </p:nvSpPr>
        <p:spPr>
          <a:xfrm>
            <a:off x="3635280" y="3645000"/>
            <a:ext cx="244800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9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1042920" y="4708800"/>
            <a:ext cx="785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621 (глутамат натр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итель вку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 усваивается организмом и вызывает воспалительные симптомы, задерживает воду в организме и может вызывать отеки, ведущие к повышенному дав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Е330 (лимон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тор кисло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трицательно воздействует на эмаль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7" descr="E:\Фото0566.jpg"/>
          <p:cNvPicPr/>
          <p:nvPr/>
        </p:nvPicPr>
        <p:blipFill>
          <a:blip r:embed="rId2"/>
          <a:stretch/>
        </p:blipFill>
        <p:spPr>
          <a:xfrm>
            <a:off x="1214280" y="928800"/>
            <a:ext cx="350064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50021"/>
                </a:solidFill>
                <a:latin typeface="Arial"/>
              </a:rPr>
              <a:t>Сухарики «Кириешк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187280" y="1125360"/>
          <a:ext cx="4608720" cy="5507280"/>
        </p:xfrm>
        <a:graphic>
          <a:graphicData uri="http://schemas.openxmlformats.org/drawingml/2006/table">
            <a:tbl>
              <a:tblPr/>
              <a:tblGrid>
                <a:gridCol w="4608720"/>
              </a:tblGrid>
              <a:tr h="55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627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зывает расстройство кишеч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63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зывает расстройство кишечни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621 (глутамат натр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тель вкус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е усваивается организмом и вызывает воспалительные симптомы, задерживает воду в организме и может вызывать отеки, ведущие к повышенному давлени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98560"/>
                          <a:tab algn="l" pos="1349280"/>
                          <a:tab algn="l" pos="1798560"/>
                          <a:tab algn="l" pos="2247840"/>
                          <a:tab algn="l" pos="2697120"/>
                          <a:tab algn="l" pos="3146400"/>
                          <a:tab algn="l" pos="3597120"/>
                          <a:tab algn="l" pos="4046400"/>
                          <a:tab algn="l" pos="4495680"/>
                          <a:tab algn="l" pos="4944960"/>
                          <a:tab algn="l" pos="5394240"/>
                          <a:tab algn="l" pos="5845320"/>
                          <a:tab algn="r" pos="60580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330 (лимонная кислота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ятор кислотност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рицательно воздействует на эмаль зуб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0" name="Picture 18" descr="DSC01771"/>
          <p:cNvPicPr/>
          <p:nvPr/>
        </p:nvPicPr>
        <p:blipFill>
          <a:blip r:embed="rId1"/>
          <a:stretch/>
        </p:blipFill>
        <p:spPr>
          <a:xfrm rot="327600">
            <a:off x="6084720" y="1341360"/>
            <a:ext cx="265752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4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Карамель «Чупа-чупс»</a:t>
            </a:r>
            <a:r>
              <a:rPr b="0" lang="ru-RU" sz="35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500"/>
            </a:b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143000" y="3288960"/>
            <a:ext cx="7858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монная кислота, яблочная кисл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торы кислот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трицательно воздействует на эмаль зу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которые чупа-чупсы содержат подозрительные красители, которые очень опасны для здоровья детей (Е102, Е120,Е13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DSC01772"/>
          <p:cNvPicPr/>
          <p:nvPr/>
        </p:nvPicPr>
        <p:blipFill>
          <a:blip r:embed="rId1"/>
          <a:stretch/>
        </p:blipFill>
        <p:spPr>
          <a:xfrm>
            <a:off x="3643200" y="1143000"/>
            <a:ext cx="2863800" cy="2149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260000" y="115920"/>
            <a:ext cx="6643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Жевательная резинка 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Arial"/>
              </a:rPr>
              <a:t>Orbi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1239840" y="976680"/>
            <a:ext cx="7534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7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озрительная пищевая доб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13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зывает нарушение строения кл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3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ислит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трицательно сказывается на печени и п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3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гулятор кислотности – отрицательно воздействует на эмаль зу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296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ч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нсервант, не рекомендуется употребление в больших количест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422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абилизатор, отрицательно влияет на кровообращение и состояние сосу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41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ызывать заболевания органов пищева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21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енитель сахара, вызывает боли в жи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50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ласт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накапливаться, вызывать разные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41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илизат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жет вызывать алл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5320"/>
                <a:tab algn="r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951 (аспар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озаменит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ызывает аллергию, негативно действует на сетчатку глаза, снижая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25560" y="3909600"/>
            <a:ext cx="10512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0080" y="1071360"/>
            <a:ext cx="7934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ная кислота, яблочная кислота – регуляторы кислот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331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рвант, нельзя принимать в больших количеств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903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ет нарушение пищевар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904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ызвать аллерги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20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, может вызвать аллергию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71-Е17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дозрительная пищевая добав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32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ызвать аллергию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60а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жет вызвать различные нарушения зоровь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133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ит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зывает нарушение строения клет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оугольник 4"/>
          <p:cNvSpPr/>
          <p:nvPr/>
        </p:nvSpPr>
        <p:spPr>
          <a:xfrm>
            <a:off x="3298320" y="428760"/>
            <a:ext cx="31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Драже </a:t>
            </a:r>
            <a:r>
              <a:rPr b="1" lang="en-US" sz="3200" spc="-1" strike="noStrike" u="sng">
                <a:solidFill>
                  <a:srgbClr val="a50021"/>
                </a:solidFill>
                <a:uFillTx/>
                <a:latin typeface="Arial"/>
              </a:rPr>
              <a:t>Skittles</a:t>
            </a: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a50021"/>
                </a:solidFill>
                <a:latin typeface="Arial"/>
              </a:rPr>
              <a:t>Шоколадные батончик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332000" y="1859040"/>
            <a:ext cx="734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околадный батончик «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nickers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айдены вредные пищевые доб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DSC01774"/>
          <p:cNvPicPr/>
          <p:nvPr/>
        </p:nvPicPr>
        <p:blipFill>
          <a:blip r:embed="rId1"/>
          <a:stretch/>
        </p:blipFill>
        <p:spPr>
          <a:xfrm>
            <a:off x="3571920" y="3429000"/>
            <a:ext cx="3286080" cy="2239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8915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Сладкие газированные напитки</a:t>
            </a: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410544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Е33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мон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гулятор кислотности – отрицательно воздействует на эмаль зуб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глекислый г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ывает расстройство пищеварения или болевой приступ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88000" y="1197000"/>
            <a:ext cx="4146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глекислый г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зывает расстройство пищеварения или болевой приступ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тофосфорная кис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улятор кисло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пособна вымывать кальций из костей, что опасно развитием остеопороза, при котором возникает повышенная ломкость костей даже при минимальных нагрузках, способствует развитию мочекаменной болезн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фе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зывает истощение нервной системы, усталость, апатию или раздражительность, головные боли.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9" descr="C:\Documents and Settings\Администратор\Рабочий стол\fanta.jpg"/>
          <p:cNvPicPr/>
          <p:nvPr/>
        </p:nvPicPr>
        <p:blipFill>
          <a:blip r:embed="rId1"/>
          <a:stretch/>
        </p:blipFill>
        <p:spPr>
          <a:xfrm rot="20617200">
            <a:off x="3564000" y="2420640"/>
            <a:ext cx="735120" cy="1439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Администратор\Рабочий стол\71789f3fc807.jpg"/>
          <p:cNvPicPr/>
          <p:nvPr/>
        </p:nvPicPr>
        <p:blipFill>
          <a:blip r:embed="rId2"/>
          <a:stretch/>
        </p:blipFill>
        <p:spPr>
          <a:xfrm rot="525000">
            <a:off x="3433320" y="5179680"/>
            <a:ext cx="565200" cy="1046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777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Выводы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71280" y="836280"/>
            <a:ext cx="79628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все продукты (6 из 7), которые были исследованы, содержат те или иные вредные пищевые добавк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аких продуктах, как сухарики «Кириешки», жевательная резинка «Орбит», конфеты «Скиттлс» содержится большое количество добавок с индексом Е, частое употребление которых ведёт к различным заболеваниям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отребл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х продуктов нужн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ключ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ежедневного рациона люде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дкие газированные напитки  «Буратино»,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содержат вредные кислоты и углекислый газ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льзя употребл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напитки детям и подросткам. Лучше пить со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одном продукте из семи, шоколадном батончике «Сникерс», не было обнаружено вредных пищевых добавок согласно указанной информации на упаковк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a50021"/>
                </a:solidFill>
                <a:uFillTx/>
                <a:latin typeface="Arial"/>
              </a:rPr>
              <a:t>Итоги работы над проектом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1447560"/>
            <a:ext cx="84661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твержде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вкусная еда может быть вредной для здоровья челове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 достигну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я нашёл и представил доказательства вредности некоторых продуктов, часто употребляемых детьми и подростка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990720" indent="-533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ые в начале проекта, успеш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71360" y="142920"/>
            <a:ext cx="7862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rbel"/>
              </a:rPr>
              <a:t>Гипотез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кусная еда может быть вредной для здоровья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rbe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найти и представить доказательства вредности некоторых продуктов, часто употребляемых детьми и подростк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orbe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йти в литературе и других источниках сведения о вредных пищевых добавк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овести опрос среди друзей и знакомых по выявлению предпочтений в еде «для удовольствия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следовать состав отобранных продуктов по информации, данной  на упаковк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явить среди ряда продуктов, часто употребляемых детьми и подростками, продукты, содержащие вредные пищевые добав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учиться представлять результаты работы с помощью информационных технологий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72314"/>
                </a:solidFill>
                <a:uFillTx/>
                <a:latin typeface="Arial"/>
              </a:rPr>
              <a:t>Список   информационных источников</a:t>
            </a:r>
            <a:r>
              <a:rPr b="0" lang="ru-RU" sz="3200" spc="-1" strike="noStrike" u="sng">
                <a:solidFill>
                  <a:srgbClr val="57231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71280" y="1447560"/>
            <a:ext cx="79628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да М.И. Запрет пищевой добавки. - «ТВС – анонс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йская А.  Аллергия.  Скажи ей "прощай". – Санкт-Петербург: Издательство «Кристалл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я для детей «Биология». – Москва: «Аванта+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нциклопедический справочник медицины и здоровья. – Москва: «Русское энциклопедическое товарищество»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й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http://www.medzone.r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http://www.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citycat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.r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http://www.soyuzopttorg.ru/catalog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xumuk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8dc765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8dc765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8dc765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Picture 5" descr="12"/>
          <p:cNvPicPr/>
          <p:nvPr/>
        </p:nvPicPr>
        <p:blipFill>
          <a:blip r:embed="rId1"/>
          <a:stretch/>
        </p:blipFill>
        <p:spPr>
          <a:xfrm>
            <a:off x="8388360" y="1773360"/>
            <a:ext cx="5698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5"/>
          <p:cNvSpPr txBox="1"/>
          <p:nvPr/>
        </p:nvSpPr>
        <p:spPr>
          <a:xfrm>
            <a:off x="250920" y="1125360"/>
            <a:ext cx="8208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БУДЬТЕ ЗДОРОВЫ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p:transition spd="slow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99720" y="142560"/>
            <a:ext cx="8001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Этапы работы</a:t>
            </a:r>
            <a:r>
              <a:rPr b="0" lang="ru-RU" sz="1800" spc="-1" strike="noStrike">
                <a:solidFill>
                  <a:srgbClr val="a50021"/>
                </a:solidFill>
                <a:latin typeface="Corbel"/>
              </a:rPr>
              <a:t>:</a:t>
            </a:r>
            <a:r>
              <a:rPr b="0" lang="ru-RU" sz="1800" spc="-1" strike="noStrike">
                <a:solidFill>
                  <a:srgbClr val="713204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тановка проблемы. Выдвижение гипотезы. Определение задач. Изучение информационных источников о вредных пищевых добавка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кетирование среди школьников. Исследование состава «вкусных» продуктов (по информации на упаковке) для определения в них наличия вредных пищевых добавок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едставление результатов. Подведение итогов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Объек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: чипсы, сухарики-кириешки, безалкогольные газированные напитки, жевательная резинка, шоколадные батончики, карамель «чупа-чупс»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Предме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: наличие вредных пищевых добавок в продуктах пит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        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Методы</a:t>
            </a:r>
            <a:r>
              <a:rPr b="0" lang="ru-RU" sz="1600" spc="-1" strike="noStrike">
                <a:solidFill>
                  <a:srgbClr val="713204"/>
                </a:solidFill>
                <a:latin typeface="Corbe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зучение литературы и других источников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кетирование школьников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анализ состава продуктов по данным на упаковк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a50021"/>
                </a:solidFill>
                <a:uFillTx/>
                <a:latin typeface="Corbel"/>
              </a:rPr>
              <a:t>Область применения</a:t>
            </a:r>
            <a:r>
              <a:rPr b="1" lang="en-US" sz="1800" spc="-1" strike="noStrike" u="sng">
                <a:solidFill>
                  <a:srgbClr val="a50021"/>
                </a:solidFill>
                <a:uFillTx/>
                <a:latin typeface="Corbel"/>
              </a:rPr>
              <a:t> </a:t>
            </a:r>
            <a:r>
              <a:rPr b="1" lang="ru-RU" sz="1800" spc="-1" strike="noStrike" u="sng">
                <a:solidFill>
                  <a:srgbClr val="a50021"/>
                </a:solidFill>
                <a:uFillTx/>
                <a:latin typeface="Arial"/>
              </a:rPr>
              <a:t>полученных знаний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ыту,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лассные часы на тему правильного питания, уроки окружающего мир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   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a50021"/>
                </a:solidFill>
                <a:latin typeface="Arial"/>
              </a:rPr>
              <a:t>Что такое пищевые добавки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16000" y="1844280"/>
            <a:ext cx="7818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 u="sng">
                <a:solidFill>
                  <a:srgbClr val="584604"/>
                </a:solidFill>
                <a:uFillTx/>
                <a:latin typeface="Arial"/>
              </a:rPr>
              <a:t>Пищевые добав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ещества, которые вводят в продукты по технологическим соображениям, чтобы увеличить срок пригодности продуктов, улучшить их вкусовые качества, внешний вид, получить необходимую консистенцию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a50021"/>
                </a:solidFill>
                <a:uFillTx/>
                <a:latin typeface="Arial"/>
              </a:rPr>
              <a:t>Е - коды пищевых добавок:</a:t>
            </a:r>
            <a:r>
              <a:rPr b="1" lang="ru-RU" sz="3200" spc="-1" strike="noStrike">
                <a:solidFill>
                  <a:srgbClr val="572314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71280" y="836280"/>
            <a:ext cx="79628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00-E182 – красители (устанавливают или восстанавливают цвет продукта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200-E299 – консерванты (повышают срок хранения продуктов, защищая их от микробов, грибков).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300-E399 – антиокислители (защищают от окисления, например от прогорания жиров и изменения цвета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400-E499 – стабилизаторы (сохраняют заданную консистенцию) и загустители (повышают вязкость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500-E599 – эмульгаторы (создают однородную смесь несмешиваемых фаз, например воды и масла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600-E699 – усилители вкуса и аромат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700-E899 – запасные индекс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900-E999 – пеногасители (предупреждают или снижают образование пены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100-E1105 – ферменты, биологические катализатор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400-E1450 – модифицированные крахмалы для создания необходимой консистен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1510-E1520 – растворител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2.jpg"/>
          <p:cNvPicPr/>
          <p:nvPr/>
        </p:nvPicPr>
        <p:blipFill>
          <a:blip r:embed="rId1"/>
          <a:stretch/>
        </p:blipFill>
        <p:spPr>
          <a:xfrm>
            <a:off x="7451640" y="3068640"/>
            <a:ext cx="15447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8184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Не разрешены в России следующие пищевые добавки: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9628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103, E107, E125, E127, E128, E140, E153-155, E160d, E160f, E166, E173-175, E180, E182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209, E213-219, E225-228, E230-233, E237, E238, E241, E263, E264, E282, E283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302, E303, E305, E308-314, E317, E318, E323-325, E328, E329, E343-345, E349-352, E355-357, E359, E365-368, E370, E375, E381, E384, E387-390, E39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403, E408, E409, E418, E419, E429-E436, E441-444, E446, E462, E463, E465, E467, E474, E476-480, E482-489, E491-496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505, E512, E519, E521-523, E535, E537, E538, E541, E542, E550, E554-557, E559, E560, E574, E576, E577, E580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622-625, E628, E629, E632-635, E640, E641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906, E908, E909-911, E913, E916-919, E922, E923, E924b, E925, E926, E929, E943a, E943b, E944-946, E957, E959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E1000, E1001, E1105, E1503, E1521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ЗАПРЕЩЕНЫ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121 (краситель цитрусовый красный 2)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123 (красный эмарант)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240 (консервант формальдегид)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71600" y="356760"/>
            <a:ext cx="48625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a50021"/>
                </a:solidFill>
                <a:latin typeface="Arial"/>
              </a:rPr>
              <a:t>Анкетирование </a:t>
            </a:r>
            <a:br>
              <a:rPr sz="2900"/>
            </a:br>
            <a:r>
              <a:rPr b="1" lang="ru-RU" sz="2900" spc="-1" strike="noStrike" u="sng">
                <a:solidFill>
                  <a:srgbClr val="a50021"/>
                </a:solidFill>
                <a:uFillTx/>
                <a:latin typeface="Arial"/>
              </a:rPr>
              <a:t>«Любишь ли ты это есть?»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00080" y="2285640"/>
            <a:ext cx="79344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шь  ли ты есть чипсы, кириешки, сладкие шоколадные батончики, чупа-чупсы, жевать резинку, пить сладкую газированную воду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ли ты употребляешь в пищу эти продукты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ешь ли ты о вредности этих «вкусняшек» для  челове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читос"/>
          <p:cNvPicPr/>
          <p:nvPr/>
        </p:nvPicPr>
        <p:blipFill>
          <a:blip r:embed="rId1"/>
          <a:stretch/>
        </p:blipFill>
        <p:spPr>
          <a:xfrm rot="20611800">
            <a:off x="8034480" y="2452320"/>
            <a:ext cx="793440" cy="8524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fanta"/>
          <p:cNvPicPr/>
          <p:nvPr/>
        </p:nvPicPr>
        <p:blipFill>
          <a:blip r:embed="rId2"/>
          <a:stretch/>
        </p:blipFill>
        <p:spPr>
          <a:xfrm rot="20617200">
            <a:off x="1141200" y="2968200"/>
            <a:ext cx="458640" cy="900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Фото0568"/>
          <p:cNvPicPr/>
          <p:nvPr/>
        </p:nvPicPr>
        <p:blipFill>
          <a:blip r:embed="rId3"/>
          <a:stretch/>
        </p:blipFill>
        <p:spPr>
          <a:xfrm>
            <a:off x="1214280" y="214200"/>
            <a:ext cx="26434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817"/>
                </a:solidFill>
                <a:latin typeface="Arial"/>
              </a:rPr>
              <a:t>Результаты опроса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Диаграмма 9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2622240" cy="1781280"/>
          </a:xfrm>
          <a:prstGeom prst="rect">
            <a:avLst/>
          </a:prstGeom>
          <a:ln w="0">
            <a:noFill/>
          </a:ln>
        </p:spPr>
      </p:pic>
      <p:pic>
        <p:nvPicPr>
          <p:cNvPr id="341" name="Диаграмма 10" descr=""/>
          <p:cNvPicPr/>
          <p:nvPr/>
        </p:nvPicPr>
        <p:blipFill>
          <a:blip r:embed="rId2"/>
          <a:stretch/>
        </p:blipFill>
        <p:spPr>
          <a:xfrm>
            <a:off x="3357720" y="1000080"/>
            <a:ext cx="2622240" cy="1781280"/>
          </a:xfrm>
          <a:prstGeom prst="rect">
            <a:avLst/>
          </a:prstGeom>
          <a:ln w="0">
            <a:noFill/>
          </a:ln>
        </p:spPr>
      </p:pic>
      <p:pic>
        <p:nvPicPr>
          <p:cNvPr id="342" name="Диаграмма 11" descr=""/>
          <p:cNvPicPr/>
          <p:nvPr/>
        </p:nvPicPr>
        <p:blipFill>
          <a:blip r:embed="rId3"/>
          <a:stretch/>
        </p:blipFill>
        <p:spPr>
          <a:xfrm>
            <a:off x="500040" y="278604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3" name="Диаграмма 12" descr=""/>
          <p:cNvPicPr/>
          <p:nvPr/>
        </p:nvPicPr>
        <p:blipFill>
          <a:blip r:embed="rId4"/>
          <a:stretch/>
        </p:blipFill>
        <p:spPr>
          <a:xfrm>
            <a:off x="6357960" y="78588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4" name="Диаграмма 13" descr=""/>
          <p:cNvPicPr/>
          <p:nvPr/>
        </p:nvPicPr>
        <p:blipFill>
          <a:blip r:embed="rId5"/>
          <a:stretch/>
        </p:blipFill>
        <p:spPr>
          <a:xfrm>
            <a:off x="3500280" y="300024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5" name="Диаграмма 14" descr=""/>
          <p:cNvPicPr/>
          <p:nvPr/>
        </p:nvPicPr>
        <p:blipFill>
          <a:blip r:embed="rId6"/>
          <a:stretch/>
        </p:blipFill>
        <p:spPr>
          <a:xfrm>
            <a:off x="6357960" y="2857680"/>
            <a:ext cx="2622600" cy="1780920"/>
          </a:xfrm>
          <a:prstGeom prst="rect">
            <a:avLst/>
          </a:prstGeom>
          <a:ln w="0">
            <a:noFill/>
          </a:ln>
        </p:spPr>
      </p:pic>
      <p:pic>
        <p:nvPicPr>
          <p:cNvPr id="346" name="Диаграмма 15" descr=""/>
          <p:cNvPicPr/>
          <p:nvPr/>
        </p:nvPicPr>
        <p:blipFill>
          <a:blip r:embed="rId7"/>
          <a:stretch/>
        </p:blipFill>
        <p:spPr>
          <a:xfrm>
            <a:off x="714240" y="4786200"/>
            <a:ext cx="2622600" cy="1781280"/>
          </a:xfrm>
          <a:prstGeom prst="rect">
            <a:avLst/>
          </a:prstGeom>
          <a:ln w="0">
            <a:noFill/>
          </a:ln>
        </p:spPr>
      </p:pic>
      <p:pic>
        <p:nvPicPr>
          <p:cNvPr id="347" name="Диаграмма 16" descr=""/>
          <p:cNvPicPr/>
          <p:nvPr/>
        </p:nvPicPr>
        <p:blipFill>
          <a:blip r:embed="rId8"/>
          <a:stretch/>
        </p:blipFill>
        <p:spPr>
          <a:xfrm>
            <a:off x="6357960" y="4857840"/>
            <a:ext cx="2622600" cy="1780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 u="sng">
                <a:solidFill>
                  <a:srgbClr val="a50021"/>
                </a:solidFill>
                <a:uFillTx/>
                <a:latin typeface="Arial"/>
              </a:rPr>
              <a:t>Вывод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9280" y="1447560"/>
            <a:ext cx="8394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нство (от 68% до 90%) опрошенных школьников любят употреблять в пищу чипсы, кириешки, сладкие шоколадные батончики, чупа-чупсы, жевать резинку, пить сладкую газированную воду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% участников анкетирования часто едят эти продукт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 – 95% опрошенных знают о вреде такой е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7:59:30Z</dcterms:created>
  <dc:creator>user</dc:creator>
  <dc:description/>
  <dc:language>en-US</dc:language>
  <cp:lastModifiedBy>школа</cp:lastModifiedBy>
  <dcterms:modified xsi:type="dcterms:W3CDTF">2022-05-12T04:02:53Z</dcterms:modified>
  <cp:revision>68</cp:revision>
  <dc:subject/>
  <dc:title>Вкусная вредная еда</dc:title>
</cp:coreProperties>
</file>