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1A8B753-DF9E-455A-93AD-01AB1A0A00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30DA-CA1D-4B18-9736-58F6ECE71E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C69F-A24A-41CC-AAD5-D12091AC24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A2A4-FF39-4CE8-B681-4D47701A1B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7DD0-3EFD-4D72-B57E-8CB25DDABA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E9A-A730-42A7-A97E-8F27C59E6F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432-F3A5-4393-9951-3AE2D4C00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78E9-B680-4321-B2E0-E976767FF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41F5-009E-4C6D-95FC-B4E890C88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78FA-94A7-4343-8B3D-262934F5F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9AC6-DFD1-45DD-A93B-8B720B49C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C80-D05B-4DDC-B4AF-874B96886C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BBC5-61EA-4768-87A3-01609D71C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8BEC-C56A-420F-BECF-8488D8D30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CF66-0E63-4413-BDCF-D634B48BE2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6AA-0335-4EC4-8A60-35F5E22577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4AFF-2E73-4A50-B216-68C310EB56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82FB-5FB6-446C-97BA-6D6DCA856C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43C-7466-446E-81EB-B60AA2485B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E94-9742-4069-A340-61FA67F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2C4-11E2-41D6-9049-95C86149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C87-2610-43A8-A79F-28A0AB74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DF8-719F-4ED5-B522-4353D793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0DC4-551B-4562-AC10-D8BB8805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FEB4D-5E48-4854-9C19-6AC69F0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B0BB4-9233-40D4-9360-19579971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A438-BFB6-465B-97E0-4C5CD905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1239E-195E-4F01-89C6-4E4CE6B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79EC6-0A5B-4209-BC1E-43BCB54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769ED-3A55-4566-A48D-8803599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CA1-AEB8-4ADE-97F3-E9A4138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F8910-A8E3-4BE2-87BD-7A7683F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4F5CC-DE68-4727-8257-0210B47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E4FC4-898C-4D50-B4FC-5B1BC452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B4D53-F887-4153-9404-45A2C05B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371C5-3B35-4886-AF25-CCD5BFBE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1C9-9F66-4F1A-B40D-AC7046CA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182-8379-431B-BAC2-FCEA26FC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0D1-413A-4447-A29A-9CCC8AE9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449-E5D6-4677-B400-9B0D6AAF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E58-1A27-4DC9-95D0-9DA346D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3AD-270B-4839-9BCC-1547894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5B2-23FF-4A8B-8335-C9F4377F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0FB-C727-4B2B-892D-25EB0AB29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CD4-7621-4FDD-B0BB-929185B675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ектная рабо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Создание здоровьесберегающего образовательного пространства как  условие повышения качества образовани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3"/>
          <p:cNvSpPr/>
          <p:nvPr/>
        </p:nvSpPr>
        <p:spPr>
          <a:xfrm>
            <a:off x="395280" y="907920"/>
            <a:ext cx="7993080" cy="57610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42960" y="-142920"/>
            <a:ext cx="8066160" cy="928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жидаемые результаты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14200" y="3366000"/>
            <a:ext cx="8715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907920"/>
            <a:ext cx="7201080" cy="4757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Наличие сформированных навыков и стереотипов здорового образа жизни у обучающих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беспечение каждому ученику уровня образования в зависимости от состояния здоровья, индивидуальных способностей, склонностей и потребностей обучающих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Замотивированность на здоровый образ жизни детей и подрост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Сформированность ценностного отношения к культуре здоровья учеников шко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5. Квалифицированные педагогические кадры, осуществляющие работу школы, связанную с оздоровлением обучающих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. Скоординированные действия школы и семьи в организации по созданию здоровьесберегающего простран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. Снижение уровня заболеваемости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8. Формирование здорового образа жизни в сем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9. Формирование отношения детей и их родителей к своему здоровью как к основному  фактору успеха на последующих этапах жиз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0. Введение оптимального режима труда и отдыха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95280" y="1714680"/>
            <a:ext cx="824868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ной из приоритетных задач реформирования системы образования становится сегодня сбережение и укрепление здоровья учащихся, формирование у них ценности здоровья, здорового образа жизни, выбора образовательных технологий, адекватных возрасту, устраняющих перегрузки и сохраняющих здоровье школь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28800" y="358560"/>
            <a:ext cx="7429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3"/>
          <p:cNvSpPr/>
          <p:nvPr/>
        </p:nvSpPr>
        <p:spPr>
          <a:xfrm>
            <a:off x="108000" y="1071720"/>
            <a:ext cx="9036000" cy="559116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5280" y="164304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данным исследований Минздрава и Госкомэпиднадзора России лишь 14% детей практически здоровы, 50% имеют функциональные отклонения, 35-40% хронические заболевания. Среди школьников за период обучения в 5 раз возрастает частота нарушений органов зрения, в 3 раза - патология пищеварения и мочеполовой системы, в 5 раз - нарушение осанки, в 4 раза - нервно-психических расстройст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95280" y="1643040"/>
            <a:ext cx="849780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единого здоровьесберегающего пространства для формирования и воспитания гармонично развитой личности, физического и психического комфорта в условиях школы, сохранения и укрепления здоровья и социализации всех участников образовательного процесс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Цель проекта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95280" y="1643040"/>
            <a:ext cx="831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педагогической деятельности с наибольшим эффектом для сохранения и укрепления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навыков и стереотипов здорового образа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отивация на здоровый образ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ценностного отношения к культуре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шение квалификации педагогических кадров школы по организации работы, связанной с оздоровлением обучающих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ординация действия школы и семьи в организации различных форм работы по формированию здоровьесберегающего простран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3"/>
          <p:cNvSpPr/>
          <p:nvPr/>
        </p:nvSpPr>
        <p:spPr>
          <a:xfrm>
            <a:off x="0" y="1000080"/>
            <a:ext cx="9144000" cy="528660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95280" y="1643040"/>
            <a:ext cx="8248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правленческого механизм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здание материально-технической базы в соответств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анитарно-гигиеническими нормами и правил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онирования  образовательного учрежд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иск и внедрение здоровьесберегающих педагогических технолог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сновные направления  проект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95280" y="1643040"/>
            <a:ext cx="87487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ительный этап 2015 – 2016 учебный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новых Санитарно-эпидемиологических правил и нормативов (СанПиН 2.4.2. 2821– 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материально – технической базы образовательного учреждения для реализации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ение паспортов здоровья учащих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теоретических материалов по проблеме «От здоровьесберегающего пространства школы – к здоровой наци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уровня педагогического профессионализма коллектива через семинары, мастер- классы и др. формы рабо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исследования, мониторинги, диагностирования учащихся, родителей, педагогов по проблеме реализации про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ие педсовета «От здоровьесберегающего пространства школы – к здоровой наци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14240" y="0"/>
            <a:ext cx="799488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468360" y="1052640"/>
            <a:ext cx="8137440" cy="640872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Практический этап 2020 – 2022 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с учащимися мероприятий, способствующих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освоению учащимися нормативного поведени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построение собственной позиции, своего отношения к усваиваемым нормам и ценностям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здоровой социокультурной среды для становления социально активной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стойкой личности, способной самостоятельно строить собственную жизнь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филактике безнадзорности и правонарушений несовершеннолетних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организации занятости детей во внеурочное врем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ершенствованию работы по сотрудничеству с социокультурными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ями гор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беспечение качественного и рационального двухразового питания школьник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 Психопрофилактическая работа, направленная на повышение степени устойчивости 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ессовых ситуациях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4. Проведение дней здоровья, олимпиад и других мероприятий для школьников с участ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педагогов и родителей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.Социальное партнерство семьи и школы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систематическое оказание помощи родителям по воспитанию самостоятельности и ответственности у детей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ивлечение родителей к воспитательной деятельности школы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информирование родителей, общественности обо всех мероприятиях школьной жизни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использование возможностей школьного сайт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оведение родительских конференций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оведение всеобуча с родителями по созданию благоприятной атмосферы в семье для воспитания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здорового, всесторонне развитого ребенк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6. Проведение систематических тренингов и семинаров для учителей по освоению современных педагогических технологий воспитания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технологии педагогического общени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формы и методы педагогической поддержки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едагогические требования в контексте культуры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едагогические конфликты и пути их решени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иемы и методы создания ситуации успех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информационное воздействие педагогов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сохранение и укрепление здоровья, профилактика вредных привычек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методы коррекции отклоняющегося поведения учащихся группы риск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методы работы с детьми «с особыми нуждами»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технологии работы с разными категориями семей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 Установление связей и сотрудничества с общественными и другими заинтересованными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ями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84360" y="0"/>
            <a:ext cx="799452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179280" y="2133720"/>
            <a:ext cx="8640720" cy="360036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826920" y="549360"/>
            <a:ext cx="799488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049120"/>
            <a:ext cx="889308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Аналитический этап 2019 г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1.Анализ и корректировка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2. Проведение педагогического совета, по результатам работы над проек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3. Проектирование деятельности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4. Подготовка аналитических справок, отчетов по реализации проекта «Создание здоровьесберегающего образовательного пространства    как условие повышения качества образования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0:38:20Z</dcterms:created>
  <dc:creator>Peterson</dc:creator>
  <dc:description/>
  <dc:language>en-US</dc:language>
  <cp:lastModifiedBy>Иван</cp:lastModifiedBy>
  <dcterms:modified xsi:type="dcterms:W3CDTF">2022-05-06T14:29:46Z</dcterms:modified>
  <cp:revision>193</cp:revision>
  <dc:subject/>
  <dc:title>Презентация PowerPoint</dc:title>
</cp:coreProperties>
</file>