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639B38A-66F1-40FC-9C3B-E646158DA5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BF57-E549-46C4-BE2C-1DDDE961E1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76F8-681E-4D81-9060-1350B7535A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акими мы хотим видеть учащихся и выпускников начальной школы. Поэтому основную задачу начальной школы можно сформулировать следующим образом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оддерживать и развивать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основные достижения дошкольного периода развития, не прерывая и не подавляя ни одну из линий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формировать на этой основе учебную самостоятельность младших школьников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Достижение этой задачи будет способствовать и успешному учению на следующей ступени. Это возможно, если учебный процесс нацелен на становление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ченического сообществ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– групп детей, объединяемых и объединяющихся для совместной учебной деятельно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8F67-69C2-4E21-9055-3D902A6982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2E68-6018-41B0-A94D-2DBED5AE8B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акими мы хотим видеть учащихся и выпускников начальной школы. Поэтому основную задачу начальной школы можно сформулировать следующим образом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оддерживать и развивать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основные достижения дошкольного периода развития, не прерывая и не подавляя ни одну из линий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формировать на этой основе учебную самостоятельность младших школьников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Достижение этой задачи будет способствовать и успешному учению на следующей ступени. Это возможно, если учебный процесс нацелен на становление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ченического сообществ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– групп детей, объединяемых и объединяющихся для совместной учебной деятельно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1CA1-7E05-480B-AF47-5B8274A344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D7E7-ABEA-46F0-AD95-00E020F5F6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акими мы хотим видеть учащихся и выпускников начальной школы. Поэтому основную задачу начальной школы можно сформулировать следующим образом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оддерживать и развивать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основные достижения дошкольного периода развития, не прерывая и не подавляя ни одну из линий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формировать на этой основе учебную самостоятельность младших школьников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Достижение этой задачи будет способствовать и успешному учению на следующей ступени. Это возможно, если учебный процесс нацелен на становление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ченического сообществ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– групп детей, объединяемых и объединяющихся для совместной учебной деятельно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4C3E-3FBF-4686-9B53-855163E5C2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FB80-802C-48AA-B27E-EE4CB69B9B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акими мы хотим видеть учащихся и выпускников начальной школы. Поэтому основную задачу начальной школы можно сформулировать следующим образом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оддерживать и развивать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основные достижения дошкольного периода развития, не прерывая и не подавляя ни одну из линий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формировать на этой основе учебную самостоятельность младших школьников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Достижение этой задачи будет способствовать и успешному учению на следующей ступени. Это возможно, если учебный процесс нацелен на становление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ченического сообществ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– групп детей, объединяемых и объединяющихся для совместной учебной деятельно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9CDF-7EE2-4AF6-9727-CFD8F98986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DF7F-F5B5-46E0-9C35-A22BB691E5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акими мы хотим видеть учащихся и выпускников начальной школы. Поэтому основную задачу начальной школы можно сформулировать следующим образом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оддерживать и развивать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основные достижения дошкольного периода развития, не прерывая и не подавляя ни одну из линий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формировать на этой основе учебную самостоятельность младших школьников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Достижение этой задачи будет способствовать и успешному учению на следующей ступени. Это возможно, если учебный процесс нацелен на становление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ченического сообществ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– групп детей, объединяемых и объединяющихся для совместной учебной деятельно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8CB6-9F89-4986-932E-B28A97F38E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E266-82CF-499A-8911-DF21C3BAB8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акими мы хотим видеть учащихся и выпускников начальной школы. Поэтому основную задачу начальной школы можно сформулировать следующим образом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оддерживать и развивать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основные достижения дошкольного периода развития, не прерывая и не подавляя ни одну из линий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формировать на этой основе учебную самостоятельность младших школьников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Достижение этой задачи будет способствовать и успешному учению на следующей ступени. Это возможно, если учебный процесс нацелен на становление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ченического сообществ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– групп детей, объединяемых и объединяющихся для совместной учебной деятельно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DBFE-F1EC-48E1-B981-BF85034982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1DCA-DA96-4F0E-9284-E3C449FE6F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акими мы хотим видеть учащихся и выпускников начальной школы. Поэтому основную задачу начальной школы можно сформулировать следующим образом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оддерживать и развивать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основные достижения дошкольного периода развития, не прерывая и не подавляя ни одну из линий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формировать на этой основе учебную самостоятельность младших школьников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Достижение этой задачи будет способствовать и успешному учению на следующей ступени. Это возможно, если учебный процесс нацелен на становление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ченического сообществ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– групп детей, объединяемых и объединяющихся для совместной учебной деятельно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6ADC-C3DC-44E8-8EFB-F95C717D5D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0A5E-B865-4583-9EFB-EEC75E36D3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акими мы хотим видеть учащихся и выпускников начальной школы. Поэтому основную задачу начальной школы можно сформулировать следующим образом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оддерживать и развивать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основные достижения дошкольного периода развития, не прерывая и не подавляя ни одну из линий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формировать на этой основе учебную самостоятельность младших школьников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Достижение этой задачи будет способствовать и успешному учению на следующей ступени. Это возможно, если учебный процесс нацелен на становление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ченического сообществ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– групп детей, объединяемых и объединяющихся для совместной учебной деятельно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ADF4-9517-4713-808F-B9BAB68563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214C-BBCA-4EBA-8B36-27809471A5C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акими мы хотим видеть учащихся и выпускников начальной школы. Поэтому основную задачу начальной школы можно сформулировать следующим образом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оддерживать и развивать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основные достижения дошкольного периода развития, не прерывая и не подавляя ни одну из линий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формировать на этой основе учебную самостоятельность младших школьников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Достижение этой задачи будет способствовать и успешному учению на следующей ступени. Это возможно, если учебный процесс нацелен на становление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ченического сообществ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– групп детей, объединяемых и объединяющихся для совместной учебной деятельно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3B7A-FD40-47C3-B86E-D82F8EEDE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1ADB-AE09-4743-95DA-49431C38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6748-BAFC-43DD-B61B-88BE37F8F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C978-DE1F-43A8-8F85-5C3DEF630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00DD5-E5C3-4BBA-8B5C-E17873CD8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9A00C-ADD1-4CB5-900A-97A83AD0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D1E60-446D-4388-98DE-1FF702C2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21377-8518-4903-B6F3-6C577E41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13B3A-DB9A-47A9-A9A6-39946670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F27EE-73CC-470A-943E-21E51D3C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71AC9-7680-4B98-8539-9B381613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90B0-A5B4-426C-A4C4-BA1A8E30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A2236-C009-407F-8D47-5EFA77FE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699C1-6CD0-4D9B-B171-5D864961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0316E-4890-45A5-86E8-6983783C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F301C-03FE-4545-AA0C-41340EBC2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318F7-DE63-4C85-9996-FC71554D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9D3A-5BC2-4794-9AB7-D4D943C4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FA33-1BA6-4959-BBB9-AD215646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E7D2-D935-4EA2-8E70-4FBCB609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9C58-1567-4B2B-810A-1C18415B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889C-C579-4AEF-B2BD-A175C4F2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83F3-814A-45D0-B6D5-748F0B85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BC78-2E98-4B2D-9599-4898C4E5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F4C3-179F-4D5D-8F2B-159DF40B1B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947F-B7EB-4EBF-8B99-63FB5E3699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оектная работ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«Создание здоровьесберегающего образовательного пространства как  условие повышения качества образования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3"/>
          <p:cNvSpPr/>
          <p:nvPr/>
        </p:nvSpPr>
        <p:spPr>
          <a:xfrm>
            <a:off x="395280" y="907920"/>
            <a:ext cx="7993080" cy="5761080"/>
          </a:xfrm>
          <a:prstGeom prst="roundRect">
            <a:avLst>
              <a:gd name="adj" fmla="val 16667"/>
            </a:avLst>
          </a:prstGeom>
          <a:solidFill>
            <a:srgbClr val="99ccff">
              <a:alpha val="85000"/>
            </a:srgbClr>
          </a:solidFill>
          <a:ln w="19080">
            <a:solidFill>
              <a:srgbClr val="6ec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642960" y="-142920"/>
            <a:ext cx="8066160" cy="9288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5e47"/>
              </a:gs>
              <a:gs pos="50000">
                <a:srgbClr val="33cccc"/>
              </a:gs>
              <a:gs pos="100000">
                <a:srgbClr val="005e47"/>
              </a:gs>
            </a:gsLst>
            <a:lin ang="5400000"/>
          </a:gradFill>
          <a:ln w="28440">
            <a:solidFill>
              <a:srgbClr val="000099"/>
            </a:solidFill>
            <a:miter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жидаемые результаты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214200" y="3366000"/>
            <a:ext cx="87156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907920"/>
            <a:ext cx="7201080" cy="4757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1.Наличие сформированных навыков и стереотипов здорового образа жизни у обучающихс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2. Обеспечение каждому ученику уровня образования в зависимости от состояния здоровья, индивидуальных способностей, склонностей и потребностей обучающихс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3. Замотивированность на здоровый образ жизни детей и подростк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4. Сформированность ценностного отношения к культуре здоровья учеников школ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5. Квалифицированные педагогические кадры, осуществляющие работу школы, связанную с оздоровлением обучающихс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6. Скоординированные действия школы и семьи в организации по созданию здоровьесберегающего пространств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7. Снижение уровня заболеваемости дете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8. Формирование здорового образа жизни в семь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9. Формирование отношения детей и их родителей к своему здоровью как к основному  фактору успеха на последующих этапах жизн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10. Введение оптимального режима труда и отдыха дете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3"/>
          <p:cNvSpPr/>
          <p:nvPr/>
        </p:nvSpPr>
        <p:spPr>
          <a:xfrm>
            <a:off x="0" y="1071720"/>
            <a:ext cx="9144000" cy="5286240"/>
          </a:xfrm>
          <a:prstGeom prst="roundRect">
            <a:avLst>
              <a:gd name="adj" fmla="val 16667"/>
            </a:avLst>
          </a:prstGeom>
          <a:solidFill>
            <a:srgbClr val="99ccff">
              <a:alpha val="85000"/>
            </a:srgbClr>
          </a:solidFill>
          <a:ln w="19080">
            <a:solidFill>
              <a:srgbClr val="6ec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395280" y="1714680"/>
            <a:ext cx="8248680" cy="35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дной из приоритетных задач реформирования системы образования становится сегодня сбережение и укрепление здоровья учащихся, формирование у них ценности здоровья, здорового образа жизни, выбора образовательных технологий, адекватных возрасту, устраняющих перегрузки и сохраняющих здоровье школьни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571680" y="0"/>
            <a:ext cx="8137440" cy="1214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5e47"/>
              </a:gs>
              <a:gs pos="50000">
                <a:srgbClr val="33cccc"/>
              </a:gs>
              <a:gs pos="100000">
                <a:srgbClr val="005e47"/>
              </a:gs>
            </a:gsLst>
            <a:lin ang="5400000"/>
          </a:gradFill>
          <a:ln w="28440">
            <a:solidFill>
              <a:srgbClr val="000099"/>
            </a:solidFill>
            <a:miter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928800" y="358560"/>
            <a:ext cx="74293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уальность тем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3"/>
          <p:cNvSpPr/>
          <p:nvPr/>
        </p:nvSpPr>
        <p:spPr>
          <a:xfrm>
            <a:off x="108000" y="1071720"/>
            <a:ext cx="9036000" cy="5591160"/>
          </a:xfrm>
          <a:prstGeom prst="roundRect">
            <a:avLst>
              <a:gd name="adj" fmla="val 16667"/>
            </a:avLst>
          </a:prstGeom>
          <a:solidFill>
            <a:srgbClr val="99ccff">
              <a:alpha val="85000"/>
            </a:srgbClr>
          </a:solidFill>
          <a:ln w="19080">
            <a:solidFill>
              <a:srgbClr val="6ec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395280" y="1643040"/>
            <a:ext cx="8497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данным исследований Минздрава и Госкомэпиднадзора России лишь 14% детей практически здоровы, 50% имеют функциональные отклонения, 35-40% хронические заболевания. Среди школьников за период обучения в 5 раз возрастает частота нарушений органов зрения, в 3 раза - патология пищеварения и мочеполовой системы, в 5 раз - нарушение осанки, в 4 раза - нервно-психических расстройст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571680" y="0"/>
            <a:ext cx="8137440" cy="1214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5e47"/>
              </a:gs>
              <a:gs pos="50000">
                <a:srgbClr val="33cccc"/>
              </a:gs>
              <a:gs pos="100000">
                <a:srgbClr val="005e47"/>
              </a:gs>
            </a:gsLst>
            <a:lin ang="5400000"/>
          </a:gradFill>
          <a:ln w="28440">
            <a:solidFill>
              <a:srgbClr val="000099"/>
            </a:solidFill>
            <a:miter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уальность тем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3"/>
          <p:cNvSpPr/>
          <p:nvPr/>
        </p:nvSpPr>
        <p:spPr>
          <a:xfrm>
            <a:off x="0" y="1071720"/>
            <a:ext cx="9144000" cy="5286240"/>
          </a:xfrm>
          <a:prstGeom prst="roundRect">
            <a:avLst>
              <a:gd name="adj" fmla="val 16667"/>
            </a:avLst>
          </a:prstGeom>
          <a:solidFill>
            <a:srgbClr val="99ccff">
              <a:alpha val="85000"/>
            </a:srgbClr>
          </a:solidFill>
          <a:ln w="19080">
            <a:solidFill>
              <a:srgbClr val="6ec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95280" y="1643040"/>
            <a:ext cx="8497800" cy="40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ние единого здоровьесберегающего пространства для формирования и воспитания гармонично развитой личности, физического и психического комфорта в условиях школы, сохранения и укрепления здоровья и социализации всех участников образовательного процесс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571680" y="0"/>
            <a:ext cx="8137440" cy="1214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5e47"/>
              </a:gs>
              <a:gs pos="50000">
                <a:srgbClr val="33cccc"/>
              </a:gs>
              <a:gs pos="100000">
                <a:srgbClr val="005e47"/>
              </a:gs>
            </a:gsLst>
            <a:lin ang="5400000"/>
          </a:gradFill>
          <a:ln w="28440">
            <a:solidFill>
              <a:srgbClr val="000099"/>
            </a:solidFill>
            <a:miter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Цель проекта: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3"/>
          <p:cNvSpPr/>
          <p:nvPr/>
        </p:nvSpPr>
        <p:spPr>
          <a:xfrm>
            <a:off x="0" y="1071720"/>
            <a:ext cx="9144000" cy="5286240"/>
          </a:xfrm>
          <a:prstGeom prst="roundRect">
            <a:avLst>
              <a:gd name="adj" fmla="val 16667"/>
            </a:avLst>
          </a:prstGeom>
          <a:solidFill>
            <a:srgbClr val="99ccff">
              <a:alpha val="85000"/>
            </a:srgbClr>
          </a:solidFill>
          <a:ln w="19080">
            <a:solidFill>
              <a:srgbClr val="6ec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95280" y="1643040"/>
            <a:ext cx="8313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я педагогической деятельности с наибольшим эффектом для сохранения и укрепления здоровь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формирование навыков и стереотипов здорового образа жизн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мотивация на здоровый образ жизн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формирование ценностного отношения к культуре здоровь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овышение квалификации педагогических кадров школы по организации работы, связанной с оздоровлением обучающихс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оординация действия школы и семьи в организации различных форм работы по формированию здоровьесберегающего простран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571680" y="0"/>
            <a:ext cx="8137440" cy="1214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5e47"/>
              </a:gs>
              <a:gs pos="50000">
                <a:srgbClr val="33cccc"/>
              </a:gs>
              <a:gs pos="100000">
                <a:srgbClr val="005e47"/>
              </a:gs>
            </a:gsLst>
            <a:lin ang="5400000"/>
          </a:gradFill>
          <a:ln w="28440">
            <a:solidFill>
              <a:srgbClr val="000099"/>
            </a:solidFill>
            <a:miter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Задачи: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3"/>
          <p:cNvSpPr/>
          <p:nvPr/>
        </p:nvSpPr>
        <p:spPr>
          <a:xfrm>
            <a:off x="0" y="1000080"/>
            <a:ext cx="9144000" cy="5286600"/>
          </a:xfrm>
          <a:prstGeom prst="roundRect">
            <a:avLst>
              <a:gd name="adj" fmla="val 16667"/>
            </a:avLst>
          </a:prstGeom>
          <a:solidFill>
            <a:srgbClr val="99ccff">
              <a:alpha val="85000"/>
            </a:srgbClr>
          </a:solidFill>
          <a:ln w="19080">
            <a:solidFill>
              <a:srgbClr val="6ec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395280" y="1643040"/>
            <a:ext cx="8248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управленческого механизм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оздание материально-технической базы в соответстви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санитарно-гигиеническими нормами и правилам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онирования  образовательного учрежде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оиск и внедрение здоровьесберегающих педагогических технолог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571680" y="0"/>
            <a:ext cx="8137440" cy="1214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5e47"/>
              </a:gs>
              <a:gs pos="50000">
                <a:srgbClr val="33cccc"/>
              </a:gs>
              <a:gs pos="100000">
                <a:srgbClr val="005e47"/>
              </a:gs>
            </a:gsLst>
            <a:lin ang="5400000"/>
          </a:gradFill>
          <a:ln w="28440">
            <a:solidFill>
              <a:srgbClr val="000099"/>
            </a:solidFill>
            <a:miter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Основные направления  проекта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3"/>
          <p:cNvSpPr/>
          <p:nvPr/>
        </p:nvSpPr>
        <p:spPr>
          <a:xfrm>
            <a:off x="0" y="1071720"/>
            <a:ext cx="9144000" cy="5286240"/>
          </a:xfrm>
          <a:prstGeom prst="roundRect">
            <a:avLst>
              <a:gd name="adj" fmla="val 16667"/>
            </a:avLst>
          </a:prstGeom>
          <a:solidFill>
            <a:srgbClr val="99ccff">
              <a:alpha val="85000"/>
            </a:srgbClr>
          </a:solidFill>
          <a:ln w="19080">
            <a:solidFill>
              <a:srgbClr val="6ec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395280" y="1643040"/>
            <a:ext cx="874872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готовительный этап 2015 – 2016 учебный го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едрение новых Санитарно-эпидемиологических правил и нормативов (СанПиН 2.4.2. 2821– 1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материально – технической базы образовательного учреждения для реализации проек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ставление паспортов здоровья учащихс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учение теоретических материалов по проблеме «От здоровьесберегающего пространства школы – к здоровой нации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ышение уровня педагогического профессионализма коллектива через семинары, мастер- классы и др. формы рабо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ые исследования, мониторинги, диагностирования учащихся, родителей, педагогов по проблеме реализации проек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ведение педсовета «От здоровьесберегающего пространства школы – к здоровой нации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714240" y="0"/>
            <a:ext cx="7994880" cy="1214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5e47"/>
              </a:gs>
              <a:gs pos="50000">
                <a:srgbClr val="33cccc"/>
              </a:gs>
              <a:gs pos="100000">
                <a:srgbClr val="005e47"/>
              </a:gs>
            </a:gsLst>
            <a:lin ang="5400000"/>
          </a:gradFill>
          <a:ln w="28440">
            <a:solidFill>
              <a:srgbClr val="000099"/>
            </a:solidFill>
            <a:miter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еализация проекта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3"/>
          <p:cNvSpPr/>
          <p:nvPr/>
        </p:nvSpPr>
        <p:spPr>
          <a:xfrm>
            <a:off x="468360" y="1052640"/>
            <a:ext cx="8137440" cy="6408720"/>
          </a:xfrm>
          <a:prstGeom prst="roundRect">
            <a:avLst>
              <a:gd name="adj" fmla="val 16667"/>
            </a:avLst>
          </a:prstGeom>
          <a:solidFill>
            <a:srgbClr val="99ccff">
              <a:alpha val="85000"/>
            </a:srgbClr>
          </a:solidFill>
          <a:ln w="19080">
            <a:solidFill>
              <a:srgbClr val="6ec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Практический этап 2020 – 2022 год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ие с учащимися мероприятий, способствующих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- освоению учащимися нормативного поведения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- построение собственной позиции, своего отношения к усваиваемым нормам и ценностям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организации здоровой социокультурной среды для становления социально активной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жизнестойкой личности, способной самостоятельно строить собственную жизнь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- профилактике безнадзорности и правонарушений несовершеннолетних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- организации занятости детей во внеурочное время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совершенствованию работы по сотрудничеству с социокультурными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организациями города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2. Обеспечение качественного и рационального двухразового питания школьников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. Психопрофилактическая работа, направленная на повышение степени устойчивости п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ессовых ситуациях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4. Проведение дней здоровья, олимпиад и других мероприятий для школьников с участием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педагогов и родителей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5.Социальное партнерство семьи и школы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-систематическое оказание помощи родителям по воспитанию самостоятельности и ответственности у детей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-привлечение родителей к воспитательной деятельности школы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-информирование родителей, общественности обо всех мероприятиях школьной жизни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-использование возможностей школьного сайта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-проведение родительских конференций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-проведение всеобуча с родителями по созданию благоприятной атмосферы в семье для воспитания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здорового, всесторонне развитого ребенка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6. Проведение систематических тренингов и семинаров для учителей по освоению современных педагогических технологий воспитания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-технологии педагогического общения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-формы и методы педагогической поддержки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-педагогические требования в контексте культуры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-педагогические конфликты и пути их решения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-приемы и методы создания ситуации успеха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-информационное воздействие педагогов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- сохранение и укрепление здоровья, профилактика вредных привычек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-методы коррекции отклоняющегося поведения учащихся группы риска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- методы работы с детьми «с особыми нуждами»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технологии работы с разными категориями семей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7. Установление связей и сотрудничества с общественными и другими заинтересованными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Организациями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684360" y="0"/>
            <a:ext cx="7994520" cy="1214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5e47"/>
              </a:gs>
              <a:gs pos="50000">
                <a:srgbClr val="33cccc"/>
              </a:gs>
              <a:gs pos="100000">
                <a:srgbClr val="005e47"/>
              </a:gs>
            </a:gsLst>
            <a:lin ang="5400000"/>
          </a:gradFill>
          <a:ln w="28440">
            <a:solidFill>
              <a:srgbClr val="000099"/>
            </a:solidFill>
            <a:miter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еализация проекта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3"/>
          <p:cNvSpPr/>
          <p:nvPr/>
        </p:nvSpPr>
        <p:spPr>
          <a:xfrm>
            <a:off x="179280" y="2133720"/>
            <a:ext cx="8640720" cy="3600360"/>
          </a:xfrm>
          <a:prstGeom prst="roundRect">
            <a:avLst>
              <a:gd name="adj" fmla="val 16667"/>
            </a:avLst>
          </a:prstGeom>
          <a:solidFill>
            <a:srgbClr val="99ccff">
              <a:alpha val="85000"/>
            </a:srgbClr>
          </a:solidFill>
          <a:ln w="19080">
            <a:solidFill>
              <a:srgbClr val="6ec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826920" y="549360"/>
            <a:ext cx="7994880" cy="1214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5e47"/>
              </a:gs>
              <a:gs pos="50000">
                <a:srgbClr val="33cccc"/>
              </a:gs>
              <a:gs pos="100000">
                <a:srgbClr val="005e47"/>
              </a:gs>
            </a:gsLst>
            <a:lin ang="5400000"/>
          </a:gradFill>
          <a:ln w="28440">
            <a:solidFill>
              <a:srgbClr val="000099"/>
            </a:solidFill>
            <a:miter/>
          </a:ln>
          <a:effectLst>
            <a:outerShdw dist="107932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еализация проекта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2049120"/>
            <a:ext cx="8893080" cy="2288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Аналитический этап 2019 го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1.Анализ и корректировка проек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2. Проведение педагогического совета, по результатам работы над проект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3. Проектирование деятельности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Arial"/>
              </a:rPr>
              <a:t>4. Подготовка аналитических справок, отчетов по реализации проекта «Создание здоровьесберегающего образовательного пространства    как условие повышения качества образования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20:38:20Z</dcterms:created>
  <dc:creator>Peterson</dc:creator>
  <dc:description/>
  <dc:language>en-US</dc:language>
  <cp:lastModifiedBy>Иван</cp:lastModifiedBy>
  <dcterms:modified xsi:type="dcterms:W3CDTF">2022-05-06T14:29:46Z</dcterms:modified>
  <cp:revision>193</cp:revision>
  <dc:subject/>
  <dc:title>Презентация PowerPoint</dc:title>
</cp:coreProperties>
</file>