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266-CF6D-42C6-9B03-EDADD636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ED0-E8FE-45CD-8031-16FBA76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612-502F-4DFB-A03F-D6A2136D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B4D-7878-4556-9C04-D0521E02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7FB-5EFE-45F1-952C-51144309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D7E-7593-47A8-96FD-58C3633A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8E3-6AC1-4084-A904-D109E2A7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E03-561D-4951-B7D7-23BE9AAB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4B4-73C4-42F7-A47C-98FF0E0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253-960F-412A-9118-78F33716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F23-9808-40D7-A9EC-C19EEB77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D68-798A-4A07-AA30-7CA37AD8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1CE2-F856-4034-B6E0-460B19199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Седьмое февраля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 ·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9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369120" cy="5354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18446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Тема урока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Цел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Решение задач на встречное движ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ва лыжника вышли одновременно навстречу друг другу из двух поселков и встретились через 3 часа. Первый лыжник шёл со скоростью 12 км/ч, второй – 14 км/ч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йдите расстояние между посел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ча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8"/>
          <p:cNvSpPr/>
          <p:nvPr/>
        </p:nvSpPr>
        <p:spPr>
          <a:xfrm>
            <a:off x="501480" y="3875040"/>
            <a:ext cx="7926480" cy="1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1"/>
          <p:cNvSpPr/>
          <p:nvPr/>
        </p:nvSpPr>
        <p:spPr>
          <a:xfrm flipH="1">
            <a:off x="4272120" y="3330720"/>
            <a:ext cx="1440" cy="71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13"/>
          <p:cNvCxnSpPr/>
          <p:nvPr/>
        </p:nvCxnSpPr>
        <p:spPr>
          <a:xfrm flipH="1" flipV="1">
            <a:off x="6227280" y="2310840"/>
            <a:ext cx="1999440" cy="1332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cxnSp>
        <p:nvCxnSpPr>
          <p:cNvPr id="66" name="Прямая со стрелкой 14"/>
          <p:cNvCxnSpPr/>
          <p:nvPr/>
        </p:nvCxnSpPr>
        <p:spPr>
          <a:xfrm flipV="1">
            <a:off x="690120" y="2317320"/>
            <a:ext cx="1794600" cy="720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sp>
        <p:nvSpPr>
          <p:cNvPr id="67" name="TextBox 22"/>
          <p:cNvSpPr/>
          <p:nvPr/>
        </p:nvSpPr>
        <p:spPr>
          <a:xfrm>
            <a:off x="700200" y="1411200"/>
            <a:ext cx="1710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3"/>
          <p:cNvSpPr/>
          <p:nvPr/>
        </p:nvSpPr>
        <p:spPr>
          <a:xfrm flipH="1">
            <a:off x="6227640" y="1413000"/>
            <a:ext cx="1998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км/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4"/>
          <p:cNvSpPr/>
          <p:nvPr/>
        </p:nvSpPr>
        <p:spPr>
          <a:xfrm>
            <a:off x="4440240" y="4278240"/>
            <a:ext cx="504720" cy="1465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Прямая со стрелкой 21"/>
          <p:cNvCxnSpPr/>
          <p:nvPr/>
        </p:nvCxnSpPr>
        <p:spPr>
          <a:xfrm flipV="1">
            <a:off x="509400" y="5109840"/>
            <a:ext cx="7942680" cy="10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Прямая соединительная линия 35"/>
          <p:cNvSpPr/>
          <p:nvPr/>
        </p:nvSpPr>
        <p:spPr>
          <a:xfrm>
            <a:off x="169236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Равнобедренный треугольник 10"/>
          <p:cNvSpPr/>
          <p:nvPr/>
        </p:nvSpPr>
        <p:spPr>
          <a:xfrm rot="5400000">
            <a:off x="4249440" y="30272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0"/>
          <p:cNvSpPr/>
          <p:nvPr/>
        </p:nvSpPr>
        <p:spPr>
          <a:xfrm>
            <a:off x="298764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41"/>
          <p:cNvSpPr/>
          <p:nvPr/>
        </p:nvSpPr>
        <p:spPr>
          <a:xfrm>
            <a:off x="558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42"/>
          <p:cNvSpPr/>
          <p:nvPr/>
        </p:nvSpPr>
        <p:spPr>
          <a:xfrm>
            <a:off x="702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43"/>
          <p:cNvSpPr/>
          <p:nvPr/>
        </p:nvSpPr>
        <p:spPr>
          <a:xfrm flipH="1">
            <a:off x="5097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46"/>
          <p:cNvSpPr/>
          <p:nvPr/>
        </p:nvSpPr>
        <p:spPr>
          <a:xfrm flipH="1">
            <a:off x="84423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способ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) 12 · 3 = 36 (км) – прошел первый лыжн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) 14 · 3 = 42 (км) – прошел второй лыжни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3) 36 + 42 = 78 (к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расстояние между посёлками 78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) 12 + 14 = 26 (км/ч) – скорость сближени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) 26 · 3 = 78 (км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расстояние между посёлками 78 к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2916360" y="476280"/>
            <a:ext cx="3095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способ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ча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 двух поселков, расстояние между которыми – 78 км, вышли одновременно навстречу друг другу два лыжника. Первый лыжник шел со скоростью 12 км/ч, а второй – 14 км/ч. Через сколько часов они встретилис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68360" y="184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Решение задач на встречное движ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я соединительная линия 8"/>
          <p:cNvSpPr/>
          <p:nvPr/>
        </p:nvSpPr>
        <p:spPr>
          <a:xfrm>
            <a:off x="501480" y="3875040"/>
            <a:ext cx="7926480" cy="1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1"/>
          <p:cNvSpPr/>
          <p:nvPr/>
        </p:nvSpPr>
        <p:spPr>
          <a:xfrm flipH="1">
            <a:off x="4272120" y="3330720"/>
            <a:ext cx="1440" cy="71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Прямая со стрелкой 13"/>
          <p:cNvCxnSpPr/>
          <p:nvPr/>
        </p:nvCxnSpPr>
        <p:spPr>
          <a:xfrm flipH="1" flipV="1">
            <a:off x="6227280" y="2310840"/>
            <a:ext cx="1999440" cy="1332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cxnSp>
        <p:nvCxnSpPr>
          <p:cNvPr id="87" name="Прямая со стрелкой 14"/>
          <p:cNvCxnSpPr/>
          <p:nvPr/>
        </p:nvCxnSpPr>
        <p:spPr>
          <a:xfrm flipV="1">
            <a:off x="690120" y="2317320"/>
            <a:ext cx="1794600" cy="720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sp>
        <p:nvSpPr>
          <p:cNvPr id="88" name="TextBox 22"/>
          <p:cNvSpPr/>
          <p:nvPr/>
        </p:nvSpPr>
        <p:spPr>
          <a:xfrm>
            <a:off x="700200" y="1411200"/>
            <a:ext cx="1710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м/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3"/>
          <p:cNvSpPr/>
          <p:nvPr/>
        </p:nvSpPr>
        <p:spPr>
          <a:xfrm flipH="1">
            <a:off x="6227640" y="1413000"/>
            <a:ext cx="1998720" cy="642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км/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4"/>
          <p:cNvSpPr/>
          <p:nvPr/>
        </p:nvSpPr>
        <p:spPr>
          <a:xfrm>
            <a:off x="4440240" y="4278240"/>
            <a:ext cx="504720" cy="642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Прямая со стрелкой 21"/>
          <p:cNvCxnSpPr/>
          <p:nvPr/>
        </p:nvCxnSpPr>
        <p:spPr>
          <a:xfrm flipV="1">
            <a:off x="509400" y="5109840"/>
            <a:ext cx="7942680" cy="10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Прямая соединительная линия 35"/>
          <p:cNvSpPr/>
          <p:nvPr/>
        </p:nvSpPr>
        <p:spPr>
          <a:xfrm>
            <a:off x="169236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Равнобедренный треугольник 10"/>
          <p:cNvSpPr/>
          <p:nvPr/>
        </p:nvSpPr>
        <p:spPr>
          <a:xfrm rot="5400000">
            <a:off x="4249440" y="30272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40"/>
          <p:cNvSpPr/>
          <p:nvPr/>
        </p:nvSpPr>
        <p:spPr>
          <a:xfrm>
            <a:off x="298764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41"/>
          <p:cNvSpPr/>
          <p:nvPr/>
        </p:nvSpPr>
        <p:spPr>
          <a:xfrm>
            <a:off x="558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42"/>
          <p:cNvSpPr/>
          <p:nvPr/>
        </p:nvSpPr>
        <p:spPr>
          <a:xfrm>
            <a:off x="702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43"/>
          <p:cNvSpPr/>
          <p:nvPr/>
        </p:nvSpPr>
        <p:spPr>
          <a:xfrm flipH="1">
            <a:off x="5097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46"/>
          <p:cNvSpPr/>
          <p:nvPr/>
        </p:nvSpPr>
        <p:spPr>
          <a:xfrm flipH="1">
            <a:off x="84423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 flipH="1">
            <a:off x="3968640" y="4459320"/>
            <a:ext cx="1997280" cy="7034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к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2 + 14 = 26 (км/ч) – скорость сбли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78 : 26 = 3 (ч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лыжники встретились через 3 час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з двух поселков, находящихся на расстоянии 78 км, вышли одновременно навстречу друг другу два лыжника и встретились через 3 часа. Первый лыжник шел со скоростью 12 км/ч. С какой скоростью шел второй лыжни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8"/>
          <p:cNvSpPr/>
          <p:nvPr/>
        </p:nvSpPr>
        <p:spPr>
          <a:xfrm>
            <a:off x="501480" y="3875040"/>
            <a:ext cx="7926480" cy="1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1"/>
          <p:cNvSpPr/>
          <p:nvPr/>
        </p:nvSpPr>
        <p:spPr>
          <a:xfrm flipH="1">
            <a:off x="4272120" y="3330720"/>
            <a:ext cx="1440" cy="71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Прямая со стрелкой 13"/>
          <p:cNvCxnSpPr/>
          <p:nvPr/>
        </p:nvCxnSpPr>
        <p:spPr>
          <a:xfrm flipH="1" flipV="1">
            <a:off x="6227280" y="2310840"/>
            <a:ext cx="1999440" cy="1332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cxnSp>
        <p:nvCxnSpPr>
          <p:cNvPr id="106" name="Прямая со стрелкой 14"/>
          <p:cNvCxnSpPr/>
          <p:nvPr/>
        </p:nvCxnSpPr>
        <p:spPr>
          <a:xfrm flipV="1">
            <a:off x="690120" y="2317320"/>
            <a:ext cx="1794600" cy="7200"/>
          </a:xfrm>
          <a:prstGeom prst="straightConnector1">
            <a:avLst/>
          </a:prstGeom>
          <a:ln w="57240">
            <a:solidFill>
              <a:srgbClr val="eeece1"/>
            </a:solidFill>
            <a:miter/>
            <a:tailEnd len="med" type="arrow" w="med"/>
          </a:ln>
        </p:spPr>
      </p:cxnSp>
      <p:sp>
        <p:nvSpPr>
          <p:cNvPr id="107" name="TextBox 22"/>
          <p:cNvSpPr/>
          <p:nvPr/>
        </p:nvSpPr>
        <p:spPr>
          <a:xfrm>
            <a:off x="699840" y="1411200"/>
            <a:ext cx="1883160" cy="7034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км/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3"/>
          <p:cNvSpPr/>
          <p:nvPr/>
        </p:nvSpPr>
        <p:spPr>
          <a:xfrm flipH="1">
            <a:off x="3968640" y="4459320"/>
            <a:ext cx="1997280" cy="7034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к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6975360" y="1282680"/>
            <a:ext cx="503280" cy="1465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21"/>
          <p:cNvCxnSpPr/>
          <p:nvPr/>
        </p:nvCxnSpPr>
        <p:spPr>
          <a:xfrm flipV="1">
            <a:off x="509400" y="5109840"/>
            <a:ext cx="7942680" cy="10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" name="Прямая соединительная линия 35"/>
          <p:cNvSpPr/>
          <p:nvPr/>
        </p:nvSpPr>
        <p:spPr>
          <a:xfrm>
            <a:off x="169236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Равнобедренный треугольник 10"/>
          <p:cNvSpPr/>
          <p:nvPr/>
        </p:nvSpPr>
        <p:spPr>
          <a:xfrm rot="5400000">
            <a:off x="4249440" y="3027240"/>
            <a:ext cx="428760" cy="428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ая соединительная линия 40"/>
          <p:cNvSpPr/>
          <p:nvPr/>
        </p:nvSpPr>
        <p:spPr>
          <a:xfrm>
            <a:off x="2987640" y="3576600"/>
            <a:ext cx="0" cy="657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ая соединительная линия 41"/>
          <p:cNvSpPr/>
          <p:nvPr/>
        </p:nvSpPr>
        <p:spPr>
          <a:xfrm>
            <a:off x="558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42"/>
          <p:cNvSpPr/>
          <p:nvPr/>
        </p:nvSpPr>
        <p:spPr>
          <a:xfrm>
            <a:off x="7020000" y="3641760"/>
            <a:ext cx="0" cy="592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ая соединительная линия 43"/>
          <p:cNvSpPr/>
          <p:nvPr/>
        </p:nvSpPr>
        <p:spPr>
          <a:xfrm flipH="1">
            <a:off x="5097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6"/>
          <p:cNvSpPr/>
          <p:nvPr/>
        </p:nvSpPr>
        <p:spPr>
          <a:xfrm flipH="1">
            <a:off x="8442360" y="3440160"/>
            <a:ext cx="1440" cy="20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1) 78 : 3 = 26 (км/ч) – скорость сбли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2) 26 – 12 = 14 (км/ч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вет: средняя скорость движения  второго лыжника – 14 км/ч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41360" y="2565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mic Sans MS"/>
              </a:rPr>
              <a:t>Физкульт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23720" y="2317320"/>
            <a:ext cx="822960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372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кончи предложения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Встречное движение-эт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Встречное движение – движение навстречу друг друг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орость сближения- эт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, на которое удаляются объекты за единицу време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на которое сближаются объекты за единицу време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504d"/>
                </a:solidFill>
                <a:latin typeface="Comic Sans MS"/>
              </a:rPr>
              <a:t>Правильный ответ: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11280" y="549000"/>
            <a:ext cx="7602480" cy="59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тобы найти скорость, нужно 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умножить на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  расстоянию прибавить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разделить на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08000" y="2491920"/>
            <a:ext cx="5904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mic Sans MS"/>
              </a:rPr>
              <a:t>Устный счё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Чтобы найти скорость, нужно расстояние разделить на врем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тобы найти расстояние, нужно 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орость умножить на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корость разделить на 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от скорости  вычесть 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9640" y="184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Чтобы найти расстояние, нужно скорость умножить на врем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Чтобы найти время, нужно 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умножить на скор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к  расстоянию прибавить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расстояние разделить на скор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Comic Sans MS"/>
              </a:rPr>
              <a:t>Чтобы найти время, нужно расстояние разделить на скорос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242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Итог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640" y="549000"/>
            <a:ext cx="56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Д/з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Учебник с. 16, № 64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92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00 : 3 + 7 · 5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600 : (3 + 7) · 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21·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0 · (16 - 8) · 2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0 · (16 - 8 · 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00 : 10·9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31640" y="256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Segoe UI"/>
                <a:ea typeface="Times New Roman"/>
              </a:rPr>
              <a:t>235  300   847   640   0   36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6480360" cy="289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ttps://www.firestock.ru/wp-content/uploads/2015/08/snail.jpg"/>
          <p:cNvPicPr/>
          <p:nvPr/>
        </p:nvPicPr>
        <p:blipFill>
          <a:blip r:embed="rId2"/>
          <a:stretch/>
        </p:blipFill>
        <p:spPr>
          <a:xfrm>
            <a:off x="828720" y="3571920"/>
            <a:ext cx="3762360" cy="2511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4932360" y="3933720"/>
            <a:ext cx="37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5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· </a:t>
            </a: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4=20 (м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42880" y="476280"/>
            <a:ext cx="7047000" cy="273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boombob.ru/img/picture/Jul/10/ea18bd77ba23351a57f4c7304caf3b12/8.jpg"/>
          <p:cNvPicPr/>
          <p:nvPr/>
        </p:nvPicPr>
        <p:blipFill>
          <a:blip r:embed="rId2"/>
          <a:stretch/>
        </p:blipFill>
        <p:spPr>
          <a:xfrm>
            <a:off x="609480" y="343224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4859280" y="3956040"/>
            <a:ext cx="29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54:9=6(ч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469800" y="549360"/>
            <a:ext cx="6620040" cy="282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newpix.ru/wp-content/uploads/2014/06/turtle_03.jpg"/>
          <p:cNvPicPr/>
          <p:nvPr/>
        </p:nvPicPr>
        <p:blipFill>
          <a:blip r:embed="rId2"/>
          <a:stretch/>
        </p:blipFill>
        <p:spPr>
          <a:xfrm>
            <a:off x="609480" y="3718080"/>
            <a:ext cx="3889440" cy="2219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4643280" y="4292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0:10=4(м/мин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050920" y="2060640"/>
            <a:ext cx="5051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omic Sans MS"/>
              </a:rPr>
              <a:t>Формул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Светлана Левина</dc:creator>
  <dc:description/>
  <dc:language>en-US</dc:language>
  <cp:lastModifiedBy>Светлана Левина</cp:lastModifiedBy>
  <dcterms:modified xsi:type="dcterms:W3CDTF">2022-05-12T00:15:11Z</dcterms:modified>
  <cp:revision>31</cp:revision>
  <dc:subject/>
  <dc:title>Заголовок слайда</dc:title>
</cp:coreProperties>
</file>