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0B5-302C-460C-BDB8-B1D072E6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84D-63A6-4B66-B421-03E2D566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984-B509-450E-BCE0-B5CAE2A0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9EE-A1DE-4A2A-BECC-197049AC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1496-D7B0-4092-9C11-A6DEAAF9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2032-9B3D-4682-ACE4-967BE06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D99D-532C-41AF-887B-112E174E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7E94-0F60-4458-BE53-5D4E85B7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691F-EBA5-47B8-99ED-133D81A4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9794-58AC-4A1F-9B73-1C7C949F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3C5B-13AC-4297-9C00-B921E255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7B3-65B9-4FF1-99A8-9634EB4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DE7A-6DFD-4EA8-A64B-660EDE82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E9A4-A0D6-40C9-995D-FF22340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B972-59FE-456D-BCB2-20D3061F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DCB0-3464-44E0-AFA4-988E99FA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A83-9593-4B35-9206-B6542574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397F-B967-46EE-8477-1E133E0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2DB71-FC4B-492C-B8F3-A7DD066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05C6-355B-4346-B65F-183B5BEC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3686-7E43-4E15-83D3-6F934DEE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DB5A-2AE7-4A1D-B173-D80B4A8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F46-BF9A-447E-B283-008D771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2280-9223-42E8-96C4-3A14C6A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CC428-112A-4E6F-B5C7-D67A0DEA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83D7-7966-431A-A610-E7CCB0BC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2C82-967B-43D8-A760-015F24EC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233F-9B36-45BC-A222-5F10E5D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064D-BE59-4B25-B22A-9CA81CBB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A917-DAB0-4FD0-8647-DD921507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6806-9996-4797-B330-1E8A181A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F9C3-BAA0-4EEC-B10E-4BE03D2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0334-5704-4287-8E31-C0A4E52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FB4-134E-4CBD-93DB-A79D5CE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6ADD-5D63-4D85-85ED-B0B1B8A6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098C-DADA-4164-947F-D8CA9064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A2727-70BD-44F8-8DF3-942B4F71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FE03-D3C0-41BE-841B-73F21613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ACD9-1EAA-456E-B3B1-28B025FA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8584-6400-4647-97F6-5102C81B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FBA32-C4C3-4B4E-9222-CA9DCA5B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B7CED-3E93-4619-85D1-E86B4AEF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544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62320" y="180612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2856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544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62320" y="40791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0EB9-3F8D-4581-BFA6-C933E424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C07-C50B-48D6-A452-7B22BC9D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370-BEC1-4099-9965-D53C2AD9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7EC-9A02-45D9-A0A5-83708EE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791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EF0-2030-4809-B0FA-8080EB93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0612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791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140-3D73-4744-8024-5CCB07B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433-47BE-445C-963E-6AAE5B68E6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5952960" y="1922400"/>
            <a:ext cx="3067200" cy="479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bankreceptov.ru/pict/cokotuha-05.gif"/>
          <p:cNvPicPr/>
          <p:nvPr/>
        </p:nvPicPr>
        <p:blipFill>
          <a:blip r:embed="rId5"/>
          <a:stretch/>
        </p:blipFill>
        <p:spPr>
          <a:xfrm>
            <a:off x="-206280" y="3879720"/>
            <a:ext cx="5213160" cy="2978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4EA0-0625-4727-8F6B-99ACFAD2B7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7256520" y="3728880"/>
            <a:ext cx="1795320" cy="2810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D12-A09F-497C-A9E1-13E2AF2CDE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http://alldayklipart.ru/uploads/posts/2012-05/1338139108_1aapsdpnkfntslnds500.jpg"/>
          <p:cNvPicPr/>
          <p:nvPr/>
        </p:nvPicPr>
        <p:blipFill>
          <a:blip r:embed="rId2"/>
          <a:stretch/>
        </p:blipFill>
        <p:spPr>
          <a:xfrm>
            <a:off x="-219240" y="-249120"/>
            <a:ext cx="9558360" cy="7338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abc-color.com/image/coloring/princess/002/thumbelina/thumbelina-picture-color-3.png"/>
          <p:cNvPicPr/>
          <p:nvPr/>
        </p:nvPicPr>
        <p:blipFill>
          <a:blip r:embed="rId3"/>
          <a:srcRect l="0" t="-2990" r="-121273" b="0"/>
          <a:stretch/>
        </p:blipFill>
        <p:spPr>
          <a:xfrm>
            <a:off x="4387680" y="0"/>
            <a:ext cx="6471000" cy="540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abc-color.com/image/coloring/princess/002/thumbelina/thumbelina-picture-color-3.png"/>
          <p:cNvPicPr/>
          <p:nvPr/>
        </p:nvPicPr>
        <p:blipFill>
          <a:blip r:embed="rId4"/>
          <a:stretch/>
        </p:blipFill>
        <p:spPr>
          <a:xfrm>
            <a:off x="7256520" y="3728880"/>
            <a:ext cx="1795320" cy="28101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5838-0450-4B8F-9B84-FE22BE2BCD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4120" y="333000"/>
            <a:ext cx="7772400" cy="345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МБДОУ «Детский сад общеразвивающего вида №4 «Сказка» р.п.Култук»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Сказкотерапия в работе педагога - психолога и учителя - логопед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098800" y="5277960"/>
            <a:ext cx="778176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Педагог-психолог : Майбах Л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400" spc="-1" strike="noStrike">
                <a:solidFill>
                  <a:srgbClr val="333f50"/>
                </a:solidFill>
                <a:latin typeface="Times New Roman"/>
                <a:ea typeface="Times New Roman"/>
              </a:rPr>
              <a:t>Учитель-логопед: Марченко Н.И</a:t>
            </a:r>
            <a:r>
              <a:rPr b="1" lang="ru-RU" sz="2800" spc="-1" strike="noStrike">
                <a:solidFill>
                  <a:srgbClr val="333f5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f5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384120" y="1693800"/>
            <a:ext cx="8194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3640" y="954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Дидактический материа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8" name="Объект 4" descr=""/>
          <p:cNvPicPr/>
          <p:nvPr/>
        </p:nvPicPr>
        <p:blipFill>
          <a:blip r:embed="rId1"/>
          <a:stretch/>
        </p:blipFill>
        <p:spPr>
          <a:xfrm rot="10417800">
            <a:off x="286920" y="173484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199" name="Объект 5" descr=""/>
          <p:cNvPicPr/>
          <p:nvPr/>
        </p:nvPicPr>
        <p:blipFill>
          <a:blip r:embed="rId2"/>
          <a:stretch/>
        </p:blipFill>
        <p:spPr>
          <a:xfrm rot="11136000">
            <a:off x="4959000" y="1552320"/>
            <a:ext cx="3886200" cy="21859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6" descr=""/>
          <p:cNvPicPr/>
          <p:nvPr/>
        </p:nvPicPr>
        <p:blipFill>
          <a:blip r:embed="rId3"/>
          <a:stretch/>
        </p:blipFill>
        <p:spPr>
          <a:xfrm rot="10357200">
            <a:off x="378000" y="4162320"/>
            <a:ext cx="3859200" cy="2170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"/>
          <p:cNvPicPr/>
          <p:nvPr/>
        </p:nvPicPr>
        <p:blipFill>
          <a:blip r:embed="rId4"/>
          <a:stretch/>
        </p:blipFill>
        <p:spPr>
          <a:xfrm rot="11350800">
            <a:off x="4694040" y="4096800"/>
            <a:ext cx="40906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«Путешествие в страну волшебных сказок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3" name="Объект 1" descr=""/>
          <p:cNvPicPr/>
          <p:nvPr/>
        </p:nvPicPr>
        <p:blipFill>
          <a:blip r:embed="rId1"/>
          <a:stretch/>
        </p:blipFill>
        <p:spPr>
          <a:xfrm>
            <a:off x="177840" y="1514520"/>
            <a:ext cx="4992480" cy="281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2970360" y="3411360"/>
            <a:ext cx="594036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спользование Сказкотерапии в работе с детьми с ОВЗ при помощи кругов ЛУЛЛИЯ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45880" y="156636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Круги Луллия – одно из средств развития речи, которое может использоваться в работе с детьми от 3 до 7 л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Логопеду важно сделать устную речь ребенка эмоциональной, образной и краси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366800" y="1579320"/>
            <a:ext cx="4489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</a:rPr>
              <a:t>Современными психолого-педагогическими исследованиями установлено, что мышление и речь взаимозависимы. Эти виды деятельности Сказкотерапия развивает при возможности ребенка быть самостоятельным и инициативны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0600" y="2318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Круги ЛУЛЛИЯ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Развивают интелектуально-творческие способности детей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239760" y="1693800"/>
            <a:ext cx="3513240" cy="4961160"/>
          </a:xfrm>
          <a:prstGeom prst="rect">
            <a:avLst/>
          </a:prstGeom>
          <a:ln w="0">
            <a:noFill/>
          </a:ln>
        </p:spPr>
      </p:pic>
      <p:pic>
        <p:nvPicPr>
          <p:cNvPr id="210" name="Объект 5" descr=""/>
          <p:cNvPicPr/>
          <p:nvPr/>
        </p:nvPicPr>
        <p:blipFill>
          <a:blip r:embed="rId2"/>
          <a:stretch/>
        </p:blipFill>
        <p:spPr>
          <a:xfrm>
            <a:off x="5432400" y="1697040"/>
            <a:ext cx="34718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6480" y="2093400"/>
            <a:ext cx="736596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БЛАГОДАРИМ</a:t>
            </a:r>
            <a:br>
              <a:rPr sz="7200"/>
            </a:br>
            <a:r>
              <a:rPr b="1" lang="ru-RU" sz="7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 внимание !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388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ДУМАЕМ ВМЕСТЕ -   ДЕЛАЕМ  СООБЩ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6320" y="934560"/>
            <a:ext cx="8242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ополняемость позиций педагога-психолога и учителя-логопеда в подходе к ребенку, сотрудничество во всех направлениях этой работы, необходимое условие обеспечения результативности деятельности в психолого – логопедической службы в детском 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 и психолог преследуют в своей работе разные задачи, но пути и способы их достижения достаточно часто оказываются общими. Нужно учитывать, что всегда есть группа детей, в равной степени нуждающихся в обоих специалист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ЦЕЛЬ: ПРИОДОЛЕНИЕ ПСИХОЛОГИЧЕСКИИХ ТРУДНОСТЕЙ В РАБОТЕ С ДЕТЬМИ С НАРУШЕНИЯМИ РЕЧ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061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ую недостаточность необходимо рассматривать в тесном единстве с особенностями психического развития т.к. у ребенка с речевыми нарушениями наряду с патологией формирования всех ее сторон, могут отмечаться отклонения в психическом развитии (темп его психического развития может замедлитьс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ыслительных процессов, эмоционально-волевой сферы, характера, а иногда и личности в целом может происходить анома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5600" y="146160"/>
            <a:ext cx="788652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2960" y="888840"/>
            <a:ext cx="386856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сихолог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2040" y="1495080"/>
            <a:ext cx="4668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ысших психических функций: память, внимание, мышл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зрительно-моторной координ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онально-личностной сфе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волевых качеств и самоконтро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ятие эмоционального и мышечного напря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комплексной психологической поддерж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461960"/>
            <a:ext cx="3888000" cy="44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Логопед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51040" y="1549080"/>
            <a:ext cx="43513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ой стороны реч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пополнении словарного запаса и освоении грам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связному выражению своих мыс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лухового внимания и мелкой мотор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, необходимых для дальнейшего обучения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3400" indent="-203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28560" y="353880"/>
            <a:ext cx="7886880" cy="58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ррекционно-развивающего воздействия требует взаимодействия учителя-логопеда и психолога-педагога в тех случаях, когда в основе сложностей воспитания и обучения детей лежат следующие пробле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ые нарушения сопровождающиеся отставанием от возрастных норм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релость высших психических функций, которая сочетается с недоразвитием реч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ость речевого развития сопровождается снижением самоконтроля и учебной мотив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6600" y="103356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Ввести сказку в окружающий мир ребенка можно разными способам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2311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тение книги, как усвоение смысла и событий самой сказ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овый театр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а столе из Круж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ольное представл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 любимых мульт-герое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на интерактивной доск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й матери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8480" y="22654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Сказка «Теремок»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Дети учатся вести диалог,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соблюдать очерёдность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 уважать друг друга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Объект 3" descr=""/>
          <p:cNvPicPr/>
          <p:nvPr/>
        </p:nvPicPr>
        <p:blipFill>
          <a:blip r:embed="rId1"/>
          <a:stretch/>
        </p:blipFill>
        <p:spPr>
          <a:xfrm>
            <a:off x="5305320" y="163440"/>
            <a:ext cx="36608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60160" y="338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Итоговое занятие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(интеграция логопед-психолог) </a:t>
            </a:r>
            <a:br>
              <a:rPr sz="3200"/>
            </a:br>
            <a:r>
              <a:rPr b="1" i="1" lang="ru-RU" sz="3200" spc="-1" strike="noStrike">
                <a:solidFill>
                  <a:srgbClr val="843c0c"/>
                </a:solidFill>
                <a:latin typeface="Calibri Light"/>
              </a:rPr>
              <a:t>по сказке «Гуси-Лебеди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Объект 4" descr=""/>
          <p:cNvPicPr/>
          <p:nvPr/>
        </p:nvPicPr>
        <p:blipFill>
          <a:blip r:embed="rId1"/>
          <a:stretch/>
        </p:blipFill>
        <p:spPr>
          <a:xfrm>
            <a:off x="4440240" y="1609560"/>
            <a:ext cx="4592520" cy="5091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166680" y="1746000"/>
            <a:ext cx="43099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2125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Arial"/>
              </a:rPr>
              <a:t>На примере  занятия «Гуси-лебеди» рассматривается совместный практический опыт интеграции деятельности учителя-логопеда и педагога-психо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287280" y="272880"/>
            <a:ext cx="865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Наиболее эффективными методами работы с детьми, ис­пытывающими те или иные эмоциональные, речевые и поведенчес­кие затруднения, являются методы сказкотерапиии. В занятии используются методы с помощью которых формируются навыки звуко-слогового анализа и деференцировки этих звуков в слогах, словах, связной речи и совершенствования грамматического строя реч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Воспитывается в детях смелость,  уверенность в себе, способность  принимать решения в трудных ситуациях и взаимовыру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8T02:00:31Z</dcterms:created>
  <dc:creator>Пользователь Windows</dc:creator>
  <dc:description/>
  <dc:language>en-US</dc:language>
  <cp:lastModifiedBy>Пользователь Windows</cp:lastModifiedBy>
  <dcterms:modified xsi:type="dcterms:W3CDTF">2022-05-13T07:14:26Z</dcterms:modified>
  <cp:revision>97</cp:revision>
  <dc:subject/>
  <dc:title>Презентация PowerPoint</dc:title>
</cp:coreProperties>
</file>