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E40-A91A-4C88-884B-A35FBD9E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9C4-347F-4A9D-837E-7C59C3AA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49E-3207-49C3-9F92-ABF2C683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4A4-25E0-4546-AFB1-1B56430E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4F3A-EF53-4DC0-82AC-D86372BA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D4E1-0981-4D94-BF55-B87312A3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27C-88F7-4F8C-A711-E7E9AE51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9FBD-0464-4BFD-A20B-4EC5136A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44A3-3BF1-4FD1-8CEC-913F07B8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614D-117A-4A84-88F6-C05D0F7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86A4-F42D-4B48-8F4C-966DB422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DAB-F059-41D2-8A54-D547D19A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CDFF-7909-4FAF-A243-CD6CB13A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2EF5-E71D-4BED-ACCE-A49F48F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9F8B-3B72-411E-8C31-BC21783B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B823-1CAC-42EA-B6B9-5ACF9FC7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44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232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856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44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232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50B-DFA1-4C69-B76A-BE57310C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16EE-76AF-4254-A459-1D6C8BF3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5496-B8D8-47C9-9BD3-8488C7E9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2845-FCC4-4875-AC8A-09558382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48BB-34C3-4AFF-B37F-31EBEEE0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D336-A151-4F3A-806C-29365294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A90-40D1-43CB-95B0-CA96526E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B0EE-E9BC-43B8-B661-AD444D7E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6B98-15F4-4A74-9A4C-5B6F0E0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BF52-F7AE-4A7B-B2FC-509A629F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5841-DACB-42E5-83F9-FE887294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0773-7293-4FD6-90B5-00C584B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A689C-F1F0-4638-87D3-3317224D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9544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232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856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9544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232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5D46-3DA0-49FC-8760-2B14059F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685CA-2C05-4BDF-AA7C-5B7B506D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5EF18-B288-4953-8AE4-C2CB78ED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30A17-E21D-414C-A23E-FB8ADB41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74E-6D32-41C6-A279-2D0DF500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2DDB-EEE5-4784-AA3B-0378DB8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68981-0B26-45A2-8692-2DB3F3BE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19AE4-28F0-42B8-8555-AE9A563E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824B-14D9-4253-A86F-2152400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58A4-24B5-408E-8008-89B0FFD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30FC9-0086-4F55-9824-D036C8E4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2F90-F029-4267-86B3-0645BB55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47C1-06E2-430B-9F46-BB244A94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9544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6232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2856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9544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6232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89F0-4A2E-43BA-BB68-0FAAA918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FB1-1392-4A6A-9228-5452A22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30D-4598-4186-865F-2C69B8C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1F6-3764-4707-8022-A613A58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2B1-6AD9-48A1-A882-77A53FA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C0C-625A-4794-81FD-3B805BD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2248-245B-4907-BDD5-F9F5B6883B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http://alldayklipart.ru/uploads/posts/2012-05/1338139108_1aapsdpnkfntslnds500.jpg"/>
          <p:cNvPicPr/>
          <p:nvPr/>
        </p:nvPicPr>
        <p:blipFill>
          <a:blip r:embed="rId2"/>
          <a:stretch/>
        </p:blipFill>
        <p:spPr>
          <a:xfrm>
            <a:off x="-219240" y="-249120"/>
            <a:ext cx="9558360" cy="7338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http://abc-color.com/image/coloring/princess/002/thumbelina/thumbelina-picture-color-3.png"/>
          <p:cNvPicPr/>
          <p:nvPr/>
        </p:nvPicPr>
        <p:blipFill>
          <a:blip r:embed="rId3"/>
          <a:srcRect l="0" t="-2990" r="-121273" b="0"/>
          <a:stretch/>
        </p:blipFill>
        <p:spPr>
          <a:xfrm>
            <a:off x="4387680" y="0"/>
            <a:ext cx="6471000" cy="540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alldayklipart.ru/uploads/posts/2012-05/1338139108_1aapsdpnkfntslnds500.jpg"/>
          <p:cNvPicPr/>
          <p:nvPr/>
        </p:nvPicPr>
        <p:blipFill>
          <a:blip r:embed="rId2"/>
          <a:stretch/>
        </p:blipFill>
        <p:spPr>
          <a:xfrm>
            <a:off x="-219240" y="-249120"/>
            <a:ext cx="9558360" cy="7338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abc-color.com/image/coloring/princess/002/thumbelina/thumbelina-picture-color-3.png"/>
          <p:cNvPicPr/>
          <p:nvPr/>
        </p:nvPicPr>
        <p:blipFill>
          <a:blip r:embed="rId3"/>
          <a:srcRect l="0" t="-2990" r="-121273" b="0"/>
          <a:stretch/>
        </p:blipFill>
        <p:spPr>
          <a:xfrm>
            <a:off x="4387680" y="0"/>
            <a:ext cx="6471000" cy="540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abc-color.com/image/coloring/princess/002/thumbelina/thumbelina-picture-color-3.png"/>
          <p:cNvPicPr/>
          <p:nvPr/>
        </p:nvPicPr>
        <p:blipFill>
          <a:blip r:embed="rId4"/>
          <a:stretch/>
        </p:blipFill>
        <p:spPr>
          <a:xfrm>
            <a:off x="5952960" y="1922400"/>
            <a:ext cx="3067200" cy="479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bankreceptov.ru/pict/cokotuha-05.gif"/>
          <p:cNvPicPr/>
          <p:nvPr/>
        </p:nvPicPr>
        <p:blipFill>
          <a:blip r:embed="rId5"/>
          <a:stretch/>
        </p:blipFill>
        <p:spPr>
          <a:xfrm>
            <a:off x="-206280" y="3879720"/>
            <a:ext cx="5213160" cy="2978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B50A-5C81-434F-8E43-9EA3784C67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alldayklipart.ru/uploads/posts/2012-05/1338139108_1aapsdpnkfntslnds500.jpg"/>
          <p:cNvPicPr/>
          <p:nvPr/>
        </p:nvPicPr>
        <p:blipFill>
          <a:blip r:embed="rId2"/>
          <a:stretch/>
        </p:blipFill>
        <p:spPr>
          <a:xfrm>
            <a:off x="-219240" y="-249120"/>
            <a:ext cx="9558360" cy="733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abc-color.com/image/coloring/princess/002/thumbelina/thumbelina-picture-color-3.png"/>
          <p:cNvPicPr/>
          <p:nvPr/>
        </p:nvPicPr>
        <p:blipFill>
          <a:blip r:embed="rId3"/>
          <a:srcRect l="0" t="-2990" r="-121273" b="0"/>
          <a:stretch/>
        </p:blipFill>
        <p:spPr>
          <a:xfrm>
            <a:off x="4387680" y="0"/>
            <a:ext cx="6471000" cy="540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abc-color.com/image/coloring/princess/002/thumbelina/thumbelina-picture-color-3.png"/>
          <p:cNvPicPr/>
          <p:nvPr/>
        </p:nvPicPr>
        <p:blipFill>
          <a:blip r:embed="rId4"/>
          <a:stretch/>
        </p:blipFill>
        <p:spPr>
          <a:xfrm>
            <a:off x="7256520" y="3728880"/>
            <a:ext cx="1795320" cy="2810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2451-C0FB-433C-A497-7802A81098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://alldayklipart.ru/uploads/posts/2012-05/1338139108_1aapsdpnkfntslnds500.jpg"/>
          <p:cNvPicPr/>
          <p:nvPr/>
        </p:nvPicPr>
        <p:blipFill>
          <a:blip r:embed="rId2"/>
          <a:stretch/>
        </p:blipFill>
        <p:spPr>
          <a:xfrm>
            <a:off x="-219240" y="-249120"/>
            <a:ext cx="9558360" cy="733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abc-color.com/image/coloring/princess/002/thumbelina/thumbelina-picture-color-3.png"/>
          <p:cNvPicPr/>
          <p:nvPr/>
        </p:nvPicPr>
        <p:blipFill>
          <a:blip r:embed="rId3"/>
          <a:srcRect l="0" t="-2990" r="-121273" b="0"/>
          <a:stretch/>
        </p:blipFill>
        <p:spPr>
          <a:xfrm>
            <a:off x="4387680" y="0"/>
            <a:ext cx="6471000" cy="540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abc-color.com/image/coloring/princess/002/thumbelina/thumbelina-picture-color-3.png"/>
          <p:cNvPicPr/>
          <p:nvPr/>
        </p:nvPicPr>
        <p:blipFill>
          <a:blip r:embed="rId4"/>
          <a:stretch/>
        </p:blipFill>
        <p:spPr>
          <a:xfrm>
            <a:off x="7256520" y="3728880"/>
            <a:ext cx="1795320" cy="28101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2859-800B-4960-B53F-0C9FBF01C4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4120" y="333000"/>
            <a:ext cx="7772400" cy="345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МБДОУ «Детский сад общеразвивающего вида №4 «Сказка» р.п.Култук»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Сказкотерапия в работе педагога - психолога и учителя - логопед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098800" y="5277960"/>
            <a:ext cx="77817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Педагог-психолог : Майбах Л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Учитель-логопед: Марченко Н.И</a:t>
            </a:r>
            <a:r>
              <a:rPr b="1" lang="ru-RU" sz="2800" spc="-1" strike="noStrike">
                <a:solidFill>
                  <a:srgbClr val="333f5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f5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одзаголовок 2"/>
          <p:cNvSpPr/>
          <p:nvPr/>
        </p:nvSpPr>
        <p:spPr>
          <a:xfrm>
            <a:off x="384120" y="1693800"/>
            <a:ext cx="8194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3640" y="954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Дидактический материа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8" name="Объект 4" descr=""/>
          <p:cNvPicPr/>
          <p:nvPr/>
        </p:nvPicPr>
        <p:blipFill>
          <a:blip r:embed="rId1"/>
          <a:stretch/>
        </p:blipFill>
        <p:spPr>
          <a:xfrm rot="10417800">
            <a:off x="286920" y="173484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199" name="Объект 5" descr=""/>
          <p:cNvPicPr/>
          <p:nvPr/>
        </p:nvPicPr>
        <p:blipFill>
          <a:blip r:embed="rId2"/>
          <a:stretch/>
        </p:blipFill>
        <p:spPr>
          <a:xfrm rot="11136000">
            <a:off x="4959000" y="155232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6" descr=""/>
          <p:cNvPicPr/>
          <p:nvPr/>
        </p:nvPicPr>
        <p:blipFill>
          <a:blip r:embed="rId3"/>
          <a:stretch/>
        </p:blipFill>
        <p:spPr>
          <a:xfrm rot="10357200">
            <a:off x="378000" y="4162320"/>
            <a:ext cx="3859200" cy="2170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7" descr=""/>
          <p:cNvPicPr/>
          <p:nvPr/>
        </p:nvPicPr>
        <p:blipFill>
          <a:blip r:embed="rId4"/>
          <a:stretch/>
        </p:blipFill>
        <p:spPr>
          <a:xfrm rot="11350800">
            <a:off x="4694040" y="4096800"/>
            <a:ext cx="40906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«Путешествие в страну волшебных сказок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3" name="Объект 1" descr=""/>
          <p:cNvPicPr/>
          <p:nvPr/>
        </p:nvPicPr>
        <p:blipFill>
          <a:blip r:embed="rId1"/>
          <a:stretch/>
        </p:blipFill>
        <p:spPr>
          <a:xfrm>
            <a:off x="177840" y="1514520"/>
            <a:ext cx="4992480" cy="281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2970360" y="3411360"/>
            <a:ext cx="594036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Использование Сказкотерапии в работе с детьми с ОВЗ при помощи кругов ЛУЛЛИЯ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45880" y="156636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Круги Луллия – одно из средств развития речи, которое может использоваться в работе с детьми от 3 до 7 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Логопеду важно сделать устную речь ребенка эмоциональной, образной и краси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366800" y="1579320"/>
            <a:ext cx="4489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Современными психолого-педагогическими исследованиями установлено, что мышление и речь взаимозависимы. Эти виды деятельности Сказкотерапия развивает при возможности ребенка быть самостоятельным и инициатив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0600" y="2318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Круги ЛУЛЛИЯ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Развивают интелектуально-творческие способности детей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9" name="Объект 4" descr=""/>
          <p:cNvPicPr/>
          <p:nvPr/>
        </p:nvPicPr>
        <p:blipFill>
          <a:blip r:embed="rId1"/>
          <a:stretch/>
        </p:blipFill>
        <p:spPr>
          <a:xfrm>
            <a:off x="239760" y="1693800"/>
            <a:ext cx="3513240" cy="4961160"/>
          </a:xfrm>
          <a:prstGeom prst="rect">
            <a:avLst/>
          </a:prstGeom>
          <a:ln w="0">
            <a:noFill/>
          </a:ln>
        </p:spPr>
      </p:pic>
      <p:pic>
        <p:nvPicPr>
          <p:cNvPr id="210" name="Объект 5" descr=""/>
          <p:cNvPicPr/>
          <p:nvPr/>
        </p:nvPicPr>
        <p:blipFill>
          <a:blip r:embed="rId2"/>
          <a:stretch/>
        </p:blipFill>
        <p:spPr>
          <a:xfrm>
            <a:off x="5432400" y="1697040"/>
            <a:ext cx="34718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6480" y="2093400"/>
            <a:ext cx="736596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БЛАГОДАРИМ</a:t>
            </a:r>
            <a:br>
              <a:rPr sz="7200"/>
            </a:br>
            <a:r>
              <a:rPr b="1" lang="ru-RU" sz="7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за внимание !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388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ДУМАЕМ ВМЕСТЕ -   ДЕЛАЕМ  СООБЩ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36320" y="934560"/>
            <a:ext cx="8242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ополняемость позиций педагога-психолога и учителя-логопеда в подходе к ребенку, сотрудничество во всех направлениях этой работы, необходимое условие обеспечения результативности деятельности в психолого – логопедической службы в детском с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и психолог преследуют в своей работе разные задачи, но пути и способы их достижения достаточно часто оказываются общими. Нужно учитывать, что всегда есть группа детей, в равной степени нуждающихся в обоих специалис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ЦЕЛЬ: ПРИОДОЛЕНИЕ ПСИХОЛОГИЧЕСКИИХ ТРУДНОСТЕЙ В РАБОТЕ С ДЕТЬМИ С НАРУШЕНИЯМИ РЕЧ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ую недостаточность необходимо рассматривать в тесном единстве с особенностями психического развития т.к. у ребенка с речевыми нарушениями наряду с патологией формирования всех ее сторон, могут отмечаться отклонения в психическом развитии (темп его психического развития может замедлитьс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слительных процессов, эмоционально-волевой сферы, характера, а иногда и личности в целом может происходить анома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5600" y="146160"/>
            <a:ext cx="78865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2960" y="888840"/>
            <a:ext cx="3868560" cy="5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сихолог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2040" y="1495080"/>
            <a:ext cx="4668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ысших психических функций: память, внимание, мышл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зрительно-моторной координ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моционально-личностной сфе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волевых качеств и самоконтро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эмоционального и мышечного напря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комплексной психологической поддер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461960"/>
            <a:ext cx="388800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Логопе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451040" y="1549080"/>
            <a:ext cx="43513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вуковой стороны ре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в пополнении словарного запаса и освоении грам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вязному выражению своих мыс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лухового внимания и мелкой мотор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, необходимых для дальнейшего обучения в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28560" y="353880"/>
            <a:ext cx="7886880" cy="58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оррекционно-развивающего воздействия требует взаимодействия учителя-логопеда и психолога-педагога в тех случаях, когда в основе сложностей воспитания и обучения детей лежат следующие пробл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нарушения сопровождающиеся отставанием от возрастных норм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релость высших психических функций, которая сочетается с недоразвитием ре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сть речевого развития сопровождается снижением самоконтроля и учебной мотив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6600" y="10335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Ввести сказку в окружающий мир ребенка можно разными способам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2311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тение книги, как усвоение смысла и событий самой сказ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й теат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на столе из Круж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ьное представл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и любимых мульт-герое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кль на интерактивной доск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й матери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8480" y="22654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Сказка «Теремок»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Дети учатся вести диалог,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соблюдать очерёдность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и уважать друг друга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2" name="Объект 3" descr=""/>
          <p:cNvPicPr/>
          <p:nvPr/>
        </p:nvPicPr>
        <p:blipFill>
          <a:blip r:embed="rId1"/>
          <a:stretch/>
        </p:blipFill>
        <p:spPr>
          <a:xfrm>
            <a:off x="5305320" y="163440"/>
            <a:ext cx="36608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60160" y="338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Итоговое занятие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(интеграция логопед-психолог)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по сказке «Гуси-Лебеди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4" name="Объект 4" descr=""/>
          <p:cNvPicPr/>
          <p:nvPr/>
        </p:nvPicPr>
        <p:blipFill>
          <a:blip r:embed="rId1"/>
          <a:stretch/>
        </p:blipFill>
        <p:spPr>
          <a:xfrm>
            <a:off x="4440240" y="1609560"/>
            <a:ext cx="4592520" cy="5091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66680" y="1746000"/>
            <a:ext cx="43099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125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529"/>
                </a:solidFill>
                <a:latin typeface="Arial"/>
              </a:rPr>
              <a:t>На примере  занятия «Гуси-лебеди» рассматривается совместный практический опыт интеграции деятельности учителя-логопеда и педагога-психол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287280" y="272880"/>
            <a:ext cx="865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Наиболее эффективными методами работы с детьми, ис­пытывающими те или иные эмоциональные, речевые и поведенчес­кие затруднения, являются методы сказкотерапиии. В занятии используются методы с помощью которых формируются навыки звуко-слогового анализа и деференцировки этих звуков в слогах, словах, связной речи и совершенствования грамматического строя реч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Воспитывается в детях смелость,  уверенность в себе, способность  принимать решения в трудных ситуациях и взаимовыруч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02:00:31Z</dcterms:created>
  <dc:creator>Пользователь Windows</dc:creator>
  <dc:description/>
  <dc:language>en-US</dc:language>
  <cp:lastModifiedBy>Пользователь Windows</cp:lastModifiedBy>
  <dcterms:modified xsi:type="dcterms:W3CDTF">2022-05-13T07:14:26Z</dcterms:modified>
  <cp:revision>97</cp:revision>
  <dc:subject/>
  <dc:title>Презентация PowerPoint</dc:title>
</cp:coreProperties>
</file>