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gif" ContentType="image/gif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368-1839-4D4C-8C3F-50220D26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E5A-9EC1-4008-97E0-87724A33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17E-9CEF-42D5-9CD3-1E37B39D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DCB-9735-4900-A323-74CD02BF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E64A-957A-4827-B15D-609BDD8E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652-BFDC-476D-8DE6-C7E8107C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13F-2700-4905-B37C-241E952D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7EC-28FA-4BA1-97A2-1D9B8814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3F5-BC25-40FC-8B79-747FCCC5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FCA-3B9A-4A2A-A704-B238796F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C0A-B619-440E-BADC-51FB853A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FC5-AEBD-4105-8B6A-54E60EC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56DF-EEAC-4311-B47E-7B81B4031E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02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redstavlenie7"/>
          <p:cNvPicPr/>
          <p:nvPr/>
        </p:nvPicPr>
        <p:blipFill>
          <a:blip r:embed="rId1"/>
          <a:stretch/>
        </p:blipFill>
        <p:spPr>
          <a:xfrm>
            <a:off x="5076720" y="2421000"/>
            <a:ext cx="3748320" cy="4135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11280" y="476280"/>
            <a:ext cx="381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В России  издавна принято при встрече </a:t>
            </a:r>
            <a:r>
              <a:rPr b="1" i="1" lang="ru-RU" sz="3600" spc="-1" strike="noStrike">
                <a:solidFill>
                  <a:srgbClr val="ffcc00"/>
                </a:solidFill>
                <a:latin typeface="Tahoma"/>
              </a:rPr>
              <a:t>обниматься и трижды целоваться поочередно в обе ще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79280" y="394920"/>
            <a:ext cx="8748720" cy="72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объятие и троекратное целование поочередно в обе ще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Россия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клон со скрещенными на груди рукам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итай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клон, ладони сложены перед лбо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Индия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клон, руки и ладони вытянуты по бока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Япония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рукопожатие обеими руками, касание только кончиками пальце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Малайзия)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тереться друг о друга носам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эскимосская традиц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щекотание друг друга подбородко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Новая Гвине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равой рукой снимают головной убор, левую руку закладывают за ухо и высовывают язык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Тибет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24000" y="189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гра    «Такие разные приветствия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9b8e570f24a8578311b943e6353aa4f"/>
          <p:cNvPicPr/>
          <p:nvPr/>
        </p:nvPicPr>
        <p:blipFill>
          <a:blip r:embed="rId1"/>
          <a:stretch/>
        </p:blipFill>
        <p:spPr>
          <a:xfrm>
            <a:off x="468360" y="260280"/>
            <a:ext cx="3527280" cy="3527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564000" y="370080"/>
            <a:ext cx="47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России и США - «OK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Японии - деньг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Тунисе-«Я тебя убью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6" descr="819d53057b0dd14c894bb6f28726813b"/>
          <p:cNvPicPr/>
          <p:nvPr/>
        </p:nvPicPr>
        <p:blipFill>
          <a:blip r:embed="rId2"/>
          <a:stretch/>
        </p:blipFill>
        <p:spPr>
          <a:xfrm>
            <a:off x="5219640" y="2924280"/>
            <a:ext cx="3649680" cy="3649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324000" y="3669480"/>
            <a:ext cx="54003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 Италии - вопрос, призыв к объяснениям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 Мексике - требование денег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8" descr="c3a4bdd94b0c8f31fd5b3fbcc1172dc1"/>
          <p:cNvPicPr/>
          <p:nvPr/>
        </p:nvPicPr>
        <p:blipFill>
          <a:blip r:embed="rId3"/>
          <a:stretch/>
        </p:blipFill>
        <p:spPr>
          <a:xfrm>
            <a:off x="5292720" y="26028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9"/>
          <p:cNvSpPr/>
          <p:nvPr/>
        </p:nvSpPr>
        <p:spPr>
          <a:xfrm>
            <a:off x="179280" y="53964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России - деньг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странах Ближнего Востока - просьба не торопиться, предупреждение об опас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1" descr="fa417b59eaf6cb04445bca05f2f3e1ff"/>
          <p:cNvPicPr/>
          <p:nvPr/>
        </p:nvPicPr>
        <p:blipFill>
          <a:blip r:embed="rId4"/>
          <a:stretch/>
        </p:blipFill>
        <p:spPr>
          <a:xfrm>
            <a:off x="324000" y="306864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2"/>
          <p:cNvSpPr/>
          <p:nvPr/>
        </p:nvSpPr>
        <p:spPr>
          <a:xfrm>
            <a:off x="3851280" y="407664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России и США  - «Всё отлично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Греции - «Замолчи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851280" y="407664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России и США  - «Всё отлично»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 Греции - «Замолчи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39640" y="101160"/>
            <a:ext cx="81378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мей чувствовать рядом с собой человека,  умей понимать его душу, видеть в его глазах сложный духовный мир – радость, горе, беду, несчастье. Думай и чувствуй, как твои поступки могут отразиться на                                                                                                                                                                                                                        душевном состоянии другого человек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.А.Сухомлин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79280" y="215100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ные – в этом наше богатств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вместе – в этом наша сила!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1"/>
          <a:stretch/>
        </p:blipFill>
        <p:spPr>
          <a:xfrm>
            <a:off x="1108080" y="476280"/>
            <a:ext cx="7118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642960" y="7142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Толерантность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это милосерд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1000080" y="1422360"/>
            <a:ext cx="458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это доброта душ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2484360" y="200664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Tahoma"/>
              </a:rPr>
              <a:t>это сострадани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3492360" y="3429000"/>
            <a:ext cx="38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ahoma"/>
              </a:rPr>
              <a:t>это дружба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571840" y="265284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Tahoma"/>
              </a:rPr>
              <a:t>это уважени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Прямоугольник 10"/>
          <p:cNvSpPr/>
          <p:nvPr/>
        </p:nvSpPr>
        <p:spPr>
          <a:xfrm>
            <a:off x="2050920" y="42307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это терпение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303840" y="4869000"/>
            <a:ext cx="797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ahoma"/>
              </a:rPr>
              <a:t>это путь к миру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95200" y="404640"/>
            <a:ext cx="7643880" cy="54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299160" y="4653000"/>
            <a:ext cx="85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Мы все разные, но все-таки мы вместе!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sun"/>
          <p:cNvPicPr/>
          <p:nvPr/>
        </p:nvPicPr>
        <p:blipFill>
          <a:blip r:embed="rId1"/>
          <a:stretch/>
        </p:blipFill>
        <p:spPr>
          <a:xfrm>
            <a:off x="1476360" y="33480"/>
            <a:ext cx="56610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79280" y="76500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думано кем-то просто и мудр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 встрече здоровать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«Доброе утро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брое утро! - солнцу и птиц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брое утро! - улыбчивым лиц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каждый станови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брым, доверчивым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доброе утро длится до вече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4046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Такие разные приветствия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" descr="1237596949-tryam"/>
          <p:cNvPicPr/>
          <p:nvPr/>
        </p:nvPicPr>
        <p:blipFill>
          <a:blip r:embed="rId1"/>
          <a:stretch/>
        </p:blipFill>
        <p:spPr>
          <a:xfrm>
            <a:off x="5724360" y="3429000"/>
            <a:ext cx="2781360" cy="26971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95280" y="1546200"/>
            <a:ext cx="52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В Германии не принято при встрече кланяться или целоваться, главным знаком приветствия считается крепкое рукопожат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249989042_310369_14"/>
          <p:cNvPicPr/>
          <p:nvPr/>
        </p:nvPicPr>
        <p:blipFill>
          <a:blip r:embed="rId1"/>
          <a:stretch/>
        </p:blipFill>
        <p:spPr>
          <a:xfrm>
            <a:off x="1763640" y="3573360"/>
            <a:ext cx="5616720" cy="2816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1692360" y="119700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Встречаясь, эскимосы спешат </a:t>
            </a:r>
            <a:r>
              <a:rPr b="1" i="1" lang="ru-RU" sz="3600" spc="-1" strike="noStrike">
                <a:solidFill>
                  <a:srgbClr val="ffcc00"/>
                </a:solidFill>
                <a:latin typeface="Tahoma"/>
              </a:rPr>
              <a:t>потереться друг о друга нос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ay2"/>
          <p:cNvPicPr/>
          <p:nvPr/>
        </p:nvPicPr>
        <p:blipFill>
          <a:blip r:embed="rId1"/>
          <a:stretch/>
        </p:blipFill>
        <p:spPr>
          <a:xfrm>
            <a:off x="250920" y="333360"/>
            <a:ext cx="4537080" cy="4390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003640" y="1989000"/>
            <a:ext cx="352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Традиционное приветствие в Таиланде — именуемое “вай”, при котором сложенные вместе ладони прикладываются к голове или гру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9:38:13Z</dcterms:created>
  <dc:creator>Мальдюне</dc:creator>
  <dc:description/>
  <dc:language>en-US</dc:language>
  <cp:lastModifiedBy>admin</cp:lastModifiedBy>
  <dcterms:modified xsi:type="dcterms:W3CDTF">2020-11-17T15:21:51Z</dcterms:modified>
  <cp:revision>18</cp:revision>
  <dc:subject/>
  <dc:title>Слайд 1</dc:title>
</cp:coreProperties>
</file>