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gif" ContentType="image/gif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856-60B1-4069-B4A5-5C0BB6A0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A8A-556C-4C02-B9CE-A06E788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783-6ECF-4796-8C94-9EBD5FAD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BAE-B6D0-41A4-AEE4-0F8000DB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1C6-A31D-42C6-B640-AD4C63B8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7F4-E74E-474B-9956-39460DA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F5C-75E4-442E-A892-2B4B145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F53-16D7-4471-B471-D7EE9B8C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04D-5BE6-42FE-9009-CC11B6F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FAC-3852-4149-9214-64353DDB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D4A-601F-49F0-B941-4FA95E7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8CF-3C20-466C-98F6-04330CA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501-50C4-4C13-A9AB-1C74EE94F1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02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redstavlenie7"/>
          <p:cNvPicPr/>
          <p:nvPr/>
        </p:nvPicPr>
        <p:blipFill>
          <a:blip r:embed="rId1"/>
          <a:stretch/>
        </p:blipFill>
        <p:spPr>
          <a:xfrm>
            <a:off x="5076720" y="2421000"/>
            <a:ext cx="3748320" cy="4135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11280" y="476280"/>
            <a:ext cx="381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 России  издавна принято при встрече </a:t>
            </a: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обниматься и трижды целоваться поочередно в обе ще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79280" y="394920"/>
            <a:ext cx="874872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бъятие и троекратное целование поочередно в обе ще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Росс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клон со скрещенными на груди рука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итай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клон, ладони сложены перед лб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Инд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клон, руки и ладони вытянуты по бока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Япон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укопожатие обеими руками, касание только кончиками пальце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Малайз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тереться друг о друга носа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эскимосская традиц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щекотание друг друга подбородк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Новая Гвине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авой рукой снимают головной убор, левую руку закладывают за ухо и высовывают язы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Тибет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400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гра    «Такие разные приветствия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9b8e570f24a8578311b943e6353aa4f"/>
          <p:cNvPicPr/>
          <p:nvPr/>
        </p:nvPicPr>
        <p:blipFill>
          <a:blip r:embed="rId1"/>
          <a:stretch/>
        </p:blipFill>
        <p:spPr>
          <a:xfrm>
            <a:off x="468360" y="260280"/>
            <a:ext cx="3527280" cy="3527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564000" y="370080"/>
            <a:ext cx="47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России и США - «OK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Японии - деньг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Тунисе-«Я тебя убью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6" descr="819d53057b0dd14c894bb6f28726813b"/>
          <p:cNvPicPr/>
          <p:nvPr/>
        </p:nvPicPr>
        <p:blipFill>
          <a:blip r:embed="rId2"/>
          <a:stretch/>
        </p:blipFill>
        <p:spPr>
          <a:xfrm>
            <a:off x="5219640" y="2924280"/>
            <a:ext cx="3649680" cy="3649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324000" y="3669480"/>
            <a:ext cx="54003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Италии - вопрос, призыв к объяснениям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Мексике - требование дене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8" descr="c3a4bdd94b0c8f31fd5b3fbcc1172dc1"/>
          <p:cNvPicPr/>
          <p:nvPr/>
        </p:nvPicPr>
        <p:blipFill>
          <a:blip r:embed="rId3"/>
          <a:stretch/>
        </p:blipFill>
        <p:spPr>
          <a:xfrm>
            <a:off x="5292720" y="26028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179280" y="53964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России - деньг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странах Ближнего Востока - просьба не торопиться, предупреждение об опас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1" descr="fa417b59eaf6cb04445bca05f2f3e1ff"/>
          <p:cNvPicPr/>
          <p:nvPr/>
        </p:nvPicPr>
        <p:blipFill>
          <a:blip r:embed="rId4"/>
          <a:stretch/>
        </p:blipFill>
        <p:spPr>
          <a:xfrm>
            <a:off x="324000" y="3068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2"/>
          <p:cNvSpPr/>
          <p:nvPr/>
        </p:nvSpPr>
        <p:spPr>
          <a:xfrm>
            <a:off x="3851280" y="407664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России и США  - «Всё отлично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Греции - «Замолчи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851280" y="407664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России и США  - «Всё отлично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Греции - «Замолчи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39640" y="101160"/>
            <a:ext cx="8137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мей чувствовать рядом с собой человека,  умей понимать его душу, видеть в его глазах сложный духовный мир – радость, горе, беду, несчастье. Думай и чувствуй, как твои поступки могут отразиться на                                                                                                                                                                                                                        душевном состоянии другого человек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.А.Сухомлин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79280" y="2151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ые – в этом наше богатств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вместе – в этом наша сила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1108080" y="476280"/>
            <a:ext cx="7118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42960" y="714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Толерантность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это милосерд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000080" y="1422360"/>
            <a:ext cx="45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это доброта душ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2484360" y="200664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это сострад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3492360" y="3429000"/>
            <a:ext cx="38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ahoma"/>
              </a:rPr>
              <a:t>это дружб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571840" y="26528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ahoma"/>
              </a:rPr>
              <a:t>это уважени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050920" y="42307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это терпени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03840" y="4869000"/>
            <a:ext cx="797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это путь к миру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95200" y="404640"/>
            <a:ext cx="7643880" cy="54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299160" y="4653000"/>
            <a:ext cx="85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Мы все разные, но все-таки мы вместе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sun"/>
          <p:cNvPicPr/>
          <p:nvPr/>
        </p:nvPicPr>
        <p:blipFill>
          <a:blip r:embed="rId1"/>
          <a:stretch/>
        </p:blipFill>
        <p:spPr>
          <a:xfrm>
            <a:off x="1476360" y="33480"/>
            <a:ext cx="56610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79280" y="765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думано кем-то просто и муд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встрече здоровать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«Доброе утро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рое утро! - солнцу и птиц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рое утро! - улыбчивым лиц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каждый станови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рым, доверчивы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доброе утро длится до веч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Такие разные приветствия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1237596949-tryam"/>
          <p:cNvPicPr/>
          <p:nvPr/>
        </p:nvPicPr>
        <p:blipFill>
          <a:blip r:embed="rId1"/>
          <a:stretch/>
        </p:blipFill>
        <p:spPr>
          <a:xfrm>
            <a:off x="5724360" y="3429000"/>
            <a:ext cx="2781360" cy="2697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95280" y="1546200"/>
            <a:ext cx="52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Германии не принято при встрече кланяться или целоваться, главным знаком приветствия считается крепкое рукопожа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249989042_310369_14"/>
          <p:cNvPicPr/>
          <p:nvPr/>
        </p:nvPicPr>
        <p:blipFill>
          <a:blip r:embed="rId1"/>
          <a:stretch/>
        </p:blipFill>
        <p:spPr>
          <a:xfrm>
            <a:off x="1763640" y="3573360"/>
            <a:ext cx="5616720" cy="2816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692360" y="119700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стречаясь, эскимосы спешат </a:t>
            </a: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потереться друг о друга нос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ay2"/>
          <p:cNvPicPr/>
          <p:nvPr/>
        </p:nvPicPr>
        <p:blipFill>
          <a:blip r:embed="rId1"/>
          <a:stretch/>
        </p:blipFill>
        <p:spPr>
          <a:xfrm>
            <a:off x="250920" y="333360"/>
            <a:ext cx="4537080" cy="4390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003640" y="1989000"/>
            <a:ext cx="352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радиционное приветствие в Таиланде — именуемое “вай”, при котором сложенные вместе ладони прикладываются к голове или гру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9:38:13Z</dcterms:created>
  <dc:creator>Мальдюне</dc:creator>
  <dc:description/>
  <dc:language>en-US</dc:language>
  <cp:lastModifiedBy>admin</cp:lastModifiedBy>
  <dcterms:modified xsi:type="dcterms:W3CDTF">2020-11-17T15:21:51Z</dcterms:modified>
  <cp:revision>18</cp:revision>
  <dc:subject/>
  <dc:title>Слайд 1</dc:title>
</cp:coreProperties>
</file>