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BE73-1D8B-45AA-9CA7-85168340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7C87-82E1-457D-9C99-6D867AE2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23A3-1B74-4118-A98D-B008B113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14DE-9C24-4060-9A7F-47C7AAF3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1F62-1B54-4949-B1E0-7BF6F00E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D821-579A-4E2A-922D-FD987BA9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9F10-81ED-46DC-B78D-A73348BC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06E4-3A0C-41EF-BBD9-C0637C57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50CD-97AE-4DFC-8A9F-E9D56493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7DBE-33B7-4B85-BD6A-457CC205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8A96-578D-45D5-8303-B3AF371D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13D6-3E59-41FA-8BA4-45C86DBA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9F78-B1B0-4996-9F94-AFBFC6BA01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692280"/>
            <a:ext cx="6400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школьного образов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тей с ограниченными возможностями здоровь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льга Петровна Пецух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ндидат педагогических наук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цен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федры коррекционной педагогики и специальной психологи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АОУ ДПО НСО НИПКиПР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-711360" algn="ctr">
              <a:spcBef>
                <a:spcPts val="4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щие поло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-7113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рядок организации и осуществления образовательной деятельности по основным общеобразовательным программам - образовательным программам дошкольного образования (далее - Порядок) регулирует организацию и осуществление образовательной деятельности п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сновным общеобразовательным программам - образовательным программам дошкольного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ом числ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собенности организации образовательной деятельности для обучающихся с ограниченными возможностями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9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I. Организация и осуществление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. Требования к структуре, объему, условиям реализации и результатам освоения образовательной программы дошкольного образования определяютс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федеральным государственным образовательным стандартом дошкольного образо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. Образовательные программы дошкольного образовани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амостоятельно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абатываются и утверждаются образовательными организация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овательные программы дошкольного образования разрабатываются и утверждаются образовательной организаци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оответствии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с федеральным государственным образовательным стандарт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ошкольного образования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 учето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соответствующих примерных образовательных програм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ошкольного образов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ект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мерных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даптированны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основных образовательных програм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школьного образования (для детей с ОНР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рная адаптированная основная образовательная программа для дошкольников с тяжелыми нарушениями реч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/ Л. Б. Баряева, Т.В. Волосовец, О. П. Гаврилушкина, Г. Г. Голубева и др. // Под. ред. проф.  Л. В. Лопати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рная адаптированная основная образовательная программа для детей с тяжелыми нарушениями речи  (общим недоразвитием речи) с 3 до 7 л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/ Н. В. Нищева, учитель-логопед  высшей квалификационной  категории, отличник народного  образова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9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 УТВЕРЖДЕН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РЯДКА ЗАПОЛНЕНИЯ И ПРЕДСТАВЛЕНИЯ ФОРМ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ЕДЕРАЛЬНОГО ГОСУДАРСТВЕННОГО СТАТИСТИЧЕСКОГО НАБЛЮДЕ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N 85-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ОШКОЛЬНОГ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РАЗОВАТЕЛЬНОГО УЧРЕЖДЕНИЯ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ТАНОВЛЕНИЕ от 3 мая 2005 года N 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дел 2. Наличие групп и мест на конец отчетного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уппы компенсирующего вида распределяются следующим образо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к группам для детей с нарушением речи (код «2») (при сохранном слухе) относя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группы для детей с тяжелыми нарушениями речи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(общее недоразвитие речи (ОНР), заикание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группы для детей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фонетико-фонематическими нарушениями речи (ФФН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9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З «Об образовании в Российской Федераци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тья 2. Основные понятия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пользуемые в настоящем Федеральном зако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федеральный государственный образовательный стандарт 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окупность обязательных требований к образованию определенного  уров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тья 11. Федеральные государственные образовательные стандарты и федеральные государственные требования. Образовательные стандар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целях обеспечения реализации права на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бразование обучающихся с ограниченными возможностями здоровь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станавливаются федеральные государственные образовательные стандарты образования указанных лиц ил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ключаются в федеральные государственные образовательные стандарты специальные треб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9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едеральный государственный образовательный стандарт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твержден Приказом Минобрнауки Росси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тупил в силу 1 января 2014 год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-55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42600" y="475920"/>
            <a:ext cx="78166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I.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щие поло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Предметом регулирования Стандарта являются отношения в сфере образования, возникающие при реализации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ой программы дошкольного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далее - Программ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8. Стандарт включает в себя требования к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труктур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граммы и ее объем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словиям реализ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грамм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езультата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своения Програм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9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476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II. Требования к структур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тельной программы дошкольного образова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и ее объе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1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грамма включае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и основных разде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целево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держательны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рганизацион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476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11.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евой разде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ключает в себ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снительную записку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нируемые результаты освоения програм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ланируемые результа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своения Программы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онкретизирую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бования Стандарта к целевым ориентирам в обязательной части и части, формируемой участниками образовательных отношений, с учетом возрастных возможностей и индивидуальных различий (индивидуальных траекторий развития) детей, а также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собенностей развития детей с ограниченными возможностями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 том числе детей-инвалидов (далее - дети с ограниченными возможностями здоровья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9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47592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1.2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держательный разде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тельный раздел Программы должен включа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писание образовательной деятельности в соответствии с направлениями развития ребенка, представленными в пяти образовательных областя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с учетом используемых вариативных примерных основных образовательных программ дошкольного образования и методических пособий, обеспечивающих реализацию данного содерж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писание вариативных форм, способов, методов и средств реализации Програм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учетом возрастных и индивидуальных особенностей воспитанников, специфики их образовательных потребностей и интерес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писание образовательной деятельности по профессиональной коррекции нарушений развития дет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случае, если эта работа предусмотрена Программ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-171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440" y="836280"/>
            <a:ext cx="78469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едеральный закон «Об образовании в Российской Федерации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 29 декабря 201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№ 27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каз Минобрнаук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сси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«Об утверждении порядка организации и осуществления образовательной деятельности по основным общеобразовательным программам – образовательным программам дошкольного образования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 30 августа 2013 № 1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едеральный государственный образовательный стандарт дошкольного образован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твержден Приказом Минобрнауки России, вступил в силу 1 января 2014 год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Санитарно-эпидемиологические требования к устройству, содержанию и организации режима работы дошкольных образовательных организаций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СанПиН 2.4.1.3049-13, утверждены Постановлением Главного государственного санитарного врача Российской Федерации от 15 мая 2013 г. N 26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9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475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ррекционная работ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должна быть направлен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обеспечение коррекции нарушений разви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азличных категорий детей с ограниченными возможностями здоровья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казание им квалифицированной помощи в освоении Програм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своение детьми с ограниченными возможностями здоровья Програм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их разностороннее развитие с учетом возрастных и индивидуальных особенностей и особых образовательных потребностей, социальной адапт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держательный разде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лжен содерж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пециальные усло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получения образования детьми с ограниченными возможностями здоровья, в том числ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еханизмы адапт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граммы для указанных дете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использование специаль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бразовательных программ и методов, специальных методических пособий и дидактических материалов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ведение групповых и индивидуальных коррекционных    занят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осуществление квалифицированной коррекции нарушений их развит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19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476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1.3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онный разде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лже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держат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ис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атериально-технического обеспечения Программы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еспеченности методическими материалами и средствами обучения и воспитания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ключ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спорядок и /или режим дня, а также особенности традиционных событий, праздников, мероприятий; особенности организации развивающей предметно-пространственной сре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-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40428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II. Требования к условиям реализа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ой образовательной програм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2.9. Максимально допустимый объем образовательной нагруз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олжен соответствов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анитарно-эпидемиологическим правилам и нормативам СанПиН 2.4.1.3049-13, утвержденным постановлением Главного государственного санитарного врача Российской Федерации от 15 мая 2013 г. N 26 (зарегистрировано Министерством юстиции Российской Федерации 29 мая 2013 г., регистрационный N 28564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«Санитарно-эпидемиологические требования к устройству, содержанию и организации режима работы дошкольных образовательных организаций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476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обенности содержания и методики коррекционной (логопедической) работы при введении в действие ФГОС Д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мпетентностны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льга Петровна Пецух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ндидат педагогических наук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цен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федры коррекционной педагогики и специальной психолог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АОУ ДПО НСО НИПКиПР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40428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едеральный государственный образовательный стандар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III. Требования к условиям реализации основной образовательной программы дошкольного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4. Требования к кадровым условиям реализации Програм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валифика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едагогических и учебно-вспомогательных работников должна соответствовать квалификационным характеристикам, установленным 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Едином квалификационном справочнике должностей руководителей, специалистов и служащих, раздел «Квалификационные характеристики должностей работников образования»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твержденном приказом Министерства здравоохранения и социального развития Российской Федерации от 26 августа 2010 г. N 761н (зарегистрирован Министерством юстиции Российской Федерации 6 октября 2010 г., регистрационный N 18638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едеральный закон «Об образовании в Российской Федерации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атья 2. Основные понятия, используемые в настоящем Федеральном закон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валифика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уровень знаний, умений, навыков и сформированност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мпетен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характеризующий подготовленность к выполнению определенного вида профессиональной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диный квалификационный справочни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лжностей руководителей, специалистов и служащ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«Квалификационные характеристики должностей работников образования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III. Должности педагогических работ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ь-дефектолог, учитель-логопед (логопед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лжностные обязанност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выдержки)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учает индивидуальные особенности, способности, интересы и склонности обучающихся, воспитанников с целью создания условий для… формирования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компетентност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используя разнообразные формы, приемы, методы и средства обуч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лжен знать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выдержки)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ременные педагогические технологии продуктивного, дифференцированного, развивающего обучения, методы реализаци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компетентностного подх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-127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333360"/>
            <a:ext cx="77724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етентностный подход в логопедической рабо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ивает приобретение обучающими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мпетенций (компетентносте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услов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формированност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мпетен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 учителей-логопе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етенция -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етентность -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9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475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мпетен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«зона личной ответственности», приобретаемая обучающимися в процессе образования и само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пособ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отов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 действиям по решению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пределенного круга зада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ичная ответствен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а результаты их    решения (чувство и осознание ответственност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мпетент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актуальное проявление компетенции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чество действ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 решению задач, входящих в компетенц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фессиональные компетенц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дагогических работн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метно-профессиональна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формационна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муникативна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в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етен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лежащие формированию в процесс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дошкольного общего образования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исаны в Федеральных государственных образовательных стандартах  как целевые ориентиры (результаты освоения ООП) в категориях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способность к действиям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готовность к действиям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проявление готовност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евые ориентир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этапе завершения дошкольного образования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выдержки из ФГОС ДОО):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бенок овладевает основными культурными способами деятельности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оявляет инициативу и самостояте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 разных видах деятельности - игре, общении, познавательно-исследовательской деятельности, конструировании и др.;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пособен выбира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ебе род занятий, участников по совместной деятельности;</a:t>
            </a:r>
            <a:br>
              <a:rPr sz="1600"/>
            </a:b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бенок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пособен к волевым усилия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может следовать социальным нормам поведения и правилам в разных видах деятельности, во взаимоотношениях со взрослыми и сверстниками, может соблюдать правила безопасного поведения и личной гигиены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ребенок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пособен к принятию собственных решен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пираясь на свои знания и умения в различных видах деятельнос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особность -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отовность -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70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едеральный зако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Об образовании в Российской Федерации»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73 от 29 декабря 201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выдержк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333360"/>
            <a:ext cx="77724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индивидуально-психологические особенности, определяющие  успешность выполнения деятельности или ряда деятельносте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Б.М. Тепл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товность к действи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многокомпонентное образование, определяющее направленность человека на выполнение тех или иных действий; состояние активности, мобилизации всех психофизиологических систем человека, обеспечивающих эффективное выполнение определенных действи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Психологический словар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476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е способност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дошкольном и школьном возрасте определяется преимущественн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нутренней мотиваци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бен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В.Н. Дружин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акторы, влияющие на формирование готов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моциональное переживание ситу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ыполнения действия, налич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личностного смыс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ействия и его результат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зитивного опы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ейст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7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40428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мпетенц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едполагает развитие    способности и готов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к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втономным действи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амостоятельным, независимым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к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ооперативным действи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овместным, коллегиальным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держание и методы логопедической рабо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олжны не только обеспечить коррекцию речевых нарушений, но и способствовать приобретению обучающимися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мпетенций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ряд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 знаниями, умениями, навыками в области языка и ре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2. Основные понят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уемые в настоящем Федеральном зако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диный целенаправленный процес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оспитания и обуч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являющийся общественно значимым благом и осуществляемый в интересах человека, семьи, общества и государств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такж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вокупность приобретаем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знаний, умений, навыков, ценностных установок, опыта деятельност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омпетен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пределенного объема и слож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целях интеллектуального, духовно-нравственного, творческого, физического и (или) профессионального развития человека, удовлетворения его образовательных потребностей и интере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10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213840"/>
            <a:ext cx="813420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2. Основные понят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уемые в настоящем Федеральном зако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учающийся с ограниченными возможностями здоровь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ое лицо, имеющее недостатки в физическом и (или) психологическом развит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дтвержденны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сихолого-медико-педагогической комиссией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епятствующие получению образования без создания специальных усло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355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тья 2. Основные понятия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пользуемые в настоящем Федеральном зако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бучающийс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зическое лицо, осваивающее образовательную программ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тья 33. Обучающие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бучающим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зависимости от уровня осваиваемой образовательной программы, формы обучения, режима пребывания в образовательной организации относятс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оспитанн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лица, осваивающие образовательную программу дошкольного образов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чащие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лица, осваивающие образовательные программы начального общего, основного общего или среднего общего образов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 студенты (курсанты) - …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) аспиранты - 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) адъюнкты - 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) ординаторы - 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) ассистенты-стажеры -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) слушатели - …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) экстерны - ...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тья 79. Организация получения образова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учающимися с ограниченными возможностями здоровь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бщее образ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бучающихся с ограниченными возможностями здоровья осуществляется в организациях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уществляющих образовательную деятельность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 адаптированным основным общеобразовательным программа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тья 10. Структура системы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оссийской Федерации устанавливаются следующие уровн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бщего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дошкольное образован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начальное общее образован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основное общее образован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среднее общее образова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2. Основные понят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уемые в настоящем Федеральном зако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даптированная образовательная программа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овательная программа, адаптированная для обучения и воспитания лиц с ограниченными возможностями здоровья с учетом особенностей их психофизического развития, индивидуальных возможностей и при необходимости обеспечивающая коррекцию нарушений развития и социальную адаптацию указанных л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Об утверждении порядка организац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осуществления образовательной деятельн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основным общеобразовательным программам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разовательным программам дошкольного образования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каз Минобрнаук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сси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 30 августа 2013 № 1014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выдержк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neal</dc:creator>
  <dc:description/>
  <dc:language>en-US</dc:language>
  <cp:lastModifiedBy>1</cp:lastModifiedBy>
  <dcterms:modified xsi:type="dcterms:W3CDTF">2021-06-09T08:02:13Z</dcterms:modified>
  <cp:revision>523</cp:revision>
  <dc:subject/>
  <dc:title>PowerPoint Presentation</dc:title>
</cp:coreProperties>
</file>