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332-3FCC-472F-9C88-FA031738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24A-4272-4C4B-94AA-11D2201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7B7-F947-4BCF-9970-F3751C51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2F6-F703-4FC8-8B3A-6DF910D6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DF7-11CB-46B2-B6A2-20FF3D1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FB7-A8EC-4AD6-BE77-882DB6E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FD8-4CFB-4EAA-8049-2D321205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DF7-62EE-4A9C-A310-8B45C0BA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70D-3623-41B6-91B3-95C9D58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2DF-C58A-49C1-BD71-280F2E0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47F-5E21-4F8E-B30B-5146847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61D-FD8F-40D7-93FA-6C94529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C80C-2AB7-45DE-8EAF-03E6F0147B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ей с 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ьга Петровна Пецу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цен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ы коррекционной педагогики и специальной психолог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ОУ ДПО НСО НИПКиПР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 algn="ctr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дошкольного образования (далее - Порядок) регулирует организацию и осуществление образовательной деятельности п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новным общеобразовательным программам - образовательным программам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организации образовательной деятельности для обучающихся с 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. Организация и осуществле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Требования к структуре, объему, условиям реализации и результатам освоения образовательной программы дошкольного образования опреде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едеральным государственным образовательным стандартом дошкольн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Образовательные программы дошкольного образ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атываются и утверждаются образовательными организаци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дошкольного образования разрабатываются и утверждаются образовательной организаци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 федеральным государственным образовательным стандар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разования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 учето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оответствующих примерных образователь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ны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рованн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сновных образовательных програм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школьного образования (для детей с ОН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адаптированная основная образовательная программа для дошкольников с тяжелыми нарушениями ре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 Л. Б. Баряева, Т.В. Волосовец, О. П. Гаврилушкина, Г. Г. Голубева и др. // Под. ред. проф.  Л. В. Лопати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адаптированная основная образовательная программа для детей с тяжелыми нарушениями речи  (общим недоразвитием речи) с 3 до 7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 Н. В. Нищева, учитель-логопед  высшей квалификационной  категории, отличник народного 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УТВЕРЖД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ЯДКА ЗАПОЛНЕНИЯ И ПРЕДСТАВЛЕНИЯ ФОР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ЕРАЛЬНОГО ГОСУДАРСТВЕННОГО СТАТИСТИЧЕСКОГО НАБЛЮ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N 85-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ОШКОЛЬН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от 3 мая 2005 года N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ел 2. Наличие групп и мест на конец отчет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ы компенсирующего вида распределяю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 группам для детей с нарушением речи (код «2») (при сохранном слухе) относя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уппы для детей с тяжелыми нарушениями реч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общее недоразвитие речи (ОНР), заикан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группы для дет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фонетико-фонематическими нарушениями речи (ФФН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З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требований к образованию определенного 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ях обеспечения реализации права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обучающихся с ограниченными возможностями здоров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станавливаются федеральные государственные образовательные стандарты образования указанных лиц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ключаются в федеральные государственные образовательные стандарты специальные треб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риказом Минобрнауки Росс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ил в силу 1 января 2014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55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600" y="475920"/>
            <a:ext cx="7816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Предметом регулирования Стандарта являются отношения в сфере образования, возникающие при реализаци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ой программы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алее - Программ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8. Стандарт включает в себя требования 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 и ее объ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словия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зульта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воения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II. Требования к структур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ой программы 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ее объ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рамма включ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основных разд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ев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держательн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11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вой разд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 освоения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воения Программ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кретизирую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Стандарта к целевым ориентирам в обязательной части и части, формируемой участниками образовательных отношений, с учетом возрастных возможностей и индивидуальных различий (индивидуальных траекторий развития) детей, а такж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ей развития детей с 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том числе детей-инвалидов (далее - дети с ограниченными возможностями здоровь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1.2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держательный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тельный раздел Программы должен включ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образовательной деятельности в соответствии с направлениями развития ребенка, представленными в пяти образовательных областя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 учетом используемых вариативных примерных основных образовательных программ дошкольного образования и методических пособий, обеспечивающих реализацию данного содерж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вариативных форм, способов, методов и средств реализации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учетом возрастных и индивидуальных особенностей воспитанников, специфики их образовательных потребностей и интерес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образовательной деятельности по профессиональной коррекции нарушений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лучае, если эта работа предусмотрена Програм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440" y="836280"/>
            <a:ext cx="7846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29 декабря 20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2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0 августа 2013 № 1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дошкольного 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риказом Минобрнауки России, вступил в силу 1 января 2014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анитарно-эпидемиологические требования к устройству, содержанию и организации режима работы дошкольных образовательных организаций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анПиН 2.4.1.3049-13, утверждены Постановлением Главного государственного санитарного врача Российской Федерации от 15 мая 2013 г. N 26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онная рабо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олжна быть направле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обеспечение коррекции нарушений разви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личных категорий детей с ограниченными возможностями здоровья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казание им квалифицированной помощи в освоении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воение детьми с ограниченными возможностями здоровья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х разностороннее развитие с учетом возрастных и индивидуальных особенностей и особых образовательных потребностей, социальной адап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тельный разде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ен содерж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ециальные усл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лучения образования детьми с ограниченными возможностями здоровья, в том чис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ханизмы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 для указанных дет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пециа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разовательных программ и методов, специальных методических пособий и дидактических материа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групповых и индивидуальных коррекционных    зан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существление квалифицированной коррекции нарушений их разви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1.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онный разде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атериально-технического обеспечения Програм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енности методическими материалами и средствами обучения и воспитан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рядок и /или режим дня, а также особенности традиционных событий, праздников, мероприятий; особенности организации развивающей предметно-пространственно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I. Требования к условиям реал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образовательной 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2.9. Максимально допустимый объем образовательной нагру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лжен соответств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анитарно-эпидемиологическим правилам и нормативам СанПиН 2.4.1.3049-13, утвержденным постановлением Главного государственного санитарного врача Российской Федерации от 15 мая 2013 г. N 26 (зарегистрировано Министерством юстиции Российской Федерации 29 мая 2013 г., регистрационный N 28564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Санитарно-эпидемиологические требования к устройству, содержанию и организации режима работы дошкольных образовательных организаци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содержания и методики коррекционной (логопедической) работы при введении в действие ФГОС Д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ьга Петровна Пецу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цен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федры коррекционной педагогики и специальной психолог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ОУ ДПО НСО НИПКиПР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II. Требования к условиям реализации основной образовательной программы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4. Требования к кадровым условиям реализации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х и учебно-вспомогательных работников должна соответствовать квалификационным характеристикам, установленным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ом квалификационном справочнике должностей руководителей, специалистов и служащих, раздел «Квалификационные характеристики должностей работников образования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твержденном приказом Министерства здравоохранения и социального развития Российской Федерации от 26 августа 2010 г. N 761н (зарегистрирован Министерством юстиции Российской Федерации 6 октября 2010 г., регистрационный N 1863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используемые в настоящем Федеральном зако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уровень знаний, умений, навыков и сформированност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характеризующий подготовленность к выполнению определенного вида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иный квалификационный справочн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ей руководителей, специалистов и служащ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«Квалификационные характеристики должностей 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II. Должност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, учитель-логопед (логопед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ые обязан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ает индивидуальные особенности, способности, интересы и склонности обучающихся, воспитанников с целью создания условий для… формир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омпетент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спользуя разнообразные формы, приемы, методы и средств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ен зна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технологии продуктивного, дифференцированного, развивающего обучения, методы ре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127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ный подход в логопедическ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приобретение обучающими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етенций (компетент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услов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н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 учителей-логопе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ция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ь -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она личной ответственности», приобретаемая обучающимися в процессе образования и сам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 действиям по реш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ного круга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чная ответ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 результаты их    решения (чувство и осознание ответ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актуальное проявление компетенци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чество действ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решению задач, входящих в компетен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компет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метно-профессион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лежащие формированию в процесс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щего образова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ы в Федеральных государственных образовательных стандартах  как целевые ориентиры (результаты освоения ООП) в категория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способность к действия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готовность к действия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роявление готовн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евые ориенти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этапе завершения дошкольного образова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ыдержки из ФГОС ДОО):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овладевает основными культурными способами деятельност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являет инициативу и самосто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разных видах деятельности - игре, общении, познавательно-исследовательской деятельности, конструировании и др.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выбир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ебе род занятий, участников по совместной деятельности;</a:t>
            </a:r>
            <a:br>
              <a:rPr sz="16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к волевым усили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может следовать социальным нормам поведения и правилам в разных видах деятельности, во взаимоотношениях со взрослыми и сверстниками, может соблюдать правила безопасного поведения и личной гигиены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бенок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к принятию собственных реш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пираясь на свои знания и умения в различных видах 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-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товность -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70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б образовании в Российской Федерации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3 от 29 декабря 20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выдерж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дивидуально-психологические особенности, определяющие  успешность выполнения деятельности или ряда деятельност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М. Теп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ность к дейст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ногокомпонентное образование, определяющее направленность человека на выполнение тех или иных действий; состояние активности, мобилизации всех психофизиологических систем человека, обеспечивающих эффективное выполнение определенных действ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сихологический слова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дошкольном и школьном возрасте определяется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ей мотив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В.Н. Дружин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кторы, влияющие на формирование готов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переживани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полнения действия, налич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остного смы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йствия и его результа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зитивного опы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дполагает развитие    способности и гото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номным действ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амостоятельным, независимым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оперативным действ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вместным, коллегиальны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методы логопедическ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лжны не только обеспечить коррекцию речевых нарушений, но и способствовать приобретению обучающимис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я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 знаниями, умениями, навыками в области языка и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диный целенаправленный проце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ния и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являющийся общественно значимым благом и осуществляемый в интересах человека, семьи, общества и государ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приобрета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ний, умений, навыков, ценностных установок, опыта деятель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енного объема и слож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10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13840"/>
            <a:ext cx="81342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учающийся с ограниченными возможностями здоровь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ое лицо, имеющее недостатки в физическом и (или) психологическом развит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дтвержден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ой комиссие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пятствующие получению образования без создания специальны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учающий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ое лицо, осваивающее образовательную програм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33. Обучающи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учающим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зависимости от уровня осваиваемой образовательной программы, формы обучения, режима пребывания в образовательной организации относя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н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лица, осваивающие образовательную программу дошкольного 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ащие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лица, осваивающие образовательные программы начального общего, основного общего или средне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студенты (курсанты) - …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аспирант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адъюнкт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 ординатор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) ассистенты-стажеры -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) слушатели - …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) экстерны - ...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79. Организация получения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мися с ограниченными возможностями здоровь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щее образ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учающихся с ограниченными возможностями здоровья осуществляется в организациях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яющих образовательную деятельность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щеобразовательным программ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10. Структура системы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ссийской Федерации устанавливаются следующие уровн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ще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дошкольно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начальное обще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основное обще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среднее общее образ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аптированная образовательная программ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ая программа, адаптированная для обучения и воспита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 порядка орган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осуществления образо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сновным общеобразовательным программам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м программам дошкольного образования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0 августа 2013 № 101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eal</dc:creator>
  <dc:description/>
  <dc:language>en-US</dc:language>
  <cp:lastModifiedBy>1</cp:lastModifiedBy>
  <dcterms:modified xsi:type="dcterms:W3CDTF">2021-06-09T08:02:13Z</dcterms:modified>
  <cp:revision>523</cp:revision>
  <dc:subject/>
  <dc:title>PowerPoint Presentation</dc:title>
</cp:coreProperties>
</file>