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3A18-B601-4D62-B242-4F429DCA3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5677-9F57-4B3F-A340-481F1904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C17A-B4E4-4F3E-9CD3-886606B22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670B-8DE1-4E98-A121-DAD194CB4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342F-5BBF-44F6-B02F-4145B90B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BDBD-BD25-4113-B379-3C2DB27A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DC54-4EE8-48EB-8857-A741D559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C8C1-1ACA-4AC8-A1FF-92BC9A08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845E-6B2E-465A-A698-059DE134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CF1E-BFDB-4B97-8638-4862CAE0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B928-6776-4BC8-91CE-CA6EB42E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6CF4-2EB6-4D8C-B1C7-529858D7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01A4-9BA9-485E-9885-D7C8CF0F06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32000" y="692280"/>
            <a:ext cx="6400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рмативно-правовая баз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школьного образова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тей с ограниченными возможностями здоровь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льга Петровна Пецух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ндидат педагогических наук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цен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федры коррекционной педагогики и специальной психологи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АОУ ДПО НСО НИПКиПР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475920"/>
            <a:ext cx="77724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1360" indent="-711360" algn="ctr">
              <a:spcBef>
                <a:spcPts val="4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щие полож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113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11360" indent="-71136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рядок организации и осуществления образовательной деятельности по основным общеобразовательным программам - образовательным программам дошкольного образования (далее - Порядок) регулирует организацию и осуществление образовательной деятельности п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сновным общеобразовательным программам - образовательным программам дошкольного образова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11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11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том числ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собенности организации образовательной деятельности для обучающихся с ограниченными возможностями здоровь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9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404640"/>
            <a:ext cx="77724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II. Организация и осуществление образова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9. Требования к структуре, объему, условиям реализации и результатам освоения образовательной программы дошкольного образования определяются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федеральным государственным образовательным стандартом дошкольного образов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0. Образовательные программы дошкольного образования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амостоятельно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рабатываются и утверждаются образовательными организация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зовательные программы дошкольного образования разрабатываются и утверждаются образовательной организацие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соответствии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с федеральным государственным образовательным стандарто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ошкольного образования 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 учетом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соответствующих примерных образовательных програм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ошкольного образова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55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404640"/>
            <a:ext cx="77724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ект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мерных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даптированны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основных образовательных програм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школьного образования (для детей с ОНР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ерная адаптированная основная образовательная программа для дошкольников с тяжелыми нарушениями реч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/ Л. Б. Баряева, Т.В. Волосовец, О. П. Гаврилушкина, Г. Г. Голубева и др. // Под. ред. проф.  Л. В. Лопати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ерная адаптированная основная образовательная программа для детей с тяжелыми нарушениями речи  (общим недоразвитием речи) с 3 до 7 ле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/ Н. В. Нищева, учитель-логопед  высшей квалификационной  категории, отличник народного  образова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9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404640"/>
            <a:ext cx="77724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 УТВЕРЖДЕНИ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РЯДКА ЗАПОЛНЕНИЯ И ПРЕДСТАВЛЕНИЯ ФОРМ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ЕДЕРАЛЬНОГО ГОСУДАРСТВЕННОГО СТАТИСТИЧЕСКОГО НАБЛЮДЕН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N 85-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СВЕДЕНИЯ О ДЕЯТЕЛЬНОСТИ ДОШКОЛЬНОГ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РАЗОВАТЕЛЬНОГО УЧРЕЖДЕНИЯ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ТАНОВЛЕНИЕ от 3 мая 2005 года N 2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дел 2. Наличие групп и мест на конец отчетного г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уппы компенсирующего вида распределяются следующим образо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к группам для детей с нарушением речи (код «2») (при сохранном слухе) относятс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группы для детей с тяжелыми нарушениями речи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(общее недоразвитие речи (ОНР), заикание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) группы для детей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фонетико-фонематическими нарушениями речи (ФФНР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9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З «Об образовании в Российской Федераци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атья 2. Основные понятия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пользуемые в настоящем Федеральном закон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федеральный государственный образовательный стандарт -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вокупность обязательных требований к образованию определенного  уровн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атья 11. Федеральные государственные образовательные стандарты и федеральные государственные требования. Образовательные стандар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целях обеспечения реализации права на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бразование обучающихся с ограниченными возможностями здоровь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устанавливаются федеральные государственные образовательные стандарты образования указанных лиц ил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ключаются в федеральные государственные образовательные стандарты специальные треб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9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едеральный государственный образовательный стандарт дошкольного образ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твержден Приказом Минобрнауки России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тупил в силу 1 января 2014 год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-55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42600" y="475920"/>
            <a:ext cx="78166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I.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бщие полож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1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Предметом регулирования Стандарта являются отношения в сфере образования, возникающие при реализации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бразовательной программы дошкольного образова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далее - Программа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8. Стандарт включает в себя требования к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труктур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ограммы и ее объем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словиям реализ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ограмм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езультата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своения Програм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9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476280"/>
            <a:ext cx="77724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II. Требования к структур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бразовательной программы дошкольного образова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и ее объе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1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ограмма включает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и основных разде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целево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одержательны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рганизацион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476280"/>
            <a:ext cx="77724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11.1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левой разде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ключает в себ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яснительную записку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анируемые результаты освоения програм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ланируемые результа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своения Программы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онкретизируют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ебования Стандарта к целевым ориентирам в обязательной части и части, формируемой участниками образовательных отношений, с учетом возрастных возможностей и индивидуальных различий (индивидуальных траекторий развития) детей, а также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собенностей развития детей с ограниченными возможностями здоровь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в том числе детей-инвалидов (далее - дети с ограниченными возможностями здоровья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19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475920"/>
            <a:ext cx="77724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11.2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держательный разде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одержательный раздел Программы должен включать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писание образовательной деятельности в соответствии с направлениями развития ребенка, представленными в пяти образовательных областя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с учетом используемых вариативных примерных основных образовательных программ дошкольного образования и методических пособий, обеспечивающих реализацию данного содержа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)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писание вариативных форм, способов, методов и средств реализации Программ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 учетом возрастных и индивидуальных особенностей воспитанников, специфики их образовательных потребностей и интересов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)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писание образовательной деятельности по профессиональной коррекции нарушений развития дет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случае, если эта работа предусмотрена Программо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-171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440" y="836280"/>
            <a:ext cx="78469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едеральный закон «Об образовании в Российской Федерации»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 29 декабря 201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№ 27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каз Минобрнаук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сси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«Об утверждении порядка организации и осуществления образовательной деятельности по основным общеобразовательным программам – образовательным программам дошкольного образования»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 30 августа 2013 № 1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едеральный государственный образовательный стандарт дошкольного образования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твержден Приказом Минобрнауки России, вступил в силу 1 января 2014 год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Санитарно-эпидемиологические требования к устройству, содержанию и организации режима работы дошкольных образовательных организаций»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СанПиН 2.4.1.3049-13, утверждены Постановлением Главного государственного санитарного врача Российской Федерации от 15 мая 2013 г. N 26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9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475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ррекционная работ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должна быть направлен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обеспечение коррекции нарушений развит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различных категорий детей с ограниченными возможностями здоровья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казание им квалифицированной помощи в освоении Программ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своение детьми с ограниченными возможностями здоровья Программ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их разностороннее развитие с учетом возрастных и индивидуальных особенностей и особых образовательных потребностей, социальной адапт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держательный разде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лжен содержа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пециальные услов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получения образования детьми с ограниченными возможностями здоровья, в том числ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механизмы адапт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ограммы для указанных детей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использование специальны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бразовательных программ и методов, специальных методических пособий и дидактических материалов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оведение групповых и индивидуальных коррекционных    занят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осуществление квалифицированной коррекции нарушений их развит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19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476280"/>
            <a:ext cx="77724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11.3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ационный разде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лжен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держать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ис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материально-технического обеспечения Программы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еспеченности методическими материалами и средствами обучения и воспитания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ключа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распорядок и /или режим дня, а также особенности традиционных событий, праздников, мероприятий; особенности организации развивающей предметно-пространственной сред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-55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40428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III. Требования к условиям реализа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ой образовательной програм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школьного образ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2.9. Максимально допустимый объем образовательной нагруз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должен соответствова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анитарно-эпидемиологическим правилам и нормативам СанПиН 2.4.1.3049-13, утвержденным постановлением Главного государственного санитарного врача Российской Федерации от 15 мая 2013 г. N 26 (зарегистрировано Министерством юстиции Российской Федерации 29 мая 2013 г., регистрационный N 28564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«Санитарно-эпидемиологические требования к устройству, содержанию и организации режима работы дошкольных образовательных организаций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6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476280"/>
            <a:ext cx="77724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обенности содержания и методики коррекционной (логопедической) работы при введении в действие ФГОС Д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омпетентностный подх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льга Петровна Пецух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ндидат педагогических наук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цен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федры коррекционной педагогики и специальной психологи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АОУ ДПО НСО НИПКиПР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55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1280" y="40428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едеральный государственный образовательный стандар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школьного образ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III. Требования к условиям реализации основной образовательной программы дошкольного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4. Требования к кадровым условиям реализации Программ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валификац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едагогических и учебно-вспомогательных работников должна соответствовать квалификационным характеристикам, установленным в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Едином квалификационном справочнике должностей руководителей, специалистов и служащих, раздел «Квалификационные характеристики должностей работников образования»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утвержденном приказом Министерства здравоохранения и социального развития Российской Федерации от 26 августа 2010 г. N 761н (зарегистрирован Министерством юстиции Российской Федерации 6 октября 2010 г., регистрационный N 18638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55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едеральный закон «Об образовании в Российской Федерации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атья 2. Основные понятия, используемые в настоящем Федеральном закон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валификац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уровень знаний, умений, навыков и сформированности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омпетенц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характеризующий подготовленность к выполнению определенного вида профессиональной дея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диный квалификационный справочник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лжностей руководителей, специалистов и служащи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«Квалификационные характеристики должностей работников образования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III. Должности педагогических работ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итель-дефектолог, учитель-логопед (логопед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лжностные обязанност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выдержки)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учает индивидуальные особенности, способности, интересы и склонности обучающихся, воспитанников с целью создания условий для… формирования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компетентност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используя разнообразные формы, приемы, методы и средства обуч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лжен знать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выдержки)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временные педагогические технологии продуктивного, дифференцированного, развивающего обучения, методы реализации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компетентностного подх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-1270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333360"/>
            <a:ext cx="77724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петентностный подход в логопедической рабо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еспечивает приобретение обучающими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омпетенций (компетентносте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услов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формированност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омпетенц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у учителей-логопе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петенция -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петентность -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9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475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мпетен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«зона личной ответственности», приобретаемая обучающимися в процессе образования и самообраз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пособнос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отов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 действиям по решению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пределенного круга зада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личная ответствен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за результаты их    решения (чувство и осознание ответственност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мпетент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актуальное проявление компетенции,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ачество действ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о решению задач, входящих в компетенц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55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404640"/>
            <a:ext cx="77724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фессиональные компетенц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дагогических работни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метно-профессиональна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формационна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муникативна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ов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55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404640"/>
            <a:ext cx="77724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петенц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лежащие формированию в процесс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дошкольного общего образования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исаны в Федеральных государственных образовательных стандартах  как целевые ориентиры (результаты освоения ООП) в категориях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«способность к действиям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«готовность к действиям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проявление готовности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елевые ориентир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этапе завершения дошкольного образования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(выдержки из ФГОС ДОО):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бенок овладевает основными культурными способами деятельности,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роявляет инициативу и самостоятельнос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 разных видах деятельности - игре, общении, познавательно-исследовательской деятельности, конструировании и др.;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пособен выбира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себе род занятий, участников по совместной деятельности;</a:t>
            </a:r>
            <a:br>
              <a:rPr sz="1600"/>
            </a:br>
            <a:br>
              <a:rPr sz="1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бенок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пособен к волевым усилия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может следовать социальным нормам поведения и правилам в разных видах деятельности, во взаимоотношениях со взрослыми и сверстниками, может соблюдать правила безопасного поведения и личной гигиены;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ребенок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пособен к принятию собственных решени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опираясь на свои знания и умения в различных видах деятельност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пособность -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отовность -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70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едеральный зако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Об образовании в Российской Федерации»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73 от 29 декабря 201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(выдержк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55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333360"/>
            <a:ext cx="77724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особ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индивидуально-психологические особенности, определяющие  успешность выполнения деятельности или ряда деятельностей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Б.М. Тепло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товность к действия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многокомпонентное образование, определяющее направленность человека на выполнение тех или иных действий; состояние активности, мобилизации всех психофизиологических систем человека, обеспечивающих эффективное выполнение определенных действий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Психологический словарь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55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476280"/>
            <a:ext cx="77724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витие способност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дошкольном и школьном возрасте определяется преимущественно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нутренней мотиваци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ебенк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В.Н. Дружини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акторы, влияющие на формирование готовно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моциональное переживание ситуац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ыполнения действия, наличи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личностного смыс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ействия и его результат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личи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озитивного опы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ейств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7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40428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ние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омпетенц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редполагает развитие    способности и готов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к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втономным действия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самостоятельным, независимым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к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ооперативным действия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совместным, коллегиальным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держание и методы логопедической работ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должны не только обеспечить коррекцию речевых нарушений, но и способствовать приобретению обучающимися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омпетенций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аряд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о знаниями, умениями, навыками в области языка и реч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55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404640"/>
            <a:ext cx="77724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тья 2. Основные поняти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пользуемые в настоящем Федеральном зако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единый целенаправленный процес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оспитания и обуч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являющийся общественно значимым благом и осуществляемый в интересах человека, семьи, общества и государств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также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вокупность приобретаем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знаний, умений, навыков, ценностных установок, опыта деятельност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омпетенц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пределенного объема и сложн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целях интеллектуального, духовно-нравственного, творческого, физического и (или) профессионального развития человека, удовлетворения его образовательных потребностей и интере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210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000" y="213840"/>
            <a:ext cx="8134200" cy="63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тья 2. Основные поняти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пользуемые в настоящем Федеральном зако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учающийся с ограниченными возможностями здоровь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ическое лицо, имеющее недостатки в физическом и (или) психологическом развити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одтвержденны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сихолого-медико-педагогической комиссией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епятствующие получению образования без создания специальных услов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355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атья 2. Основные понятия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пользуемые в настоящем Федеральном закон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бучающийс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зическое лицо, осваивающее образовательную программ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атья 33. Обучающие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К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бучающим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зависимости от уровня осваиваемой образовательной программы, формы обучения, режима пребывания в образовательной организации относятся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оспитанни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лица, осваивающие образовательную программу дошкольного образова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учащие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лица, осваивающие образовательные программы начального общего, основного общего или среднего общего образова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) студенты (курсанты) - …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) аспиранты - …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) адъюнкты - …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) ординаторы - …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) ассистенты-стажеры -…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8) слушатели - …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9) экстерны - ...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атья 79. Организация получения образова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учающимися с ограниченными возможностями здоровь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бщее образова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бучающихся с ограниченными возможностями здоровья осуществляется в организациях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уществляющих образовательную деятельность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 адаптированным основным общеобразовательным программа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атья 10. Структура системы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Российской Федерации устанавливаются следующие уровн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бщего образова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) дошкольное образовани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) начальное общее образовани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) основное общее образовани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) среднее общее образова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тья 2. Основные поняти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пользуемые в настоящем Федеральном зако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даптированная образовательная программа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овательная программа, адаптированная для обучения и воспитания лиц с ограниченными возможностями здоровья с учетом особенностей их психофизического развития, индивидуальных возможностей и при необходимости обеспечивающая коррекцию нарушений развития и социальную адаптацию указанных ли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Об утверждении порядка организаци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осуществления образовательной деятельност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основным общеобразовательным программам –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разовательным программам дошкольного образования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каз Минобрнаук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сси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 30 августа 2013 № 1014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выдержки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neal</dc:creator>
  <dc:description/>
  <dc:language>en-US</dc:language>
  <cp:lastModifiedBy>1</cp:lastModifiedBy>
  <dcterms:modified xsi:type="dcterms:W3CDTF">2021-06-09T08:02:13Z</dcterms:modified>
  <cp:revision>523</cp:revision>
  <dc:subject/>
  <dc:title>PowerPoint Presentation</dc:title>
</cp:coreProperties>
</file>