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E447-C962-4626-8975-73A17D6082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1775-F070-48E3-A6E2-7F18811010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DD1C-609A-4918-B27D-DB58227833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D8A1-8FB2-4A35-9D4A-E0FBCF4363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644-493C-43B7-B1D0-C33398FC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1AF-EDD4-446E-9A1D-69F9C438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47A-E138-43C6-B382-92195B15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657-826A-4D28-B607-F95C25B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3744-8863-4052-ADA2-4A93A191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DB00-7C56-44FB-B099-B839E20B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6716-4974-43A5-A355-1FF8D39D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9198-D672-4B0C-AFB7-96D1976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8040-4171-491A-8766-21CE97F1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86EB-7E54-4C42-800C-C3680AA5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A47C-6BF2-4A4B-9D59-26A1CB4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3D3-D519-4666-9A99-89D02CBA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A25A-4B4C-463D-88C1-706E1B3A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2EF4-9E05-453E-B9C1-23589F8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862-192D-459E-880D-5E1F97C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481E-D4A1-4429-9740-D8880996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8EB0-2768-4EE1-A614-7DCA642B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5F02-E77A-44F6-8416-587EC73F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BCA6-99DC-4E00-97AE-6335B8BF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6EA2-E26F-4A83-8239-85100E35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5001-744F-48B7-B9D6-057DAC9D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FED4-CCD6-462C-9B58-0C3A9C94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631-757D-48E9-8295-2A73E930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BA07-480E-45C6-9FD8-9DF74C93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1245-3AB0-4B9C-8336-365EAC68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2D64-B42B-4162-8F6D-66AE552C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4DD4-A92A-4FDE-8A55-F4C746A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7F7BD-3715-47FB-B12C-E8CB55DD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2B63-DD31-43E6-9A61-831E2D29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9C0B-F5B6-4072-B133-D3D898AC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0D99-8247-4E56-9152-F36FAAD7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0CA50-EC45-453C-A0F6-02A722F8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49E6-D03D-49A0-A0D5-CCEF155B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043-92F6-49A3-89A9-82C240A2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D367-A046-4496-8D06-E442970C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720EE-1C8B-4903-AF51-13A55339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0050-4CBC-4D29-BE57-9F5E305D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0665-19BF-407B-958C-72C9A58B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C528-C95A-4970-B8B8-7345EF3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78DE-E800-4428-978F-C6C50B8C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C072-6B0A-4456-AB71-FEE93B5E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5614-BF53-4A5E-BB16-510BAC5D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2EAF-B257-4C11-B609-E9D5A70B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8DFA-87DE-44D8-B263-98329C02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F90-A393-4784-9D99-8C4F3CCB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F9B0-1F38-4826-86C6-88CCFA4B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9B8B8-1880-4D78-A611-F0018F8D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377C3-C533-4376-8A22-3A3CD3A8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E934-481A-44BE-9E19-91F46899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242D3-A297-4854-8603-67EB2111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63EB1-2F7D-434F-97FE-A52EDFF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B96B8-2207-4A5E-BA91-0602525A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41094-0983-4811-9878-BCE7440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ABDC6-CB09-47DE-945D-7C87C322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C8FA-FADE-4FDF-AAC5-0151892D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B96-AE5A-45C9-ADAD-EED661B5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EFCDA-B123-47DD-8DD8-BAF9BC16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20C97-28C4-4E58-BB60-2FE29CB6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71B98-DD9F-4DEE-8A2F-6426478B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DF11-CEAD-4EB6-A944-D79DAB53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81590-334D-481C-9753-4EB36D75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F3AF7-77B5-4A0D-AA00-B73067CF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4F291-2454-4257-A1D9-2E306CC3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D35F0-604F-4944-802C-48521554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5D2C4-8F65-4766-9AED-FFA9CEF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E3B19-5299-46F5-8551-8B9DA5F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202-56F6-4C4D-85A0-D5B7976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6475-5084-4F6F-8CBB-F2382CF0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F6C7E-E793-4395-BF66-2FA613E8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6DD87-FCC1-4D6F-B54B-7F2EE756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37E-337F-4252-8D55-D0425C54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54E-3CF5-43E2-A75A-7FC7DF00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Рисунок 6" descr="0_f2eb0_a7f3de0f_XL.png"/>
          <p:cNvPicPr/>
          <p:nvPr/>
        </p:nvPicPr>
        <p:blipFill>
          <a:blip r:embed="rId2"/>
          <a:stretch/>
        </p:blipFill>
        <p:spPr>
          <a:xfrm>
            <a:off x="108000" y="4186080"/>
            <a:ext cx="4248000" cy="26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F8FD-172F-431B-AB52-09CC3278E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B024-D895-4BAF-87AF-6877CF447A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6" descr="0_f2eb0_a7f3de0f_XL.png"/>
          <p:cNvPicPr/>
          <p:nvPr/>
        </p:nvPicPr>
        <p:blipFill>
          <a:blip r:embed="rId2"/>
          <a:stretch/>
        </p:blipFill>
        <p:spPr>
          <a:xfrm>
            <a:off x="108000" y="4805280"/>
            <a:ext cx="3024000" cy="1901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2C95-DA89-4811-B1F1-86C634AFAD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Рисунок 6" descr="0_f2eb0_a7f3de0f_XL.png"/>
          <p:cNvPicPr/>
          <p:nvPr/>
        </p:nvPicPr>
        <p:blipFill>
          <a:blip r:embed="rId2"/>
          <a:stretch/>
        </p:blipFill>
        <p:spPr>
          <a:xfrm>
            <a:off x="108000" y="4186080"/>
            <a:ext cx="4248000" cy="2671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0279-42B9-48E4-A8F3-C2A0C5C9B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4DFD-44F2-4D1C-82AF-DD388B133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Рисунок 6" descr="0_f2eb0_a7f3de0f_XL.png"/>
          <p:cNvPicPr/>
          <p:nvPr/>
        </p:nvPicPr>
        <p:blipFill>
          <a:blip r:embed="rId2"/>
          <a:stretch/>
        </p:blipFill>
        <p:spPr>
          <a:xfrm>
            <a:off x="108000" y="4805280"/>
            <a:ext cx="3024000" cy="1901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2D0F-D985-43A8-A1CD-02673610F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77770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  <a:ea typeface="Times New Roman"/>
              </a:rPr>
              <a:t>Презентация по теме</a:t>
            </a:r>
            <a:br>
              <a:rPr sz="4800"/>
            </a:br>
            <a:r>
              <a:rPr b="1" i="1" lang="ru-RU" sz="4800" spc="-1" strike="noStrike">
                <a:solidFill>
                  <a:srgbClr val="006600"/>
                </a:solidFill>
                <a:latin typeface="Calibri"/>
                <a:ea typeface="Times New Roman"/>
              </a:rPr>
              <a:t>«Наши добрые дел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850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30746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30746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ь  МАДОУ « Д/с  №2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роченцева Ю.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ой квалификацио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074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речевое развит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а по сюжетной  картине  «Настоящий друг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описательных рассказов  «Зачем нужен друг», « Хорошие и плохие поступки», «Мои друзья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 В. Осеева «Волшебное слово»,            В.Катаев «Цветик-семицветик», Г. Шалаева «Правила поведения для воспитанных детей», А. Пушкин «Сказка о рыбаке и рыбке», русская народная сказка «Хаврошечка», , М. Яснов «Мирная считалка», Я. Аким «Жадина», З. Александрова «Птичья столовая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в «Вовка- добрая душа» А»; . Барто, «Доброе ут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ословиц и поговорок о добро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мультфилимов  «Уроки тетушки совы», « Просто та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й театр сказки «Теремок», «Три поросенк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игры «Мост дружбы», «Добрые и вежливые слова», «Скажи ласково», «Я радуюсь, когда…», «Доскажи словечк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71680" y="428400"/>
            <a:ext cx="8286480" cy="557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 – эстетическо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ние в аудиозаписи песен о доброте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 добрый ты» му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ляцковского, слова Б. Савельева из мультфильма «День рождения кота Леопольда», «Добро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з мультфильма «Приключения поросенка Фунтика», «Что такое доброта?» (групп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арбарики»), «Вместе весело шагать», Дружба крепкая муз. Шаинско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: «Доброта в наших сердцах»,  «Подарок другу», «Солнышко лучистое, улыбнулось весело» ( рисование ладошка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 «Букет в подарок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«Цветик - семицветик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книжном центре «Полечи книжку»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физическое развит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и упражнения «Волшебное слово» (с мячом, «Мы веселые ребята», «Смешинка», «С добрым утр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чеек», «Паровози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71680" y="428400"/>
            <a:ext cx="8286480" cy="47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словия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сре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о организованная развивающая предметно – пространственная среда  в групп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 – методическое обеспе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«Зеленый  угол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уголке природы: полив комнатных растений,  рыхление, протирание крупных плотных листьев,  опрыски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вентарь для ухода за растениями: лейки, палочки для рыхления земли, щеточки, тряпочки, губки, фартуки, тазы, клеенк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й центр «Хочу все знать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 иллюстраций,  к сказкам с изображением добрых и злых герое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южетных картинок «Добрые поступ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642960" y="705240"/>
            <a:ext cx="8143920" cy="58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й центр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грае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 –ролевые игры «Больница», «Семья», «Мамины помощник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хорошо, а что такое плохо», «Мешок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х д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 «Помогаем маме»,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лова дедушке   и   бабушке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игры «Мост дружбы», 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е и вежливые слова»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Скажи ласково», «Я радуюсь, когда…», «Доскажи словечко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й центр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ич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и упражн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ое слов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мячом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еселые ребя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ин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м утро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е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ози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творчеств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ые руч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для художественно- творческой деятельности ( карандаши, краски, кисточки, пластилин, дощечки, стеки, салфетки, цветная бумага, клей, ножницы), раскра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книг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книг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авочный зал (выставки работ местных художников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1680" y="428760"/>
            <a:ext cx="8286480" cy="39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Форма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 реализуется на основе субъект – субъектного взаимодействия всех участников образовательных отношений и предполагает следующие организационные фор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ятельность взрослого и детей: (образовательная деятельность, беседы-обсуждения, рассматривание картин, ситуативные разговоры, дидактические игры,  чтение художественной литературы, труд в  уголке природы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еятельность детей: (художественное творчество, рассматривание иллюстраций о доброте, дружб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428760"/>
            <a:ext cx="8286480" cy="49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апы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бор информации (методическая литература, журналы, интернет- ресурс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этап(реализация проек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я проекта «Наши добрые дел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авка детских раб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571680" y="428400"/>
            <a:ext cx="8286480" cy="32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реализации проекта разработан план мероприятий, предусматривающий принцип триединства – ребенок, воспитатель, роди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71680" y="428760"/>
            <a:ext cx="8286480" cy="55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лан реализации проекта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готовитель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деятельности детей по  воспитанию доброжелательного отношения к людям, уважения к старшим, дружеских отношений со сверстниками , заботливого отношения  к малышам, на основе « трех вопросов» ( что знаем?,  что хотели бы узнать?, где это можно узнать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о добре, дружбе, составления плана работы над проектом, обсуждение предложений детей и нахождений общих решений по воспитанию доброжелательного отношения к людям, уважения к старшим, дружеских отношений со сверстниками , заботливого отношения  к малыш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 родителями тематики мероприятий в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71680" y="254880"/>
            <a:ext cx="8286480" cy="56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новно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хорошо, а что такое плохо», «Мешок добрых дел», «Помогаем маме», «Добрые слова дедушке   и   бабушке», «Цветок добрых дел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 – ролевые игры:«Больница», «Семья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 иллюстраций,  к сказкам с изображением добрых и злых герое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южетных картинок «Добрые поступк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 «Букет в подарок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«Цветик - семицветик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: «Доброта в наших сердцах»,  «Подарок другу», «Солнышко лучистое, улыбнулось весело» (рисование ладошками)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428760"/>
            <a:ext cx="8286480" cy="50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 «Наши добрые дела», «Царство вежливости и доброты», «Что такое дружб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– обсуждения  «Что значит быть добрым?», «Как мы можем заботиться о малышах», «Играть нужно дружно», «Добро и зло в сказках», «Как развивать доброту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ые разговоры «Зачем нужен друг», «Уроки вежливост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игры «Доброе словечко», «Скажи ласково», «Школа этикет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: В. Осеева «Волшебное слово», В.Катаев «Цветик-семицветик», Г. Шалаева «Правила поведения для воспитанных детей», А. Пушкин «Сказка о рыбаке и рыбке», русская народная сказка «Хаврошечка», , М. Яснов «Мирная считалка», Я. Аким «Жадина», З. Александрова «Птичья столовая»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14040" y="1071360"/>
            <a:ext cx="78008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ребенок попадает в огромный поток информации. К сожалению не всегда эта информация доброжелательна и направлена на нравственное воспитание. Чаще с экранов телевизоров, радиостанций, многочисленных Интернет-ресурсов ребенок видит агрессию, насилие, принимая именно эти способы взаимодействия за эффективные, доступные, необходимые. К сожалению все чаще в средствах массовой информации проскакивают сюжеты о детской жестокости, агрессии, эмоциональном  равнодуш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71680" y="428760"/>
            <a:ext cx="8286480" cy="495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в :«Вовка- добрая душа» А»; Барто, «Доброе утр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мультфилимов  «Уроки тетушки совы», « Просто та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й театр сказки «Теремок», «Три поросенк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игры «Мост дружбы», «Добрые и вежливые слова», «Скажи ласково», «Я радуюсь, когда…», «Доскажи словечк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описательных рассказов «Зачем нужен друг», « Хорошие и плохие поступки», «Мои друзь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  «Как воспитать в ребенке доброту», «Учите детей доброте», «Воспитание дружеских отношений в игре»,  оформление рекомендаций, составление памяток о добро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71680" y="428760"/>
            <a:ext cx="8286480" cy="484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ключитель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детских рабо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ниг: «Дружба с маленьким щенком», «Жирафчик и слонёно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 «Наши добрые дел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познавательной деятельности в качестве зр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571680" y="195480"/>
            <a:ext cx="82864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жидаемый результат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ют проектную деятельность вместе  со взрослыми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т налаживать дружеские взаимоотношения со сверстник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сь делать простые выводы, видеть не только в других, но и самое важное в себе плохое и хороше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возникает желание совершать добрые де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пользуются при общении со взрослыми и сверстниками вежливыми слов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ось представление о понятиях «добро» и «зл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1680" y="428760"/>
            <a:ext cx="8286480" cy="50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т помощь в пополнении развивающей предметно – пространственной среды группы ( литература, наглядно – демонстрационный материал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 дома условия для доброжелательного отношения друг с другом, уважения к старшим, заботливого отношения к малышам и дружеских отношений со сверстник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партнерских отношений родителей и педагогов в совместной организации жизни груп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71680" y="428400"/>
            <a:ext cx="8286480" cy="42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педагогическую компетентность по теме проекта «Наши добрые дел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ют образовательную деятельность на основе интеграции всех видов дет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ые материалы проекта будут широко использованы при проведении организованной образовательной деятельности, в сфере дополнительного образовании и в сем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71680" y="428400"/>
            <a:ext cx="828648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 «Букет в подар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Рисунок 2" descr="D:\ProfileWindows8\Desktop\лепка цветы\IMG_20220516_100708.jpg"/>
          <p:cNvPicPr/>
          <p:nvPr/>
        </p:nvPicPr>
        <p:blipFill>
          <a:blip r:embed="rId1"/>
          <a:stretch/>
        </p:blipFill>
        <p:spPr>
          <a:xfrm>
            <a:off x="4857840" y="135720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3" descr="D:\ProfileWindows8\Desktop\лепка цветы\IMG_20220516_101424.jpg"/>
          <p:cNvPicPr/>
          <p:nvPr/>
        </p:nvPicPr>
        <p:blipFill>
          <a:blip r:embed="rId2"/>
          <a:stretch/>
        </p:blipFill>
        <p:spPr>
          <a:xfrm>
            <a:off x="928800" y="1357200"/>
            <a:ext cx="3143160" cy="23288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4" descr="D:\ProfileWindows8\Desktop\лепка цветы\IMG_20220516_104819.jpg"/>
          <p:cNvPicPr/>
          <p:nvPr/>
        </p:nvPicPr>
        <p:blipFill>
          <a:blip r:embed="rId3"/>
          <a:stretch/>
        </p:blipFill>
        <p:spPr>
          <a:xfrm>
            <a:off x="857160" y="400068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5" descr="D:\ProfileWindows8\Desktop\лепка цветы\IMG_20220516_104958.jpg"/>
          <p:cNvPicPr/>
          <p:nvPr/>
        </p:nvPicPr>
        <p:blipFill>
          <a:blip r:embed="rId4"/>
          <a:stretch/>
        </p:blipFill>
        <p:spPr>
          <a:xfrm>
            <a:off x="4500720" y="4000680"/>
            <a:ext cx="3357360" cy="22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71680" y="428400"/>
            <a:ext cx="8286480" cy="54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«Цветик - семицвет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Рисунок 6" descr="D:\ProfileWindows8\Desktop\аппликация цветик семицветик\IMG_20220513_093859.jpg"/>
          <p:cNvPicPr/>
          <p:nvPr/>
        </p:nvPicPr>
        <p:blipFill>
          <a:blip r:embed="rId1"/>
          <a:stretch/>
        </p:blipFill>
        <p:spPr>
          <a:xfrm>
            <a:off x="571680" y="1214280"/>
            <a:ext cx="3500280" cy="26434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7" descr="D:\ProfileWindows8\Desktop\аппликация цветик семицветик\IMG_20220513_094633.jpg"/>
          <p:cNvPicPr/>
          <p:nvPr/>
        </p:nvPicPr>
        <p:blipFill>
          <a:blip r:embed="rId2"/>
          <a:stretch/>
        </p:blipFill>
        <p:spPr>
          <a:xfrm>
            <a:off x="4500720" y="1285920"/>
            <a:ext cx="3714480" cy="2571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8" descr="D:\ProfileWindows8\Desktop\аппликация цветик семицветик\IMG_20220513_095020.jpg"/>
          <p:cNvPicPr/>
          <p:nvPr/>
        </p:nvPicPr>
        <p:blipFill>
          <a:blip r:embed="rId3"/>
          <a:stretch/>
        </p:blipFill>
        <p:spPr>
          <a:xfrm>
            <a:off x="2928960" y="4000680"/>
            <a:ext cx="328608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5"/>
          <p:cNvSpPr/>
          <p:nvPr/>
        </p:nvSpPr>
        <p:spPr>
          <a:xfrm>
            <a:off x="1214280" y="50004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: «Доброта в наших сердцах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Рисунок 9" descr="D:\ProfileWindows8\Desktop\рисование подарок другу\IMG_20220512_095938.jpg"/>
          <p:cNvPicPr/>
          <p:nvPr/>
        </p:nvPicPr>
        <p:blipFill>
          <a:blip r:embed="rId1"/>
          <a:stretch/>
        </p:blipFill>
        <p:spPr>
          <a:xfrm>
            <a:off x="714240" y="1285920"/>
            <a:ext cx="3571920" cy="25002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0" descr="D:\ProfileWindows8\Desktop\рисование подарок другу\IMG_20220512_100308.jpg"/>
          <p:cNvPicPr/>
          <p:nvPr/>
        </p:nvPicPr>
        <p:blipFill>
          <a:blip r:embed="rId2"/>
          <a:stretch/>
        </p:blipFill>
        <p:spPr>
          <a:xfrm>
            <a:off x="4786200" y="1357200"/>
            <a:ext cx="3429000" cy="23576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1" descr="D:\ProfileWindows8\Desktop\рисование подарок другу\IMG_20220512_103219.jpg"/>
          <p:cNvPicPr/>
          <p:nvPr/>
        </p:nvPicPr>
        <p:blipFill>
          <a:blip r:embed="rId3"/>
          <a:stretch/>
        </p:blipFill>
        <p:spPr>
          <a:xfrm>
            <a:off x="2786040" y="4000680"/>
            <a:ext cx="341964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0" y="365760"/>
            <a:ext cx="91440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– проект Ксюши Р.- создание книжки «Дружба с маленьким щенком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428760" y="500040"/>
            <a:ext cx="828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– проект Егора А. – создание книжки   «Жирафчик и слонено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Рисунок 13" descr="D:\ProfileWindows8\Desktop\лепка цветы\IMG_20220516_093206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1860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14" descr="D:\ProfileWindows8\Desktop\лепка цветы\IMG_20220516_093224.jpg"/>
          <p:cNvPicPr/>
          <p:nvPr/>
        </p:nvPicPr>
        <p:blipFill>
          <a:blip r:embed="rId2"/>
          <a:stretch/>
        </p:blipFill>
        <p:spPr>
          <a:xfrm>
            <a:off x="4857840" y="1928880"/>
            <a:ext cx="35431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2286000" y="2890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пасибо за внимание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вовремя обратить на данную проблему пристальное внимание. Ведь именно возраст 5-6 лет является периодом для формирования нравственных чувств, к которым относится чувство дружбы. Многие ребята нуждаются в дружеских взаимоотношениях, но не могут их постро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9280" y="1356840"/>
            <a:ext cx="82090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старшей групп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посе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роки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 2022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и и задачи организации проек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31280" y="928800"/>
            <a:ext cx="871236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 расширению знаний детей о положительных качеств характера, сплочению коллектива, мотивировать детей на совершение добрых поступ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ировать доброжелательные дружеские взаимоотношения между детьми, положительное отношение ко всем люд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ть стремление ребенка совершать добрые поступ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ять представление детей о доброте, как о ценном, неотъемлемом качестве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детей к положительным поступкам и делам, учить детей избегать ссор, уступать и договариваться друг с друг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редставления детей о понятиях «добро» и «зло», их важности в жизни люд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негативное восприятие и отношение к плохим поступкам в жизни и литературных произведениях; уверенность в себе и своих возможност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мение оценивать поступки окружающ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6520" y="913320"/>
            <a:ext cx="712620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5280" y="907920"/>
            <a:ext cx="835344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группе условий для углубления и расширения знаний детей о положительных качеств характера, сплочению коллектива, мотивировать детей на совершение добрых поступ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нформацию, подобрать литературу, иллюстрации по заданной т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уровень взаимопонимания, толерантности между детьми, педагог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активному вовлечению родителей в деятельности ДОУ, просвещению родителей в вопросах  о доброте, как о ценном, неотъемлемом качестве человек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влечь родителей к разнообразным видам деятельности в ходе реализации проек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сить родительскую компетенцию в вопросах нравственного воспитания дет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повышению значения семейных ценност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условия для обмена информации между родителями и педагогами по теме. 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2656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новани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13840" y="1000080"/>
            <a:ext cx="853596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ализуется на основе использования интеграции образовательных областей: социально- коммуникативное, познавательное,  речевое, художественно - эстетическое и физическое разви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социально - коммуникативное развит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ной ситуации и обсуждения  вопросов «Почему не любят злых людей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игры «Передай настрое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«Добрые волшебник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 – ролевые игры «Больница», «Семья», «Мамины помощник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уголке природы: полив комнатных растений,  рыхление, протирание крупных плотных листьев,  опрыски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енно-бытовой труд. Игровая ситуация «Как жители страны Грязнуль и Беспорядка хотели забрать у нас игруш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074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познавательное развит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 иллюстраций,  к сказкам с изображением добрых и злых герое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южетных картинок «Добрые поступк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 «Наши добрые дела», «Царство вежливости и доброты», «Что такое дружб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– обсуждения  «Что значит быть добрым?», «Как мы можем заботиться о малышах», «Играть нужно дружно», «Добро и зло в сказках», «Как развивать доброту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ые разговоры  «Зачем нужен друг», «Уроки вежливост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 игр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хорошо, а что такое плохо», «Мешок добрых дел», «Помогаем маме», «Добрые слова дедушке   и   бабушке», «Цветок добрых дел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игры «Доброе словечко», «Скажи ласково», «Школа этикет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6:43:28Z</dcterms:created>
  <dc:creator/>
  <dc:description/>
  <cp:keywords/>
  <dc:language>en-US</dc:language>
  <cp:lastModifiedBy/>
  <dcterms:modified xsi:type="dcterms:W3CDTF">2022-06-30T16:25:22Z</dcterms:modified>
  <cp:revision>11</cp:revision>
  <dc:subject/>
  <dc:title>           Тема: «Семья».</dc:title>
</cp:coreProperties>
</file>