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1B782-2F8E-48CA-8040-5289A99C58B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455DE-E55B-4A4C-AA67-BDABAA41C85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D7B3E-8D2E-44F7-99F5-9EF616DD201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8E4CA-D3B6-4585-A05B-FE5E643E5D6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B3B6-53D7-49C8-BA5B-EA9A90681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0049-4446-4409-A9E5-97443D26D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292A-FF22-494A-A0C1-DC1031D12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39C0-7256-406E-A37F-C51996736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28EE7-90B0-4EBC-89E4-A8337C9C4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B4231-D109-43FC-B22D-9257CC617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2524E-7223-4FD1-8D79-2F090B90F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281B6-158A-4CE3-AEF4-AB59C6236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592D7-0EEC-4B4F-8C2E-0EB20D196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2FA08-D198-4C0D-AB19-60E76B190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3E2A1-911A-4F2C-B54C-D6244FFD1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A7B4-0738-4423-BA26-73A93540D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65D4A-044D-4578-905B-008175A31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EB106-91FF-4C1E-BFF0-09C87FB47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93959-05D3-4324-AE39-D8700FAFB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586D4-D34A-4136-8C9F-BA59AC096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AC004-1BBD-4C0A-9B11-853A07A87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C488C-D549-48E0-8CB7-F59962838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7C2A3-2F0C-4E33-89AC-9DBD17DC7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69555-5D4C-4F3C-9ADF-EB1C7E364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19F22-735A-45FA-A9CC-23975372F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D37AA-69B6-458D-91F9-4210D640F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3C39-E3A0-4F68-9D26-76D82CE53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C799E-3127-4AA8-839A-1C996FE4A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89462-8E2F-4BAE-AB55-F47780E7F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98947-8813-42A4-B7CE-E839B1502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E8CD5-42C5-4A66-A60B-277ED0F42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BDD08-A5C7-4F0A-BB11-0CC5A005E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39E20-C57A-4FFF-9303-46091F295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0DE15-9831-4C7D-800F-08D5CC73E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A9755-AC05-4801-AB64-7DC53B1DC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AB7CB-0C23-4570-98F4-9D3BAB312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76A50-C44C-4C05-B826-2A1D568A4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7F9B-375B-4F59-9EB3-098110C68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08BEF-8F61-4065-9BC9-914B1230F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229BF-F6C7-42CE-9F75-28D50368A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165EF-4210-4E9D-8A9A-09B50A70B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6A8E9-5EE9-40C4-9026-8DB3BF321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DAE28E-C75F-4D74-86B4-13018AC3A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E5E749-F851-40BA-950F-8464A4BCA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F638E-0959-497E-B3A8-9F069ECEB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99902-7EBD-41CF-8E99-7F1EE856E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25C0A-68EF-4799-9F02-519F94753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BCFF29-CEFE-4D9A-90FE-3A2B7D91E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0871-1630-4AB4-A3AE-53B4D61EB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A5D583-9D11-4F54-B50F-1C584596C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68B574-CC1D-42A7-8C9F-D55B9D050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34E563-449C-48AF-9F02-3DAB9F181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DD636F-363D-4EE5-83AA-33D11CFE0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C5BC5D-7410-45BD-846D-B185915B3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2978A7-A021-48E6-BFFA-2B59BA94D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D7B1BB-DBCA-456A-859A-4F8FBD314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C805DA-7ABC-4F93-8568-57A2DE1B4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FFF7EC-2646-4FD8-B927-4815D9509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A2C270-3993-44A9-A3CB-7B86DA9E0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EC66-00BB-45F5-BD3B-C0148A0B9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196567-1F05-460E-94A6-B0BBF4EEB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637CFB-03AD-46A6-99E3-95334497C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13B94A-C7D3-449C-A353-1CE3947FD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840546-EF4F-47F6-9371-B4BAD3A70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5F6980-8E39-45DD-984D-C586A9D1B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566998-9E3E-4940-B0C6-FBBDB0D28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65CA3D-4115-4F00-8B06-1A1DBC85D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B18161-9BF0-47F0-BEA4-55D981F8E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CAF072-7B4A-444C-B90E-797334E1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C4D74B-3CF8-40D4-9B11-86BC04124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FFEE-7006-4945-BB01-24148FC4B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CFEA5E-8147-4CB4-BE38-7C5A3FB5D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A5BCA6-05D4-493D-B26F-77D91E628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2536C5-484B-485E-B7AE-F2B4E50DB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5420-C7C6-4FD5-A387-7CF2B34FB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A84C-9B26-4D99-A992-BEA10E7CA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7560" y="6642000"/>
            <a:ext cx="1230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Arial"/>
                <a:ea typeface="Calibri"/>
              </a:rPr>
              <a:t>FokinaLida.75@mail.r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Блок-схема: документ 7"/>
          <p:cNvSpPr/>
          <p:nvPr/>
        </p:nvSpPr>
        <p:spPr>
          <a:xfrm flipH="1">
            <a:off x="0" y="0"/>
            <a:ext cx="9144000" cy="6597720"/>
          </a:xfrm>
          <a:prstGeom prst="flowChartDocumen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7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Рисунок 6" descr="0_f2eb0_a7f3de0f_XL.png"/>
          <p:cNvPicPr/>
          <p:nvPr/>
        </p:nvPicPr>
        <p:blipFill>
          <a:blip r:embed="rId2"/>
          <a:stretch/>
        </p:blipFill>
        <p:spPr>
          <a:xfrm>
            <a:off x="108000" y="4186080"/>
            <a:ext cx="4248000" cy="2671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7BFFB-6B66-4516-B12C-8049CE7F08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777E3-974B-4C3F-A880-F478D00471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"/>
          <p:cNvSpPr/>
          <p:nvPr/>
        </p:nvSpPr>
        <p:spPr>
          <a:xfrm>
            <a:off x="7560" y="6642000"/>
            <a:ext cx="1230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Arial"/>
                <a:ea typeface="Calibri"/>
              </a:rPr>
              <a:t>FokinaLida.75@mail.r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Блок-схема: документ 7"/>
          <p:cNvSpPr/>
          <p:nvPr/>
        </p:nvSpPr>
        <p:spPr>
          <a:xfrm flipH="1">
            <a:off x="0" y="0"/>
            <a:ext cx="9144000" cy="6597720"/>
          </a:xfrm>
          <a:prstGeom prst="flowChartDocumen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7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"/>
          <p:cNvSpPr/>
          <p:nvPr/>
        </p:nvSpPr>
        <p:spPr>
          <a:xfrm>
            <a:off x="7560" y="6642000"/>
            <a:ext cx="1230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Arial"/>
                <a:ea typeface="Calibri"/>
              </a:rPr>
              <a:t>FokinaLida.75@mail.r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Блок-схема: документ 7"/>
          <p:cNvSpPr/>
          <p:nvPr/>
        </p:nvSpPr>
        <p:spPr>
          <a:xfrm flipH="1">
            <a:off x="0" y="0"/>
            <a:ext cx="9144000" cy="6597720"/>
          </a:xfrm>
          <a:prstGeom prst="flowChartDocumen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7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Рисунок 6" descr="0_f2eb0_a7f3de0f_XL.png"/>
          <p:cNvPicPr/>
          <p:nvPr/>
        </p:nvPicPr>
        <p:blipFill>
          <a:blip r:embed="rId2"/>
          <a:stretch/>
        </p:blipFill>
        <p:spPr>
          <a:xfrm>
            <a:off x="108000" y="4805280"/>
            <a:ext cx="3024000" cy="19018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6BE6E-FF78-4725-876A-374722AB49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"/>
          <p:cNvSpPr/>
          <p:nvPr/>
        </p:nvSpPr>
        <p:spPr>
          <a:xfrm>
            <a:off x="7560" y="6642000"/>
            <a:ext cx="1230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Arial"/>
                <a:ea typeface="Calibri"/>
              </a:rPr>
              <a:t>FokinaLida.75@mail.r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Блок-схема: документ 7"/>
          <p:cNvSpPr/>
          <p:nvPr/>
        </p:nvSpPr>
        <p:spPr>
          <a:xfrm flipH="1">
            <a:off x="0" y="0"/>
            <a:ext cx="9144000" cy="6597720"/>
          </a:xfrm>
          <a:prstGeom prst="flowChartDocumen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7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Рисунок 6" descr="0_f2eb0_a7f3de0f_XL.png"/>
          <p:cNvPicPr/>
          <p:nvPr/>
        </p:nvPicPr>
        <p:blipFill>
          <a:blip r:embed="rId2"/>
          <a:stretch/>
        </p:blipFill>
        <p:spPr>
          <a:xfrm>
            <a:off x="108000" y="4186080"/>
            <a:ext cx="4248000" cy="267192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0BD73-758F-47FD-A344-434462AC84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41663-A870-4AA6-84B7-EAFE5BBDBA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1"/>
          <p:cNvSpPr/>
          <p:nvPr/>
        </p:nvSpPr>
        <p:spPr>
          <a:xfrm>
            <a:off x="7560" y="6642000"/>
            <a:ext cx="1230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Arial"/>
                <a:ea typeface="Calibri"/>
              </a:rPr>
              <a:t>FokinaLida.75@mail.r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Блок-схема: документ 7"/>
          <p:cNvSpPr/>
          <p:nvPr/>
        </p:nvSpPr>
        <p:spPr>
          <a:xfrm flipH="1">
            <a:off x="0" y="0"/>
            <a:ext cx="9144000" cy="6597720"/>
          </a:xfrm>
          <a:prstGeom prst="flowChartDocumen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7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1"/>
          <p:cNvSpPr/>
          <p:nvPr/>
        </p:nvSpPr>
        <p:spPr>
          <a:xfrm>
            <a:off x="7560" y="6642000"/>
            <a:ext cx="1230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Arial"/>
                <a:ea typeface="Calibri"/>
              </a:rPr>
              <a:t>FokinaLida.75@mail.r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Блок-схема: документ 7"/>
          <p:cNvSpPr/>
          <p:nvPr/>
        </p:nvSpPr>
        <p:spPr>
          <a:xfrm flipH="1">
            <a:off x="0" y="0"/>
            <a:ext cx="9144000" cy="6597720"/>
          </a:xfrm>
          <a:prstGeom prst="flowChartDocumen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7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Рисунок 6" descr="0_f2eb0_a7f3de0f_XL.png"/>
          <p:cNvPicPr/>
          <p:nvPr/>
        </p:nvPicPr>
        <p:blipFill>
          <a:blip r:embed="rId2"/>
          <a:stretch/>
        </p:blipFill>
        <p:spPr>
          <a:xfrm>
            <a:off x="108000" y="4805280"/>
            <a:ext cx="3024000" cy="19018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DF20B-4F2F-4A73-A4B8-C3E78DD82D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10920" y="1052280"/>
            <a:ext cx="777708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00"/>
                </a:solidFill>
                <a:latin typeface="Calibri"/>
                <a:ea typeface="Times New Roman"/>
              </a:rPr>
              <a:t>Презентация по теме</a:t>
            </a:r>
            <a:br>
              <a:rPr sz="4800"/>
            </a:br>
            <a:r>
              <a:rPr b="1" i="1" lang="ru-RU" sz="4800" spc="-1" strike="noStrike">
                <a:solidFill>
                  <a:srgbClr val="006600"/>
                </a:solidFill>
                <a:latin typeface="Calibri"/>
                <a:ea typeface="Times New Roman"/>
              </a:rPr>
              <a:t>«Наши добрые дела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14240" y="1856880"/>
            <a:ext cx="785016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0" algn="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e30746"/>
                </a:solidFill>
                <a:latin typeface="Times New Roman"/>
              </a:rPr>
              <a:t>                                 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47240" indent="0" algn="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47240" indent="0" algn="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47240"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47240" indent="0" algn="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47240" indent="0" algn="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47240" indent="0" algn="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47240" indent="0" algn="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47240" indent="0" algn="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47240" indent="0" algn="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e30746"/>
                </a:solidFill>
                <a:latin typeface="Times New Roman"/>
              </a:rPr>
              <a:t>                       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4724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4724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4724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4724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4724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472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дготовил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472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оспитатель  МАДОУ « Д/с  №22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472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ароченцева Ю.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472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ервой квалификационой категори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4724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4724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4724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4724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4724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394920" y="476280"/>
            <a:ext cx="84978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30746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ая область речевое развитие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ение рассказа по сюжетной  картине  «Настоящий друг»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ение описательных рассказов  «Зачем нужен друг», « Хорошие и плохие поступки», «Мои друзья»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ение художественной литературы  В. Осеева «Волшебное слово»,            В.Катаев «Цветик-семицветик», Г. Шалаева «Правила поведения для воспитанных детей», А. Пушкин «Сказка о рыбаке и рыбке», русская народная сказка «Хаврошечка», , М. Яснов «Мирная считалка», Я. Аким «Жадина», З. Александрова «Птичья столовая»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учивание стихов «Вовка- добрая душа» А»; . Барто, «Доброе утр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ение пословиц и поговорок о доброт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мотр мультфилимов  «Уроки тетушки совы», « Просто так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ольный театр сказки «Теремок», «Три поросенка»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чевые игры «Мост дружбы», «Добрые и вежливые слова», «Скажи ласково», «Я радуюсь, когда…», «Доскажи словечко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571680" y="428400"/>
            <a:ext cx="8286480" cy="557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ая област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удожественно – эстетическо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шание в аудиозаписи песен о доброте: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Если добрый ты» муз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 Пляцковского, слова Б. Савельева из мультфильма «День рождения кота Леопольда», «Доброт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из мультфильма «Приключения поросенка Фунтика», «Что такое доброта?» (групп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Барбарики»), «Вместе весело шагать», Дружба крепкая муз. Шаинского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ование: «Доброта в наших сердцах»,  «Подарок другу», «Солнышко лучистое, улыбнулось весело» ( рисование ладошками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пка  «Букет в подарок»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пликация «Цветик - семицветик»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 в книжном центре «Полечи книжку».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ая область физическое развит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вижные игры и упражнения «Волшебное слово» (с мячом, «Мы веселые ребята», «Смешинка», «С добрым утром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Речеек», «Паровозик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571680" y="428400"/>
            <a:ext cx="8286480" cy="477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Условия реализации проек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енняя сред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пециально организованная развивающая предметно – пространственная среда  в групп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но – методическое обеспечение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тр «Зеленый  уголок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 в уголке природы: полив комнатных растений,  рыхление, протирание крупных плотных листьев,  опрыскиван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инвентарь для ухода за растениями: лейки, палочки для рыхления земли, щеточки, тряпочки, губки, фартуки, тазы, клеенки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ющий центр «Хочу все знать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атривание  иллюстраций,  к сказкам с изображением добрых и злых героев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атривание сюжетных картинок «Добрые поступки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1"/>
          <p:cNvSpPr/>
          <p:nvPr/>
        </p:nvSpPr>
        <p:spPr>
          <a:xfrm>
            <a:off x="642960" y="705240"/>
            <a:ext cx="8143920" cy="588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ющий центр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играем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южетно –ролевые игры «Больница», «Семья», «Мамины помощники»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дактическая игры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«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хорошо, а что такое плохо», «Мешок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ых де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, «Помогаем маме»,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ы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слова дедушке   и   бабушке»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чевые игры «Мост дружбы», «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ые и вежливые слова»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«Скажи ласково», «Я радуюсь, когда…», «Доскажи словечко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ющий центр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оровички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вижные игры и упражнени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«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шебное слово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»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 мячом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«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веселые ребят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«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ешинк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«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ым утром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чеек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овозик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тр творчества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лые ручки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ы для художественно- творческой деятельности ( карандаши, краски, кисточки, пластилин, дощечки, стеки, салфетки, цветная бумага, клей, ножницы), раскрас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тр книги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остях у книги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удожественная литератур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шняя сред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ыставочный зал (выставки работ местных художников)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71680" y="428760"/>
            <a:ext cx="8286480" cy="390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Форма реализации проек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ый проект реализуется на основе субъект – субъектного взаимодействия всех участников образовательных отношений и предполагает следующие организационные формы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местная деятельность взрослого и детей: (образовательная деятельность, беседы-обсуждения, рассматривание картин, ситуативные разговоры, дидактические игры,  чтение художественной литературы, труд в  уголке природы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ая деятельность детей: (художественное творчество, рассматривание иллюстраций о доброте, дружбе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571680" y="428760"/>
            <a:ext cx="8286480" cy="499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Этапы реализации проек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тельный этап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бор информации (методическая литература, журналы, интернет- ресурсы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й этап(реализация проект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ительный этап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езентация проекта «Наши добрые дела»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ыставка детских рабо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571680" y="428400"/>
            <a:ext cx="8286480" cy="320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амках реализации проекта разработан план мероприятий, предусматривающий принцип триединства – ребенок, воспитатель, родител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571680" y="428760"/>
            <a:ext cx="8286480" cy="559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План реализации проекта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           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Подготовительный эта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ет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ование деятельности детей по  воспитанию доброжелательного отношения к людям, уважения к старшим, дружеских отношений со сверстниками , заботливого отношения  к малышам, на основе « трех вопросов» ( что знаем?,  что хотели бы узнать?, где это можно узнать?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педагог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еды о добре, дружбе, составления плана работы над проектом, обсуждение предложений детей и нахождений общих решений по воспитанию доброжелательного отношения к людям, уважения к старшим, дружеских отношений со сверстниками , заботливого отношения  к малыша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родител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уждение с родителями тематики мероприятий в реализации проек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571680" y="254880"/>
            <a:ext cx="8286480" cy="567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          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      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Основной эта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ет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дактические игры: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хорошо, а что такое плохо», «Мешок добрых дел», «Помогаем маме», «Добрые слова дедушке   и   бабушке», «Цветок добрых дел»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южетно – ролевые игры:«Больница», «Семья»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атривание  иллюстраций,  к сказкам с изображением добрых и злых героев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атривание сюжетных картинок «Добрые поступки»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пка  «Букет в подарок»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пликация «Цветик - семицветик»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ование: «Доброта в наших сердцах»,  «Подарок другу», «Солнышко лучистое, улыбнулось весело» (рисование ладошками).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571680" y="428760"/>
            <a:ext cx="8286480" cy="507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педагог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  «Наши добрые дела», «Царство вежливости и доброты», «Что такое дружба»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еды – обсуждения  «Что значит быть добрым?», «Как мы можем заботиться о малышах», «Играть нужно дружно», «Добро и зло в сказках», «Как развивать доброту»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туативные разговоры «Зачем нужен друг», «Уроки вежливости»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есные игры «Доброе словечко», «Скажи ласково», «Школа этикета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ение художественной литературы : В. Осеева «Волшебное слово», В.Катаев «Цветик-семицветик», Г. Шалаева «Правила поведения для воспитанных детей», А. Пушкин «Сказка о рыбаке и рыбке», русская народная сказка «Хаврошечка», , М. Яснов «Мирная считалка», Я. Аким «Жадина», З. Александрова «Птичья столовая»;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914040" y="1071360"/>
            <a:ext cx="780084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Актуальн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временном мире ребенок попадает в огромный поток информации. К сожалению не всегда эта информация доброжелательна и направлена на нравственное воспитание. Чаще с экранов телевизоров, радиостанций, многочисленных Интернет-ресурсов ребенок видит агрессию, насилие, принимая именно эти способы взаимодействия за эффективные, доступные, необходимые. К сожалению все чаще в средствах массовой информации проскакивают сюжеты о детской жестокости, агрессии, эмоциональном  равнодуш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571680" y="428760"/>
            <a:ext cx="8286480" cy="495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учивание стихов :«Вовка- добрая душа» А»; Барто, «Доброе утро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мотр мультфилимов  «Уроки тетушки совы», « Просто так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ольный театр сказки «Теремок», «Три поросенка»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чевые игры «Мост дружбы», «Добрые и вежливые слова», «Скажи ласково», «Я радуюсь, когда…», «Доскажи словечко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ение описательных рассказов «Зачем нужен друг», « Хорошие и плохие поступки», «Мои друзья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родител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ультации   «Как воспитать в ребенке доброту», «Учите детей доброте», «Воспитание дружеских отношений в игре»,  оформление рекомендаций, составление памяток о доброт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571680" y="428760"/>
            <a:ext cx="8286480" cy="484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Заключительный эта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ет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тавка детских работ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 книг: «Дружба с маленьким щенком», «Жирафчик и слонёнок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педагог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 проекта «Наши добрые дела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родител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в познавательной деятельности в качестве зрител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571680" y="195480"/>
            <a:ext cx="8286480" cy="539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Ожидаемый результат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яют проектную деятельность вместе  со взрослыми;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ют налаживать дружеские взаимоотношения со сверстникам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ились делать простые выводы, видеть не только в других, но и самое важное в себе плохое и хороше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детей возникает желание совершать добрые дел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янно пользуются при общении со взрослыми и сверстниками вежливыми словам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рилось представление о понятиях «добро» и «зло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571680" y="428760"/>
            <a:ext cx="8286480" cy="507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ывают помощь в пополнении развивающей предметно – пространственной среды группы ( литература, наглядно – демонстрационный материал 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ют дома условия для доброжелательного отношения друг с другом, уважения к старшим, заботливого отношения к малышам и дружеских отношений со сверстникам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овление партнерских отношений родителей и педагогов в совместной организации жизни групп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571680" y="428400"/>
            <a:ext cx="8286480" cy="429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ают педагогическую компетентность по теме проекта «Наши добрые дела»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уют образовательную деятельность на основе интеграции всех видов детской деятельно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нные материалы проекта будут широко использованы при проведении организованной образовательной деятельности, в сфере дополнительного образовании и в семь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571680" y="428400"/>
            <a:ext cx="8286480" cy="585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пка  «Букет в подарок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Рисунок 2" descr="D:\ProfileWindows8\Desktop\лепка цветы\IMG_20220516_100708.jpg"/>
          <p:cNvPicPr/>
          <p:nvPr/>
        </p:nvPicPr>
        <p:blipFill>
          <a:blip r:embed="rId1"/>
          <a:stretch/>
        </p:blipFill>
        <p:spPr>
          <a:xfrm>
            <a:off x="4857840" y="1357200"/>
            <a:ext cx="3286080" cy="2286000"/>
          </a:xfrm>
          <a:prstGeom prst="rect">
            <a:avLst/>
          </a:prstGeom>
          <a:ln w="0">
            <a:noFill/>
          </a:ln>
        </p:spPr>
      </p:pic>
      <p:pic>
        <p:nvPicPr>
          <p:cNvPr id="307" name="Рисунок 3" descr="D:\ProfileWindows8\Desktop\лепка цветы\IMG_20220516_101424.jpg"/>
          <p:cNvPicPr/>
          <p:nvPr/>
        </p:nvPicPr>
        <p:blipFill>
          <a:blip r:embed="rId2"/>
          <a:stretch/>
        </p:blipFill>
        <p:spPr>
          <a:xfrm>
            <a:off x="928800" y="1357200"/>
            <a:ext cx="3143160" cy="2328840"/>
          </a:xfrm>
          <a:prstGeom prst="rect">
            <a:avLst/>
          </a:prstGeom>
          <a:ln w="0">
            <a:noFill/>
          </a:ln>
        </p:spPr>
      </p:pic>
      <p:pic>
        <p:nvPicPr>
          <p:cNvPr id="308" name="Рисунок 4" descr="D:\ProfileWindows8\Desktop\лепка цветы\IMG_20220516_104819.jpg"/>
          <p:cNvPicPr/>
          <p:nvPr/>
        </p:nvPicPr>
        <p:blipFill>
          <a:blip r:embed="rId3"/>
          <a:stretch/>
        </p:blipFill>
        <p:spPr>
          <a:xfrm>
            <a:off x="857160" y="4000680"/>
            <a:ext cx="2928960" cy="2286000"/>
          </a:xfrm>
          <a:prstGeom prst="rect">
            <a:avLst/>
          </a:prstGeom>
          <a:ln w="0">
            <a:noFill/>
          </a:ln>
        </p:spPr>
      </p:pic>
      <p:pic>
        <p:nvPicPr>
          <p:cNvPr id="309" name="Рисунок 5" descr="D:\ProfileWindows8\Desktop\лепка цветы\IMG_20220516_104958.jpg"/>
          <p:cNvPicPr/>
          <p:nvPr/>
        </p:nvPicPr>
        <p:blipFill>
          <a:blip r:embed="rId4"/>
          <a:stretch/>
        </p:blipFill>
        <p:spPr>
          <a:xfrm>
            <a:off x="4500720" y="4000680"/>
            <a:ext cx="3357360" cy="221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71680" y="428400"/>
            <a:ext cx="8286480" cy="548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пликация «Цветик - семицветик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1" name="Рисунок 6" descr="D:\ProfileWindows8\Desktop\аппликация цветик семицветик\IMG_20220513_093859.jpg"/>
          <p:cNvPicPr/>
          <p:nvPr/>
        </p:nvPicPr>
        <p:blipFill>
          <a:blip r:embed="rId1"/>
          <a:stretch/>
        </p:blipFill>
        <p:spPr>
          <a:xfrm>
            <a:off x="571680" y="1214280"/>
            <a:ext cx="3500280" cy="2643480"/>
          </a:xfrm>
          <a:prstGeom prst="rect">
            <a:avLst/>
          </a:prstGeom>
          <a:ln w="0">
            <a:noFill/>
          </a:ln>
        </p:spPr>
      </p:pic>
      <p:pic>
        <p:nvPicPr>
          <p:cNvPr id="312" name="Рисунок 7" descr="D:\ProfileWindows8\Desktop\аппликация цветик семицветик\IMG_20220513_094633.jpg"/>
          <p:cNvPicPr/>
          <p:nvPr/>
        </p:nvPicPr>
        <p:blipFill>
          <a:blip r:embed="rId2"/>
          <a:stretch/>
        </p:blipFill>
        <p:spPr>
          <a:xfrm>
            <a:off x="4500720" y="1285920"/>
            <a:ext cx="3714480" cy="2571840"/>
          </a:xfrm>
          <a:prstGeom prst="rect">
            <a:avLst/>
          </a:prstGeom>
          <a:ln w="0">
            <a:noFill/>
          </a:ln>
        </p:spPr>
      </p:pic>
      <p:pic>
        <p:nvPicPr>
          <p:cNvPr id="313" name="Рисунок 8" descr="D:\ProfileWindows8\Desktop\аппликация цветик семицветик\IMG_20220513_095020.jpg"/>
          <p:cNvPicPr/>
          <p:nvPr/>
        </p:nvPicPr>
        <p:blipFill>
          <a:blip r:embed="rId3"/>
          <a:stretch/>
        </p:blipFill>
        <p:spPr>
          <a:xfrm>
            <a:off x="2928960" y="4000680"/>
            <a:ext cx="3286080" cy="25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Прямоугольник 5"/>
          <p:cNvSpPr/>
          <p:nvPr/>
        </p:nvSpPr>
        <p:spPr>
          <a:xfrm>
            <a:off x="1214280" y="500040"/>
            <a:ext cx="56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ование: «Доброта в наших сердцах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Рисунок 9" descr="D:\ProfileWindows8\Desktop\рисование подарок другу\IMG_20220512_095938.jpg"/>
          <p:cNvPicPr/>
          <p:nvPr/>
        </p:nvPicPr>
        <p:blipFill>
          <a:blip r:embed="rId1"/>
          <a:stretch/>
        </p:blipFill>
        <p:spPr>
          <a:xfrm>
            <a:off x="714240" y="1285920"/>
            <a:ext cx="3571920" cy="2500200"/>
          </a:xfrm>
          <a:prstGeom prst="rect">
            <a:avLst/>
          </a:prstGeom>
          <a:ln w="0">
            <a:noFill/>
          </a:ln>
        </p:spPr>
      </p:pic>
      <p:pic>
        <p:nvPicPr>
          <p:cNvPr id="316" name="Рисунок 10" descr="D:\ProfileWindows8\Desktop\рисование подарок другу\IMG_20220512_100308.jpg"/>
          <p:cNvPicPr/>
          <p:nvPr/>
        </p:nvPicPr>
        <p:blipFill>
          <a:blip r:embed="rId2"/>
          <a:stretch/>
        </p:blipFill>
        <p:spPr>
          <a:xfrm>
            <a:off x="4786200" y="1357200"/>
            <a:ext cx="3429000" cy="2357640"/>
          </a:xfrm>
          <a:prstGeom prst="rect">
            <a:avLst/>
          </a:prstGeom>
          <a:ln w="0">
            <a:noFill/>
          </a:ln>
        </p:spPr>
      </p:pic>
      <p:pic>
        <p:nvPicPr>
          <p:cNvPr id="317" name="Рисунок 11" descr="D:\ProfileWindows8\Desktop\рисование подарок другу\IMG_20220512_103219.jpg"/>
          <p:cNvPicPr/>
          <p:nvPr/>
        </p:nvPicPr>
        <p:blipFill>
          <a:blip r:embed="rId3"/>
          <a:stretch/>
        </p:blipFill>
        <p:spPr>
          <a:xfrm>
            <a:off x="2786040" y="4000680"/>
            <a:ext cx="3419640" cy="239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1"/>
          <p:cNvSpPr/>
          <p:nvPr/>
        </p:nvSpPr>
        <p:spPr>
          <a:xfrm>
            <a:off x="0" y="365760"/>
            <a:ext cx="9144000" cy="21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 – проект Ксюши Р.- создание книжки «Дружба с маленьким щенком.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Прямоугольник 8"/>
          <p:cNvSpPr/>
          <p:nvPr/>
        </p:nvSpPr>
        <p:spPr>
          <a:xfrm>
            <a:off x="428760" y="500040"/>
            <a:ext cx="8286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 – проект Егора А. – создание книжки   «Жирафчик и слоненок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Рисунок 13" descr="D:\ProfileWindows8\Desktop\лепка цветы\IMG_20220516_093206.jpg"/>
          <p:cNvPicPr/>
          <p:nvPr/>
        </p:nvPicPr>
        <p:blipFill>
          <a:blip r:embed="rId1"/>
          <a:stretch/>
        </p:blipFill>
        <p:spPr>
          <a:xfrm>
            <a:off x="642960" y="1928880"/>
            <a:ext cx="3643200" cy="3186000"/>
          </a:xfrm>
          <a:prstGeom prst="rect">
            <a:avLst/>
          </a:prstGeom>
          <a:ln w="0">
            <a:noFill/>
          </a:ln>
        </p:spPr>
      </p:pic>
      <p:pic>
        <p:nvPicPr>
          <p:cNvPr id="321" name="Рисунок 14" descr="D:\ProfileWindows8\Desktop\лепка цветы\IMG_20220516_093224.jpg"/>
          <p:cNvPicPr/>
          <p:nvPr/>
        </p:nvPicPr>
        <p:blipFill>
          <a:blip r:embed="rId2"/>
          <a:stretch/>
        </p:blipFill>
        <p:spPr>
          <a:xfrm>
            <a:off x="4857840" y="1928880"/>
            <a:ext cx="3543120" cy="32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Прямоугольник 1"/>
          <p:cNvSpPr/>
          <p:nvPr/>
        </p:nvSpPr>
        <p:spPr>
          <a:xfrm>
            <a:off x="2286000" y="28908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Спасибо за внимание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Пробле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о вовремя обратить на данную проблему пристальное внимание. Ведь именно возраст 5-6 лет является периодом для формирования нравственных чувств, к которым относится чувство дружбы. Многие ребята нуждаются в дружеских взаимоотношениях, но не могут их построи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Участники проек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539280" y="1356840"/>
            <a:ext cx="820908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ники старшей групп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епоседы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Сроки реализации проек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рель 2022 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Цели и задачи организации проекта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31280" y="928800"/>
            <a:ext cx="8712360" cy="52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е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ствовать  расширению знаний детей о положительных качеств характера, сплочению коллектива, мотивировать детей на совершение добрых поступк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Формировать доброжелательные дружеские взаимоотношения между детьми, положительное отношение ко всем людя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ощрять стремление ребенка совершать добрые поступк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лублять представление детей о доброте, как о ценном, неотъемлемом качестве челове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буждать детей к положительным поступкам и делам, учить детей избегать ссор, уступать и договариваться друг с друго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представления детей о понятиях «добро» и «зло», их важности в жизни люд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негативное восприятие и отношение к плохим поступкам в жизни и литературных произведениях; уверенность в себе и своих возможностя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ывать умение оценивать поступки окружающи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46520" y="913320"/>
            <a:ext cx="7126200" cy="43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95280" y="907920"/>
            <a:ext cx="8353440" cy="523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едагог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в группе условий для углубления и расширения знаний детей о положительных качеств характера, сплочению коллектива, мотивировать детей на совершение добрых поступк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информацию, подобрать литературу, иллюстрации по заданной тем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сить уровень взаимопонимания, толерантности между детьми, педагогам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000080"/>
            <a:ext cx="8229600" cy="221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одители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ствовать активному вовлечению родителей в деятельности ДОУ, просвещению родителей в вопросах  о доброте, как о ценном, неотъемлемом качестве человека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Привлечь родителей к разнообразным видам деятельности в ходе реализации проект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высить родительскую компетенцию в вопросах нравственного воспитания детей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пособствовать повышению значения семейных ценностей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здать условия для обмена информации между родителями и педагогами по теме. </a:t>
            </a:r>
            <a:br>
              <a:rPr sz="2000"/>
            </a:br>
            <a:br>
              <a:rPr sz="32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02656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Основание проек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213840" y="1000080"/>
            <a:ext cx="8535960" cy="602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 реализуется на основе использования интеграции образовательных областей: социально- коммуникативное, познавательное,  речевое, художественно - эстетическое и физическое развити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ая область социально - коммуникативное развит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проблемной ситуации и обсуждения  вопросов «Почему не любят злых людей»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уникативные игры «Передай настроение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 «Добрые волшебники»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южетно – ролевые игры «Больница», «Семья», «Мамины помощники»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 в уголке природы: полив комнатных растений,  рыхление, протирание крупных плотных листьев,  опрыскивани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зяйственно-бытовой труд. Игровая ситуация «Как жители страны Грязнуль и Беспорядка хотели забрать у нас игрушки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394920" y="476280"/>
            <a:ext cx="84978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30746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ая область познавательное развитие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атривание  иллюстраций,  к сказкам с изображением добрых и злых героев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атривание сюжетных картинок «Добрые поступки»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  «Наши добрые дела», «Царство вежливости и доброты», «Что такое дружба»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еды – обсуждения  «Что значит быть добрым?», «Как мы можем заботиться о малышах», «Играть нужно дружно», «Добро и зло в сказках», «Как развивать доброту»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туативные разговоры  «Зачем нужен друг», «Уроки вежливости»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дактические  игры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«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хорошо, а что такое плохо», «Мешок добрых дел», «Помогаем маме», «Добрые слова дедушке   и   бабушке», «Цветок добрых дел»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есные игры «Доброе словечко», «Скажи ласково», «Школа этикета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2T16:43:28Z</dcterms:created>
  <dc:creator/>
  <dc:description/>
  <cp:keywords/>
  <dc:language>en-US</dc:language>
  <cp:lastModifiedBy/>
  <dcterms:modified xsi:type="dcterms:W3CDTF">2022-06-30T16:25:22Z</dcterms:modified>
  <cp:revision>11</cp:revision>
  <dc:subject/>
  <dc:title>           Тема: «Семья».</dc:title>
</cp:coreProperties>
</file>