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0C2-B697-4E9E-A44A-014EB239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55D-FE54-4798-9645-6E4E8BB2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65A-9B1F-45A0-8F26-71648C05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B58-3457-4222-AF75-31183F25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6F9-5147-44A8-B22B-EE46AAB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072-1EAD-45C5-BDAE-36611F2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054-B934-4854-9E9D-51323D0B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294-8902-4F4D-BAEE-4858740E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E22-E9FB-4F0A-A10A-5EAC9502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46F-8405-4E60-852C-558F2FC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7EE-D2F4-4035-A4A6-D905FBC6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D63-AEB6-47FD-A86A-6C43D6C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798-5DEE-4EBC-8C2B-EA22CFF646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оздание развивающей предметно-пространственной среды в ДОУ в соответствии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ФГОС </a:t>
            </a:r>
            <a:br>
              <a:rPr sz="5400"/>
            </a:b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4714920"/>
            <a:ext cx="85201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ила:  воспитатель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БДОУ №1 «Дружные ребята»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.А. Велич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4508280"/>
            <a:ext cx="342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 ИГ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пк\Desktop\100KC813\100_2149.JPG"/>
          <p:cNvPicPr/>
          <p:nvPr/>
        </p:nvPicPr>
        <p:blipFill>
          <a:blip r:embed="rId1"/>
          <a:srcRect l="0" t="0" r="0" b="14693"/>
          <a:stretch/>
        </p:blipFill>
        <p:spPr>
          <a:xfrm>
            <a:off x="27000" y="96840"/>
            <a:ext cx="5511960" cy="35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3" descr="C:\Users\пк\Desktop\100KC813\100_2160.JPG"/>
          <p:cNvPicPr/>
          <p:nvPr/>
        </p:nvPicPr>
        <p:blipFill>
          <a:blip r:embed="rId2"/>
          <a:srcRect l="0" t="28877" r="0" b="0"/>
          <a:stretch/>
        </p:blipFill>
        <p:spPr>
          <a:xfrm>
            <a:off x="5580000" y="3625920"/>
            <a:ext cx="3384720" cy="32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ОЗН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E:\DCIM\100KC813\100_2185.JPG"/>
          <p:cNvPicPr/>
          <p:nvPr/>
        </p:nvPicPr>
        <p:blipFill>
          <a:blip r:embed="rId1"/>
          <a:srcRect l="0" t="0" r="8833" b="0"/>
          <a:stretch/>
        </p:blipFill>
        <p:spPr>
          <a:xfrm rot="21342600">
            <a:off x="245880" y="1224000"/>
            <a:ext cx="4713120" cy="38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3" descr="E:\DCIM\100KC813\100_2186.JPG"/>
          <p:cNvPicPr/>
          <p:nvPr/>
        </p:nvPicPr>
        <p:blipFill>
          <a:blip r:embed="rId2"/>
          <a:srcRect l="0" t="8455" r="0" b="2744"/>
          <a:stretch/>
        </p:blipFill>
        <p:spPr>
          <a:xfrm rot="183600">
            <a:off x="5064120" y="1728360"/>
            <a:ext cx="3884760" cy="460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КОНСТРУИР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Users\пк\Desktop\100KC813\DSC_0104.JPG"/>
          <p:cNvPicPr/>
          <p:nvPr/>
        </p:nvPicPr>
        <p:blipFill>
          <a:blip r:embed="rId1"/>
          <a:stretch/>
        </p:blipFill>
        <p:spPr>
          <a:xfrm>
            <a:off x="214200" y="1500120"/>
            <a:ext cx="5357880" cy="39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3" descr="C:\Users\пк\Desktop\100KC813\DSC_0126.JPG"/>
          <p:cNvPicPr/>
          <p:nvPr/>
        </p:nvPicPr>
        <p:blipFill>
          <a:blip r:embed="rId2"/>
          <a:stretch/>
        </p:blipFill>
        <p:spPr>
          <a:xfrm rot="223800">
            <a:off x="5005080" y="4108320"/>
            <a:ext cx="4000320" cy="251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4" descr="C:\Users\пк\Desktop\100KC813\100_2168.JPG"/>
          <p:cNvPicPr/>
          <p:nvPr/>
        </p:nvPicPr>
        <p:blipFill>
          <a:blip r:embed="rId3"/>
          <a:stretch/>
        </p:blipFill>
        <p:spPr>
          <a:xfrm rot="21403200">
            <a:off x="5159160" y="1109520"/>
            <a:ext cx="3903480" cy="29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ЛАБОРАТО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Users\пк\Desktop\100KC813\100_2163.JPG"/>
          <p:cNvPicPr/>
          <p:nvPr/>
        </p:nvPicPr>
        <p:blipFill>
          <a:blip r:embed="rId1"/>
          <a:srcRect l="0" t="8657" r="0" b="0"/>
          <a:stretch/>
        </p:blipFill>
        <p:spPr>
          <a:xfrm>
            <a:off x="0" y="1413000"/>
            <a:ext cx="3714840" cy="45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4" descr="C:\Users\Владелец\Desktop\Неизведанное рядом\Панагушина  занятие2015\DSC_0647.JPG"/>
          <p:cNvPicPr/>
          <p:nvPr/>
        </p:nvPicPr>
        <p:blipFill>
          <a:blip r:embed="rId2"/>
          <a:stretch/>
        </p:blipFill>
        <p:spPr>
          <a:xfrm rot="226800">
            <a:off x="3676680" y="1868400"/>
            <a:ext cx="5340240" cy="361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ЗАНИМАТЕЛЬНОЙ МА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E:\DCIM\100KC813\100_2184.JPG"/>
          <p:cNvPicPr/>
          <p:nvPr/>
        </p:nvPicPr>
        <p:blipFill>
          <a:blip r:embed="rId1"/>
          <a:srcRect l="-651" t="9600" r="660" b="-241"/>
          <a:stretch/>
        </p:blipFill>
        <p:spPr>
          <a:xfrm>
            <a:off x="214200" y="1919160"/>
            <a:ext cx="3929040" cy="474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4" descr="E:\DCIM\100D3100\DSC_0130.JPG"/>
          <p:cNvPicPr/>
          <p:nvPr/>
        </p:nvPicPr>
        <p:blipFill>
          <a:blip r:embed="rId2"/>
          <a:stretch/>
        </p:blipFill>
        <p:spPr>
          <a:xfrm rot="260400">
            <a:off x="4127400" y="2538360"/>
            <a:ext cx="4896000" cy="33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СЕНСОРИКИ</a:t>
            </a:r>
            <a:br>
              <a:rPr sz="4400"/>
            </a:b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(МЛАДШИЙ ВОЗРАС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Users\пк\Desktop\100KC813\100_2166.JPG"/>
          <p:cNvPicPr/>
          <p:nvPr/>
        </p:nvPicPr>
        <p:blipFill>
          <a:blip r:embed="rId1"/>
          <a:srcRect l="0" t="0" r="0" b="14002"/>
          <a:stretch/>
        </p:blipFill>
        <p:spPr>
          <a:xfrm rot="21405600">
            <a:off x="92160" y="1576080"/>
            <a:ext cx="5333760" cy="344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3" descr="C:\Users\пк\Desktop\100KC813\100_2176.JPG"/>
          <p:cNvPicPr/>
          <p:nvPr/>
        </p:nvPicPr>
        <p:blipFill>
          <a:blip r:embed="rId2"/>
          <a:stretch/>
        </p:blipFill>
        <p:spPr>
          <a:xfrm rot="174600">
            <a:off x="5466960" y="2154240"/>
            <a:ext cx="335268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ДВИГАТЕЛЬНОЙ АКТИВ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C:\Users\пк\Desktop\100KC813\100_2146.JPG"/>
          <p:cNvPicPr/>
          <p:nvPr/>
        </p:nvPicPr>
        <p:blipFill>
          <a:blip r:embed="rId1"/>
          <a:srcRect l="0" t="9100" r="0" b="14215"/>
          <a:stretch/>
        </p:blipFill>
        <p:spPr>
          <a:xfrm>
            <a:off x="395280" y="4175280"/>
            <a:ext cx="398628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2" descr="E:\DCIM\100KC813\100_2188.JPG"/>
          <p:cNvPicPr/>
          <p:nvPr/>
        </p:nvPicPr>
        <p:blipFill>
          <a:blip r:embed="rId2"/>
          <a:srcRect l="0" t="0" r="0" b="4250"/>
          <a:stretch/>
        </p:blipFill>
        <p:spPr>
          <a:xfrm rot="21335400">
            <a:off x="1235160" y="1415880"/>
            <a:ext cx="3503520" cy="25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4" descr="E:\DCIM\100KC813\100_2192.JPG"/>
          <p:cNvPicPr/>
          <p:nvPr/>
        </p:nvPicPr>
        <p:blipFill>
          <a:blip r:embed="rId3"/>
          <a:srcRect l="0" t="0" r="15864" b="0"/>
          <a:stretch/>
        </p:blipFill>
        <p:spPr>
          <a:xfrm>
            <a:off x="5364000" y="3800520"/>
            <a:ext cx="3243600" cy="28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3" descr="C:\Users\пк\Desktop\100KC813\100_2155.JPG"/>
          <p:cNvPicPr/>
          <p:nvPr/>
        </p:nvPicPr>
        <p:blipFill>
          <a:blip r:embed="rId4"/>
          <a:srcRect l="0" t="4030" r="13958" b="0"/>
          <a:stretch/>
        </p:blipFill>
        <p:spPr>
          <a:xfrm rot="203400">
            <a:off x="6316560" y="593280"/>
            <a:ext cx="1925640" cy="306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КНИ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C:\Users\пк\Desktop\100KC813\100_2158.JPG"/>
          <p:cNvPicPr/>
          <p:nvPr/>
        </p:nvPicPr>
        <p:blipFill>
          <a:blip r:embed="rId1"/>
          <a:srcRect l="0" t="0" r="0" b="14521"/>
          <a:stretch/>
        </p:blipFill>
        <p:spPr>
          <a:xfrm>
            <a:off x="1214280" y="1339920"/>
            <a:ext cx="6929640" cy="44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РЕЧЕВОГО РАЗВИ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C:\Users\пк\Desktop\100KC813\100_2134.JPG"/>
          <p:cNvPicPr/>
          <p:nvPr/>
        </p:nvPicPr>
        <p:blipFill>
          <a:blip r:embed="rId1"/>
          <a:stretch/>
        </p:blipFill>
        <p:spPr>
          <a:xfrm>
            <a:off x="468360" y="1413000"/>
            <a:ext cx="8110440" cy="457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РИР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C:\Users\пк\Desktop\100KC813\100_2183.JPG"/>
          <p:cNvPicPr/>
          <p:nvPr/>
        </p:nvPicPr>
        <p:blipFill>
          <a:blip r:embed="rId1"/>
          <a:srcRect l="0" t="7230" r="0" b="13965"/>
          <a:stretch/>
        </p:blipFill>
        <p:spPr>
          <a:xfrm>
            <a:off x="108000" y="2987640"/>
            <a:ext cx="4173480" cy="32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4356000" y="1755720"/>
            <a:ext cx="4680000" cy="354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ПРОБЛЕМ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00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ая среда не в полной мере отвечает требованиям ФГОС Д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не всегда учитываются принципы ее постро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 группах ДОУ не в полной мере представлен качественный и количественный состав необходимых игрушек и пособ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исутствует дисбаланс в оформлении и практическом применении оборудования и игр, используемых детьми в самостоя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УГОЛОК У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Users\пк\Desktop\100KC813\100_2180.JPG"/>
          <p:cNvPicPr/>
          <p:nvPr/>
        </p:nvPicPr>
        <p:blipFill>
          <a:blip r:embed="rId1"/>
          <a:srcRect l="0" t="7822" r="0" b="0"/>
          <a:stretch/>
        </p:blipFill>
        <p:spPr>
          <a:xfrm>
            <a:off x="5572080" y="1700280"/>
            <a:ext cx="3286080" cy="404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4" descr="C:\Users\пк\Desktop\100KC813\100_2182.JPG"/>
          <p:cNvPicPr/>
          <p:nvPr/>
        </p:nvPicPr>
        <p:blipFill>
          <a:blip r:embed="rId2"/>
          <a:srcRect l="0" t="4850" r="0" b="0"/>
          <a:stretch/>
        </p:blipFill>
        <p:spPr>
          <a:xfrm>
            <a:off x="395280" y="1271520"/>
            <a:ext cx="486720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:\Users\пк\Desktop\100KC813\100_2161.JPG"/>
          <p:cNvPicPr/>
          <p:nvPr/>
        </p:nvPicPr>
        <p:blipFill>
          <a:blip r:embed="rId1"/>
          <a:srcRect l="0" t="0" r="0" b="13825"/>
          <a:stretch/>
        </p:blipFill>
        <p:spPr>
          <a:xfrm>
            <a:off x="684360" y="1413000"/>
            <a:ext cx="757548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АТРИОТИЧЕСКОГО 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ВОСПИТ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Users\пк\Desktop\100KC813\DSC_0141.JPG"/>
          <p:cNvPicPr/>
          <p:nvPr/>
        </p:nvPicPr>
        <p:blipFill>
          <a:blip r:embed="rId1"/>
          <a:stretch/>
        </p:blipFill>
        <p:spPr>
          <a:xfrm rot="21424200">
            <a:off x="358560" y="2016000"/>
            <a:ext cx="5403600" cy="396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4" descr="C:\Users\пк\Desktop\100KC813\DSC_0136.JPG"/>
          <p:cNvPicPr/>
          <p:nvPr/>
        </p:nvPicPr>
        <p:blipFill>
          <a:blip r:embed="rId2"/>
          <a:stretch/>
        </p:blipFill>
        <p:spPr>
          <a:xfrm>
            <a:off x="5929200" y="2143080"/>
            <a:ext cx="2928960" cy="447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cc"/>
                </a:solidFill>
                <a:uFillTx/>
                <a:latin typeface="Times New Roman"/>
              </a:rPr>
              <a:t>Развивающая среда участка для прогул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306360" y="4255920"/>
            <a:ext cx="3492360" cy="2470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4390920" y="4230720"/>
            <a:ext cx="4608720" cy="2521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3"/>
          <a:stretch/>
        </p:blipFill>
        <p:spPr>
          <a:xfrm>
            <a:off x="1509840" y="1498680"/>
            <a:ext cx="5761080" cy="2577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Спортивные игровые площад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бъект 1" descr=""/>
          <p:cNvPicPr/>
          <p:nvPr/>
        </p:nvPicPr>
        <p:blipFill>
          <a:blip r:embed="rId1"/>
          <a:stretch/>
        </p:blipFill>
        <p:spPr>
          <a:xfrm rot="20947200">
            <a:off x="217440" y="1446120"/>
            <a:ext cx="3208320" cy="2584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2"/>
          <a:stretch/>
        </p:blipFill>
        <p:spPr>
          <a:xfrm>
            <a:off x="471600" y="4309920"/>
            <a:ext cx="3379680" cy="2432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3"/>
          <a:stretch/>
        </p:blipFill>
        <p:spPr>
          <a:xfrm flipH="1" rot="432600">
            <a:off x="5708160" y="1383480"/>
            <a:ext cx="3303720" cy="2527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4"/>
          <a:stretch/>
        </p:blipFill>
        <p:spPr>
          <a:xfrm flipH="1" rot="236400">
            <a:off x="4211640" y="3838320"/>
            <a:ext cx="3627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142640"/>
            <a:ext cx="914400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сился уровень профессиональной компетентности педагогов  в условиях реализации ФГОС Д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овершенствована современная РППС в условия группы ДОУ для повышения качества дошкольного образования в соответствии с ФГ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ормлены центры по разным видам детской деятельности с учетом оптимизации игрового простран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ирован  и рационально размещен  накопленный материал и оборудование в условиях групп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частке ДОУ созданы игровые и спортивные площад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БЛАГОДАРИМ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8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Times New Roman"/>
              </a:rPr>
              <a:t>Ц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214560" y="2214720"/>
            <a:ext cx="93582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здание развивающей пространственно-предметной среды, способствующей гармоничному развитию детей с последующим её формированием и доведением соответствия по требованиям ФГОС Д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ЗАДАЧИ: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840" y="135684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ить новые подходы в организации развивающей предметно-пространственной среды, обеспечивающей полноценное развитие дошколь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рганизовать развивающую среду, способствующую полноценному развитию   детей с учетом их потребностей и интерес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оздать условия для обеспечения разных видов деятельности дошкольников (игровой,  двигательной,  интеллектуальной, самостоятельной, творческой, художественной, театрализованно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 Содействовать сотрудничеству детей и взрослых для создания комфортной развивающей предметно-пространственной среды в ДО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85840" y="357120"/>
            <a:ext cx="971568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</a:rPr>
              <a:t>Принципы организации  развивающей предметно-пространственной среды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500200"/>
            <a:ext cx="91440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нтеграци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сыщен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трансформ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лифункциональ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ариа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РГАНИЗАЦИЯ РАЗВИВАЮЩЕЙ ПРЕДМЕТНО-ПРОСТРАНСТВЕННОЙ СРЕДЫ В ГРУП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умеренной активности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познания», «Уголок уединения», «Центр книги», «Центр природы», «Центр занимательной математики», «Центр патриотического воспитания», «Центр речевого развит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средней актив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конструирования», «Лаборатория», «Центр социально-эмоционального развития», «Центр изодеятельности», «Центр безопасност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повышенной активности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двигательной активности», «Центр музыки», «Центр театра», «Центр игры», «Центр дежурств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ИЗО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Содержимое 3" descr="100_2138.JPG"/>
          <p:cNvPicPr/>
          <p:nvPr/>
        </p:nvPicPr>
        <p:blipFill>
          <a:blip r:embed="rId1"/>
          <a:stretch/>
        </p:blipFill>
        <p:spPr>
          <a:xfrm>
            <a:off x="214200" y="1428840"/>
            <a:ext cx="30862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2" descr="C:\Users\пк\Desktop\100KC813\DSC_0108.JPG"/>
          <p:cNvPicPr/>
          <p:nvPr/>
        </p:nvPicPr>
        <p:blipFill>
          <a:blip r:embed="rId2"/>
          <a:stretch/>
        </p:blipFill>
        <p:spPr>
          <a:xfrm>
            <a:off x="3429000" y="2571840"/>
            <a:ext cx="5516640" cy="404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МУЗЫ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Users\пк\Desktop\100KC813\100_2171.JPG"/>
          <p:cNvPicPr/>
          <p:nvPr/>
        </p:nvPicPr>
        <p:blipFill>
          <a:blip r:embed="rId1"/>
          <a:srcRect l="10752" t="0" r="8471" b="0"/>
          <a:stretch/>
        </p:blipFill>
        <p:spPr>
          <a:xfrm>
            <a:off x="1828800" y="1127160"/>
            <a:ext cx="5899320" cy="547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-28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ТЕАТ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C:\Users\пк\Desktop\100KC813\DSC_0115.JPG"/>
          <p:cNvPicPr/>
          <p:nvPr/>
        </p:nvPicPr>
        <p:blipFill>
          <a:blip r:embed="rId1"/>
          <a:stretch/>
        </p:blipFill>
        <p:spPr>
          <a:xfrm>
            <a:off x="3924360" y="3962520"/>
            <a:ext cx="5005440" cy="27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C:\Users\пк\Desktop\100KC813\DSC_0116.JPG"/>
          <p:cNvPicPr/>
          <p:nvPr/>
        </p:nvPicPr>
        <p:blipFill>
          <a:blip r:embed="rId2"/>
          <a:stretch/>
        </p:blipFill>
        <p:spPr>
          <a:xfrm>
            <a:off x="324000" y="655560"/>
            <a:ext cx="4608360" cy="329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а</dc:creator>
  <dc:description/>
  <dc:language>en-US</dc:language>
  <cp:lastModifiedBy>USER</cp:lastModifiedBy>
  <dcterms:modified xsi:type="dcterms:W3CDTF">2022-08-04T20:13:50Z</dcterms:modified>
  <cp:revision>77</cp:revision>
  <dc:subject/>
  <dc:title>PowerPoint Presentation</dc:title>
</cp:coreProperties>
</file>