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2EB-9FA3-4213-A69E-7E68668E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AB19-5492-49D6-BC88-EBCECE4B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162-A4C6-417C-BA1E-D6AE72B6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152-82D7-49C8-883D-4A9CFF62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03D-F2AA-49C4-811F-C5F8CC67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A60-C01F-4A6D-80B1-DEA11140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81F-0877-43E9-A8B0-B2992390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885-6CA1-4CC1-B5BF-0B8EA5A5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D31-1D2F-4179-BFCD-358B26E6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F051-78A4-4012-8B54-B76E297D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5DE-AF00-4AD3-BAEF-C380254C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B528-37D6-48B3-85AC-86DF788B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A66D-98D4-41D3-90DD-DCFB320B4F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оздание развивающей предметно-пространственной среды в ДОУ в соответствии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 ФГОС </a:t>
            </a:r>
            <a:br>
              <a:rPr sz="5400"/>
            </a:br>
            <a:br>
              <a:rPr sz="54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400" y="4714920"/>
            <a:ext cx="852012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овила:  воспитатель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БДОУ №1 «Дружные ребята»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.А. Величк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6920" y="4508280"/>
            <a:ext cx="342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</a:t>
            </a:r>
            <a:br>
              <a:rPr sz="4400"/>
            </a:b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 ИГР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C:\Users\пк\Desktop\100KC813\100_2149.JPG"/>
          <p:cNvPicPr/>
          <p:nvPr/>
        </p:nvPicPr>
        <p:blipFill>
          <a:blip r:embed="rId1"/>
          <a:srcRect l="0" t="0" r="0" b="14693"/>
          <a:stretch/>
        </p:blipFill>
        <p:spPr>
          <a:xfrm>
            <a:off x="27000" y="96840"/>
            <a:ext cx="5511960" cy="35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Picture 3" descr="C:\Users\пк\Desktop\100KC813\100_2160.JPG"/>
          <p:cNvPicPr/>
          <p:nvPr/>
        </p:nvPicPr>
        <p:blipFill>
          <a:blip r:embed="rId2"/>
          <a:srcRect l="0" t="28877" r="0" b="0"/>
          <a:stretch/>
        </p:blipFill>
        <p:spPr>
          <a:xfrm>
            <a:off x="5580000" y="3625920"/>
            <a:ext cx="3384720" cy="32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ПОЗН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E:\DCIM\100KC813\100_2185.JPG"/>
          <p:cNvPicPr/>
          <p:nvPr/>
        </p:nvPicPr>
        <p:blipFill>
          <a:blip r:embed="rId1"/>
          <a:srcRect l="0" t="0" r="8833" b="0"/>
          <a:stretch/>
        </p:blipFill>
        <p:spPr>
          <a:xfrm rot="21342600">
            <a:off x="245880" y="1224000"/>
            <a:ext cx="4713120" cy="387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3" descr="E:\DCIM\100KC813\100_2186.JPG"/>
          <p:cNvPicPr/>
          <p:nvPr/>
        </p:nvPicPr>
        <p:blipFill>
          <a:blip r:embed="rId2"/>
          <a:srcRect l="0" t="8455" r="0" b="2744"/>
          <a:stretch/>
        </p:blipFill>
        <p:spPr>
          <a:xfrm rot="183600">
            <a:off x="5064120" y="1728360"/>
            <a:ext cx="3884760" cy="460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КОНСТРУИР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C:\Users\пк\Desktop\100KC813\DSC_0104.JPG"/>
          <p:cNvPicPr/>
          <p:nvPr/>
        </p:nvPicPr>
        <p:blipFill>
          <a:blip r:embed="rId1"/>
          <a:stretch/>
        </p:blipFill>
        <p:spPr>
          <a:xfrm>
            <a:off x="214200" y="1500120"/>
            <a:ext cx="5357880" cy="39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Picture 3" descr="C:\Users\пк\Desktop\100KC813\DSC_0126.JPG"/>
          <p:cNvPicPr/>
          <p:nvPr/>
        </p:nvPicPr>
        <p:blipFill>
          <a:blip r:embed="rId2"/>
          <a:stretch/>
        </p:blipFill>
        <p:spPr>
          <a:xfrm rot="223800">
            <a:off x="5005080" y="4108320"/>
            <a:ext cx="4000320" cy="2516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Picture 4" descr="C:\Users\пк\Desktop\100KC813\100_2168.JPG"/>
          <p:cNvPicPr/>
          <p:nvPr/>
        </p:nvPicPr>
        <p:blipFill>
          <a:blip r:embed="rId3"/>
          <a:stretch/>
        </p:blipFill>
        <p:spPr>
          <a:xfrm rot="21403200">
            <a:off x="5159160" y="1109520"/>
            <a:ext cx="3903480" cy="292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ЛАБОРАТОР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C:\Users\пк\Desktop\100KC813\100_2163.JPG"/>
          <p:cNvPicPr/>
          <p:nvPr/>
        </p:nvPicPr>
        <p:blipFill>
          <a:blip r:embed="rId1"/>
          <a:srcRect l="0" t="8657" r="0" b="0"/>
          <a:stretch/>
        </p:blipFill>
        <p:spPr>
          <a:xfrm>
            <a:off x="0" y="1413000"/>
            <a:ext cx="3714840" cy="452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Рисунок 4" descr="C:\Users\Владелец\Desktop\Неизведанное рядом\Панагушина  занятие2015\DSC_0647.JPG"/>
          <p:cNvPicPr/>
          <p:nvPr/>
        </p:nvPicPr>
        <p:blipFill>
          <a:blip r:embed="rId2"/>
          <a:stretch/>
        </p:blipFill>
        <p:spPr>
          <a:xfrm rot="226800">
            <a:off x="3676680" y="1868400"/>
            <a:ext cx="5340240" cy="361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ЗАНИМАТЕЛЬНОЙ МАТЕМАТ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E:\DCIM\100KC813\100_2184.JPG"/>
          <p:cNvPicPr/>
          <p:nvPr/>
        </p:nvPicPr>
        <p:blipFill>
          <a:blip r:embed="rId1"/>
          <a:srcRect l="-651" t="9600" r="660" b="-241"/>
          <a:stretch/>
        </p:blipFill>
        <p:spPr>
          <a:xfrm>
            <a:off x="214200" y="1919160"/>
            <a:ext cx="3929040" cy="474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Picture 4" descr="E:\DCIM\100D3100\DSC_0130.JPG"/>
          <p:cNvPicPr/>
          <p:nvPr/>
        </p:nvPicPr>
        <p:blipFill>
          <a:blip r:embed="rId2"/>
          <a:stretch/>
        </p:blipFill>
        <p:spPr>
          <a:xfrm rot="260400">
            <a:off x="4127400" y="2538360"/>
            <a:ext cx="4896000" cy="335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СЕНСОРИКИ</a:t>
            </a:r>
            <a:br>
              <a:rPr sz="4400"/>
            </a:b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(МЛАДШИЙ ВОЗРАС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C:\Users\пк\Desktop\100KC813\100_2166.JPG"/>
          <p:cNvPicPr/>
          <p:nvPr/>
        </p:nvPicPr>
        <p:blipFill>
          <a:blip r:embed="rId1"/>
          <a:srcRect l="0" t="0" r="0" b="14002"/>
          <a:stretch/>
        </p:blipFill>
        <p:spPr>
          <a:xfrm rot="21405600">
            <a:off x="92160" y="1576080"/>
            <a:ext cx="5333760" cy="344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Picture 3" descr="C:\Users\пк\Desktop\100KC813\100_2176.JPG"/>
          <p:cNvPicPr/>
          <p:nvPr/>
        </p:nvPicPr>
        <p:blipFill>
          <a:blip r:embed="rId2"/>
          <a:stretch/>
        </p:blipFill>
        <p:spPr>
          <a:xfrm rot="174600">
            <a:off x="5466960" y="2154240"/>
            <a:ext cx="3352680" cy="44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ДВИГАТЕЛЬНОЙ АКТИВ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C:\Users\пк\Desktop\100KC813\100_2146.JPG"/>
          <p:cNvPicPr/>
          <p:nvPr/>
        </p:nvPicPr>
        <p:blipFill>
          <a:blip r:embed="rId1"/>
          <a:srcRect l="0" t="9100" r="0" b="14215"/>
          <a:stretch/>
        </p:blipFill>
        <p:spPr>
          <a:xfrm>
            <a:off x="395280" y="4175280"/>
            <a:ext cx="3986280" cy="22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icture 2" descr="E:\DCIM\100KC813\100_2188.JPG"/>
          <p:cNvPicPr/>
          <p:nvPr/>
        </p:nvPicPr>
        <p:blipFill>
          <a:blip r:embed="rId2"/>
          <a:srcRect l="0" t="0" r="0" b="4250"/>
          <a:stretch/>
        </p:blipFill>
        <p:spPr>
          <a:xfrm rot="21335400">
            <a:off x="1235160" y="1415880"/>
            <a:ext cx="3503520" cy="256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Picture 4" descr="E:\DCIM\100KC813\100_2192.JPG"/>
          <p:cNvPicPr/>
          <p:nvPr/>
        </p:nvPicPr>
        <p:blipFill>
          <a:blip r:embed="rId3"/>
          <a:srcRect l="0" t="0" r="15864" b="0"/>
          <a:stretch/>
        </p:blipFill>
        <p:spPr>
          <a:xfrm>
            <a:off x="5364000" y="3800520"/>
            <a:ext cx="3243600" cy="289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" name="Picture 3" descr="C:\Users\пк\Desktop\100KC813\100_2155.JPG"/>
          <p:cNvPicPr/>
          <p:nvPr/>
        </p:nvPicPr>
        <p:blipFill>
          <a:blip r:embed="rId4"/>
          <a:srcRect l="0" t="4030" r="13958" b="0"/>
          <a:stretch/>
        </p:blipFill>
        <p:spPr>
          <a:xfrm rot="203400">
            <a:off x="6316560" y="593280"/>
            <a:ext cx="1925640" cy="306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КНИ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C:\Users\пк\Desktop\100KC813\100_2158.JPG"/>
          <p:cNvPicPr/>
          <p:nvPr/>
        </p:nvPicPr>
        <p:blipFill>
          <a:blip r:embed="rId1"/>
          <a:srcRect l="0" t="0" r="0" b="14521"/>
          <a:stretch/>
        </p:blipFill>
        <p:spPr>
          <a:xfrm>
            <a:off x="1214280" y="1339920"/>
            <a:ext cx="6929640" cy="4443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РЕЧЕВОГО РАЗВИ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C:\Users\пк\Desktop\100KC813\100_2134.JPG"/>
          <p:cNvPicPr/>
          <p:nvPr/>
        </p:nvPicPr>
        <p:blipFill>
          <a:blip r:embed="rId1"/>
          <a:stretch/>
        </p:blipFill>
        <p:spPr>
          <a:xfrm>
            <a:off x="468360" y="1413000"/>
            <a:ext cx="8110440" cy="457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ПРИР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C:\Users\пк\Desktop\100KC813\100_2183.JPG"/>
          <p:cNvPicPr/>
          <p:nvPr/>
        </p:nvPicPr>
        <p:blipFill>
          <a:blip r:embed="rId1"/>
          <a:srcRect l="0" t="7230" r="0" b="13965"/>
          <a:stretch/>
        </p:blipFill>
        <p:spPr>
          <a:xfrm>
            <a:off x="108000" y="2987640"/>
            <a:ext cx="4173480" cy="32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Рисунок 1" descr=""/>
          <p:cNvPicPr/>
          <p:nvPr/>
        </p:nvPicPr>
        <p:blipFill>
          <a:blip r:embed="rId2"/>
          <a:stretch/>
        </p:blipFill>
        <p:spPr>
          <a:xfrm>
            <a:off x="4356000" y="1755720"/>
            <a:ext cx="4680000" cy="3544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ПРОБЛЕМ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000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метная среда не в полной мере отвечает требованиям ФГОС Д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не всегда учитываются принципы ее постро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в группах ДОУ не в полной мере представлен качественный и количественный состав необходимых игрушек и пособ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присутствует дисбаланс в оформлении и практическом применении оборудования и игр, используемых детьми в самостоя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УГОЛОК УЕДИ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C:\Users\пк\Desktop\100KC813\100_2180.JPG"/>
          <p:cNvPicPr/>
          <p:nvPr/>
        </p:nvPicPr>
        <p:blipFill>
          <a:blip r:embed="rId1"/>
          <a:srcRect l="0" t="7822" r="0" b="0"/>
          <a:stretch/>
        </p:blipFill>
        <p:spPr>
          <a:xfrm>
            <a:off x="5572080" y="1700280"/>
            <a:ext cx="3286080" cy="404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Picture 4" descr="C:\Users\пк\Desktop\100KC813\100_2182.JPG"/>
          <p:cNvPicPr/>
          <p:nvPr/>
        </p:nvPicPr>
        <p:blipFill>
          <a:blip r:embed="rId2"/>
          <a:srcRect l="0" t="4850" r="0" b="0"/>
          <a:stretch/>
        </p:blipFill>
        <p:spPr>
          <a:xfrm>
            <a:off x="395280" y="1271520"/>
            <a:ext cx="4867200" cy="518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4240" y="1155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БЕЗОПАС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C:\Users\пк\Desktop\100KC813\100_2161.JPG"/>
          <p:cNvPicPr/>
          <p:nvPr/>
        </p:nvPicPr>
        <p:blipFill>
          <a:blip r:embed="rId1"/>
          <a:srcRect l="0" t="0" r="0" b="13825"/>
          <a:stretch/>
        </p:blipFill>
        <p:spPr>
          <a:xfrm>
            <a:off x="684360" y="1413000"/>
            <a:ext cx="7575480" cy="4895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ПАТРИОТИЧЕСКОГО </a:t>
            </a:r>
            <a:br>
              <a:rPr sz="4400"/>
            </a:b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ВОСПИТА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C:\Users\пк\Desktop\100KC813\DSC_0141.JPG"/>
          <p:cNvPicPr/>
          <p:nvPr/>
        </p:nvPicPr>
        <p:blipFill>
          <a:blip r:embed="rId1"/>
          <a:stretch/>
        </p:blipFill>
        <p:spPr>
          <a:xfrm rot="21424200">
            <a:off x="358560" y="2016000"/>
            <a:ext cx="5403600" cy="396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Picture 4" descr="C:\Users\пк\Desktop\100KC813\DSC_0136.JPG"/>
          <p:cNvPicPr/>
          <p:nvPr/>
        </p:nvPicPr>
        <p:blipFill>
          <a:blip r:embed="rId2"/>
          <a:stretch/>
        </p:blipFill>
        <p:spPr>
          <a:xfrm>
            <a:off x="5929200" y="2143080"/>
            <a:ext cx="2928960" cy="447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3333cc"/>
                </a:solidFill>
                <a:uFillTx/>
                <a:latin typeface="Times New Roman"/>
              </a:rPr>
              <a:t>Развивающая среда участка для прогуло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306360" y="4255920"/>
            <a:ext cx="3492360" cy="24703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" descr=""/>
          <p:cNvPicPr/>
          <p:nvPr/>
        </p:nvPicPr>
        <p:blipFill>
          <a:blip r:embed="rId2"/>
          <a:stretch/>
        </p:blipFill>
        <p:spPr>
          <a:xfrm>
            <a:off x="4390920" y="4230720"/>
            <a:ext cx="4608720" cy="25210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"/>
          <p:cNvPicPr/>
          <p:nvPr/>
        </p:nvPicPr>
        <p:blipFill>
          <a:blip r:embed="rId3"/>
          <a:stretch/>
        </p:blipFill>
        <p:spPr>
          <a:xfrm>
            <a:off x="1509840" y="1498680"/>
            <a:ext cx="5761080" cy="2577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Спортивные игровые площад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Объект 1" descr=""/>
          <p:cNvPicPr/>
          <p:nvPr/>
        </p:nvPicPr>
        <p:blipFill>
          <a:blip r:embed="rId1"/>
          <a:stretch/>
        </p:blipFill>
        <p:spPr>
          <a:xfrm rot="20947200">
            <a:off x="217440" y="1446120"/>
            <a:ext cx="3208320" cy="25844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"/>
          <p:cNvPicPr/>
          <p:nvPr/>
        </p:nvPicPr>
        <p:blipFill>
          <a:blip r:embed="rId2"/>
          <a:stretch/>
        </p:blipFill>
        <p:spPr>
          <a:xfrm>
            <a:off x="471600" y="4309920"/>
            <a:ext cx="3379680" cy="24321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"/>
          <p:cNvPicPr/>
          <p:nvPr/>
        </p:nvPicPr>
        <p:blipFill>
          <a:blip r:embed="rId3"/>
          <a:stretch/>
        </p:blipFill>
        <p:spPr>
          <a:xfrm flipH="1" rot="432600">
            <a:off x="5708160" y="1383480"/>
            <a:ext cx="3303720" cy="25279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"/>
          <p:cNvPicPr/>
          <p:nvPr/>
        </p:nvPicPr>
        <p:blipFill>
          <a:blip r:embed="rId4"/>
          <a:stretch/>
        </p:blipFill>
        <p:spPr>
          <a:xfrm flipH="1" rot="236400">
            <a:off x="4211640" y="3838320"/>
            <a:ext cx="36273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РЕЗУЛЬТАТ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142640"/>
            <a:ext cx="9144000" cy="60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сился уровень профессиональной компетентности педагогов  в условиях реализации ФГОС Д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овершенствована современная РППС в условия группы ДОУ для повышения качества дошкольного образования в соответствии с ФГО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формлены центры по разным видам детской деятельности с учетом оптимизации игрового пространств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тизирован  и рационально размещен  накопленный материал и оборудование в условиях групп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участке ДОУ созданы игровые и спортивные площад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4296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</a:rPr>
              <a:t>БЛАГОДАРИМ ЗА ВНИМАНИЕ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2880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ff"/>
                </a:solidFill>
                <a:uFillTx/>
                <a:latin typeface="Times New Roman"/>
              </a:rPr>
              <a:t>ЦЕЛЬ: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214560" y="2214720"/>
            <a:ext cx="93582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оздание развивающей пространственно-предметной среды, способствующей гармоничному развитию детей с последующим её формированием и доведением соответствия по требованиям ФГОС Д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ЗАДАЧИ: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3840" y="1356840"/>
            <a:ext cx="8929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учить новые подходы в организации развивающей предметно-пространственной среды, обеспечивающей полноценное развитие дошкольник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Организовать развивающую среду, способствующую полноценному развитию   детей с учетом их потребностей и интерес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Создать условия для обеспечения разных видов деятельности дошкольников (игровой,  двигательной,  интеллектуальной, самостоятельной, творческой, художественной, театрализованной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 Содействовать сотрудничеству детей и взрослых для создания комфортной развивающей предметно-пространственной среды в ДО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285840" y="357120"/>
            <a:ext cx="9715680" cy="18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ff"/>
                </a:solidFill>
                <a:uFillTx/>
                <a:latin typeface="Times New Roman"/>
              </a:rPr>
              <a:t>Принципы организации  развивающей предметно-пространственной среды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2500200"/>
            <a:ext cx="91440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интеграции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насыщенн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трансформируем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лифункциональн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вариатив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lang="ru-RU" sz="3200" spc="-1" strike="noStrike">
                <a:solidFill>
                  <a:srgbClr val="9900cc"/>
                </a:solidFill>
                <a:latin typeface="Times New Roman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ОРГАНИЗАЦИЯ РАЗВИВАЮЩЕЙ ПРЕДМЕТНО-ПРОСТРАНСТВЕННОЙ СРЕДЫ В ГРУПП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4268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она умеренной активности: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Центр познания», «Уголок уединения», «Центр книги», «Центр природы», «Центр занимательной математики», «Центр патриотического воспитания», «Центр речевого развити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она средней актив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Центр конструирования», «Лаборатория», «Центр социально-эмоционального развития», «Центр изодеятельности», «Центр безопасност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она повышенной активности: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Центр двигательной активности», «Центр музыки», «Центр театра», «Центр игры», «Центр дежурств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ИЗОДЕЯТЕЛЬ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Содержимое 3" descr="100_2138.JPG"/>
          <p:cNvPicPr/>
          <p:nvPr/>
        </p:nvPicPr>
        <p:blipFill>
          <a:blip r:embed="rId1"/>
          <a:stretch/>
        </p:blipFill>
        <p:spPr>
          <a:xfrm>
            <a:off x="214200" y="1428840"/>
            <a:ext cx="308628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" name="Picture 2" descr="C:\Users\пк\Desktop\100KC813\DSC_0108.JPG"/>
          <p:cNvPicPr/>
          <p:nvPr/>
        </p:nvPicPr>
        <p:blipFill>
          <a:blip r:embed="rId2"/>
          <a:stretch/>
        </p:blipFill>
        <p:spPr>
          <a:xfrm>
            <a:off x="3429000" y="2571840"/>
            <a:ext cx="5516640" cy="4048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МУЗЫ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C:\Users\пк\Desktop\100KC813\100_2171.JPG"/>
          <p:cNvPicPr/>
          <p:nvPr/>
        </p:nvPicPr>
        <p:blipFill>
          <a:blip r:embed="rId1"/>
          <a:srcRect l="10752" t="0" r="8471" b="0"/>
          <a:stretch/>
        </p:blipFill>
        <p:spPr>
          <a:xfrm>
            <a:off x="1828800" y="1127160"/>
            <a:ext cx="5899320" cy="547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2960" y="-28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ТЕАТ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C:\Users\пк\Desktop\100KC813\DSC_0115.JPG"/>
          <p:cNvPicPr/>
          <p:nvPr/>
        </p:nvPicPr>
        <p:blipFill>
          <a:blip r:embed="rId1"/>
          <a:stretch/>
        </p:blipFill>
        <p:spPr>
          <a:xfrm>
            <a:off x="3924360" y="3962520"/>
            <a:ext cx="5005440" cy="278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4" descr="C:\Users\пк\Desktop\100KC813\DSC_0116.JPG"/>
          <p:cNvPicPr/>
          <p:nvPr/>
        </p:nvPicPr>
        <p:blipFill>
          <a:blip r:embed="rId2"/>
          <a:stretch/>
        </p:blipFill>
        <p:spPr>
          <a:xfrm>
            <a:off x="324000" y="655560"/>
            <a:ext cx="4608360" cy="3292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ита</dc:creator>
  <dc:description/>
  <dc:language>en-US</dc:language>
  <cp:lastModifiedBy>USER</cp:lastModifiedBy>
  <dcterms:modified xsi:type="dcterms:W3CDTF">2022-08-04T20:13:50Z</dcterms:modified>
  <cp:revision>77</cp:revision>
  <dc:subject/>
  <dc:title>PowerPoint Presentation</dc:title>
</cp:coreProperties>
</file>