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461-46A7-4521-8D29-33579A56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C62-E049-41EB-8DCC-4257AE1A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736-AEEF-4536-BCB4-D5CC2B03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CC9-C889-48EB-BD99-2B2838AE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575-DA6E-4A9F-96CB-7333044C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45D-BD28-4848-9A63-D6ACD98A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559-4E62-45D1-A0A3-36F85EFA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96A-9078-418B-8611-7582A06B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1F9-11CC-4A00-9F4E-629552F9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D55-59DB-4566-9152-E2060176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A5B-BB74-4C37-8DDA-ABE928C5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5A6-4C66-407E-930B-5D33EB0D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A9F1-154B-448E-8586-2FF19FCAD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ПРЯЧЕТСЯ ЗА ОБЛАКАМИ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О О КОСМО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181440" y="764640"/>
            <a:ext cx="9325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 апреля — день первого полёта человека в космос — стал в нашей стране Днём космонавтики. Совершил этот полёт Юрий Гага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9 марта 1934 года родился первый космонавт Земли Юрий Гагарин - День в  истории"/>
          <p:cNvPicPr/>
          <p:nvPr/>
        </p:nvPicPr>
        <p:blipFill>
          <a:blip r:embed="rId1"/>
          <a:stretch/>
        </p:blipFill>
        <p:spPr>
          <a:xfrm>
            <a:off x="2124000" y="3284640"/>
            <a:ext cx="4932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181440" y="980640"/>
            <a:ext cx="6481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я важная для нас планета — Земля. Это наш дом, единственная планета Солнечной системы, на которой есть жизн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Земля случайно так долго остается обитаемой"/>
          <p:cNvPicPr/>
          <p:nvPr/>
        </p:nvPicPr>
        <p:blipFill>
          <a:blip r:embed="rId1"/>
          <a:stretch/>
        </p:blipFill>
        <p:spPr>
          <a:xfrm>
            <a:off x="5033880" y="2565360"/>
            <a:ext cx="4110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на является спутником Земли. Так называют ее, потому что она постоянно находится рядом с Землё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Луна — Википедия"/>
          <p:cNvPicPr/>
          <p:nvPr/>
        </p:nvPicPr>
        <p:blipFill>
          <a:blip r:embed="rId1"/>
          <a:stretch/>
        </p:blipFill>
        <p:spPr>
          <a:xfrm>
            <a:off x="4859280" y="2573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ВОЛУНИЕ И ПОЛНОЛУ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24000" y="980640"/>
            <a:ext cx="946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вает, что луны на небе вообще не видно. Тогда мы говорим, что наступило новолу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Если месяц похож на букву «С», значит, луна «спадающая». А если к месяцу можно сбоку пририсовать палочку и получится буква «Р», значит, луна «растущая»."/>
          <p:cNvPicPr/>
          <p:nvPr/>
        </p:nvPicPr>
        <p:blipFill>
          <a:blip r:embed="rId1"/>
          <a:stretch/>
        </p:blipFill>
        <p:spPr>
          <a:xfrm>
            <a:off x="755640" y="3068640"/>
            <a:ext cx="79106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252720" y="980640"/>
            <a:ext cx="9396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 нашей Вселенной наверняка мы знаем только то, что она очень большая. Вселенная возникла около 13,7 миллиарда лет назад, когда случился Большой взрыв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Названы 5 тайн Вселенной, которые человечеству еще предстоит разгадать |  VOKRUGSVETA"/>
          <p:cNvPicPr/>
          <p:nvPr/>
        </p:nvPicPr>
        <p:blipFill>
          <a:blip r:embed="rId1"/>
          <a:stretch/>
        </p:blipFill>
        <p:spPr>
          <a:xfrm>
            <a:off x="2050920" y="3213000"/>
            <a:ext cx="48960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ЖДЕНИЕ ЗВЕ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181440" y="836280"/>
            <a:ext cx="932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умаете, что звёзды видно только ночью? Наше Солнце — тоже звезда, но его мы видим днё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Звёзды образуются из облаков водородного газа, который остался после Большого взрыва или после взрывов других звёзд, постарше."/>
          <p:cNvPicPr/>
          <p:nvPr/>
        </p:nvPicPr>
        <p:blipFill>
          <a:blip r:embed="rId1"/>
          <a:stretch/>
        </p:blipFill>
        <p:spPr>
          <a:xfrm>
            <a:off x="1835280" y="2997360"/>
            <a:ext cx="5715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352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ечная система — очень оживленное мес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Солнечная система — очень оживленное место. Вокруг Солнца по эллиптическим (слегка вытянутым кольцевым) орбитам вращается восемь планет, в том числе наша Земля. "/>
          <p:cNvPicPr/>
          <p:nvPr/>
        </p:nvPicPr>
        <p:blipFill>
          <a:blip r:embed="rId1"/>
          <a:stretch/>
        </p:blipFill>
        <p:spPr>
          <a:xfrm>
            <a:off x="4572000" y="1197000"/>
            <a:ext cx="44038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ТРОНО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ые, которые наблюдают за звездами и изучают их, называются астроно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Весенний День астрономии"/>
          <p:cNvPicPr/>
          <p:nvPr/>
        </p:nvPicPr>
        <p:blipFill>
          <a:blip r:embed="rId1"/>
          <a:stretch/>
        </p:blipFill>
        <p:spPr>
          <a:xfrm>
            <a:off x="2843280" y="2997360"/>
            <a:ext cx="39956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ВОТНЫЕ-КОСМОНАВ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24000" y="836640"/>
            <a:ext cx="94680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узнать, с чем человеку придется столкнуться в космосе, ученые отправляли в космос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Белка и Стрелка: как дворняжки покоряли космос?"/>
          <p:cNvPicPr/>
          <p:nvPr/>
        </p:nvPicPr>
        <p:blipFill>
          <a:blip r:embed="rId1"/>
          <a:stretch/>
        </p:blipFill>
        <p:spPr>
          <a:xfrm>
            <a:off x="1476360" y="2276640"/>
            <a:ext cx="6337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10T16:39:33Z</dcterms:created>
  <dc:creator>Nadya</dc:creator>
  <dc:description/>
  <dc:language>en-US</dc:language>
  <cp:lastModifiedBy>Nadya</cp:lastModifiedBy>
  <dcterms:modified xsi:type="dcterms:W3CDTF">2022-08-12T16:24:17Z</dcterms:modified>
  <cp:revision>21</cp:revision>
  <dc:subject/>
  <dc:title>ЧТО ПРЯЧЕТСЯ ЗА ОБЛАКАМИ ИНТЕРЕСНО О КОСМОСЕ</dc:title>
</cp:coreProperties>
</file>