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41960" cy="33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59576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5280" y="-243360"/>
            <a:ext cx="712944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Министерство образования</a:t>
            </a: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 РМ</a:t>
            </a:r>
            <a:br>
              <a:rPr sz="4000"/>
            </a:br>
            <a:br>
              <a:rPr sz="1200"/>
            </a:br>
            <a:br>
              <a:rPr sz="1200"/>
            </a:b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Портфолио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ертяновой Анны Михайловны, </a:t>
            </a:r>
            <a:br>
              <a:rPr sz="2000"/>
            </a:b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воспитателя ОСП «Шокшинская средняя общеобразовательная школа имени Героя Советского Союза И.С.Пряхина» МБОУ «Теньгушевская средняя общеобразовательная школа»</a:t>
            </a:r>
            <a:br>
              <a:rPr sz="1800"/>
            </a:b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6200" y="4057200"/>
            <a:ext cx="846000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b80047"/>
                </a:solidFill>
                <a:latin typeface="Times New Roman"/>
              </a:rPr>
              <a:t>Дата рождения: 12.10.19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b80047"/>
                </a:solidFill>
                <a:latin typeface="Times New Roman"/>
              </a:rPr>
              <a:t>Профессиональное образование: историк, преподаватель истории, МГУ имени Н.П.Огарева № диплома 187854, дата выдачи 26.06.198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b80047"/>
                </a:solidFill>
                <a:latin typeface="Times New Roman"/>
              </a:rPr>
              <a:t>Стаж педагогической работы (по специальности):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b80047"/>
                </a:solidFill>
                <a:latin typeface="Times New Roman"/>
              </a:rPr>
              <a:t>Общий трудовой стаж: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b80047"/>
                </a:solidFill>
                <a:latin typeface="Times New Roman"/>
              </a:rPr>
              <a:t>Наличие квалификационной категории: </a:t>
            </a:r>
            <a:r>
              <a:rPr b="1" lang="en-US" sz="2000" spc="-1" strike="noStrike">
                <a:solidFill>
                  <a:srgbClr val="b80047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b80047"/>
                </a:solidFill>
                <a:latin typeface="Times New Roman"/>
              </a:rPr>
              <a:t>Дата последней аттестации: 29.11.1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rcRect l="0" t="-3691" r="0" b="0"/>
          <a:stretch/>
        </p:blipFill>
        <p:spPr>
          <a:xfrm>
            <a:off x="65160" y="1538280"/>
            <a:ext cx="20700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9760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4. Награды и поощрения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4616280" cy="3355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/>
          <p:cNvPicPr/>
          <p:nvPr/>
        </p:nvPicPr>
        <p:blipFill>
          <a:blip r:embed="rId2"/>
          <a:stretch/>
        </p:blipFill>
        <p:spPr>
          <a:xfrm>
            <a:off x="5940360" y="1916280"/>
            <a:ext cx="3006720" cy="43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Взаимодействие с родителями обучающихся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1"/>
          <a:srcRect l="0" t="0" r="-636" b="0"/>
          <a:stretch/>
        </p:blipFill>
        <p:spPr>
          <a:xfrm>
            <a:off x="2340000" y="2133720"/>
            <a:ext cx="489888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896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Взаимодействие с учителями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2268360" y="1803240"/>
            <a:ext cx="48546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-100080"/>
            <a:ext cx="8366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Результаты участия в инновационной (экспериментальной) деятельности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311640" cy="4744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2"/>
          <a:stretch/>
        </p:blipFill>
        <p:spPr>
          <a:xfrm>
            <a:off x="4506840" y="1893960"/>
            <a:ext cx="43927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814860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Результаты участия воспитанников в конкурсах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6153120" y="1844640"/>
            <a:ext cx="2882880" cy="396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39640" y="2133720"/>
          <a:ext cx="5472360" cy="1946160"/>
        </p:xfrm>
        <a:graphic>
          <a:graphicData uri="http://schemas.openxmlformats.org/drawingml/2006/table">
            <a:tbl>
              <a:tblPr/>
              <a:tblGrid>
                <a:gridCol w="1079640"/>
                <a:gridCol w="1081080"/>
                <a:gridCol w="863640"/>
                <a:gridCol w="863640"/>
                <a:gridCol w="1584360"/>
              </a:tblGrid>
              <a:tr h="73044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2268"/>
                          </a:solidFill>
                          <a:latin typeface="Times New Roman"/>
                          <a:ea typeface="Lucida Sans Unicode"/>
                        </a:rPr>
                        <a:t>Вид, название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marL="4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2268"/>
                          </a:solidFill>
                          <a:latin typeface="Times New Roman"/>
                          <a:ea typeface="Lucida Sans Unicode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marL="4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2268"/>
                          </a:solidFill>
                          <a:latin typeface="Times New Roman"/>
                          <a:ea typeface="Lucida Sans Unicode"/>
                        </a:rPr>
                        <a:t>Результат (занятое мест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marL="4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2268"/>
                          </a:solidFill>
                          <a:latin typeface="Times New Roman"/>
                          <a:ea typeface="Lucida Sans Unicode"/>
                        </a:rPr>
                        <a:t>Дата проведения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marL="4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2268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222268"/>
                          </a:solidFill>
                          <a:latin typeface="Times New Roman"/>
                          <a:ea typeface="Lucida Sans Unicode"/>
                        </a:rPr>
                        <a:t>Документы (материалы) подтверждающие 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49320" rIns="49320" tIns="0" bIns="0" anchor="t">
                      <a:noAutofit/>
                    </a:bodyPr>
                    <a:p>
                      <a:pPr marL="4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2268"/>
                          </a:solidFill>
                          <a:latin typeface="Times New Roman"/>
                          <a:ea typeface="Lucida Sans Unicode"/>
                        </a:rPr>
                        <a:t>Республиканский творческий конкурс по краеведению «Мой музе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marL="4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2268"/>
                          </a:solidFill>
                          <a:latin typeface="Times New Roman"/>
                          <a:ea typeface="Lucida Sans Unicode"/>
                        </a:rPr>
                        <a:t>Региона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marL="4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2268"/>
                          </a:solidFill>
                          <a:latin typeface="Times New Roman"/>
                          <a:ea typeface="Lucida Sans Unicode"/>
                        </a:rPr>
                        <a:t>Призер – 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marL="4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2268"/>
                          </a:solidFill>
                          <a:latin typeface="Times New Roman"/>
                          <a:ea typeface="Lucida Sans Unicode"/>
                        </a:rPr>
                        <a:t>2018 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marL="4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2268"/>
                          </a:solidFill>
                          <a:latin typeface="Times New Roman"/>
                          <a:ea typeface="Lucida Sans Unicode"/>
                        </a:rPr>
                        <a:t>Грамот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-171360"/>
            <a:ext cx="84250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. Выступления на заседаниях методических советов, семинарах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5435640" y="2317680"/>
            <a:ext cx="3529080" cy="39909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3752640" cy="39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-100080"/>
            <a:ext cx="82198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. Проведение мастер-классов, открытых мероприятий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2768760" y="1989000"/>
            <a:ext cx="405108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896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1.Общественная педагогическая  активность педагог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8322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4303800" cy="29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. Создание комфортного психологического климата в группах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4464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User</cp:lastModifiedBy>
  <dcterms:modified xsi:type="dcterms:W3CDTF">2022-09-21T03:19:05Z</dcterms:modified>
  <cp:revision>57</cp:revision>
  <dc:subject/>
  <dc:title>Роль ПНПО в развитии (модернизации) образования страны</dc:title>
</cp:coreProperties>
</file>