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E90-0845-49CF-8E7F-1E226B48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A4F-1AF3-49E2-AB6F-95303E33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D33-4A7A-475E-B1EE-A561837E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78B-75CE-4044-AC2E-CD71DFD7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C0E-92FD-4FB0-BE2D-3A885D3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C06-0EF0-4A2F-A48B-C7ACCC1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A2A6-5DE2-4B13-AB23-855E093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CA0-FE2E-4BB8-A88E-42B5E47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F1B-0A7E-4622-BE61-50DDAF0A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299-BCAA-476A-A8E8-45188F45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5C0B-2B30-49DF-8295-D7C5F48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208-D973-4435-B8F5-8479B16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C90C-4F65-4A64-AF28-AD3A569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6B8-8C75-44CA-AB4D-1305B71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74F-7C9F-4D1B-803B-AFA65D4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0C9-7028-4A81-9BB5-0C806E07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A11-88AC-4265-BFA5-400306D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4DC-0594-4043-A502-634C071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396-A8EF-4CFE-9583-76A76B3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817-EAAE-4538-ACF6-16CCE5F2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273-4E8D-4DF3-A495-366E45B7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5FD-0325-4A39-A3A5-2E3FB93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58D-AAAA-4DF1-9A97-C483EDE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B12-12DF-408A-B908-BC5CF89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06A-E563-4E73-983F-E2CDD552E5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311-D05C-4B59-BB2E-6EBCCD769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sesochineniya.ru/odnorodnye-chleny-predlozheniy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Синтаксические нор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148360" y="4581360"/>
            <a:ext cx="2433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дготовила   ученица 10класс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илонова Али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оверила учитель русского язык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литературы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лишился и чаши на пире отцов, и веселья, и чести сво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этом произведении писатель подтверждает свою любовь и единство к родному городу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ный малый, но пед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юбви, надежды, тихой славы недолго нежил нас обман</a:t>
            </a:r>
            <a:br>
              <a:rPr sz="1600"/>
            </a:br>
            <a:br>
              <a:rPr sz="1600"/>
            </a:b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900"/>
            </a:b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зобравшись на курган ПЬЕР увидел свиту Кутузова и красоту зрелищ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т не поднимали целину на войне, а начиняли ми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 наделяет Кутузова редкими душевными качествами: справедливость, благородство, просто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сидел и слушал, наблюдал и любовал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ш язык заслужил не только бережное отношение к себе, но и общенародную защи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 всех рассказах Чехов высмеивал тех, кто был хамелеоном и тщеславе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т йогурт не только вкусный, но и полез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удожники любуются природой и одухотворяют её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1a1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ре ловит стрелы молний и в своей пучине гаси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корзине лежали разные фрукты: яблоки груши виноград перс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а птица любит озера, реки, бол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арина любит природу и читать французские романы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Клю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дала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углубила знания по тем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упражнялась разбирать ошибки в предложениях с однородными член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обрела навыки по составлению про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петитор по русскому языку/ И.Ю.Заярная- Ростов н/Д.:Феникс,20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сский язык. Тематические задания уровня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,B,C/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 Т. Егораева, С.Ю. Иванов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Москва: Экзамен, 200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vsesochineniya.ru/odnorodnye-chleny-predlozheniya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У Корсук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езентация информационного проекта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 русскому языку на тему: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«Ошибки в построении предложений с однородными членами</a:t>
            </a:r>
            <a:r>
              <a:rPr b="0" i="1" lang="ru-RU" sz="37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ить знания по теме «Однородные члены предложе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яться в составлении те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ся использовать в работе различные источники  информации по теме проекта: (учебник, словари, Интернет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по составлению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Organization Chart 2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59" name="_s1028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40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29"/>
            <p:cNvCxnSpPr>
              <a:stCxn id="163" idx="0"/>
              <a:endCxn id="161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40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1031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Однородны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члены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носятся  к одному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 тому же слову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3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вечают на один 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от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34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Являются одним и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ем же членом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едложе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потребляются в качестве однородных членов полные и краткие формы имени прилагательного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друг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давний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и весьма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хорош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вух или нескольких однородных членах неправильными являются предложения, в которых общее дополнение имеется при словах, требующих разного управления: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любить и увлекаться спортом, помнить и верить в победу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в ряд однородных членов включать родовые понятия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Мы купили стулья, книжный шкаф, стильную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мебель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соединить в качестве однородных членов далекие по смыслу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ать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 музыку и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опускать разные предлоги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на заводах, лабораториях и школах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b200"/>
                </a:solidFill>
                <a:latin typeface="Times New Roman"/>
              </a:rPr>
              <a:t>Надо:</a:t>
            </a:r>
            <a:r>
              <a:rPr b="0" lang="ru-RU" sz="24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а заводах, </a:t>
            </a:r>
            <a:r>
              <a:rPr b="1" i="1" lang="ru-RU" sz="2400" spc="-1" strike="noStrike">
                <a:solidFill>
                  <a:srgbClr val="ffb8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лабораториях и школ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очетаются как однородные члены имя существительное и инфинитив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Люблю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музыку и кататься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на коньк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сочетать неправильные пары сопоставительных союзов: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е только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– а так же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о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);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как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– а также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так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Хорошо сдали экзамен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как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выпускники школы, </a:t>
            </a:r>
            <a:r>
              <a:rPr b="1" i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а также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так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) учащиеся девятых 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войных союзах один из однородных чле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 ставится при первой части союза, а другой- при вто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Книга имеет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е только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познавательную ценность,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но и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воспитательное зна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родные члены должны быть согласованы в падеже с обобщающим словом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В Олимпийских играх в этом виде спорта выступали представители разных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стран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: </a:t>
            </a:r>
            <a:r>
              <a:rPr b="1" i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Россия, Германия, Франция, США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 (представители (кого?, чего?)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России, Германии, Франции, США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могут выступать в качестве однородных причастный или деепричастный оборот и придаточное предложение: 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Подошел англичанин, </a:t>
            </a:r>
            <a:r>
              <a:rPr b="1" i="1" lang="ru-RU" sz="2400" spc="-1" strike="noStrike">
                <a:solidFill>
                  <a:srgbClr val="1141a1"/>
                </a:solidFill>
                <a:latin typeface="Times New Roman"/>
              </a:rPr>
              <a:t>хорошо говорящий по-русски и который приехал сегодня</a:t>
            </a:r>
            <a:r>
              <a:rPr b="1" i="1" lang="ru-RU" sz="2400" spc="-1" strike="noStrike">
                <a:solidFill>
                  <a:srgbClr val="00b2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1a1"/>
                </a:solidFill>
                <a:latin typeface="Comic Sans MS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ди ошибки в построении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н был тоненький, худенький и несколько глупов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вое время дети скучали по родителям, друзьям и одноклассник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скользящей стеклянной зыби плавала не то утка, не то грачон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восстановлении разрушенного хозяйства больших успехов добились рабочие фабрик, заводов и промышленных предприят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21:20:07Z</dcterms:created>
  <dc:creator>1</dc:creator>
  <dc:description/>
  <dc:language>en-US</dc:language>
  <cp:lastModifiedBy>Антонина</cp:lastModifiedBy>
  <dcterms:modified xsi:type="dcterms:W3CDTF">2022-10-13T13:33:45Z</dcterms:modified>
  <cp:revision>6</cp:revision>
  <dc:subject/>
  <dc:title>Слайд 1</dc:title>
</cp:coreProperties>
</file>