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669-4FEB-44BF-8CA3-9B798D5D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BBF-049D-4F3C-9D01-2F7FCE0D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8DF-887E-446A-935D-1318597B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BC1-2C10-4E29-8AE7-641C786D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ABC8-AC7E-44C6-8B90-93BD46E7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12F3-DF29-4A7D-A572-FF04AA44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EF57-C37A-443A-8FA3-C1BA396A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49FD-4429-4BDB-9CC3-F225F470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9D92-877F-4728-8F77-E8B694F8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09E1-EA65-4F3E-82FF-A3D88696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63E3-F3C4-4B06-B3C8-6AF50568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3AF-FEF2-49E9-8D05-7197BAB9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877C-7776-4DA8-BC9B-38F442C2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E5C3-CE78-4AC2-8130-9D71602D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4797-FADF-4BDC-8AE8-E96E722E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D5EA-C955-403E-BD17-369E146F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D637-BA5B-4210-8B4D-F6CEB2B4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1D8-5BBC-4D24-81B9-E652D1A9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E20F-3470-4BF5-9072-CD19A208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8A5-F71A-4488-A68B-68D2A557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74F-6200-4B65-BBAE-0D589D0D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1615-76AE-4927-949E-1E66D0D4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BD8-DDC3-47CB-A596-8048B882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2D0-1D33-41B2-8CAB-BBE0704D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5EC1-98D5-4F63-A96C-F8269FC8DD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52D6-A0BF-4718-BF2C-FA97D9C709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vsesochineniya.ru/odnorodnye-chleny-predlozheniya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141a1"/>
                </a:solidFill>
                <a:latin typeface="Comic Sans MS"/>
              </a:rPr>
              <a:t>Синтаксические нор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148360" y="4581360"/>
            <a:ext cx="2433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одготовила   ученица 10класс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Милонова Али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роверила учитель русского язык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И литературы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41a1"/>
                </a:solidFill>
                <a:latin typeface="Comic Sans MS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йди ошибки в построении предложений с однородными член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 лишился и чаши на пире отцов, и веселья, и чести сво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этом произведении писатель подтверждает свою любовь и единство к родному городу 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ченый малый, но пед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юбви, надежды, тихой славы недолго нежил нас обман</a:t>
            </a:r>
            <a:br>
              <a:rPr sz="1600"/>
            </a:br>
            <a:br>
              <a:rPr sz="1600"/>
            </a:br>
            <a:r>
              <a:rPr b="1" lang="ru-RU" sz="9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900"/>
            </a:b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41a1"/>
                </a:solidFill>
                <a:latin typeface="Comic Sans MS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0256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йди ошибки в построении предложений с однородными членам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зобравшись на курган ПЬЕР увидел свиту Кутузова и красоту зрелищ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т не поднимали целину на войне, а начиняли мин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 наделяет Кутузова редкими душевными качествами: справедливость, благородство, просто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 сидел и слушал, наблюдал и любовал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41a1"/>
                </a:solidFill>
                <a:latin typeface="Comic Sans MS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696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йди ошибки в построении предложений с однородными член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ш язык заслужил не только бережное отношение к себе, но и общенародную защит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 всех рассказах Чехов высмеивал тех, кто был хамелеоном и тщеславе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т йогурт не только вкусный, но и полез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удожники любуются природой и одухотворяют её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41a1"/>
                </a:solidFill>
                <a:latin typeface="Comic Sans MS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йди ошибки в построении предложений с однородными член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оре ловит стрелы молний и в своей пучине гасит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корзине лежали разные фрукты: яблоки груши виноград перси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а птица любит озера, реки, боло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арина любит природу и читать французские романы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141a1"/>
                </a:solidFill>
                <a:latin typeface="Comic Sans MS"/>
              </a:rPr>
              <a:t>Клю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то дала работа над проект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Я углубила знания по тем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упражнялась разбирать ошибки в предложениях с однородными член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обрела навыки по составлению проек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141a1"/>
                </a:solidFill>
                <a:latin typeface="Comic Sans MS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петитор по русскому языку/ И.Ю.Заярная- Ростов н/Д.:Феникс,201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усский язык. Тематические задания уровня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,B,C/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. Т. Егораева, С.Ю. Иванов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Москва: Экзамен, 2009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vsesochineniya.ru/odnorodnye-chleny-predlozheniya.ht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У Корсукская СО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резентация информационного проекта 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о русскому языку на тему: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</a:rPr>
              <a:t>«Ошибки в построении предложений с однородными членами</a:t>
            </a:r>
            <a:r>
              <a:rPr b="0" i="1" lang="ru-RU" sz="37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141a1"/>
                </a:solidFill>
                <a:latin typeface="Times New Roman"/>
              </a:rPr>
              <a:t>Цели проект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ширить знания по теме «Однородные члены предложения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ажняться в составлении тес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ься использовать в работе различные источники  информации по теме проекта: (учебник, словари, Интернет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работать навыки по составлению проек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141a1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8" name="Organization Chart 2"/>
          <p:cNvGrpSpPr/>
          <p:nvPr/>
        </p:nvGrpSpPr>
        <p:grpSpPr>
          <a:xfrm>
            <a:off x="685800" y="1828800"/>
            <a:ext cx="7695720" cy="3656520"/>
            <a:chOff x="685800" y="1828800"/>
            <a:chExt cx="7695720" cy="3656520"/>
          </a:xfrm>
        </p:grpSpPr>
        <p:cxnSp>
          <p:nvCxnSpPr>
            <p:cNvPr id="159" name="_s1028"/>
            <p:cNvCxnSpPr>
              <a:stCxn id="160" idx="0"/>
              <a:endCxn id="161" idx="2"/>
            </p:cNvCxnSpPr>
            <p:nvPr/>
          </p:nvCxnSpPr>
          <p:spPr>
            <a:xfrm flipV="1" rot="16200000">
              <a:off x="5514120" y="2309400"/>
              <a:ext cx="731880" cy="2694240"/>
            </a:xfrm>
            <a:prstGeom prst="bentConnector3">
              <a:avLst>
                <a:gd name="adj1" fmla="val 140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1029"/>
            <p:cNvCxnSpPr>
              <a:stCxn id="163" idx="0"/>
              <a:endCxn id="161" idx="2"/>
            </p:cNvCxnSpPr>
            <p:nvPr/>
          </p:nvCxnSpPr>
          <p:spPr>
            <a:xfrm flipV="1">
              <a:off x="4533480" y="3290760"/>
              <a:ext cx="2880" cy="731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1030"/>
            <p:cNvCxnSpPr>
              <a:stCxn id="165" idx="0"/>
              <a:endCxn id="161" idx="2"/>
            </p:cNvCxnSpPr>
            <p:nvPr/>
          </p:nvCxnSpPr>
          <p:spPr>
            <a:xfrm flipH="1" flipV="1" rot="5400000">
              <a:off x="2820960" y="2309760"/>
              <a:ext cx="731880" cy="2694240"/>
            </a:xfrm>
            <a:prstGeom prst="bentConnector3">
              <a:avLst>
                <a:gd name="adj1" fmla="val 140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_s1031"/>
            <p:cNvSpPr/>
            <p:nvPr/>
          </p:nvSpPr>
          <p:spPr>
            <a:xfrm>
              <a:off x="3379320" y="182880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Однородны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члены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_s1032"/>
            <p:cNvSpPr/>
            <p:nvPr/>
          </p:nvSpPr>
          <p:spPr>
            <a:xfrm>
              <a:off x="68580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тносятся  к одному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и тому же слову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_s1033"/>
            <p:cNvSpPr/>
            <p:nvPr/>
          </p:nvSpPr>
          <p:spPr>
            <a:xfrm>
              <a:off x="337932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твечают на один 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тот вопрос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_s1034"/>
            <p:cNvSpPr/>
            <p:nvPr/>
          </p:nvSpPr>
          <p:spPr>
            <a:xfrm>
              <a:off x="607284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Являются одним и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тем же членом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редложен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днородные члены предлож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употребляются в качестве однородных членов полные и краткие формы имени прилагательного: 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друг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давний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 и весьма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хорош</a:t>
            </a:r>
            <a:r>
              <a:rPr b="0" lang="ru-RU" sz="2400" spc="-1" strike="noStrike">
                <a:solidFill>
                  <a:srgbClr val="00b2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двух или нескольких однородных членах неправильными являются предложения, в которых общее дополнение имеется при словах, требующих разного управления: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любить и увлекаться спортом, помнить и верить в победу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льзя в ряд однородных членов включать родовые понятия: 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Мы купили стулья, книжный шкаф, стильную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мебель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днородные члены предлож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льзя соединить в качестве однородных членов далекие по смыслу понятия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зучать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 музыку и боле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льзя опускать разные предлоги: 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на заводах, лабораториях и школах</a:t>
            </a:r>
            <a:r>
              <a:rPr b="0" lang="ru-RU" sz="2400" spc="-1" strike="noStrike">
                <a:solidFill>
                  <a:srgbClr val="00b2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b200"/>
                </a:solidFill>
                <a:latin typeface="Times New Roman"/>
              </a:rPr>
              <a:t>Надо:</a:t>
            </a:r>
            <a:r>
              <a:rPr b="0" lang="ru-RU" sz="2400" spc="-1" strike="noStrike">
                <a:solidFill>
                  <a:srgbClr val="00b2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на заводах, </a:t>
            </a:r>
            <a:r>
              <a:rPr b="1" i="1" lang="ru-RU" sz="2400" spc="-1" strike="noStrike">
                <a:solidFill>
                  <a:srgbClr val="ffb800"/>
                </a:solidFill>
                <a:latin typeface="Times New Roman"/>
              </a:rPr>
              <a:t>в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лабораториях и школ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сочетаются как однородные члены имя существительное и инфинитив: 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Люблю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музыку и кататься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 на коньк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нородные члены предлож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льзя сочетать неправильные пары сопоставительных союзов: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не только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 – а так же (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но и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 );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как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 – а также (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так и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Хорошо сдали экзамен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как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 выпускники школы, </a:t>
            </a:r>
            <a:r>
              <a:rPr b="1" i="1" lang="ru-RU" sz="2400" spc="-1" strike="noStrike" u="sng">
                <a:solidFill>
                  <a:srgbClr val="00b200"/>
                </a:solidFill>
                <a:uFillTx/>
                <a:latin typeface="Times New Roman"/>
              </a:rPr>
              <a:t>а также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 (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так и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) учащиеся девятых клас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двойных союзах один из однородных член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ия ставится при первой части союза, а другой- при второ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Книга имеет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не только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 познавательную ценность,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но и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 воспитательное знач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нородные члены предлож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родные члены должны быть согласованы в падеже с обобщающим словом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В Олимпийских играх в этом виде спорта выступали представители разных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стран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: </a:t>
            </a:r>
            <a:r>
              <a:rPr b="1" i="1" lang="ru-RU" sz="2400" spc="-1" strike="noStrike" u="sng">
                <a:solidFill>
                  <a:srgbClr val="00b200"/>
                </a:solidFill>
                <a:uFillTx/>
                <a:latin typeface="Times New Roman"/>
              </a:rPr>
              <a:t>Россия, Германия, Франция, США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 (представители (кого?, чего?)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России, Германии, Франции, США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могут выступать в качестве однородных причастный или деепричастный оборот и придаточное предложение: 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Подошел англичанин,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хорошо говорящий по-русски и который приехал сегодня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141a1"/>
                </a:solidFill>
                <a:latin typeface="Comic Sans MS"/>
              </a:rPr>
              <a:t>Тес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йди ошибки в построении предложений с однородными член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н был тоненький, худенький и несколько глупова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ервое время дети скучали по родителям, друзьям и одноклассника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скользящей стеклянной зыби плавала не то утка, не то грачоно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восстановлении разрушенного хозяйства больших успехов добились рабочие фабрик, заводов и промышленных предприят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21:20:07Z</dcterms:created>
  <dc:creator>1</dc:creator>
  <dc:description/>
  <dc:language>en-US</dc:language>
  <cp:lastModifiedBy>Антонина</cp:lastModifiedBy>
  <dcterms:modified xsi:type="dcterms:W3CDTF">2022-10-13T13:33:45Z</dcterms:modified>
  <cp:revision>6</cp:revision>
  <dc:subject/>
  <dc:title>Слайд 1</dc:title>
</cp:coreProperties>
</file>