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CCBC-BE0B-4B6F-B441-1F20F071E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175A-74F2-41A9-ACFD-C75A9AFC6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948F-EF95-4ECB-A634-4F6E9B9E5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159C-2620-4F06-BAFD-CDC54EC1E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44B5E-1F02-466D-A7A5-EFE73C342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41045-4724-46E5-AC9E-3B5192167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42A88-80B9-41A1-BC67-AA1D36C32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F4421-765B-45C0-9A93-354CF24BC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C87B1-DA39-49C5-AD86-1F5DD2E81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8BB10-E4AB-4479-BD16-16CA446FD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4F653-275C-4D96-8D08-F9E922D8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739F-D3C1-40AF-B166-AFAB200C8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1EF30-7F50-4338-8BD7-C29C8427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11DA1-2FAD-447A-848A-5B631F00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A7372-425C-434B-B8FB-53229551A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304AC-A101-4FAE-A1F2-ACBDA2406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1F0E3-721E-469E-AC2F-267F8978F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CE283D-F2F0-4100-A1DD-C1CD0AFDE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639A81-FA6E-4AFA-8465-ADB2F5507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873B28-22DB-4BF4-9397-4DCA437BB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30DF42-3D50-4392-8BD5-2B78F7588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4B3332-1C6D-4878-98EF-B58E6A232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0190-4783-46CC-8EB5-79FAD711D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803D5F-148D-4CC8-8CFD-C124F8E89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3F2570-3EBC-4AAF-9A81-B7AF9F74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9AC9EF-42B8-4988-ADF5-AD3F26E7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7F80EA-F5FE-4E64-BFFF-9D16104C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656310-D5B6-4382-961D-F2B70BD89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4F1467-7FA4-4A6B-9C46-4FF848C08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0ECB08-7879-47E5-A6A7-C12A61353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398BC-7472-4C01-9C06-BC214FCBD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36A94-40C3-4AF8-A008-E65BFA619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C3657-9E47-4413-9327-8127ED49E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ECA7-A3B0-44F8-8F61-BC1D50834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C9CD1-DDE8-4C7E-A349-8ACD2FD15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53217-D1F9-42ED-B6E7-E3A59A679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02D4C-BFE7-4AE4-A911-9668224F8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C2A71-A81C-4C43-8492-B92B41F0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A06EE-3B11-4E15-BD03-1FE019CB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88F2C-DE80-48B3-937A-B0E08F65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CFE22-059E-4C18-BE1B-E95BEE595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6D01D-BCD5-410D-BEDF-6FFD9EF81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BAB09-F404-4ECA-ADD4-A241F9E5A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4BC006-CB04-4917-8850-F9F81B0CA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C558-97BA-4AB3-AC9F-57AE9E156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5815D4-3A62-4622-A87F-DCB1E6261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4DF558-8C22-4C31-A05D-D5E60C22C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A1ED32-42D6-48FF-BCA7-D7AC99B91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EEC124-8ABF-4A0F-AA0B-268DA8439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BFF423-7EE6-424C-B12C-EA77B2B1C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36F070-7D31-4E9C-A981-D0D22E5B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E59B24-C1F3-4C76-9674-57F840A1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CB9811-8E87-488F-B659-61F86856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679C74-F5D2-42CC-91F2-B8A4218F2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56541F-F591-41D7-BE86-522328505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B5D2-9477-4197-B197-6E3B6E0A4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17189D-094F-41DB-9853-F64EE7A55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18F280-1192-438A-A5B9-D59859337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EFAE44-266E-4C6E-850E-CF076AF1A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FE4A19-DF69-427B-AAD2-9E7E31931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BB8361-3744-40E8-B180-F17CDBA5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1E344B-3972-417D-9580-B49646830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BE8B03-233C-42FA-94A2-18395A189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74BB23-7B87-42A2-83AD-16DFAF35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6A61A2-A1B2-4F20-8717-D8705385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6EED61-2AA6-455E-A02E-E4022C36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D16E-2720-49F2-95E9-61EF1239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7534A4-1571-478D-8BC8-DBBC86E41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B744B8-5CAF-4619-92E5-B77D21F87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B72C8A-9B81-4EE2-9D74-D70934A7C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4E4B43-DEFC-438E-B9E3-AA445AB91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7D3BDF-7DD4-4A1D-926F-81BA753F8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79CB99-079B-42A0-87F4-4224E7B19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5DCB03-393E-4998-98EC-D8F251280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0D2663-1FD2-46C3-9FBD-B1E517338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E781AC-4A37-4719-8F44-82A8FA47C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871C15-17F5-4FF8-A9B4-3FDD5903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F0D5-76FA-4C46-B917-4E757951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DD8D03-EABB-454B-A832-619A1333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686EF4-8682-43EF-B652-1ECF2947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C3A7A2-DD53-46A7-A132-938DF5672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4312B3-A74C-4579-8254-37BB91FD1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6035E1-C55A-4F37-8517-889679EFC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8F90-0E2C-4F77-A745-1DDACF4A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72589-7DC2-4AF5-ACE4-89D433B2427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2C915-6FE2-4969-8A76-9227EFE2817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863DD-295A-443C-8FC1-DC038900F7F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B18C7-81CD-4803-8835-A472AC5045B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9C555-45DF-42C4-8D1E-CF7EE55F603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A2BE4-33C7-4F49-9B0A-6DFE3769C9B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0377F-51B1-4170-89AC-23FFBE4306D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39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9900ff"/>
                </a:solidFill>
                <a:latin typeface="Century Schoolbook"/>
              </a:rPr>
              <a:t>БАЛЕТ</a:t>
            </a:r>
            <a:endParaRPr b="0" lang="en-US" sz="1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6840720" cy="68403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539640" y="2708280"/>
            <a:ext cx="7467840" cy="39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ffffff"/>
                </a:solidFill>
                <a:latin typeface="Century Schoolbook"/>
              </a:rPr>
              <a:t>БАЛЕТ</a:t>
            </a:r>
            <a:endParaRPr b="0" lang="en-US" sz="1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0"/>
            <a:ext cx="914400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ff"/>
                </a:solidFill>
                <a:latin typeface="Century Schoolbook"/>
              </a:rPr>
              <a:t>Кое-что о балете…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4745"/>
                            </p:stCondLst>
                            <p:childTnLst>
                              <p:par>
                                <p:cTn id="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745" fill="hold"/>
                                        <p:tgtEl>
                                          <p:spTgt spid="3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9745"/>
                            </p:stCondLst>
                            <p:childTnLst>
                              <p:par>
                                <p:cTn id="20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1" dur="2000" fill="hold"/>
                                        <p:tgtEl>
                                          <p:spTgt spid="3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1745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50920" y="1915920"/>
            <a:ext cx="3828960" cy="38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ff"/>
                </a:solidFill>
                <a:latin typeface="Century Schoolbook"/>
              </a:rPr>
              <a:t>ПЕРВАЯ ПАЧКА    </a:t>
            </a: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 БЫЛА СДЕЛАНА    В 1839 Г.                  ДЛЯ                </a:t>
            </a:r>
            <a:r>
              <a:rPr b="1" lang="en-US" sz="2700" spc="-1" strike="noStrike" u="sng">
                <a:solidFill>
                  <a:srgbClr val="575f6d"/>
                </a:solidFill>
                <a:uFillTx/>
                <a:latin typeface="Century Schoolbook"/>
              </a:rPr>
              <a:t>МАРИИ ТАЛЬОНИ</a:t>
            </a: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             ПО РИСУНКУ ХУДОЖНИКА </a:t>
            </a:r>
            <a:r>
              <a:rPr b="1" lang="en-US" sz="2700" spc="-1" strike="noStrike" u="sng">
                <a:solidFill>
                  <a:srgbClr val="575f6d"/>
                </a:solidFill>
                <a:uFillTx/>
                <a:latin typeface="Century Schoolbook"/>
              </a:rPr>
              <a:t>ЭЖЕН ЛАМИ</a:t>
            </a: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.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4" name="Содержимое 3" descr="180px-AnnaPavlovaAsGiselle.jpg"/>
          <p:cNvPicPr/>
          <p:nvPr/>
        </p:nvPicPr>
        <p:blipFill>
          <a:blip r:embed="rId1"/>
          <a:stretch/>
        </p:blipFill>
        <p:spPr>
          <a:xfrm>
            <a:off x="4214880" y="333360"/>
            <a:ext cx="4500360" cy="6310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ff"/>
                </a:solidFill>
                <a:latin typeface="Century Schoolbook"/>
              </a:rPr>
              <a:t>ПУА́НТЫ</a:t>
            </a:r>
            <a:br>
              <a:rPr sz="2600"/>
            </a:br>
            <a:r>
              <a:rPr b="0" lang="en-US" sz="2600" spc="-1" strike="noStrike">
                <a:solidFill>
                  <a:srgbClr val="575f6d"/>
                </a:solidFill>
                <a:latin typeface="Century Schoolbook"/>
              </a:rPr>
              <a:t>— ОБУВЬ, КОТОРАЯ ИСПОЛЬЗУЕТСЯ ПРИ ИСПОЛНЕНИИ ЖЕНСКОГО КЛАССИЧЕСКОГО ТАНЦА.</a:t>
            </a:r>
            <a:br>
              <a:rPr sz="2600"/>
            </a:br>
            <a:endParaRPr b="0" lang="en-US" sz="2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6" name="Содержимое 8" descr="cac07e3670a4c84471d01b79cf497bc8.jpg"/>
          <p:cNvPicPr/>
          <p:nvPr/>
        </p:nvPicPr>
        <p:blipFill>
          <a:blip r:embed="rId1"/>
          <a:stretch/>
        </p:blipFill>
        <p:spPr>
          <a:xfrm>
            <a:off x="2050920" y="2060640"/>
            <a:ext cx="4738680" cy="45576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8637"/>
                </a:solidFill>
                <a:latin typeface="Century Schoolbook"/>
              </a:rPr>
              <a:t>Слово ПУАНТЫ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0755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Появилось от французского </a:t>
            </a:r>
            <a:r>
              <a:rPr b="1" lang="ru-RU" sz="3600" spc="-1" strike="noStrike" u="sng">
                <a:solidFill>
                  <a:srgbClr val="9900ff"/>
                </a:solidFill>
                <a:uFillTx/>
                <a:latin typeface="Century Schoolbook"/>
              </a:rPr>
              <a:t>pointe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— острие, кончик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ff"/>
                </a:solidFill>
                <a:latin typeface="Century Schoolbook"/>
              </a:rPr>
              <a:t>Танец на пуантах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- танец на кончиках пальцев при вытянутом подъеме ноги; одно из средств выразительности классического танца. Исполняется в специальных туфлях — пуантах с твердым носком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circl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660560" y="-531720"/>
            <a:ext cx="4159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ПУАНТЫ ИМЕЮТ ТВЕРДЫЙ НОСОК, ИЗГОТАВЛИВАЮТСЯ ИЗ КОЖИ И ПРОПИТЫВАЮТСЯ СПЕЦИАЛЬНОЙ ПРОПИТКОЙ ДЛЯ ПРИДАНИЯ ТВЕРДОСТИ, ЗАТЕМ ОБШИВАЮТСЯ РОЗОВЫМ ИЛИ БЕЖЕВЫМ АТЛАСОМ И ЗАКРЕПЛЯЮТСЯ ЛЕНТАМИ НА НОГЕ ТАНЦОВЩИЦЫ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0" name="Содержимое 3" descr="299087c04ade.jpg"/>
          <p:cNvPicPr/>
          <p:nvPr/>
        </p:nvPicPr>
        <p:blipFill>
          <a:blip r:embed="rId1"/>
          <a:stretch/>
        </p:blipFill>
        <p:spPr>
          <a:xfrm>
            <a:off x="285840" y="214200"/>
            <a:ext cx="4214880" cy="61437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Содержимое 3" descr="En_pointe_ballet_dancer_closeup.jpg"/>
          <p:cNvPicPr/>
          <p:nvPr/>
        </p:nvPicPr>
        <p:blipFill>
          <a:blip r:embed="rId1"/>
          <a:srcRect l="0" t="0" r="3779" b="0"/>
          <a:stretch/>
        </p:blipFill>
        <p:spPr>
          <a:xfrm>
            <a:off x="0" y="0"/>
            <a:ext cx="5292720" cy="685800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219280" y="-387360"/>
            <a:ext cx="3745080" cy="62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КОНСТРУКЦИЯ ПУАНТОВ СПОСОБСТВУЕТ ДОСТИЖЕНИЮ УСТОЙЧИВОСТИ ТАНЦОВЩИЦЫ НА ОПОРНОЙ НОГЕ В ПОЗАХ КЛАССИЧЕСКОГО ТАНЦА. ПО МЕРЕ ИНТЕНСИВНОСТИ ТАНЦА ТВЕРДЫЕ НОСКИ ТУФЕЛЬ РАЗМЯГЧАЮТСЯ. 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slow">
    <p:circle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9" dur="5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Содержимое 3" descr="200px-Duet_en_Pointe.jpg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00720" y="-1008000"/>
            <a:ext cx="4572000" cy="724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ЗА ОДИН СПЕКТАКЛЬ БАЛЕРИНА МОЖЕТ СМЕНИТЬ НЕСКОЛЬКО ПАР ПУАНТОВ. БАЛЕРИНА, ДО ТОГО КАК ОНА БУДЕТ ТАНЦЕВАТЬ НА ПАЛЬЦЕВЫХ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ТУФЛЯХ, ДОЛЖНА РАЗОГРЕТЬ НОГИ И САМИ ТУФЛИ. ИНАЧЕ В ХУДШЕМ СЛУЧАЕ ТАНЦОВЩИЦА МОЖЕТ ДАЖЕ СЛОМАТЬ НОГИ.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slow">
    <p:circle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3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3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3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3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Содержимое 3" descr="142065612145b75b22a5e58.jpg"/>
          <p:cNvPicPr/>
          <p:nvPr/>
        </p:nvPicPr>
        <p:blipFill>
          <a:blip r:embed="rId1"/>
          <a:srcRect l="11181" t="0" r="3701" b="0"/>
          <a:stretch/>
        </p:blipFill>
        <p:spPr>
          <a:xfrm>
            <a:off x="4357800" y="0"/>
            <a:ext cx="4390920" cy="685800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13840" y="404640"/>
            <a:ext cx="414180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en-US" sz="4000" spc="-1" strike="noStrike">
                <a:solidFill>
                  <a:srgbClr val="9900ff"/>
                </a:solidFill>
                <a:latin typeface="Century Schoolbook"/>
              </a:rPr>
              <a:t>КОЛГОТКИ</a:t>
            </a: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— ПРЕДМЕТ МУЖСКОЙ И ЖЕНСКОЙ ОДЕЖДЫ. ИЗГОТАВЛИВАЕТСЯ ИЗ РАЗЛИЧНЫХ ЭЛАСТИЧНЫХ МАТЕРИАЛОВ: </a:t>
            </a:r>
            <a:r>
              <a:rPr b="1" lang="en-US" sz="2800" spc="-1" strike="noStrike" u="sng">
                <a:solidFill>
                  <a:srgbClr val="575f6d"/>
                </a:solidFill>
                <a:uFillTx/>
                <a:latin typeface="Century Schoolbook"/>
              </a:rPr>
              <a:t>ШЁЛКА</a:t>
            </a:r>
            <a:r>
              <a:rPr b="1" lang="en-US" sz="2800" spc="-1" strike="noStrike">
                <a:solidFill>
                  <a:srgbClr val="575f6d"/>
                </a:solidFill>
                <a:latin typeface="Century Schoolbook"/>
              </a:rPr>
              <a:t>, </a:t>
            </a:r>
            <a:br>
              <a:rPr sz="2800"/>
            </a:br>
            <a:r>
              <a:rPr b="1" lang="en-US" sz="2800" spc="-1" strike="noStrike" u="sng">
                <a:solidFill>
                  <a:srgbClr val="575f6d"/>
                </a:solidFill>
                <a:uFillTx/>
                <a:latin typeface="Century Schoolbook"/>
              </a:rPr>
              <a:t>НЕЙЛОНА</a:t>
            </a:r>
            <a:r>
              <a:rPr b="1" lang="en-US" sz="2800" spc="-1" strike="noStrike">
                <a:solidFill>
                  <a:srgbClr val="575f6d"/>
                </a:solidFill>
                <a:latin typeface="Century Schoolbook"/>
              </a:rPr>
              <a:t>, </a:t>
            </a:r>
            <a:r>
              <a:rPr b="1" lang="en-US" sz="2800" spc="-1" strike="noStrike" u="sng">
                <a:solidFill>
                  <a:srgbClr val="575f6d"/>
                </a:solidFill>
                <a:uFillTx/>
                <a:latin typeface="Century Schoolbook"/>
              </a:rPr>
              <a:t>СПАНДЕКСА</a:t>
            </a:r>
            <a:r>
              <a:rPr b="1" lang="en-US" sz="2800" spc="-1" strike="noStrike">
                <a:solidFill>
                  <a:srgbClr val="575f6d"/>
                </a:solidFill>
                <a:latin typeface="Century Schoolbook"/>
              </a:rPr>
              <a:t>, </a:t>
            </a:r>
            <a:r>
              <a:rPr b="1" lang="en-US" sz="2800" spc="-1" strike="noStrike" u="sng">
                <a:solidFill>
                  <a:srgbClr val="575f6d"/>
                </a:solidFill>
                <a:uFillTx/>
                <a:latin typeface="Century Schoolbook"/>
              </a:rPr>
              <a:t>ЛАЙКРЫ</a:t>
            </a:r>
            <a:r>
              <a:rPr b="1" lang="en-US" sz="2800" spc="-1" strike="noStrike">
                <a:solidFill>
                  <a:srgbClr val="575f6d"/>
                </a:solidFill>
                <a:latin typeface="Century Schoolbook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slow">
    <p:circl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0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76160" y="-1717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2611c"/>
                </a:solidFill>
                <a:latin typeface="Century Schoolbook"/>
              </a:rPr>
              <a:t>Слово КОЛГОТКИ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0" y="981000"/>
            <a:ext cx="87487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Появилось от чешского </a:t>
            </a:r>
            <a:r>
              <a:rPr b="1" lang="ru-RU" sz="3200" spc="-1" strike="noStrike" u="sng">
                <a:solidFill>
                  <a:srgbClr val="9900ff"/>
                </a:solidFill>
                <a:uFillTx/>
                <a:latin typeface="Century Schoolbook"/>
              </a:rPr>
              <a:t>kalhoty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— штаны, брюки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Колготами стали называть  чулки-рейтузы из шерсти, хлопка или синтетических материалов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Предназначались в основном для женщин и детей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Первые колготки появились в России в нач. 1960-х гг. из Чехословакии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Очень хорошо колготки прижились и в балете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circle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78920" y="333000"/>
            <a:ext cx="799308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Узнали о балете мы немало,</a:t>
            </a:r>
            <a:br>
              <a:rPr sz="3200"/>
            </a:b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Балет для нас как будто бы </a:t>
            </a:r>
            <a:r>
              <a:rPr b="1" lang="ru-RU" sz="3200" spc="-1" strike="noStrike">
                <a:solidFill>
                  <a:srgbClr val="575f6d"/>
                </a:solidFill>
                <a:latin typeface="Century Schoolbook"/>
              </a:rPr>
              <a:t>charmа</a:t>
            </a:r>
            <a:r>
              <a:rPr b="1" lang="en-US" sz="3200" spc="-1" strike="noStrike">
                <a:solidFill>
                  <a:srgbClr val="575f6d"/>
                </a:solidFill>
                <a:latin typeface="Century Schoolbook"/>
              </a:rPr>
              <a:t>n</a:t>
            </a: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,</a:t>
            </a:r>
            <a:br>
              <a:rPr sz="3200"/>
            </a:b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Желаем вам узнать гораздо больше,</a:t>
            </a:r>
            <a:br>
              <a:rPr sz="3200"/>
            </a:b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Как будто вы уже </a:t>
            </a:r>
            <a:r>
              <a:rPr b="1" lang="ru-RU" sz="3200" spc="-1" strike="noStrike">
                <a:solidFill>
                  <a:srgbClr val="d2611c"/>
                </a:solidFill>
                <a:latin typeface="Century Schoolbook"/>
              </a:rPr>
              <a:t>БАЛЕТОМАН</a:t>
            </a: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!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94920" y="3645000"/>
            <a:ext cx="74674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БАЛЕТОМАН (образовалось из двух слов: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балет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и греческого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mania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— безумие, восторженность, страсть) -  любитель балета и постоянный его посетитель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8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80"/>
                            </p:stCondLst>
                            <p:childTnLst>
                              <p:par>
                                <p:cTn id="29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80"/>
                            </p:stCondLst>
                            <p:childTnLst>
                              <p:par>
                                <p:cTn id="2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7" dur="1" fill="hold"/>
                                        <p:tgtEl>
                                          <p:spTgt spid="3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74760" y="692280"/>
            <a:ext cx="822960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ЭТО СЦЕНИЧЕСКОЕ  </a:t>
            </a:r>
            <a:br>
              <a:rPr sz="3000"/>
            </a:b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ПРЕДСТАВЛЕНИЕ, В КОТОРОМ ВСЕ </a:t>
            </a:r>
            <a:br>
              <a:rPr sz="3000"/>
            </a:b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СОБЫТИЯ, ХАРАКТЕРЫ, МЫСЛИ И</a:t>
            </a:r>
            <a:br>
              <a:rPr sz="3000"/>
            </a:b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 ПОСТУПКИ ПЕРСОНАЖЕЙ </a:t>
            </a:r>
            <a:br>
              <a:rPr sz="3000"/>
            </a:b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ПЕРЕДАЮТСЯ С ПОМОЩЬЮ </a:t>
            </a:r>
            <a:br>
              <a:rPr sz="3000"/>
            </a:b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ПЛАСТИЧЕСКОГО ДВИЖЕНИЯ — </a:t>
            </a:r>
            <a:br>
              <a:rPr sz="3000"/>
            </a:b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en-US" sz="3000" spc="-1" strike="noStrike">
                <a:solidFill>
                  <a:srgbClr val="d2611c"/>
                </a:solidFill>
                <a:latin typeface="Century Schoolbook"/>
              </a:rPr>
              <a:t>ТАНЦА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7" name="Содержимое 4" descr="sm_fileyXfZrd.jpg"/>
          <p:cNvPicPr/>
          <p:nvPr/>
        </p:nvPicPr>
        <p:blipFill>
          <a:blip r:embed="rId1"/>
          <a:stretch/>
        </p:blipFill>
        <p:spPr>
          <a:xfrm>
            <a:off x="714240" y="3500280"/>
            <a:ext cx="7000920" cy="314352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" fill="hold"/>
                                        <p:tgtEl>
                                          <p:spTgt spid="3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78920" y="3068640"/>
            <a:ext cx="3745080" cy="35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БАЛЕТ ЗАРОДИЛСЯ В ИТАЛИИ                  </a:t>
            </a:r>
            <a:r>
              <a:rPr b="1" lang="en-US" sz="2700" spc="-1" strike="noStrike" u="sng">
                <a:solidFill>
                  <a:srgbClr val="9900ff"/>
                </a:solidFill>
                <a:uFillTx/>
                <a:latin typeface="Century Schoolbook"/>
              </a:rPr>
              <a:t>В 16 ВЕКЕ </a:t>
            </a: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 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КАК ОБЪЕДИНЁННАЯ ЕДИНЫМ ДЕЙСТВИЕМ ИЛИ НАСТРОЕНИЕМ ТАНЦЕВАЛЬНАЯ СЦЕНКА, ЭПИЗОД В МУЗЫКАЛЬНОМ ПРЕДСТАВЛЕНИИ, ОПЕРЕ. 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4316400" y="189000"/>
            <a:ext cx="4408560" cy="6480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24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Содержимое 3" descr="sm_fileyXfZrd.jpg"/>
          <p:cNvPicPr/>
          <p:nvPr/>
        </p:nvPicPr>
        <p:blipFill>
          <a:blip r:embed="rId1"/>
          <a:stretch/>
        </p:blipFill>
        <p:spPr>
          <a:xfrm>
            <a:off x="900000" y="1989000"/>
            <a:ext cx="7272360" cy="46260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МУЗЫКАЛЬНУЮ ОСНОВУ ПЕРВЫХ БАЛЕТОВ СОСТАВЛЯЛИ </a:t>
            </a:r>
            <a:r>
              <a:rPr b="1" lang="en-US" sz="3000" spc="-1" strike="noStrike">
                <a:solidFill>
                  <a:srgbClr val="9900ff"/>
                </a:solidFill>
                <a:latin typeface="Century Schoolbook"/>
              </a:rPr>
              <a:t>НАРОДНЫЕ И ПРИДВОРНЫЕ ТАНЦЫ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, ВХОДИВШИЕ В СТАРИННУЮ СЮИТУ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slow">
    <p:circl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Содержимое 3" descr="article_image-image-article.jpg"/>
          <p:cNvPicPr/>
          <p:nvPr/>
        </p:nvPicPr>
        <p:blipFill>
          <a:blip r:embed="rId1"/>
          <a:stretch/>
        </p:blipFill>
        <p:spPr>
          <a:xfrm>
            <a:off x="-541440" y="0"/>
            <a:ext cx="10226880" cy="68580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415800"/>
            <a:ext cx="8229600" cy="20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ВО ВТОРОЙ ПОЛОВИНЕ 17 ВЕКА ПОЯВЛЯЮТСЯ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Century Schoolbook"/>
              </a:rPr>
              <a:t>НОВЫЕ ТЕАТРАЛЬНЫЕ ЖАНРЫ</a:t>
            </a: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, ТАКИЕ КАК </a:t>
            </a:r>
            <a:r>
              <a:rPr b="1" lang="en-US" sz="3000" spc="-1" strike="noStrike">
                <a:solidFill>
                  <a:srgbClr val="ff00ff"/>
                </a:solidFill>
                <a:latin typeface="Century Schoolbook"/>
              </a:rPr>
              <a:t>КОМЕДИЯ-БАЛЕТ</a:t>
            </a: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, </a:t>
            </a:r>
            <a:r>
              <a:rPr b="1" lang="en-US" sz="3000" spc="-1" strike="noStrike">
                <a:solidFill>
                  <a:srgbClr val="ff00ff"/>
                </a:solidFill>
                <a:latin typeface="Century Schoolbook"/>
              </a:rPr>
              <a:t>ОПЕРА-БАЛЕТ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slow">
    <p:circl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211280" y="691920"/>
            <a:ext cx="444492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В РОССИИ ПЕРВЫЙ БАЛЕТНЫЙ СПЕКТАКЛЬ СОСТОЯЛСЯ               </a:t>
            </a:r>
            <a:r>
              <a:rPr b="1" lang="en-US" sz="3000" spc="-1" strike="noStrike" u="sng">
                <a:solidFill>
                  <a:srgbClr val="9900ff"/>
                </a:solidFill>
                <a:uFillTx/>
                <a:latin typeface="Century Schoolbook"/>
              </a:rPr>
              <a:t>8 ФЕВРАЛЯ 1673 Г.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ПРИ ДВОРЕ ЦАРЯ АЛЕКСЕЯ МИХАЙЛОВИЧА В ПОДМОСКОВНОМ СЕЛЕ ПРЕОБРАЖЕНСКОЕ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6" name="Содержимое 3" descr="3360-2.jpg"/>
          <p:cNvPicPr/>
          <p:nvPr/>
        </p:nvPicPr>
        <p:blipFill>
          <a:blip r:embed="rId1"/>
          <a:stretch/>
        </p:blipFill>
        <p:spPr>
          <a:xfrm>
            <a:off x="214200" y="333360"/>
            <a:ext cx="3857760" cy="5975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2611c"/>
                </a:solidFill>
                <a:latin typeface="Century Schoolbook"/>
              </a:rPr>
              <a:t>БАЛЕРИНА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От итальянского </a:t>
            </a:r>
            <a:r>
              <a:rPr b="1" lang="ru-RU" sz="3600" spc="-1" strike="noStrike">
                <a:solidFill>
                  <a:srgbClr val="9900ff"/>
                </a:solidFill>
                <a:latin typeface="Century Schoolbook"/>
              </a:rPr>
              <a:t>ballerina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От позднелатинского </a:t>
            </a:r>
            <a:r>
              <a:rPr b="1" lang="ru-RU" sz="3600" spc="-1" strike="noStrike">
                <a:solidFill>
                  <a:srgbClr val="9900ff"/>
                </a:solidFill>
                <a:latin typeface="Century Schoolbook"/>
              </a:rPr>
              <a:t>ballo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— танцую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2611c"/>
                </a:solidFill>
                <a:latin typeface="Century Schoolbook"/>
              </a:rPr>
              <a:t>Балерина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- танцовщица в балетной труппе. Термин появился во второй половине 19 века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circl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74674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ff"/>
                </a:solidFill>
                <a:latin typeface="Century Schoolbook"/>
              </a:rPr>
              <a:t>ЧТО ОДЕВАЮТ БАЛЕРИНЫ?</a:t>
            </a:r>
            <a:endParaRPr b="0" lang="en-US" sz="8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slow">
    <p:circl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-360" y="576000"/>
            <a:ext cx="39956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ff"/>
                </a:solidFill>
                <a:latin typeface="Century Schoolbook"/>
              </a:rPr>
              <a:t>ПАЧКА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—</a:t>
            </a:r>
            <a:br>
              <a:rPr sz="3000"/>
            </a:b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br>
              <a:rPr sz="3000"/>
            </a:b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КОРОТКАЯ, ПЫШНАЯ, МНОГОСЛОЙНАЯ, ЖЁСТКАЯ </a:t>
            </a:r>
            <a:br>
              <a:rPr sz="3000"/>
            </a:br>
            <a:r>
              <a:rPr b="1" lang="en-US" sz="3000" spc="-1" strike="noStrike" u="sng">
                <a:solidFill>
                  <a:srgbClr val="575f6d"/>
                </a:solidFill>
                <a:uFillTx/>
                <a:latin typeface="Century Schoolbook"/>
              </a:rPr>
              <a:t>ЮБКА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, ИСПОЛЬЗУЕМАЯ В БАЛЕТЕ ДЛЯ ТАНЦОВЩИЦ.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1" name="" descr="Файл:Snowdance.jpg"/>
          <p:cNvPicPr/>
          <p:nvPr/>
        </p:nvPicPr>
        <p:blipFill>
          <a:blip r:embed="rId1"/>
          <a:srcRect l="26518" t="33018" r="5301" b="0"/>
          <a:stretch/>
        </p:blipFill>
        <p:spPr>
          <a:xfrm>
            <a:off x="3740040" y="0"/>
            <a:ext cx="5153040" cy="685800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2" dur="1" fill="hold"/>
                                        <p:tgtEl>
                                          <p:spTgt spid="3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6T15:28:14Z</dcterms:created>
  <dc:creator>Andrey</dc:creator>
  <dc:description/>
  <dc:language>en-US</dc:language>
  <cp:lastModifiedBy>1</cp:lastModifiedBy>
  <dcterms:modified xsi:type="dcterms:W3CDTF">2009-05-05T01:51:30Z</dcterms:modified>
  <cp:revision>22</cp:revision>
  <dc:subject/>
  <dc:title>Балет — это сценическое представление, в котором все события, характеры, мысли и поступки персонажей передаются с помощью пластического движения — танца.</dc:title>
</cp:coreProperties>
</file>