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A84-45BC-4CA1-B024-AEE303D8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BEC-2203-4509-98AF-906E97FC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641-A064-4A40-AF75-D11A570D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A5A-DBA1-4C09-A14D-A8FEFEDF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8D2C-333F-46F2-8EC4-BE4F05D2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B9CE-183B-4B74-95F0-B82F87AD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4CD7-47D1-4970-BE00-FAA467D6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B9FE-4ABC-4849-8D55-B6EA0342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5753-03D3-45D9-B46D-6A287E5D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C08E-9F96-453C-B213-1D4AB6D6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9304-88E7-4022-BFE0-D2974387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784-8789-4B8F-8460-57CBB6BC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F16C-823A-4BF7-98D4-B547D991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1730-F31E-47C5-BAC8-A013706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CAEC-780C-4A58-BF56-A833CCA6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DA56-1788-42FB-B6FB-AED57C87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AA66-D59C-4A1B-88EB-AB5B5092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A730E-5D9A-4EE0-9311-8C035C5C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5F33E-500A-4ED5-B320-60DE6A9C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BC18A-22F9-470E-8A04-1AB2E5C3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E5D77-06A4-40E4-BD9C-220A3167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5A2D8-9629-4004-804E-C52D311A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2FB-C9FF-4868-B471-F66B0038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71656-CCEE-460A-81BF-5A6BE913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ECF48-8709-4FE1-A090-163EF4D6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CF6F3-3C50-444D-9AAD-0DD87915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5CC4F-49B8-4535-A785-63D52B58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ACDC2-C004-4EBE-BE1D-2A6AED18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0DE70-74DE-4116-BC31-5779D350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B5286-A4A7-4B27-B7A0-E8027713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C6A5B-C4DC-48A9-A8A2-436D3372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488A3-D627-4509-8BCE-09CFB7DE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59DF5-969F-4D67-8AA2-9E1A1112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ED5-CFC1-4867-B113-B0904906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94B96-A235-436D-9557-15981D6F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2C5D1-CF3F-4CDC-802B-080E006B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E8016-F8BA-43BA-B390-08691A9E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533C7-DF60-4362-B2A3-51A089E9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E7B2D-D7F6-4593-82BE-66651270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A03B-F804-4854-863D-45049759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D159-DB72-497B-95BF-443D6410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F9E35-48C0-4670-BFB2-CC44898A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3C8A-6218-4212-A43E-11803EF9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2A6A9-A54D-4E59-BC25-33844687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44C-95BD-4611-9E09-84F85814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831D4-50CA-4B4B-913B-4E66B1D2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BE99B4-8786-4DEE-AD5A-52EB94CD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254D0-989C-43E1-AF6A-D8860687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B8083-C88B-4EBD-A970-A83C8DF9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4627F-4495-4FCE-A47F-7C5D6CA6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5B2EC-9461-4110-A920-F88DF2D0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F6A5F-A266-4EE5-88C6-5729D3D3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5A2E7-4FEB-4C05-A12D-9FA2405F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06047-0059-4DA6-A9F4-5FC905A7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06D70E-4D0E-4AE3-BB03-30AB833C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990-109A-4611-BAEF-810CFBBF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A3D076-4F65-41D7-8CC0-FEAA0C4A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891AA-6A35-4CFA-B1D4-01D9F797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4D139-669A-4BAF-ABF6-E364265A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962A4-5492-421D-BAB3-07D4E973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BF6B4-AF97-41A3-80E7-5333B786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0CC3B-8C75-48A6-A216-BE48574E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BBACA-704F-474B-8237-46A3BD5C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AD8E1-388C-4B88-9230-39A5DB02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5A5CBC-C3E6-450B-BFBD-FE329167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1AB72-817E-4D83-98BE-6567CBEB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177-2F02-404C-8F6E-0E3BA5BF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5E183-1FD7-4600-AAC4-518C09CD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4CF7B-B125-48FD-92EE-4C19481D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18176-54DC-4280-94DE-CA210025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023479-C70F-4614-973C-EF63003E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50F5E-462E-450C-887F-39F4E269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0E9281-3DBF-485A-9E4A-6FB60CB0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458E9-2017-4D34-9B39-4E1B08BC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86FD9-9E1A-4F89-A1A0-94B8DB60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2A4F0-6112-4149-B47E-D380E9D2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7AE2D-E788-4C66-94D3-159E9BF0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E1C-7E96-46DB-9CFA-5D925993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80B95-4C3A-469D-8D29-6C3624B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14D70-6367-4219-8D95-9C815964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590FA-9D0A-4AA5-A5AE-37A46BDF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70F1CF-6181-4DE9-91B1-0CEC5EFE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D3C3C-C7B7-4055-A6BB-8EC4B107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077-2BB6-47F7-A04A-B010D701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7912-0239-4E24-9FA8-60C8E49DF0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FEE6-7465-49F8-949F-ACDBE52EAC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4B07-7180-4351-89B2-B38F9A43D0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8787-7617-494F-B7A1-427444BABB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47B1-6E96-42DF-A502-D36BECBD0F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BDFA-8DBB-42CE-A9BB-B3DAEE5E36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ACD6-737E-43B4-90F0-C801F779E5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9900ff"/>
                </a:solidFill>
                <a:latin typeface="Century Schoolbook"/>
              </a:rPr>
              <a:t>БАЛЕТ</a:t>
            </a:r>
            <a:endParaRPr b="0" lang="en-US" sz="1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39640" y="2708280"/>
            <a:ext cx="746784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Century Schoolbook"/>
              </a:rPr>
              <a:t>БАЛЕТ</a:t>
            </a:r>
            <a:endParaRPr b="0" lang="en-US" sz="1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Century Schoolbook"/>
              </a:rPr>
              <a:t>Кое-что о балете…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4745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745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3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1745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382896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entury Schoolbook"/>
              </a:rPr>
              <a:t>ПЕРВАЯ ПАЧКА   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БЫЛА СДЕЛАНА    В 1839 Г.                  ДЛЯ                </a:t>
            </a:r>
            <a:r>
              <a:rPr b="1" lang="en-US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МАРИИ ТАЛЬОНИ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ПО РИСУНКУ ХУДОЖНИКА </a:t>
            </a:r>
            <a:r>
              <a:rPr b="1" lang="en-US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ЭЖЕН ЛАМИ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Содержимое 3" descr="180px-AnnaPavlovaAsGiselle.jpg"/>
          <p:cNvPicPr/>
          <p:nvPr/>
        </p:nvPicPr>
        <p:blipFill>
          <a:blip r:embed="rId1"/>
          <a:stretch/>
        </p:blipFill>
        <p:spPr>
          <a:xfrm>
            <a:off x="4214880" y="333360"/>
            <a:ext cx="4500360" cy="6310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entury Schoolbook"/>
              </a:rPr>
              <a:t>ПУА́НТЫ</a:t>
            </a:r>
            <a:br>
              <a:rPr sz="2600"/>
            </a:br>
            <a:r>
              <a:rPr b="0" lang="en-US" sz="2600" spc="-1" strike="noStrike">
                <a:solidFill>
                  <a:srgbClr val="575f6d"/>
                </a:solidFill>
                <a:latin typeface="Century Schoolbook"/>
              </a:rPr>
              <a:t>— ОБУВЬ, КОТОРАЯ ИСПОЛЬЗУЕТСЯ ПРИ ИСПОЛНЕНИИ ЖЕНСКОГО КЛАССИЧЕСКОГО ТАНЦА.</a:t>
            </a:r>
            <a:br>
              <a:rPr sz="2600"/>
            </a:b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Содержимое 8" descr="cac07e3670a4c84471d01b79cf497bc8.jpg"/>
          <p:cNvPicPr/>
          <p:nvPr/>
        </p:nvPicPr>
        <p:blipFill>
          <a:blip r:embed="rId1"/>
          <a:stretch/>
        </p:blipFill>
        <p:spPr>
          <a:xfrm>
            <a:off x="2050920" y="2060640"/>
            <a:ext cx="4738680" cy="4557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8637"/>
                </a:solidFill>
                <a:latin typeface="Century Schoolbook"/>
              </a:rPr>
              <a:t>Слово ПУАНТЫ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явилось от французского </a:t>
            </a:r>
            <a:r>
              <a:rPr b="1" lang="ru-RU" sz="3600" spc="-1" strike="noStrike" u="sng">
                <a:solidFill>
                  <a:srgbClr val="9900ff"/>
                </a:solidFill>
                <a:uFillTx/>
                <a:latin typeface="Century Schoolbook"/>
              </a:rPr>
              <a:t>pointe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— острие, кончик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Century Schoolbook"/>
              </a:rPr>
              <a:t>Танец на пуантах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- танец на кончиках пальцев при вытянутом подъеме ноги; одно из средств выразительности классического танца. Исполняется в специальных туфлях — пуантах с твердым носком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60560" y="-531720"/>
            <a:ext cx="415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ПУАНТЫ ИМЕЮТ ТВЕРДЫЙ НОСОК, ИЗГОТАВЛИВАЮТСЯ ИЗ КОЖИ И ПРОПИТЫВАЮТСЯ СПЕЦИАЛЬНОЙ ПРОПИТКОЙ ДЛЯ ПРИДАНИЯ ТВЕРДОСТИ, ЗАТЕМ ОБШИВАЮТСЯ РОЗОВЫМ ИЛИ БЕЖЕВЫМ АТЛАСОМ И ЗАКРЕПЛЯЮТСЯ ЛЕНТАМИ НА НОГЕ ТАНЦОВЩИЦЫ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Содержимое 3" descr="299087c04ade.jpg"/>
          <p:cNvPicPr/>
          <p:nvPr/>
        </p:nvPicPr>
        <p:blipFill>
          <a:blip r:embed="rId1"/>
          <a:stretch/>
        </p:blipFill>
        <p:spPr>
          <a:xfrm>
            <a:off x="285840" y="214200"/>
            <a:ext cx="4214880" cy="6143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Содержимое 3" descr="En_pointe_ballet_dancer_closeup.jpg"/>
          <p:cNvPicPr/>
          <p:nvPr/>
        </p:nvPicPr>
        <p:blipFill>
          <a:blip r:embed="rId1"/>
          <a:srcRect l="0" t="0" r="3779" b="0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19280" y="-387360"/>
            <a:ext cx="3745080" cy="62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КОНСТРУКЦИЯ ПУАНТОВ СПОСОБСТВУЕТ ДОСТИЖЕНИЮ УСТОЙЧИВОСТИ ТАНЦОВЩИЦЫ НА ОПОРНОЙ НОГЕ В ПОЗАХ КЛАССИЧЕСКОГО ТАНЦА. ПО МЕРЕ ИНТЕНСИВНОСТИ ТАНЦА ТВЕРДЫЕ НОСКИ ТУФЕЛЬ РАЗМЯГЧАЮ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Содержимое 3" descr="200px-Duet_en_Pointe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00720" y="-1008000"/>
            <a:ext cx="45720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ЗА ОДИН СПЕКТАКЛЬ БАЛЕРИНА МОЖЕТ СМЕНИТЬ НЕСКОЛЬКО ПАР ПУАНТОВ. БАЛЕРИНА, ДО ТОГО КАК ОНА БУДЕТ ТАНЦЕВАТЬ НА ПАЛЬЦЕВЫХ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ТУФЛЯХ, ДОЛЖНА РАЗОГРЕТЬ НОГИ И САМИ ТУФЛИ. ИНАЧЕ В ХУДШЕМ СЛУЧАЕ ТАНЦОВЩИЦА МОЖЕТ ДАЖЕ СЛОМАТЬ НОГИ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Содержимое 3" descr="142065612145b75b22a5e58.jpg"/>
          <p:cNvPicPr/>
          <p:nvPr/>
        </p:nvPicPr>
        <p:blipFill>
          <a:blip r:embed="rId1"/>
          <a:srcRect l="11181" t="0" r="3701" b="0"/>
          <a:stretch/>
        </p:blipFill>
        <p:spPr>
          <a:xfrm>
            <a:off x="4357800" y="0"/>
            <a:ext cx="439092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3840" y="404640"/>
            <a:ext cx="41418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4000" spc="-1" strike="noStrike">
                <a:solidFill>
                  <a:srgbClr val="9900ff"/>
                </a:solidFill>
                <a:latin typeface="Century Schoolbook"/>
              </a:rPr>
              <a:t>КОЛГОТКИ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— ПРЕДМЕТ МУЖСКОЙ И ЖЕНСКОЙ ОДЕЖДЫ. ИЗГОТАВЛИВАЕТСЯ ИЗ РАЗЛИЧНЫХ ЭЛАСТИЧНЫХ МАТЕРИАЛОВ: </a:t>
            </a:r>
            <a:r>
              <a:rPr b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ШЁЛКА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, </a:t>
            </a:r>
            <a:br>
              <a:rPr sz="2800"/>
            </a:br>
            <a:r>
              <a:rPr b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НЕЙЛОНА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СПАНДЕКСА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ЛАЙКРЫ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76160" y="-1717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2611c"/>
                </a:solidFill>
                <a:latin typeface="Century Schoolbook"/>
              </a:rPr>
              <a:t>Слово КОЛГОТК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981000"/>
            <a:ext cx="8748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явилось от чешского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entury Schoolbook"/>
              </a:rPr>
              <a:t>kalhoty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— штаны, брюк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олготами стали называть  чулки-рейтузы из шерсти, хлопка или синтетических материал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едназначались в основном для женщин и детей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ервые колготки появились в России в нач. 1960-х гг. из Чехословаки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чень хорошо колготки прижились и в балет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9930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Узнали о балете мы немало,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Балет для нас как будто бы 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charmа</a:t>
            </a: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n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Желаем вам узнать гораздо больше,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Как будто вы уже </a:t>
            </a:r>
            <a:r>
              <a:rPr b="1" lang="ru-RU" sz="3200" spc="-1" strike="noStrike">
                <a:solidFill>
                  <a:srgbClr val="d2611c"/>
                </a:solidFill>
                <a:latin typeface="Century Schoolbook"/>
              </a:rPr>
              <a:t>БАЛЕТОМАН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!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94920" y="3645000"/>
            <a:ext cx="7467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БАЛЕТОМАН (образовалось из двух слов: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балет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и греческого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mania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— безумие, восторженность, страсть) -  любитель балета и постоянный его посетитель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80"/>
                            </p:stCondLst>
                            <p:childTnLst>
                              <p:par>
                                <p:cTn id="2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8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74760" y="69228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ЭТО СЦЕНИЧЕСКОЕ 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РЕДСТАВЛЕНИЕ, В КОТОРОМ ВСЕ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СОБЫТИЯ, ХАРАКТЕРЫ, МЫСЛИ И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ПОСТУПКИ ПЕРСОНАЖЕЙ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ЕРЕДАЮТСЯ С ПОМОЩЬЮ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ПЛАСТИЧЕСКОГО ДВИЖЕНИЯ —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d2611c"/>
                </a:solidFill>
                <a:latin typeface="Century Schoolbook"/>
              </a:rPr>
              <a:t>ТАНЦ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Содержимое 4" descr="sm_fileyXfZrd.jpg"/>
          <p:cNvPicPr/>
          <p:nvPr/>
        </p:nvPicPr>
        <p:blipFill>
          <a:blip r:embed="rId1"/>
          <a:stretch/>
        </p:blipFill>
        <p:spPr>
          <a:xfrm>
            <a:off x="714240" y="3500280"/>
            <a:ext cx="7000920" cy="3143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8920" y="3068640"/>
            <a:ext cx="37450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БАЛЕТ ЗАРОДИЛСЯ В ИТАЛИИ                  </a:t>
            </a:r>
            <a:r>
              <a:rPr b="1" lang="en-US" sz="2700" spc="-1" strike="noStrike" u="sng">
                <a:solidFill>
                  <a:srgbClr val="9900ff"/>
                </a:solidFill>
                <a:uFillTx/>
                <a:latin typeface="Century Schoolbook"/>
              </a:rPr>
              <a:t>В 16 ВЕКЕ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КАК ОБЪЕДИНЁННАЯ ЕДИНЫМ ДЕЙСТВИЕМ ИЛИ НАСТРОЕНИЕМ ТАНЦЕВАЛЬНАЯ СЦЕНКА, ЭПИЗОД В МУЗЫКАЛЬНОМ ПРЕДСТАВЛЕНИИ, ОПЕР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316400" y="189000"/>
            <a:ext cx="44085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24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Содержимое 3" descr="sm_fileyXfZrd.jpg"/>
          <p:cNvPicPr/>
          <p:nvPr/>
        </p:nvPicPr>
        <p:blipFill>
          <a:blip r:embed="rId1"/>
          <a:stretch/>
        </p:blipFill>
        <p:spPr>
          <a:xfrm>
            <a:off x="900000" y="1989000"/>
            <a:ext cx="7272360" cy="4626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МУЗЫКАЛЬНУЮ ОСНОВУ ПЕРВЫХ БАЛЕТОВ СОСТАВЛЯЛИ </a:t>
            </a:r>
            <a:r>
              <a:rPr b="1" lang="en-US" sz="3000" spc="-1" strike="noStrike">
                <a:solidFill>
                  <a:srgbClr val="9900ff"/>
                </a:solidFill>
                <a:latin typeface="Century Schoolbook"/>
              </a:rPr>
              <a:t>НАРОДНЫЕ И ПРИДВОРНЫЕ ТАНЦЫ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, ВХОДИВШИЕ В СТАРИННУЮ СЮИТУ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Содержимое 3" descr="article_image-image-article.jpg"/>
          <p:cNvPicPr/>
          <p:nvPr/>
        </p:nvPicPr>
        <p:blipFill>
          <a:blip r:embed="rId1"/>
          <a:stretch/>
        </p:blipFill>
        <p:spPr>
          <a:xfrm>
            <a:off x="-541440" y="0"/>
            <a:ext cx="1022688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ВО ВТОРОЙ ПОЛОВИНЕ 17 ВЕКА ПОЯВЛЯЮТСЯ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entury Schoolbook"/>
              </a:rPr>
              <a:t>НОВЫЕ ТЕАТРАЛЬНЫЕ ЖАНРЫ</a:t>
            </a: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, ТАКИЕ КАК </a:t>
            </a:r>
            <a:r>
              <a:rPr b="1" lang="en-US" sz="3000" spc="-1" strike="noStrike">
                <a:solidFill>
                  <a:srgbClr val="ff00ff"/>
                </a:solidFill>
                <a:latin typeface="Century Schoolbook"/>
              </a:rPr>
              <a:t>КОМЕДИЯ-БАЛЕТ</a:t>
            </a: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, </a:t>
            </a:r>
            <a:r>
              <a:rPr b="1" lang="en-US" sz="3000" spc="-1" strike="noStrike">
                <a:solidFill>
                  <a:srgbClr val="ff00ff"/>
                </a:solidFill>
                <a:latin typeface="Century Schoolbook"/>
              </a:rPr>
              <a:t>ОПЕРА-БАЛЕ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11280" y="691920"/>
            <a:ext cx="44449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В РОССИИ ПЕРВЫЙ БАЛЕТНЫЙ СПЕКТАКЛЬ СОСТОЯЛСЯ               </a:t>
            </a:r>
            <a:r>
              <a:rPr b="1" lang="en-US" sz="3000" spc="-1" strike="noStrike" u="sng">
                <a:solidFill>
                  <a:srgbClr val="9900ff"/>
                </a:solidFill>
                <a:uFillTx/>
                <a:latin typeface="Century Schoolbook"/>
              </a:rPr>
              <a:t>8 ФЕВРАЛЯ 1673 Г.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ПРИ ДВОРЕ ЦАРЯ АЛЕКСЕЯ МИХАЙЛОВИЧА В ПОДМОСКОВНОМ СЕЛЕ ПРЕОБРАЖЕНСКО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Содержимое 3" descr="3360-2.jpg"/>
          <p:cNvPicPr/>
          <p:nvPr/>
        </p:nvPicPr>
        <p:blipFill>
          <a:blip r:embed="rId1"/>
          <a:stretch/>
        </p:blipFill>
        <p:spPr>
          <a:xfrm>
            <a:off x="214200" y="333360"/>
            <a:ext cx="385776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2611c"/>
                </a:solidFill>
                <a:latin typeface="Century Schoolbook"/>
              </a:rPr>
              <a:t>БАЛЕРИНА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т итальянского </a:t>
            </a:r>
            <a:r>
              <a:rPr b="1" lang="ru-RU" sz="3600" spc="-1" strike="noStrike">
                <a:solidFill>
                  <a:srgbClr val="9900ff"/>
                </a:solidFill>
                <a:latin typeface="Century Schoolbook"/>
              </a:rPr>
              <a:t>ballerina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т позднелатинского </a:t>
            </a:r>
            <a:r>
              <a:rPr b="1" lang="ru-RU" sz="3600" spc="-1" strike="noStrike">
                <a:solidFill>
                  <a:srgbClr val="9900ff"/>
                </a:solidFill>
                <a:latin typeface="Century Schoolbook"/>
              </a:rPr>
              <a:t>ballo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— танцую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611c"/>
                </a:solidFill>
                <a:latin typeface="Century Schoolbook"/>
              </a:rPr>
              <a:t>Балерин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- танцовщица в балетной труппе. Термин появился во второй половине 19 век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467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Century Schoolbook"/>
              </a:rPr>
              <a:t>ЧТО ОДЕВАЮТ БАЛЕРИНЫ?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576000"/>
            <a:ext cx="39956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entury Schoolbook"/>
              </a:rPr>
              <a:t>ПАЧК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—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КОРОТКАЯ, ПЫШНАЯ, МНОГОСЛОЙНАЯ, ЖЁСТКАЯ </a:t>
            </a:r>
            <a:br>
              <a:rPr sz="3000"/>
            </a:br>
            <a:r>
              <a:rPr b="1" lang="en-US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ЮБК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, ИСПОЛЬЗУЕМАЯ В БАЛЕТЕ ДЛЯ ТАНЦОВЩИЦ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" descr="Файл:Snowdance.jpg"/>
          <p:cNvPicPr/>
          <p:nvPr/>
        </p:nvPicPr>
        <p:blipFill>
          <a:blip r:embed="rId1"/>
          <a:srcRect l="26518" t="33018" r="5301" b="0"/>
          <a:stretch/>
        </p:blipFill>
        <p:spPr>
          <a:xfrm>
            <a:off x="3740040" y="0"/>
            <a:ext cx="515304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5:28:14Z</dcterms:created>
  <dc:creator>Andrey</dc:creator>
  <dc:description/>
  <dc:language>en-US</dc:language>
  <cp:lastModifiedBy>1</cp:lastModifiedBy>
  <dcterms:modified xsi:type="dcterms:W3CDTF">2009-05-05T01:51:30Z</dcterms:modified>
  <cp:revision>22</cp:revision>
  <dc:subject/>
  <dc:title>Балет — это сценическое представление, в котором все события, характеры, мысли и поступки персонажей передаются с помощью пластического движения — танца.</dc:title>
</cp:coreProperties>
</file>