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F78-5D45-4F95-B686-1201732E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D47-A854-4706-BD6B-D1EEAD4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7A8-2F70-4005-A204-A3AC0B5C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BCF-2BF1-47CE-B67B-B45D930D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0F0-8CE5-48F1-90FB-78B65D2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233-F4F4-49F4-8B07-34D02D4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EED-3B5E-4076-89D4-F379CE09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72F-167F-4378-A922-AE8FE863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AA2-B67E-4156-837B-53C49F02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3C2-7C58-43EA-BC2A-8E45FD3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B9F-34AA-4262-AC61-17AACB0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C84-0E16-490E-A280-8371F7D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F1F9-AE71-43D9-8C57-4038B1D1D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24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997360"/>
            <a:ext cx="62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Ох уж это множественное числ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07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ак это по-русс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38080" y="54864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ПОМИД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438280" y="2036880"/>
            <a:ext cx="487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95280" y="54864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АБРИК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43200" y="1828800"/>
            <a:ext cx="37339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55627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 ПОЛОТ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590920" y="1996920"/>
            <a:ext cx="388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95280" y="54864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Т</a:t>
            </a:r>
            <a:r>
              <a:rPr b="1" lang="ru-RU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464000" cy="293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4" descr="Копия HWScan00531"/>
          <p:cNvPicPr/>
          <p:nvPr/>
        </p:nvPicPr>
        <p:blipFill>
          <a:blip r:embed="rId2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Копия (2) HWScan00531"/>
          <p:cNvPicPr/>
          <p:nvPr/>
        </p:nvPicPr>
        <p:blipFill>
          <a:blip r:embed="rId3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71640" y="5473800"/>
            <a:ext cx="262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95640" y="547380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АНДАШ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7" descr=""/>
          <p:cNvPicPr/>
          <p:nvPr/>
        </p:nvPicPr>
        <p:blipFill>
          <a:blip r:embed="rId1"/>
          <a:stretch/>
        </p:blipFill>
        <p:spPr>
          <a:xfrm>
            <a:off x="2459160" y="1989000"/>
            <a:ext cx="4527360" cy="30592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Picture 4" descr="Копия HWScan00531"/>
          <p:cNvPicPr/>
          <p:nvPr/>
        </p:nvPicPr>
        <p:blipFill>
          <a:blip r:embed="rId2"/>
          <a:stretch/>
        </p:blipFill>
        <p:spPr>
          <a:xfrm rot="19831800">
            <a:off x="-286920" y="-28080"/>
            <a:ext cx="1744560" cy="10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опия (2) HWScan00531"/>
          <p:cNvPicPr/>
          <p:nvPr/>
        </p:nvPicPr>
        <p:blipFill>
          <a:blip r:embed="rId3"/>
          <a:stretch/>
        </p:blipFill>
        <p:spPr>
          <a:xfrm rot="1749600">
            <a:off x="7913160" y="50400"/>
            <a:ext cx="14767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094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русском языке есть слова, множественное число которых не вызывает никаких сомнений: стол – столы, окно – окна, диван – диваны, поле – поля, волос – волос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днако в повседневной речи почти каждый из нас сталкивался с вопросом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как правильно сказать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: выб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б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шофё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шофе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выгов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гово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вызов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или вызов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куда же эти сомнения? Почему нам, русским людям, изучающим родной язык в течение 10 лет, а порой и дольше, так бывает нелегко решить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 помощью какого окончания –а(я) или – ы (и) должна быть образована форма именительного падежа множественного числа у существительных мужского рода и каким должно быть ударение,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например, в словах: договор, выговор, инженер, шофёр, вызов, выбор, столяр, офицер, маляр.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1066680"/>
            <a:ext cx="8381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некоторых словах окончание  –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совершенно недопустимо: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олько инженерЫ, шофёрЫ, офицерЫ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 Дело в том, что окончание  -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не могут принимать слова, если ударение в них в единственном числе падает на последний слог: инженер, офицер, шоф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048120"/>
            <a:ext cx="72392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некоторых словах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озможно употребление той и другой формы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: инструкторы – инструктора, тракторы – трактора, слесари – слесаря, токари – токаря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вда, одна из форм в словаре дается с пометкой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разговорная 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43200" y="1752480"/>
            <a:ext cx="39625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Выполняя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догово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Инженеры и шофё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Столяры и маля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Потрудились все на сла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Чтоб до праздников ве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Возвести домов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кварт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Для народа, для стра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1752480" cy="98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838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Легко запомнить правильную форму слова с помощью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990720" cy="80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20120" y="1752480"/>
            <a:ext cx="1066680" cy="75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1050840" cy="127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8316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821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4479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Очень часто дети и взрослые ошибаются в образовании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форм родительного  падежа множественного числа существительных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. Следует обратить внимание на то, что ошибки в этих формах бывают связаны не только с окончанием, но и с уда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5280" y="54864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БЛ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1523880" y="685800"/>
            <a:ext cx="644868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19520" y="18288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ЧУЛ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НОСК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61722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5280" y="54864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  БАН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9"/>
          <p:cNvSpPr txBox="1"/>
          <p:nvPr/>
        </p:nvSpPr>
        <p:spPr>
          <a:xfrm>
            <a:off x="1498680" y="662040"/>
            <a:ext cx="644832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М ПРАВИЛЬНО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4" descr="Копия HWScan00531"/>
          <p:cNvPicPr/>
          <p:nvPr/>
        </p:nvPicPr>
        <p:blipFill>
          <a:blip r:embed="rId1"/>
          <a:stretch/>
        </p:blipFill>
        <p:spPr>
          <a:xfrm rot="19831800">
            <a:off x="-96840" y="-114120"/>
            <a:ext cx="1744560" cy="108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опия (2) HWScan00531"/>
          <p:cNvPicPr/>
          <p:nvPr/>
        </p:nvPicPr>
        <p:blipFill>
          <a:blip r:embed="rId2"/>
          <a:stretch/>
        </p:blipFill>
        <p:spPr>
          <a:xfrm rot="1749600">
            <a:off x="7800480" y="50760"/>
            <a:ext cx="147636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666880" y="1936800"/>
            <a:ext cx="419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1T07:24:51Z</dcterms:created>
  <dc:creator>User</dc:creator>
  <dc:description/>
  <dc:language>en-US</dc:language>
  <cp:lastModifiedBy>YOY</cp:lastModifiedBy>
  <dcterms:modified xsi:type="dcterms:W3CDTF">2022-10-20T15:40:3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