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A4F3-F87E-4E8C-9010-BC6C6A5E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B2D-D75C-48B9-B9F2-F820F887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949-2E35-4EA2-A79F-2E08F6A1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75E-7555-4E8E-A7F3-182EB620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E0D-90A9-4E09-B923-059A5C15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0A5-56EE-4474-8FCD-19B87B10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3BE-FA1F-4915-A0CD-D283EDF4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B6F-75BD-4B26-A78B-E3AAAD4A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B98-2E6A-4785-A793-A3AD08C1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A78-4C8D-4F07-AB41-CA95BB06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1AB-1347-4DF8-BBAA-671C4271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39D-41A3-48F3-8721-34E904AF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F793-8ED2-4381-A1D5-27D226495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24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2997360"/>
            <a:ext cx="626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Ох уж это множественное числ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0792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Как это по-русс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838080" y="54864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   ПОМИД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19"/>
          <p:cNvSpPr txBox="1"/>
          <p:nvPr/>
        </p:nvSpPr>
        <p:spPr>
          <a:xfrm>
            <a:off x="1498680" y="662040"/>
            <a:ext cx="644832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М ПРАВИЛЬНО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2" name="Picture 4" descr="Копия HWScan00531"/>
          <p:cNvPicPr/>
          <p:nvPr/>
        </p:nvPicPr>
        <p:blipFill>
          <a:blip r:embed="rId1"/>
          <a:stretch/>
        </p:blipFill>
        <p:spPr>
          <a:xfrm rot="19831800">
            <a:off x="-96840" y="-114120"/>
            <a:ext cx="1744560" cy="108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Копия (2) HWScan00531"/>
          <p:cNvPicPr/>
          <p:nvPr/>
        </p:nvPicPr>
        <p:blipFill>
          <a:blip r:embed="rId2"/>
          <a:stretch/>
        </p:blipFill>
        <p:spPr>
          <a:xfrm rot="1749600">
            <a:off x="7800480" y="50760"/>
            <a:ext cx="1476360" cy="930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438280" y="2036880"/>
            <a:ext cx="48769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295280" y="548640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   АБРИК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9"/>
          <p:cNvSpPr txBox="1"/>
          <p:nvPr/>
        </p:nvSpPr>
        <p:spPr>
          <a:xfrm>
            <a:off x="1498680" y="662040"/>
            <a:ext cx="644832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М ПРАВИЛЬНО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" name="Picture 4" descr="Копия HWScan00531"/>
          <p:cNvPicPr/>
          <p:nvPr/>
        </p:nvPicPr>
        <p:blipFill>
          <a:blip r:embed="rId1"/>
          <a:stretch/>
        </p:blipFill>
        <p:spPr>
          <a:xfrm rot="19831800">
            <a:off x="-96840" y="-114120"/>
            <a:ext cx="1744560" cy="1089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Копия (2) HWScan00531"/>
          <p:cNvPicPr/>
          <p:nvPr/>
        </p:nvPicPr>
        <p:blipFill>
          <a:blip r:embed="rId2"/>
          <a:stretch/>
        </p:blipFill>
        <p:spPr>
          <a:xfrm rot="1749600">
            <a:off x="7800480" y="50760"/>
            <a:ext cx="1476360" cy="930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743200" y="1828800"/>
            <a:ext cx="37339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066680" y="556272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   ПОЛОТ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9"/>
          <p:cNvSpPr txBox="1"/>
          <p:nvPr/>
        </p:nvSpPr>
        <p:spPr>
          <a:xfrm>
            <a:off x="1498680" y="662040"/>
            <a:ext cx="644832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М ПРАВИЛЬНО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" name="Picture 4" descr="Копия HWScan00531"/>
          <p:cNvPicPr/>
          <p:nvPr/>
        </p:nvPicPr>
        <p:blipFill>
          <a:blip r:embed="rId1"/>
          <a:stretch/>
        </p:blipFill>
        <p:spPr>
          <a:xfrm rot="19831800">
            <a:off x="-96840" y="-114120"/>
            <a:ext cx="1744560" cy="108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Копия (2) HWScan00531"/>
          <p:cNvPicPr/>
          <p:nvPr/>
        </p:nvPicPr>
        <p:blipFill>
          <a:blip r:embed="rId2"/>
          <a:stretch/>
        </p:blipFill>
        <p:spPr>
          <a:xfrm rot="1749600">
            <a:off x="7800480" y="50760"/>
            <a:ext cx="1476360" cy="93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590920" y="1996920"/>
            <a:ext cx="388620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295280" y="548640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  Т</a:t>
            </a:r>
            <a:r>
              <a:rPr b="1" lang="ru-RU" sz="6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464000" cy="2933640"/>
          </a:xfrm>
          <a:prstGeom prst="rect">
            <a:avLst/>
          </a:prstGeom>
          <a:ln w="0">
            <a:noFill/>
          </a:ln>
        </p:spPr>
      </p:pic>
      <p:sp>
        <p:nvSpPr>
          <p:cNvPr id="97" name="WordArt 19"/>
          <p:cNvSpPr txBox="1"/>
          <p:nvPr/>
        </p:nvSpPr>
        <p:spPr>
          <a:xfrm>
            <a:off x="1498680" y="662040"/>
            <a:ext cx="644832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М ПРАВИЛЬНО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Picture 4" descr="Копия HWScan00531"/>
          <p:cNvPicPr/>
          <p:nvPr/>
        </p:nvPicPr>
        <p:blipFill>
          <a:blip r:embed="rId2"/>
          <a:stretch/>
        </p:blipFill>
        <p:spPr>
          <a:xfrm rot="19831800">
            <a:off x="-96840" y="-114120"/>
            <a:ext cx="1744560" cy="1089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Копия (2) HWScan00531"/>
          <p:cNvPicPr/>
          <p:nvPr/>
        </p:nvPicPr>
        <p:blipFill>
          <a:blip r:embed="rId3"/>
          <a:stretch/>
        </p:blipFill>
        <p:spPr>
          <a:xfrm rot="1749600">
            <a:off x="7800480" y="50760"/>
            <a:ext cx="147636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971640" y="5473800"/>
            <a:ext cx="262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995640" y="547380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РАНДАШ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7" descr=""/>
          <p:cNvPicPr/>
          <p:nvPr/>
        </p:nvPicPr>
        <p:blipFill>
          <a:blip r:embed="rId1"/>
          <a:stretch/>
        </p:blipFill>
        <p:spPr>
          <a:xfrm>
            <a:off x="2459160" y="1989000"/>
            <a:ext cx="4527360" cy="3059280"/>
          </a:xfrm>
          <a:prstGeom prst="rect">
            <a:avLst/>
          </a:prstGeom>
          <a:ln w="0">
            <a:noFill/>
          </a:ln>
        </p:spPr>
      </p:pic>
      <p:sp>
        <p:nvSpPr>
          <p:cNvPr id="103" name="WordArt 19"/>
          <p:cNvSpPr txBox="1"/>
          <p:nvPr/>
        </p:nvSpPr>
        <p:spPr>
          <a:xfrm>
            <a:off x="1498680" y="662040"/>
            <a:ext cx="644832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М ПРАВИЛЬНО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" name="Picture 4" descr="Копия HWScan00531"/>
          <p:cNvPicPr/>
          <p:nvPr/>
        </p:nvPicPr>
        <p:blipFill>
          <a:blip r:embed="rId2"/>
          <a:stretch/>
        </p:blipFill>
        <p:spPr>
          <a:xfrm rot="19831800">
            <a:off x="-286920" y="-28080"/>
            <a:ext cx="1744560" cy="108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Копия (2) HWScan00531"/>
          <p:cNvPicPr/>
          <p:nvPr/>
        </p:nvPicPr>
        <p:blipFill>
          <a:blip r:embed="rId3"/>
          <a:stretch/>
        </p:blipFill>
        <p:spPr>
          <a:xfrm rot="1749600">
            <a:off x="7913160" y="50400"/>
            <a:ext cx="147672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6821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60948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В русском языке есть слова, множественное число которых не вызывает никаких сомнений: стол – столы, окно – окна, диван – диваны, поле – поля, волос – волосы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днако в повседневной речи почти каждый из нас сталкивался с вопросом,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как правильно сказать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: выбо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ы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или выбо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, шофё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ы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или шофе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, выгово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ы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или выгово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, вызов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ы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или вызов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куда же эти сомнения? Почему нам, русским людям, изучающим родной язык в течение 10 лет, а порой и дольше, так бывает нелегко решить,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с помощью какого окончания –а(я) или – ы (и) должна быть образована форма именительного падежа множественного числа у существительных мужского рода и каким должно быть ударение,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например, в словах: договор, выговор, инженер, шофёр, вызов, выбор, столяр, офицер, маляр.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682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1066680"/>
            <a:ext cx="83818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В некоторых словах окончание  –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совершенно недопустимо: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только инженерЫ, шофёрЫ, офицерЫ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. Дело в том, что окончание  -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не могут принимать слова, если ударение в них в единственном числе падает на последний слог: инженер, офицер, шофё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048120"/>
            <a:ext cx="72392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В некоторых словах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озможно употребление той и другой формы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: инструкторы – инструктора, тракторы – трактора, слесари – слесаря, токари – токаря.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авда, одна из форм в словаре дается с пометкой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разговорная фор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6821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43200" y="1752480"/>
            <a:ext cx="39625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Выполняя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догово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Инженеры и шофё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Столяры и маля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Потрудились все на слав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Чтоб до праздников вес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Возвести домов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кварт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Для народа, для стран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505320" y="4952880"/>
            <a:ext cx="1752480" cy="986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8380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Легко запомнить правильную форму слова с помощью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600200" y="1828800"/>
            <a:ext cx="990720" cy="808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620120" y="1752480"/>
            <a:ext cx="1066680" cy="758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1050840" cy="127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705720" y="2514600"/>
            <a:ext cx="8316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6821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14479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Очень часто дети и взрослые ошибаются в образовании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форм родительного  падежа множественного числа существительных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. Следует обратить внимание на то, что ошибки в этих формах бывают связаны не только с окончанием, но и с уда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295280" y="548640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  БЛ</a:t>
            </a:r>
            <a:r>
              <a:rPr b="1" lang="ru-RU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Ю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Ц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19"/>
          <p:cNvSpPr txBox="1"/>
          <p:nvPr/>
        </p:nvSpPr>
        <p:spPr>
          <a:xfrm>
            <a:off x="1523880" y="685800"/>
            <a:ext cx="644868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М ПРАВИЛЬНО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" name="Picture 4" descr="Копия HWScan00531"/>
          <p:cNvPicPr/>
          <p:nvPr/>
        </p:nvPicPr>
        <p:blipFill>
          <a:blip r:embed="rId1"/>
          <a:stretch/>
        </p:blipFill>
        <p:spPr>
          <a:xfrm rot="19831800">
            <a:off x="-96840" y="-114120"/>
            <a:ext cx="1744560" cy="108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Копия (2) HWScan00531"/>
          <p:cNvPicPr/>
          <p:nvPr/>
        </p:nvPicPr>
        <p:blipFill>
          <a:blip r:embed="rId2"/>
          <a:stretch/>
        </p:blipFill>
        <p:spPr>
          <a:xfrm rot="1749600">
            <a:off x="7800480" y="50760"/>
            <a:ext cx="1476360" cy="930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819520" y="182880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95280" y="548640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  ЧУЛ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9"/>
          <p:cNvSpPr txBox="1"/>
          <p:nvPr/>
        </p:nvSpPr>
        <p:spPr>
          <a:xfrm>
            <a:off x="1498680" y="662040"/>
            <a:ext cx="644832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М ПРАВИЛЬНО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Picture 4" descr="Копия HWScan00531"/>
          <p:cNvPicPr/>
          <p:nvPr/>
        </p:nvPicPr>
        <p:blipFill>
          <a:blip r:embed="rId1"/>
          <a:stretch/>
        </p:blipFill>
        <p:spPr>
          <a:xfrm rot="19831800">
            <a:off x="-96840" y="-114120"/>
            <a:ext cx="1744560" cy="108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Копия (2) HWScan00531"/>
          <p:cNvPicPr/>
          <p:nvPr/>
        </p:nvPicPr>
        <p:blipFill>
          <a:blip r:embed="rId2"/>
          <a:stretch/>
        </p:blipFill>
        <p:spPr>
          <a:xfrm rot="1749600">
            <a:off x="7800480" y="50760"/>
            <a:ext cx="1476360" cy="930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76720" y="190512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295280" y="548640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  НОСК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9"/>
          <p:cNvSpPr txBox="1"/>
          <p:nvPr/>
        </p:nvSpPr>
        <p:spPr>
          <a:xfrm>
            <a:off x="1498680" y="662040"/>
            <a:ext cx="644832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М ПРАВИЛЬНО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Picture 4" descr="Копия HWScan00531"/>
          <p:cNvPicPr/>
          <p:nvPr/>
        </p:nvPicPr>
        <p:blipFill>
          <a:blip r:embed="rId1"/>
          <a:stretch/>
        </p:blipFill>
        <p:spPr>
          <a:xfrm rot="19831800">
            <a:off x="-96840" y="-114120"/>
            <a:ext cx="1744560" cy="1089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Копия (2) HWScan00531"/>
          <p:cNvPicPr/>
          <p:nvPr/>
        </p:nvPicPr>
        <p:blipFill>
          <a:blip r:embed="rId2"/>
          <a:stretch/>
        </p:blipFill>
        <p:spPr>
          <a:xfrm rot="1749600">
            <a:off x="7800480" y="50760"/>
            <a:ext cx="1476360" cy="930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828800" y="2590920"/>
            <a:ext cx="617220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295280" y="548640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  БАН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О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19"/>
          <p:cNvSpPr txBox="1"/>
          <p:nvPr/>
        </p:nvSpPr>
        <p:spPr>
          <a:xfrm>
            <a:off x="1498680" y="662040"/>
            <a:ext cx="644832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М ПРАВИЛЬНО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7" name="Picture 4" descr="Копия HWScan00531"/>
          <p:cNvPicPr/>
          <p:nvPr/>
        </p:nvPicPr>
        <p:blipFill>
          <a:blip r:embed="rId1"/>
          <a:stretch/>
        </p:blipFill>
        <p:spPr>
          <a:xfrm rot="19831800">
            <a:off x="-96840" y="-114120"/>
            <a:ext cx="1744560" cy="1089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Копия (2) HWScan00531"/>
          <p:cNvPicPr/>
          <p:nvPr/>
        </p:nvPicPr>
        <p:blipFill>
          <a:blip r:embed="rId2"/>
          <a:stretch/>
        </p:blipFill>
        <p:spPr>
          <a:xfrm rot="1749600">
            <a:off x="7800480" y="50760"/>
            <a:ext cx="1476360" cy="930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666880" y="1936800"/>
            <a:ext cx="41911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1T07:24:51Z</dcterms:created>
  <dc:creator>User</dc:creator>
  <dc:description/>
  <dc:language>en-US</dc:language>
  <cp:lastModifiedBy>YOY</cp:lastModifiedBy>
  <dcterms:modified xsi:type="dcterms:W3CDTF">2022-10-20T15:40:3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