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CD12-5D81-4210-95BF-CD0B99CE1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4112-E6A4-4BB1-B4AC-C7F0EDC0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00C3-620B-4D66-B03E-A2101A711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5C9B-C6E3-465E-9382-3B00C3AA8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4866-F4DE-4AB7-9A94-12C26194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639A-00B9-4138-850B-12BD0BDC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AE6A-BCF9-42DA-8A09-DD281424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0AF4-2B0E-4F91-B71B-7E8A0E06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85C0-9499-4E44-A5D7-57D9FE37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00DD-7DBE-4276-A843-8CADB714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61C8-7220-4AA3-AD6D-50FC7FF6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437B-6724-43FC-ACE3-6097A5C5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FB79-3524-4702-A2DD-B7867F3768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89308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Рахматулина Миниса Газизов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Подзаголовок 1" descr=""/>
          <p:cNvPicPr/>
          <p:nvPr/>
        </p:nvPicPr>
        <p:blipFill>
          <a:blip r:embed="rId1"/>
          <a:stretch/>
        </p:blipFill>
        <p:spPr>
          <a:xfrm>
            <a:off x="3395520" y="2084400"/>
            <a:ext cx="5754960" cy="2238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Users\Миниса\Desktop\Мои документы\Фото\viber image.jpg"/>
          <p:cNvPicPr/>
          <p:nvPr/>
        </p:nvPicPr>
        <p:blipFill>
          <a:blip r:embed="rId2"/>
          <a:stretch/>
        </p:blipFill>
        <p:spPr>
          <a:xfrm>
            <a:off x="244440" y="1620720"/>
            <a:ext cx="2809800" cy="4237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loud 7"/>
          <p:cNvSpPr/>
          <p:nvPr/>
        </p:nvSpPr>
        <p:spPr>
          <a:xfrm>
            <a:off x="468360" y="1266840"/>
            <a:ext cx="3851280" cy="19461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Тренажеры, программы тестир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Cloud 8"/>
          <p:cNvSpPr/>
          <p:nvPr/>
        </p:nvSpPr>
        <p:spPr>
          <a:xfrm>
            <a:off x="144360" y="3282840"/>
            <a:ext cx="3635640" cy="18748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электронные энциклопедии и справочник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Cloud 9"/>
          <p:cNvSpPr/>
          <p:nvPr/>
        </p:nvSpPr>
        <p:spPr>
          <a:xfrm>
            <a:off x="4716360" y="1197000"/>
            <a:ext cx="3959280" cy="208584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DVD  и CD диски с картинами и иллюстрация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Cloud 11"/>
          <p:cNvSpPr/>
          <p:nvPr/>
        </p:nvSpPr>
        <p:spPr>
          <a:xfrm>
            <a:off x="5580000" y="3429000"/>
            <a:ext cx="3241800" cy="165564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идео и аудиотехник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Прямоугольник 6"/>
          <p:cNvSpPr/>
          <p:nvPr/>
        </p:nvSpPr>
        <p:spPr>
          <a:xfrm>
            <a:off x="179280" y="18900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нформационно-коммуникационная технология обуче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Cloud 11"/>
          <p:cNvSpPr/>
          <p:nvPr/>
        </p:nvSpPr>
        <p:spPr>
          <a:xfrm>
            <a:off x="3059280" y="5013360"/>
            <a:ext cx="3241440" cy="15843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электронные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учебники и пособия, демонстрируемые с помощью компьютера и мультимедийного проектор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Прямоугольник 1"/>
          <p:cNvSpPr/>
          <p:nvPr/>
        </p:nvSpPr>
        <p:spPr>
          <a:xfrm>
            <a:off x="468360" y="189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едства информационно-коммуникационных технологий обуч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755640" y="47628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хнология интерактивного обуч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https://fs00.infourok.ru/images/doc/240/199188/1/img4.jpg"/>
          <p:cNvPicPr/>
          <p:nvPr/>
        </p:nvPicPr>
        <p:blipFill>
          <a:blip r:embed="rId1"/>
          <a:stretch/>
        </p:blipFill>
        <p:spPr>
          <a:xfrm>
            <a:off x="395280" y="1557360"/>
            <a:ext cx="8497800" cy="4859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дания на формирование и совершенствование коммуникативных УУ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03280" y="2142720"/>
            <a:ext cx="818352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упражнение на логическое заполнение пропусков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составление сюжетных рассказов по предложенной серии картинок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оиск ошибок в письмах и текстах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составление текстов из предложенного набора предложений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выстраивание логических смысловых цепочек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одготовка творческих мини-проектов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заполнение анкет и т.д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18352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Подводя итог можно сказать, что каждый урок иностранного языка, как и внеклассная и внеурочная деятельность способствуют развитию коммуникативных УУД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03280" y="2643120"/>
            <a:ext cx="818352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ультатами своей деятельности по формированию коммуникативных  учебных  действий на уроках английского языка на данном этапе я считаю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мение детей учитывать позиции других люд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мение учащимися слушать, вступать в диалог, спрашив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мение детей участвовать в коллективном обсуждении.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://uslide.ru/images/15/21961/960/img8.jpg"/>
          <p:cNvPicPr/>
          <p:nvPr/>
        </p:nvPicPr>
        <p:blipFill>
          <a:blip r:embed="rId1"/>
          <a:stretch/>
        </p:blipFill>
        <p:spPr>
          <a:xfrm>
            <a:off x="900000" y="620640"/>
            <a:ext cx="7270920" cy="5453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Моё педагогическое кред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Monotype Corsiva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Чтобы быть хорошим преподавателем, нужно любить то, что преподаешь, и любить тех, кому преподаешь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. Ключевский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1599840"/>
            <a:ext cx="814716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Формирование коммуникативных универсальных учебных действий  на уроках английского язык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 начальном этапе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-387720"/>
            <a:ext cx="81835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Цели и задач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836280"/>
            <a:ext cx="7848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202020"/>
                </a:solidFill>
                <a:latin typeface="Times New Roman"/>
              </a:rPr>
              <a:t>Цел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работы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коммуникативных УУД на уроках английского языка через использование разных педагогических технолог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202020"/>
                </a:solidFill>
                <a:latin typeface="Times New Roman"/>
              </a:rPr>
              <a:t>Задачи: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анализировать   психолого-педагогическую   литературу   по   тем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ить сущность,  особенности,  значение  коммуникативных  УУД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аботать комплекс заданий (задач) для формирования коммуникативных УУД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ть и развивать коммуникативные УУД  за счёт разных педагогических технолог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02020"/>
                </a:solidFill>
                <a:latin typeface="Times New Roman"/>
              </a:rPr>
              <a:t>Коммуникативные УУД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570680" y="1337760"/>
            <a:ext cx="2068200" cy="1377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ctr" anchorCtr="1">
            <a:normAutofit fontScale="83000"/>
          </a:bodyPr>
          <a:p>
            <a:pPr marL="284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4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Планирование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4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учебного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4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сотрудничеств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4400" algn="ctr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5"/>
          <p:cNvSpPr/>
          <p:nvPr/>
        </p:nvSpPr>
        <p:spPr>
          <a:xfrm>
            <a:off x="4643280" y="907920"/>
            <a:ext cx="3024360" cy="196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танов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про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29"/>
          <p:cNvSpPr/>
          <p:nvPr/>
        </p:nvSpPr>
        <p:spPr>
          <a:xfrm>
            <a:off x="5694480" y="2868480"/>
            <a:ext cx="3004920" cy="1640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лад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нологическ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диалогическ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ами реч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7"/>
          <p:cNvSpPr/>
          <p:nvPr/>
        </p:nvSpPr>
        <p:spPr>
          <a:xfrm>
            <a:off x="4572000" y="4357800"/>
            <a:ext cx="3306600" cy="1488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мение полно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чно выража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ои мыс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28"/>
          <p:cNvSpPr/>
          <p:nvPr/>
        </p:nvSpPr>
        <p:spPr>
          <a:xfrm>
            <a:off x="1258920" y="4508640"/>
            <a:ext cx="3117960" cy="165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реш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флик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6"/>
          <p:cNvSpPr/>
          <p:nvPr/>
        </p:nvSpPr>
        <p:spPr>
          <a:xfrm>
            <a:off x="500040" y="2868480"/>
            <a:ext cx="2521080" cy="1640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правл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едени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артн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>
            <a:alphaModFix amt="31000"/>
          </a:blip>
          <a:stretch/>
        </p:blipFill>
        <p:spPr>
          <a:xfrm>
            <a:off x="3376440" y="2825640"/>
            <a:ext cx="2000520" cy="1725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Cloud 7"/>
          <p:cNvSpPr/>
          <p:nvPr/>
        </p:nvSpPr>
        <p:spPr>
          <a:xfrm>
            <a:off x="684360" y="1700280"/>
            <a:ext cx="3635280" cy="151272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гровая технолог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Cloud 8"/>
          <p:cNvSpPr/>
          <p:nvPr/>
        </p:nvSpPr>
        <p:spPr>
          <a:xfrm>
            <a:off x="468360" y="3716280"/>
            <a:ext cx="3635280" cy="15130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Технология проблемного обуче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Cloud 9"/>
          <p:cNvSpPr/>
          <p:nvPr/>
        </p:nvSpPr>
        <p:spPr>
          <a:xfrm>
            <a:off x="4643280" y="1714680"/>
            <a:ext cx="3757680" cy="15825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 проек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Cloud 11"/>
          <p:cNvSpPr/>
          <p:nvPr/>
        </p:nvSpPr>
        <p:spPr>
          <a:xfrm>
            <a:off x="5286240" y="3429000"/>
            <a:ext cx="3535560" cy="165564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нформационно-коммуникационная технология обуче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оугольник 6"/>
          <p:cNvSpPr/>
          <p:nvPr/>
        </p:nvSpPr>
        <p:spPr>
          <a:xfrm>
            <a:off x="179280" y="1890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Технологии при формировании коммуникативных УУ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Cloud 11"/>
          <p:cNvSpPr/>
          <p:nvPr/>
        </p:nvSpPr>
        <p:spPr>
          <a:xfrm>
            <a:off x="3059280" y="5013360"/>
            <a:ext cx="3241440" cy="15843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Технология интерактивного обуч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1" descr=""/>
          <p:cNvPicPr/>
          <p:nvPr/>
        </p:nvPicPr>
        <p:blipFill>
          <a:blip r:embed="rId1"/>
          <a:stretch/>
        </p:blipFill>
        <p:spPr>
          <a:xfrm>
            <a:off x="281160" y="109440"/>
            <a:ext cx="8008920" cy="1938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3600360" cy="3672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5" descr=""/>
          <p:cNvPicPr/>
          <p:nvPr/>
        </p:nvPicPr>
        <p:blipFill>
          <a:blip r:embed="rId3"/>
          <a:stretch/>
        </p:blipFill>
        <p:spPr>
          <a:xfrm>
            <a:off x="4140360" y="1125360"/>
            <a:ext cx="4032000" cy="3527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Прямоугольник 1" descr=""/>
          <p:cNvPicPr/>
          <p:nvPr/>
        </p:nvPicPr>
        <p:blipFill>
          <a:blip r:embed="rId1"/>
          <a:stretch/>
        </p:blipFill>
        <p:spPr>
          <a:xfrm>
            <a:off x="353880" y="396720"/>
            <a:ext cx="8156880" cy="1103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4643280" y="1714680"/>
            <a:ext cx="3929400" cy="4429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785880" y="1643040"/>
            <a:ext cx="3979800" cy="4429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2"/>
          <p:cNvSpPr/>
          <p:nvPr/>
        </p:nvSpPr>
        <p:spPr>
          <a:xfrm>
            <a:off x="395280" y="189000"/>
            <a:ext cx="84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  <a:ea typeface="Arial"/>
              </a:rPr>
              <a:t>Технология проблемного обучени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https://fs00.infourok.ru/images/doc/120/141295/img6.jpg"/>
          <p:cNvPicPr/>
          <p:nvPr/>
        </p:nvPicPr>
        <p:blipFill>
          <a:blip r:embed="rId1"/>
          <a:stretch/>
        </p:blipFill>
        <p:spPr>
          <a:xfrm>
            <a:off x="1258920" y="1773360"/>
            <a:ext cx="6553080" cy="4914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Гость</cp:lastModifiedBy>
  <dcterms:modified xsi:type="dcterms:W3CDTF">2018-04-25T07:32:08Z</dcterms:modified>
  <cp:revision>102</cp:revision>
  <dc:subject/>
  <dc:title>Слайд 1</dc:title>
</cp:coreProperties>
</file>