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93E3-8259-49DD-99B7-AE8EC6F75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336D-84B8-4214-8233-F97D0C07D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F39-FFB9-4ADF-A060-07B1EC41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D98-2E6D-4E28-BD3A-C85E2FE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37F-98FB-4473-B72A-231652D1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284-73A4-4091-A968-44FE22B1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3EC5-E592-4655-A77B-4DD0047E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B2E1-8439-4AE0-B2D2-5F0334B5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6A83-8130-4F15-B021-EE4F3979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4748-5827-4AAA-9F58-85638085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D236-8772-410C-BFA4-C9840D3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3462-BBC3-4DDE-9287-80130884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70C7-C8CE-4573-A914-9A2A75DD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A39-C741-4E8D-AF6E-A16C1072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7173-EF6E-4765-AACA-BE30BA7A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F835-D099-4373-B230-BCC8ED3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3A7B-91D6-4619-800F-4ED6ECC2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D462-5F95-41A9-95B0-ED3C2992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786E-3F7E-4EFC-B067-39B8E381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9DE-5DA5-41F7-A3DE-D1A1553D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571-5683-414F-B3A7-BF4A782E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758-51E3-4B9E-8413-3AFFD181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35A-8038-447E-B1EA-3A130F6A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D20-D792-427D-96AB-BE26DCE5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AF3-CF84-4B02-8959-57219963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110-2C24-4CA2-A2C4-3F6E851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D17-BD1B-40C6-9964-7D8995BB9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5680"/>
            <a:ext cx="7696080" cy="1117800"/>
            <a:chOff x="0" y="175680"/>
            <a:chExt cx="7696080" cy="111780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200600"/>
              <a:ext cx="7696080" cy="91440"/>
              <a:chOff x="0" y="1200600"/>
              <a:chExt cx="7696080" cy="9144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200600"/>
                <a:ext cx="769608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2680" y="-2601360"/>
                <a:ext cx="87480" cy="76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0" y="175680"/>
              <a:ext cx="6865920" cy="1117800"/>
              <a:chOff x="0" y="175680"/>
              <a:chExt cx="6865920" cy="111780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0" y="175680"/>
                <a:ext cx="5855040" cy="261720"/>
                <a:chOff x="0" y="175680"/>
                <a:chExt cx="5855040" cy="26172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76040"/>
                  <a:ext cx="58543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796120" y="-2620440"/>
                  <a:ext cx="261720" cy="58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467-65BD-4573-A832-BAE71A80C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76360" y="594972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А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021- 2022уч.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ЬСКОЕ СОБРАНИЕ №1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659640" y="189000"/>
            <a:ext cx="234000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БОУ «СШ»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243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246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6012000" y="4724280"/>
            <a:ext cx="2663280" cy="1150200"/>
            <a:chOff x="6012000" y="4724280"/>
            <a:chExt cx="2663280" cy="1150200"/>
          </a:xfrm>
        </p:grpSpPr>
        <p:sp>
          <p:nvSpPr>
            <p:cNvPr id="249" name="AutoShape 9"/>
            <p:cNvSpPr/>
            <p:nvPr/>
          </p:nvSpPr>
          <p:spPr>
            <a:xfrm>
              <a:off x="6012000" y="472428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6053400" y="479376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1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558000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3276720" y="2708280"/>
            <a:ext cx="2663280" cy="1512720"/>
            <a:chOff x="3276720" y="2708280"/>
            <a:chExt cx="2663280" cy="1512720"/>
          </a:xfrm>
        </p:grpSpPr>
        <p:sp>
          <p:nvSpPr>
            <p:cNvPr id="259" name="Oval 19"/>
            <p:cNvSpPr/>
            <p:nvPr/>
          </p:nvSpPr>
          <p:spPr>
            <a:xfrm>
              <a:off x="3276720" y="2708280"/>
              <a:ext cx="2663280" cy="15127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3450600" y="280692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1"/>
            <p:cNvSpPr/>
            <p:nvPr/>
          </p:nvSpPr>
          <p:spPr>
            <a:xfrm>
              <a:off x="3452760" y="280908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2"/>
            <p:cNvSpPr/>
            <p:nvPr/>
          </p:nvSpPr>
          <p:spPr>
            <a:xfrm>
              <a:off x="3576240" y="2872440"/>
              <a:ext cx="2083680" cy="118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23"/>
            <p:cNvGrpSpPr/>
            <p:nvPr/>
          </p:nvGrpSpPr>
          <p:grpSpPr>
            <a:xfrm>
              <a:off x="3612960" y="2885760"/>
              <a:ext cx="2017440" cy="1146240"/>
              <a:chOff x="3612960" y="2885760"/>
              <a:chExt cx="2017440" cy="1146240"/>
            </a:xfrm>
          </p:grpSpPr>
          <p:sp>
            <p:nvSpPr>
              <p:cNvPr id="264" name="Oval 24"/>
              <p:cNvSpPr/>
              <p:nvPr/>
            </p:nvSpPr>
            <p:spPr>
              <a:xfrm>
                <a:off x="3612960" y="2885760"/>
                <a:ext cx="2017440" cy="114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38520" y="2891880"/>
                <a:ext cx="1969200" cy="1117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659400" y="2903040"/>
                <a:ext cx="1872360" cy="104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769200" y="2932200"/>
                <a:ext cx="1664640" cy="84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28"/>
            <p:cNvSpPr/>
            <p:nvPr/>
          </p:nvSpPr>
          <p:spPr>
            <a:xfrm>
              <a:off x="4536720" y="3309480"/>
              <a:ext cx="183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1662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3638160" y="328464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2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272" name="AutoShape 33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34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5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275" name="AutoShape 36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37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8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278" name="AutoShape 39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0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47"/>
          <p:cNvSpPr/>
          <p:nvPr/>
        </p:nvSpPr>
        <p:spPr>
          <a:xfrm>
            <a:off x="6516720" y="155700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табличное умн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8"/>
          <p:cNvSpPr/>
          <p:nvPr/>
        </p:nvSpPr>
        <p:spPr>
          <a:xfrm>
            <a:off x="395280" y="1628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ое умножение и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9"/>
          <p:cNvSpPr/>
          <p:nvPr/>
        </p:nvSpPr>
        <p:spPr>
          <a:xfrm>
            <a:off x="255240" y="3429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6516720" y="321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1"/>
          <p:cNvSpPr/>
          <p:nvPr/>
        </p:nvSpPr>
        <p:spPr>
          <a:xfrm>
            <a:off x="759240" y="522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6159600" y="486900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ова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214200" y="588960"/>
            <a:ext cx="87156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содержание текста и подтекст более сложных по художественному и смысловому уровню произведений, выявлять отношение автора к тому, о чем ведется речь, и осознавать собственное отношение к тому, что и как написа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с толковым словар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в речи средства интонационной вырази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владевать способом чтения «по догад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подробную характеристику персонажей и их взаимоотношений, ссылаясь на текс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ть тему и главную мысль произвед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сить содержание произведения с языковыми средствами, с помощью которых оно выражено авто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ливать иллюстрации и текс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простой план произве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ывать подробно, частично, выборочно, творчес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главное и второстепенное в более насыщенных информацией текс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вопросы к прочитанн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 делать подборку книг на заданную те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такие языковые средства, как сравнение, эпитет, олицетворение, повтор, звукопись, и определять их функции в художествен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художественные особенности сказок, их структу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графическую, музыкальную или словесную иллюстрацию, овладеть приемом словесного рисования сюжетного и пейзажного фрагментов тек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ить формы драматизации: чтение по ролям, живые картины, произнесение реплики героя с использованием мимики, развернутой драмат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творческий переска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составить диафильм к небольшому текс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ть участие в конкурсе чтец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собственные высказывания на основе прочитан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"/>
          <p:cNvSpPr/>
          <p:nvPr/>
        </p:nvSpPr>
        <p:spPr>
          <a:xfrm>
            <a:off x="376200" y="18900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560" y="520560"/>
            <a:ext cx="8218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выки чт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4098960" y="2421000"/>
            <a:ext cx="2622600" cy="284796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847960"/>
              <a:gd name="textAreaBottom" fmla="*/ 2848320 h 28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062080" y="2421000"/>
            <a:ext cx="2809800" cy="28494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49400"/>
              <a:gd name="textAreaBottom" fmla="*/ 2849760 h 28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e05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324000" y="2421000"/>
            <a:ext cx="2687400" cy="289548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a304"/>
              </a:gs>
              <a:gs pos="100000">
                <a:srgbClr val="b07203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07880" y="282888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людение логических па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мание   прочит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965320" y="338616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60- 65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5"/>
          <p:cNvSpPr txBox="1"/>
          <p:nvPr/>
        </p:nvSpPr>
        <p:spPr>
          <a:xfrm>
            <a:off x="7020000" y="2492280"/>
            <a:ext cx="1655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5070600" y="341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65 - 80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108000" y="487800"/>
            <a:ext cx="9036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еловек — часть природы и об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то такое тела и вещества, твердые вещества, жидкости и газ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сновные свойства воздуха и воды, круговорот воды в природ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основные группы живого (растения, животные, грибы, бактерии); группы растений (водоросли, мхи, папоротники, хвойные, цветковые); группы животных (насекомые, рыбы, земноводные, пресмыкающиеся, птицы, звери);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неживой и живой природой, внутри живой природы (между растениями и животными, между различными животными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природой и человеком (значение природы для человека, отрицательное и положительное воздействие людей на природу, меры по охране природы, правила личного поведения в природе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строение тела человека, основные системы органов и их роль в организм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авила гигиены; основы здорового образа жизн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правила безопасного поведения в быту и на улице, основные дорожные знаки; правила противопожарной безопасности, основы экологической безопас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отребности людей; товары и услуг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оль природных богатств в экономике; основные отрасли сельского хозяйства и промышленности; роль денег в экономике, основы семейного бюджет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некоторые города России, их главные достопримечательности; страны, граничащие с Россией (с опорой на карту); страны зарубежной Европы, их столицы (с опорой на карту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должны уме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аспознавать природные объекты с помощью атласа-определителя; различать наиболее распространенные в данной местности растения, животных,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оводить наблюдения природных тел и явлений, простейшие опыты и практические работы, фиксировать их результат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бъяснять в пределах требований программы взаимосвязи в природе и между природой и человеком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ыполнять правила личного поведения в природе, обосновывать их необход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87280" y="1890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окружающему м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7120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Georgia"/>
              </a:rPr>
              <a:t>Ваш ребенок –</a:t>
            </a:r>
            <a:br>
              <a:rPr sz="4400"/>
            </a:br>
            <a:r>
              <a:rPr b="1" i="1" lang="ru-RU" sz="4400" spc="-1" strike="noStrike">
                <a:solidFill>
                  <a:srgbClr val="008000"/>
                </a:solidFill>
                <a:latin typeface="Georgia"/>
              </a:rPr>
              <a:t>                      третьеклассник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339840" y="1781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Многие из них – довольно злые критики. Именно на девятом году жизни начинается кратковременный период, когда дети обесценивают авторитет взрослых, становясь ци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4"/>
          <p:cNvSpPr/>
          <p:nvPr/>
        </p:nvSpPr>
        <p:spPr>
          <a:xfrm>
            <a:off x="307800" y="3719520"/>
            <a:ext cx="845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 детей в возрасте девяти лет, в отличие от следующего периода (10-12 лет), самооценка по-прежнему в значительной степени определяется отношением родителей. Чем сильнее дети чувствуют критику и отвержение с нашей стороны, тем хуже они о себе думаю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258840"/>
            <a:ext cx="871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Georgia"/>
              </a:rPr>
              <a:t>Какие они, эти загадочные девятилетки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1042920" y="14842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О душе и личности ребё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276120" y="2254320"/>
            <a:ext cx="85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Georgia"/>
              </a:rPr>
              <a:t>Немецкий антропософ Рудольф Штайнер называл детей маленькими ангелами, которые год за годом всё ближе спускаются к земле. В девять лет, говорил он, эти ангелы окончательно падают на землю, теряя свои крылы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250920" y="3645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Плюсы и минусы развивающегося интелл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5"/>
          <p:cNvSpPr/>
          <p:nvPr/>
        </p:nvSpPr>
        <p:spPr>
          <a:xfrm>
            <a:off x="395280" y="528156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Влюблённость как форма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Что же нужно   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                    третьекласснику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395280" y="1844640"/>
            <a:ext cx="849780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тение хороше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Уважение к их собственному мнению, чутью, реш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Искренность со стороны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395280" y="1071720"/>
            <a:ext cx="842472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обучение самостоятельности в подготовке домашних зад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систематический контроль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ыполнения домашней рабо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одготовка ребенка к грамотному написанию текс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достичь нормы на конец года по технике чт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работа над развитием вычислительных навы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оспитание культуры общ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оспитание таких качеств и умений как: самообслуживание, аккуратность в работе, ответственность по отношению к учёбе и  т.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развивать умение выразить свою точку зрения, принять друг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развивать умение слушать и вступать в диа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учить проявлять инициативу и самостоятельность в об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учиться самостоятельно осуществлять поиск информации, ответы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504800" y="214200"/>
            <a:ext cx="63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ства по обеспечению успешности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остижении образовательных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960" y="907560"/>
            <a:ext cx="8870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перв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бей лежаче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йка” - достаточное наказание, и не стоит дважды наказывать за одни и те же ошибки. Оценку своих знаний ребенок уже получил, и дома от своих родителей он ждет спокойной помощи, а не новых упре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тор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более одного недостатка в минутку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избавить ребенка от недостатка, замечайте не более одного в минуту. Знайте меру. Иначе ваш ребенок просто “отключится”, перестанет реагировать на такие речи, станет нечувствительным к  вашим оценка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треть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за двумя зайцами погонишься.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ветуйтесь с ребенком и начните с ликвидации тех учебных трудностей, которые наиболее значимы для него самого. Здесь вы скорее встретите понимание и единодуш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четверт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хвалить - исполнителя, критиковать – 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должна иметь точный адрес. Ребенок обычно считает, что оценивают всю его личность. В ваших силах помочь ему отделить оценку его личности от оценки его работы. Адресовать к личности надо похвалу. Положительная оценка должна относиться к человеку, который стал чуточку более знающим и умел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пят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оценка должна сравнивать сегодняшние успехи ребенка с его собственными вчерашними неудач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до сравнивать ребенка с успехами соседского. Ведь даже самый малый успех ребенка – это реальная победа над собой, и она должна быть замечена и оценена по заслу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шест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скупитесь на похв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такого двоечника, которого не за что было бы похвалить. Выделить из потока неудач крошечный островок, соломинку, и у ребенка возникнет плацдарм, с которого можно вести наступление на незнание и неумение. Ведь родительские: “Не сделал, не старался, не учил” порождает Эхо: “не хочу, не могу, не буду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124000" y="5300640"/>
            <a:ext cx="4927680" cy="531720"/>
            <a:chOff x="2124000" y="5300640"/>
            <a:chExt cx="4927680" cy="531720"/>
          </a:xfrm>
        </p:grpSpPr>
        <p:sp>
          <p:nvSpPr>
            <p:cNvPr id="158" name="AutoShape 3"/>
            <p:cNvSpPr/>
            <p:nvPr/>
          </p:nvSpPr>
          <p:spPr>
            <a:xfrm>
              <a:off x="2124000" y="530064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"/>
            <p:cNvSpPr/>
            <p:nvPr/>
          </p:nvSpPr>
          <p:spPr>
            <a:xfrm>
              <a:off x="2163960" y="531972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6"/>
          <p:cNvGrpSpPr/>
          <p:nvPr/>
        </p:nvGrpSpPr>
        <p:grpSpPr>
          <a:xfrm>
            <a:off x="2128680" y="4410000"/>
            <a:ext cx="4927680" cy="531720"/>
            <a:chOff x="2128680" y="4410000"/>
            <a:chExt cx="4927680" cy="531720"/>
          </a:xfrm>
        </p:grpSpPr>
        <p:sp>
          <p:nvSpPr>
            <p:cNvPr id="161" name="AutoShape 7"/>
            <p:cNvSpPr/>
            <p:nvPr/>
          </p:nvSpPr>
          <p:spPr>
            <a:xfrm>
              <a:off x="2128680" y="441000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2168640" y="442908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0"/>
          <p:cNvGrpSpPr/>
          <p:nvPr/>
        </p:nvGrpSpPr>
        <p:grpSpPr>
          <a:xfrm>
            <a:off x="2128680" y="3571920"/>
            <a:ext cx="4927680" cy="531720"/>
            <a:chOff x="2128680" y="3571920"/>
            <a:chExt cx="4927680" cy="531720"/>
          </a:xfrm>
        </p:grpSpPr>
        <p:sp>
          <p:nvSpPr>
            <p:cNvPr id="164" name="AutoShape 11"/>
            <p:cNvSpPr/>
            <p:nvPr/>
          </p:nvSpPr>
          <p:spPr>
            <a:xfrm>
              <a:off x="2128680" y="357192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2"/>
            <p:cNvSpPr/>
            <p:nvPr/>
          </p:nvSpPr>
          <p:spPr>
            <a:xfrm>
              <a:off x="2168640" y="359100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8160" y="125280"/>
            <a:ext cx="6675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a304"/>
                </a:solidFill>
                <a:latin typeface="Arial"/>
              </a:rPr>
              <a:t>ПОВЕСТКА ДН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496800" y="1201680"/>
            <a:ext cx="771840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595c"/>
                </a:solidFill>
                <a:latin typeface="Georgia"/>
              </a:rPr>
              <a:t>С НОВ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595c"/>
                </a:solidFill>
                <a:latin typeface="Georgia"/>
              </a:rPr>
              <a:t>УЧЕБНЫМ ГОД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fca30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06720" y="2693880"/>
            <a:ext cx="4927320" cy="531720"/>
            <a:chOff x="2106720" y="2693880"/>
            <a:chExt cx="4927320" cy="531720"/>
          </a:xfrm>
        </p:grpSpPr>
        <p:sp>
          <p:nvSpPr>
            <p:cNvPr id="175" name="AutoShape 23"/>
            <p:cNvSpPr/>
            <p:nvPr/>
          </p:nvSpPr>
          <p:spPr>
            <a:xfrm>
              <a:off x="2106720" y="2693880"/>
              <a:ext cx="4927320" cy="5317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146320" y="2712960"/>
              <a:ext cx="487008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80e05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8" descr="3"/>
          <p:cNvPicPr/>
          <p:nvPr/>
        </p:nvPicPr>
        <p:blipFill>
          <a:blip r:embed="rId1"/>
          <a:srcRect l="0" t="0" r="18696" b="0"/>
          <a:stretch/>
        </p:blipFill>
        <p:spPr>
          <a:xfrm>
            <a:off x="7286760" y="0"/>
            <a:ext cx="185724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1"/>
          <p:cNvSpPr/>
          <p:nvPr/>
        </p:nvSpPr>
        <p:spPr>
          <a:xfrm>
            <a:off x="2490840" y="27813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ласс: программа, режим,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3"/>
          <p:cNvSpPr/>
          <p:nvPr/>
        </p:nvSpPr>
        <p:spPr>
          <a:xfrm>
            <a:off x="2550600" y="36439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2558160" y="45075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нност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2629440" y="537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седьм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техника оценоч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ивать детский труд надо очень дробно, дифференцированно. Здесь не годится глобальная оценка, в которой соединены плоды очень разных усилий ребенка – и правильность вычислений, и умение решать задачи определенного типа, и грамотность записи, и внешний вид работы. При дифференцированной оценке у ребенка нет ни иллюзии полного успеха, ни ощущения полной неудачи. Возникает самая деловая мотивация учения: “Еще не знаю, но могу и хочу знать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осьм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ставьте перед ребенком предельно конкретные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да он попытается их достигнуть. Не искушайте ребенка невыполненными целями, не толкайте его на путь заведомого вранья. Если он сделал в диктанте девять ошибок, не берите с него обещания постараться в следующий раз написать без ошибок. Договоритесь, что их будет не более семи, и радуйтесь вместе с ребенком, если это будет достигну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075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3033"/>
                </a:solidFill>
                <a:latin typeface="Arial"/>
              </a:rPr>
              <a:t>Обязанности родителе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3120" y="1203480"/>
            <a:ext cx="851688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«Об образовании в Российской Федерации» от 29.12.2012 N 273-ФЗ ст 44 (ред. от 29.07.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ья 44. Права, обязанности и ответственность в сфере образования родителей (законных представителей) несовершеннолетних обучающих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ны заложить основы физического, нравственного и интеллектуального развития личности ребен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бразовательные организа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азывают помощь родителя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конным представителям) несовершеннолетних обучающихся в воспитании детей, охране и укреплении их физического и психического здоровья, развитии индивидуальных способностей и необходимой коррекции нарушений их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обяз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людать правила внутреннего распорядка организации, осуществляющей образовательную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важать честь и достоинство обучающихся и работников организации, осуществляющей образовательную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еисполнение или ненадлежащее исполнение обязан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становленных настоящим Федеральным законом и иными федеральными законам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несут ответственность, предусмотренную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3033"/>
                </a:solidFill>
                <a:latin typeface="Arial"/>
              </a:rPr>
              <a:t>Обязанности родителе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50920" y="1412640"/>
            <a:ext cx="86421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ный кодекс Российской Федерации от 29.12.1995 N 223-ФЗ ст 63 (ред. от 01.05.201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ья 63. Права и обязанности родителей по воспитанию и образованию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имеют преимущественное право на обучение и воспитание своих детей перед всеми другими л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 имеют право выбор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ормы получения детьми образования и формы их обучения с учетом мнения детей до получения ими основ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ентябр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енняя выставка (подел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ём макул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корзины добра (для пожилых люд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476360" y="594972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А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021- 2022 уч.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6659640" y="189000"/>
            <a:ext cx="234000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БОУ «СШ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611280" y="1341360"/>
            <a:ext cx="8713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язык – 4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ной язык (русский)-1 урок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ное чтение – 3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.чт. на родном языке (русском)- 1урок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 – 4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ающий мир – 2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ий язык – 2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я, музыка, ИЗО – по 1 уроку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а – 2 урока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0" y="3571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чебный план на 2021-2022 учебный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452520" y="642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ОВОЙ КАЛЕНДАРНЫЙ УЧЕБНЫ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7336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.10 - 07.11 - о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08.11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1.12 – 11.01 - зим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2.01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6.03 - 03.04 - ве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04.04 - в школ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.05 - последний учеб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204280" y="3571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ЖИМ РАБОТЫ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912960"/>
            <a:ext cx="8497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ы работы школы: 08.00 – 18.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исание звон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к 08.00. – 08.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к 08.55. – 09.3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к 09.55. – 10.3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к 10.55. – 11.3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к 11.55. – 12.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684360" y="265104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ителя-предме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79280" y="3395520"/>
            <a:ext cx="886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Физическая культу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Ротарь Пол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узы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Афанасьева Алёна Евген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нглийский язы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анжарова Наталья Владимировна, Симинихина Ольг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41360" y="250920"/>
            <a:ext cx="86043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усский язык, литературное чтение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итературное чтение на родном языке (русском),родной язык (русский)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ематика, окружающий мир, технология, изо, физкультура(3ча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ндаренко Виктория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250920" y="115920"/>
            <a:ext cx="889308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концу обучения в третьем классе учащиеся долж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имя существительное, имя прилагательное, глагол, личное местоим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ы предложений по цели высказывания и инто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лавные (подлежащее и сказуемое) и второстепенные члены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с однородными чле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, наход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грамматическую основу простого двусоставного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в простом предложении однородные члены(как главные, так и второстепен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практическ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водить фонетический анализ слова и разбор слова по соста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характеризовать имя существительное и имя прилагательное как части речи (значение и морфологические призн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оставлять план текста (при помощи учител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равопис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уффиксов имен существительных –онок- (-енок-),-ек-, -ик-, -ост(ь)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варных слов, определенных программ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остановки знаков препинания при однородных членах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3267000" y="5321160"/>
            <a:ext cx="274968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2"/>
          <p:cNvGrpSpPr/>
          <p:nvPr/>
        </p:nvGrpSpPr>
        <p:grpSpPr>
          <a:xfrm>
            <a:off x="5908680" y="1228680"/>
            <a:ext cx="2749320" cy="1247040"/>
            <a:chOff x="5908680" y="1228680"/>
            <a:chExt cx="2749320" cy="1247040"/>
          </a:xfrm>
        </p:grpSpPr>
        <p:sp>
          <p:nvSpPr>
            <p:cNvPr id="196" name="AutoShape 3"/>
            <p:cNvSpPr/>
            <p:nvPr/>
          </p:nvSpPr>
          <p:spPr>
            <a:xfrm>
              <a:off x="5908680" y="12286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5951520" y="13039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6354720" y="2798640"/>
            <a:ext cx="2736360" cy="1223280"/>
            <a:chOff x="6354720" y="2798640"/>
            <a:chExt cx="2736360" cy="1223280"/>
          </a:xfrm>
        </p:grpSpPr>
        <p:sp>
          <p:nvSpPr>
            <p:cNvPr id="199" name="AutoShape 6"/>
            <p:cNvSpPr/>
            <p:nvPr/>
          </p:nvSpPr>
          <p:spPr>
            <a:xfrm>
              <a:off x="6354720" y="279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6397200" y="287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6197760" y="4221000"/>
            <a:ext cx="2663280" cy="1152000"/>
            <a:chOff x="6197760" y="4221000"/>
            <a:chExt cx="2663280" cy="1152000"/>
          </a:xfrm>
        </p:grpSpPr>
        <p:sp>
          <p:nvSpPr>
            <p:cNvPr id="202" name="AutoShape 9"/>
            <p:cNvSpPr/>
            <p:nvPr/>
          </p:nvSpPr>
          <p:spPr>
            <a:xfrm>
              <a:off x="6197760" y="4221000"/>
              <a:ext cx="2663280" cy="11520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6239160" y="4290480"/>
              <a:ext cx="2569680" cy="4680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6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7"/>
          <p:cNvGrpSpPr/>
          <p:nvPr/>
        </p:nvGrpSpPr>
        <p:grpSpPr>
          <a:xfrm>
            <a:off x="3525840" y="2503440"/>
            <a:ext cx="1989000" cy="1987560"/>
            <a:chOff x="3525840" y="2503440"/>
            <a:chExt cx="1989000" cy="1987560"/>
          </a:xfrm>
        </p:grpSpPr>
        <p:sp>
          <p:nvSpPr>
            <p:cNvPr id="212" name="Oval 28"/>
            <p:cNvSpPr/>
            <p:nvPr/>
          </p:nvSpPr>
          <p:spPr>
            <a:xfrm>
              <a:off x="3525840" y="2503440"/>
              <a:ext cx="198900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9"/>
            <p:cNvSpPr/>
            <p:nvPr/>
          </p:nvSpPr>
          <p:spPr>
            <a:xfrm>
              <a:off x="3655440" y="263304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0"/>
            <p:cNvSpPr/>
            <p:nvPr/>
          </p:nvSpPr>
          <p:spPr>
            <a:xfrm>
              <a:off x="3657240" y="263592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1"/>
            <p:cNvSpPr/>
            <p:nvPr/>
          </p:nvSpPr>
          <p:spPr>
            <a:xfrm>
              <a:off x="3749400" y="2719080"/>
              <a:ext cx="155592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32"/>
            <p:cNvGrpSpPr/>
            <p:nvPr/>
          </p:nvGrpSpPr>
          <p:grpSpPr>
            <a:xfrm>
              <a:off x="3776760" y="2736720"/>
              <a:ext cx="1506600" cy="1505880"/>
              <a:chOff x="3776760" y="2736720"/>
              <a:chExt cx="1506600" cy="1505880"/>
            </a:xfrm>
          </p:grpSpPr>
          <p:sp>
            <p:nvSpPr>
              <p:cNvPr id="217" name="Oval 33"/>
              <p:cNvSpPr/>
              <p:nvPr/>
            </p:nvSpPr>
            <p:spPr>
              <a:xfrm>
                <a:off x="3776760" y="2736720"/>
                <a:ext cx="150660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34"/>
              <p:cNvSpPr/>
              <p:nvPr/>
            </p:nvSpPr>
            <p:spPr>
              <a:xfrm>
                <a:off x="3795840" y="2745000"/>
                <a:ext cx="147060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35"/>
              <p:cNvSpPr/>
              <p:nvPr/>
            </p:nvSpPr>
            <p:spPr>
              <a:xfrm>
                <a:off x="3811680" y="2759400"/>
                <a:ext cx="139824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36"/>
              <p:cNvSpPr/>
              <p:nvPr/>
            </p:nvSpPr>
            <p:spPr>
              <a:xfrm>
                <a:off x="3893400" y="2797920"/>
                <a:ext cx="124272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37"/>
            <p:cNvSpPr/>
            <p:nvPr/>
          </p:nvSpPr>
          <p:spPr>
            <a:xfrm>
              <a:off x="4444920" y="32932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58840"/>
            <a:ext cx="8211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6"/>
          <p:cNvSpPr/>
          <p:nvPr/>
        </p:nvSpPr>
        <p:spPr>
          <a:xfrm>
            <a:off x="3826080" y="31399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7"/>
          <p:cNvSpPr/>
          <p:nvPr/>
        </p:nvSpPr>
        <p:spPr>
          <a:xfrm>
            <a:off x="3414600" y="5518080"/>
            <a:ext cx="22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на конце имён существительных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8"/>
          <p:cNvGrpSpPr/>
          <p:nvPr/>
        </p:nvGrpSpPr>
        <p:grpSpPr>
          <a:xfrm>
            <a:off x="382680" y="1365120"/>
            <a:ext cx="2748960" cy="1247040"/>
            <a:chOff x="382680" y="1365120"/>
            <a:chExt cx="2748960" cy="1247040"/>
          </a:xfrm>
        </p:grpSpPr>
        <p:sp>
          <p:nvSpPr>
            <p:cNvPr id="226" name="AutoShape 49"/>
            <p:cNvSpPr/>
            <p:nvPr/>
          </p:nvSpPr>
          <p:spPr>
            <a:xfrm>
              <a:off x="382680" y="1365120"/>
              <a:ext cx="274896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>
              <a:off x="425520" y="1440360"/>
              <a:ext cx="265248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51"/>
          <p:cNvGrpSpPr/>
          <p:nvPr/>
        </p:nvGrpSpPr>
        <p:grpSpPr>
          <a:xfrm>
            <a:off x="366840" y="4297320"/>
            <a:ext cx="2663280" cy="1150200"/>
            <a:chOff x="366840" y="4297320"/>
            <a:chExt cx="2663280" cy="1150200"/>
          </a:xfrm>
        </p:grpSpPr>
        <p:sp>
          <p:nvSpPr>
            <p:cNvPr id="229" name="AutoShape 52"/>
            <p:cNvSpPr/>
            <p:nvPr/>
          </p:nvSpPr>
          <p:spPr>
            <a:xfrm>
              <a:off x="366840" y="429732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3"/>
            <p:cNvSpPr/>
            <p:nvPr/>
          </p:nvSpPr>
          <p:spPr>
            <a:xfrm>
              <a:off x="408240" y="436680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54"/>
          <p:cNvGrpSpPr/>
          <p:nvPr/>
        </p:nvGrpSpPr>
        <p:grpSpPr>
          <a:xfrm>
            <a:off x="71280" y="2817720"/>
            <a:ext cx="2736720" cy="1223280"/>
            <a:chOff x="71280" y="2817720"/>
            <a:chExt cx="2736720" cy="1223280"/>
          </a:xfrm>
        </p:grpSpPr>
        <p:sp>
          <p:nvSpPr>
            <p:cNvPr id="232" name="AutoShape 55"/>
            <p:cNvSpPr/>
            <p:nvPr/>
          </p:nvSpPr>
          <p:spPr>
            <a:xfrm>
              <a:off x="71280" y="2817720"/>
              <a:ext cx="273672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56"/>
            <p:cNvSpPr/>
            <p:nvPr/>
          </p:nvSpPr>
          <p:spPr>
            <a:xfrm>
              <a:off x="113760" y="2891520"/>
              <a:ext cx="264060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7"/>
          <p:cNvSpPr/>
          <p:nvPr/>
        </p:nvSpPr>
        <p:spPr>
          <a:xfrm>
            <a:off x="6632640" y="2851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родовых окончаний имё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8"/>
          <p:cNvSpPr/>
          <p:nvPr/>
        </p:nvSpPr>
        <p:spPr>
          <a:xfrm>
            <a:off x="6110280" y="13939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паде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9"/>
          <p:cNvSpPr/>
          <p:nvPr/>
        </p:nvSpPr>
        <p:spPr>
          <a:xfrm>
            <a:off x="642960" y="153360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безударной 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338040" y="3021120"/>
            <a:ext cx="20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арн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644400" y="44226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непроизносим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6489720" y="4473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ельный Ъ и Ь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108000" y="335160"/>
            <a:ext cx="9036000" cy="64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сложения однозначных чисел в пределах 20 и соответствующие случаи вычита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умножения однозначных чисел и соответствующие случаи деле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 арифметических дейст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сложения (переместительное и сочета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умножения (переместительное, сочетательное, распредели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 деления суммы на чи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 компонентов  и  результатов  действий;  правила  нахождения слагаемого, уменьшаемого, вычитаемого, множителя, делимого, дел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ядный состав многозначных чисел (названия разрядов, классов, соотношение разрядных единиц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письменного сложения и выч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сравнения и измерения площа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вычисления площади прямоугольника и периметра многоуго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порядка выполнения действий в выраже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геометрических фигур: точка, прямая, кривая, отрезок, ломаная, угол (прямой, тупой, острый), многоугольник, прямоугольник, квадрат, треугольник, окружность, кр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 задачи: условие, воп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и записывать числа в пределах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выполнять устно четыре арифметических действия в пределах 100 и в пределах 1000 в случаях, сводимых к действиям в пределах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орядка выполнения действий в выражениях, содержащих несколько действий (со скобками и без ни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текстовые задачи, связанные со смыслом изученных арифметических действи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длину отрезка с помощью линейки и чертить отрезки заданной дл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714240" y="1159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21:44:03Z</dcterms:created>
  <dc:creator>школа</dc:creator>
  <dc:description/>
  <dc:language>en-US</dc:language>
  <cp:lastModifiedBy>DNS</cp:lastModifiedBy>
  <dcterms:modified xsi:type="dcterms:W3CDTF">2021-09-30T12:22:17Z</dcterms:modified>
  <cp:revision>43</cp:revision>
  <dc:subject/>
  <dc:title>Презентация PowerPoint</dc:title>
</cp:coreProperties>
</file>