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73C-97A8-4F5C-A0CF-07284355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C31-4F0B-48E1-B389-0D3CE40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F1A-29A9-4D1C-84F0-CCC654C8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92C-FB4F-4BDC-818D-5156B21D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417B-490E-4057-B120-3EC95756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0EAE-6089-49EB-8D0E-2A3F26FB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224-C7B8-4A7A-9306-E25B047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BF1-2329-4AAD-8AE9-191385D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A31-D389-4AE8-97AD-41F6134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A54-C475-4FD7-8849-024F8EC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549-0944-45AA-9DF6-AAE58DD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A38-E288-48D8-9DD0-5BFF8EE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BBF-6530-4155-839F-4A13309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967E-1FB1-4D30-A086-8FA581E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CFD-C54E-45FC-9B24-A451B1A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7BB-BE8C-4196-875A-F24AABBB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78D-EAE7-45AE-BF45-24141C33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7C76-60E3-4E9B-83CD-FB560D7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4599-4031-44C4-AB67-CE78B5B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103D-2916-4360-8B63-208338C1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33DD-3692-4D30-9E18-CF069DA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83DC-5FFB-4AC3-B4D7-7428AEA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060-73D5-4C6E-B6DD-61D4A55D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17BC-57D1-4DDF-9B55-BE1D4FA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037D-02AD-4B9E-AEBB-6933BB6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FADA-49E8-498F-8219-E83F3D6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8B18-5333-481F-BB18-4BB35D5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EB0B-4A61-41BC-83BA-57DF1A5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1310-B8B9-4287-B2EC-16C5F5C3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0722-40D8-4D85-9014-3373055C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85BE-63E9-4D42-9FB6-EBE90303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66B2-BE1E-4A76-84EC-8E34E5C5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562F-F15D-43B5-BEC1-B510E1B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37F-9841-437A-B61A-A6A141F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9B7C7-BFA5-4EBF-9E0D-BD0D0F31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D1B3-E789-48C5-ABD3-A28DA22C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ADB3-671D-4EDD-8CC1-7ABBE15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B503-7959-4BD9-80B0-C46CBEA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725E-50ED-44ED-B2CF-E3BC57B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EB46-EB8C-414E-90D3-22EC5DA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BD11-4823-4B97-9FF9-A3EEB99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FBA7-E3DF-4049-9732-5B1C3EA4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C7B2-4243-4DAF-A771-E1FEABB5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E37-A2AF-44E4-8C81-940B61E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9AF-C3B1-4280-98A5-7A63851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A30-0A5E-4473-A2F2-3936A27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160-7973-4FD3-8041-73424EE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243-A6E2-465E-9A1F-0569E9E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04D22-3480-4DE5-B522-68B8EE5B3A1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43B89-AEF3-4E5F-A67E-FD790E3796F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866CA-2271-4BEF-8C3B-84967A37485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F47A-CC57-4405-AEE3-28ADED54EF4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68360" y="172872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Музыкальное воспитание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         </a:t>
            </a:r>
            <a:r>
              <a:rPr b="1" lang="ru-RU" sz="6000" spc="-1" strike="noStrike">
                <a:solidFill>
                  <a:srgbClr val="54a021"/>
                </a:solidFill>
                <a:latin typeface="Monotype Corsiva"/>
              </a:rPr>
              <a:t>дошкольников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26920" y="3586320"/>
            <a:ext cx="5088240" cy="27003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-108000" y="684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4a021"/>
                </a:solidFill>
                <a:latin typeface="Times New Roman"/>
              </a:rPr>
              <a:t>Государственное бюджетное дошкольное образовательное учреждение детский сад № 84 комбинированного  вида Калин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651640" y="4653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Юркова Анастасия Михайловна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42332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022 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7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844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гащение слухового опыта у детей при знакомстве с основными жанрами, стилями и направлениями в музык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копление представлений о жизни и творчестве русских и зарубежных композиторов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детей анализу, сравнению и сопоставлению при разборе музыкальных форм и средств музыкальной выразитель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творческой интерпретации музыки разными средствами художественной вырази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88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чистоты интонирования в пении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apella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на два голос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воение навыков ритмического многоголосия посредством игрового музицирова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мулирование самостоятельной деятельности детей по сочинению танцев, игр, оркестровок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й сотрудничества и сотворчества в коллективной музыкальной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-17640" y="549360"/>
            <a:ext cx="7560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“</a:t>
            </a:r>
            <a:r>
              <a:rPr b="1" i="1" lang="ru-RU" sz="3200" spc="-1" strike="noStrike">
                <a:solidFill>
                  <a:srgbClr val="54a021"/>
                </a:solidFill>
                <a:latin typeface="Monotype Corsiva"/>
              </a:rPr>
              <a:t>Музыка является самым чудодейственным, самым тонким средством привлечения к добру, красоте, человечности. Чувство красоты музыкальной мелодии открывает перед ребенком собственную красоту — маленький человек осознает свое достоинство, развивает духовные силы ребенка, его творческую активность. Жизнь детей без музыки невозможна, как невозможна без игры и без сказки....”                                                            В.А. Сухомлинск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8" descr="Music3"/>
          <p:cNvPicPr/>
          <p:nvPr/>
        </p:nvPicPr>
        <p:blipFill>
          <a:blip r:embed="rId1"/>
          <a:stretch/>
        </p:blipFill>
        <p:spPr>
          <a:xfrm>
            <a:off x="6191280" y="5805360"/>
            <a:ext cx="29527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54a021"/>
                </a:solidFill>
                <a:latin typeface="Monotype Corsiva"/>
              </a:rPr>
              <a:t>Цель музыкального воспитания: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44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Развитие общей культуры дошкольника, накопление опыта взаимодействия с музыкальными произведен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Развитие у ребенка позиции активного участника, исполнителя-создателя музыкальных произведений для умения выразить себя, свои эмоции и чувства, настроения и переживания доступными музыкальными средств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54a021"/>
                </a:solidFill>
                <a:latin typeface="Monotype Corsiva"/>
              </a:rPr>
              <a:t>Младший дошкольный возраст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оздание условий для активного экспериментирования со звуками с целью накопления первоначального музыкального опы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собое значение имеет развитие метроритмического чувств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2723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809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оспитание у детей слуховой сосредоточенности и эмоциональной отзывчивости на музык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рганизация детского экспериментирования с немузыкальными звуками и исследования качеств музыкального звука: высоты, длительности, динамики, темб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Активизация слуховой восприимчивости младших дошкольник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тие двигательно-активных видов музыкальной деятельности: музыкально-ритмических движений и игры на шумовых музыкальных инстру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тие координации движений и мелкой моторики при обучении приемам игры на инстру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Формирование вокальных певческих умений в процессе подпевания взрослом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тимулирование умений импровизировать и сочинять простейшие музыкально-художественные образы в музыкальных играх и танц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54a021"/>
                </a:solidFill>
                <a:latin typeface="Monotype Corsiva"/>
              </a:rPr>
              <a:t>Средний дошкольный возраст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231920"/>
            <a:ext cx="8218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Ребенок становится активным участником танцевальной, певческой, инструментальной деятельност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Способность интерпретировать характер элементарных музыкальных образов, настроение музыки, ориентируясь в средствах выраже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Особенно значимо обучение детей технике пения, движения, музицир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восприятия – слушания - интерпрет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оспитание слушательской культуры детей, развитие умений понимать и интерпретировать выразительные средства музы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умений общаться и сообщать о себе, своем настроении с помощью музы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музыкального слуха: интонационного, мелодического, гармонического, ладового; освоение элементарной музыкальной грамо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a021"/>
                </a:solidFill>
                <a:latin typeface="Monotype Corsiva"/>
              </a:rPr>
              <a:t>Задачи в области музыкального исполнительства – импровизации – творчества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координации слуха и голоса, приобретение детьми певческих навыков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своение детьми приемов игры на детских музыкальных инструментах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своение элементов танца и ритмопластики для создания музыкальных двигательных образов в играх и драматизациях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тимулирование желания ребенка самостоятельно заниматься музыкальной деятельность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90c226"/>
                </a:solidFill>
                <a:latin typeface="Monotype Corsiva"/>
              </a:rPr>
              <a:t>Старший дошкольный возраст: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58112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азвитие умения устанавливать связи музыки с литературой, живописью, театром (интегративный подход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Умение выражать свои эмоции и чувства близкими для детей средствами: звуками, красками, движениями, слово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нтерпретация нюансов настроений и характеров в музык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Формирование музыковедческого опыта и музыкальной эрудиц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знание многообразия музыкальных жанров, форм, интонаци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2:20:48Z</dcterms:created>
  <dc:creator>Пользователь</dc:creator>
  <dc:description/>
  <dc:language>en-US</dc:language>
  <cp:lastModifiedBy>настюфффка</cp:lastModifiedBy>
  <dcterms:modified xsi:type="dcterms:W3CDTF">2022-10-21T07:14:06Z</dcterms:modified>
  <cp:revision>9</cp:revision>
  <dc:subject/>
  <dc:title>Музыкальное воспитание дошкольников</dc:title>
</cp:coreProperties>
</file>