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9BB0-ECA8-4E5D-8C1B-3D5D0E21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AD4A-C87B-43C6-9B65-84AAABE4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B34E-7B87-4E51-AFB8-6880E0CA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EFE-5438-4678-9FD2-DD64C440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45C1-1AEF-481D-B9D7-E250EF25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9A1E-356D-40E7-9D1F-2C3DE541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C7BC-A078-4926-A976-78A74358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0911-F547-4545-B836-DC013E04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2AF5-77F7-4419-B712-C714FBD6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B0C2-B8AB-49D6-BA07-305284F2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9E39-9A6A-4F12-A4F2-0882422D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095C-E933-4DF3-A4A1-2FE2B119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1DE6-CAEC-4E4B-80AA-7612F89D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71F5-1C86-4574-A6A4-A94D7285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6216-991F-4659-8CDA-0EC5691E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DB87-DAA1-4DDE-8BEC-1226472B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7715-B459-4D19-B676-2B2E3228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BC3F7-7D42-4D5F-A9F4-3CF759A4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0457F-53A0-487E-AAA2-539CEC42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E77E-CE86-4ECB-B34C-C115D054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94682-3614-4141-9D15-3E947F2C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FB912-61A0-4D62-8C99-96B375E7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2535-B74A-46C4-9B39-979E79FE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72363-3B68-4B49-8B55-7E50554F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4814B-C860-4ABA-B886-0F1B8434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7B127-FD98-4535-9355-4F5BB65E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F4583-D52C-4153-ABA2-2175D883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3AC8F-4EC5-4249-AB8C-3003A434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3D27A-6714-41F8-9A6A-2F5F711F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893F1-2A78-480E-B56C-266EEFF7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809DA-DC01-44EE-9722-E92C1019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50EA5-D196-4E05-8177-89BC9868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F5A90-D01E-4009-852C-26D6B4C6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FD3-B45E-4D0B-9D0F-A8B13815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01F02-EE87-45F5-AC57-808D0068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B550A-DD6A-4381-968E-754AFFF3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16BC2-84F6-4CDF-AB27-07E19DC6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B9193-BF79-4774-BED0-1A29EB0B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2C7F1-0C06-4E2C-8B57-D0DA6F56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A9661-9632-4072-85DC-7A9B212E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8FDF2-5CD6-45F1-9C99-B048F1F6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32AB0-EECD-407C-9E57-B8FDCE4D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7398C-5B92-42FF-A994-3A1539A6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9C4-DA16-4D42-98EB-27300F52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5A7A-A23B-464B-ACF0-24241D65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A64-58C3-4996-A16B-4B7C1C0B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0C8-7200-44C5-9998-580BE72D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6BC-43E5-4208-9567-F84E5CAC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97AAB-48F5-404F-843B-3E98BEB5F6B1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3B1D6-113F-4828-82D1-189DDB77ED76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235D7-28A5-44F3-840D-3732693CFD0E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7842F-62C4-4618-B465-6EB0CDB68BFB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468360" y="172872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54a021"/>
                </a:solidFill>
                <a:latin typeface="Monotype Corsiva"/>
              </a:rPr>
              <a:t>Музыкальное воспитание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54a021"/>
                </a:solidFill>
                <a:latin typeface="Monotype Corsiva"/>
              </a:rPr>
              <a:t>         </a:t>
            </a:r>
            <a:r>
              <a:rPr b="1" lang="ru-RU" sz="6000" spc="-1" strike="noStrike">
                <a:solidFill>
                  <a:srgbClr val="54a021"/>
                </a:solidFill>
                <a:latin typeface="Monotype Corsiva"/>
              </a:rPr>
              <a:t>дошкольников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826920" y="3586320"/>
            <a:ext cx="5088240" cy="27003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3"/>
          <p:cNvSpPr/>
          <p:nvPr/>
        </p:nvSpPr>
        <p:spPr>
          <a:xfrm>
            <a:off x="-108000" y="68436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4a021"/>
                </a:solidFill>
                <a:latin typeface="Times New Roman"/>
              </a:rPr>
              <a:t>Государственное бюджетное дошкольное образовательное учреждение детский сад № 84 комбинированного  вида Калининск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5651640" y="465300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Юркова Анастасия Михайловна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узыкальный руководител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4423320" y="63817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2022 г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27900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4a021"/>
                </a:solidFill>
                <a:latin typeface="Monotype Corsiva"/>
              </a:rPr>
              <a:t>Задачи в области музыкального восприятия – слушания - интерпретации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844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огащение слухового опыта у детей при знакомстве с основными жанрами, стилями и направлениями в музыке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копление представлений о жизни и творчестве русских и зарубежных композиторов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ение детей анализу, сравнению и сопоставлению при разборе музыкальных форм и средств музыкальной выразительност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тие умений творческой интерпретации музыки разными средствами художественной выразительност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4a021"/>
                </a:solidFill>
                <a:latin typeface="Monotype Corsiva"/>
              </a:rPr>
              <a:t>Задачи в области музыкального исполнительства – импровизации – творчества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2888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тие умений чистоты интонирования в пении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capella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на два голоса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воение навыков ритмического многоголосия посредством игрового музицировани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имулирование самостоятельной деятельности детей по сочинению танцев, игр, оркестровок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тие умений сотрудничества и сотворчества в коллективной музыкальной деятельност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-17640" y="549360"/>
            <a:ext cx="7560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4a021"/>
                </a:solidFill>
                <a:latin typeface="Monotype Corsiva"/>
              </a:rPr>
              <a:t>“</a:t>
            </a:r>
            <a:r>
              <a:rPr b="1" i="1" lang="ru-RU" sz="3200" spc="-1" strike="noStrike">
                <a:solidFill>
                  <a:srgbClr val="54a021"/>
                </a:solidFill>
                <a:latin typeface="Monotype Corsiva"/>
              </a:rPr>
              <a:t>Музыка является самым чудодейственным, самым тонким средством привлечения к добру, красоте, человечности. Чувство красоты музыкальной мелодии открывает перед ребенком собственную красоту — маленький человек осознает свое достоинство, развивает духовные силы ребенка, его творческую активность. Жизнь детей без музыки невозможна, как невозможна без игры и без сказки....”                                                            В.А. Сухомлинский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8" descr="Music3"/>
          <p:cNvPicPr/>
          <p:nvPr/>
        </p:nvPicPr>
        <p:blipFill>
          <a:blip r:embed="rId1"/>
          <a:stretch/>
        </p:blipFill>
        <p:spPr>
          <a:xfrm>
            <a:off x="6191280" y="5805360"/>
            <a:ext cx="295272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300" spc="-1" strike="noStrike">
                <a:solidFill>
                  <a:srgbClr val="54a021"/>
                </a:solidFill>
                <a:latin typeface="Monotype Corsiva"/>
              </a:rPr>
              <a:t>Цель музыкального воспитания: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8446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Развитие общей культуры дошкольника, накопление опыта взаимодействия с музыкальными произведения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Развитие у ребенка позиции активного участника, исполнителя-создателя музыкальных произведений для умения выразить себя, свои эмоции и чувства, настроения и переживания доступными музыкальными средствам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54a021"/>
                </a:solidFill>
                <a:latin typeface="Monotype Corsiva"/>
              </a:rPr>
              <a:t>Младший дошкольный возраст: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оздание условий для активного экспериментирования со звуками с целью накопления первоначального музыкального опыт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Особое значение имеет развитие метроритмического чувств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2723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4a021"/>
                </a:solidFill>
                <a:latin typeface="Monotype Corsiva"/>
              </a:rPr>
              <a:t>Задачи в области музыкального восприятия – слушания - интерпретации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809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Воспитание у детей слуховой сосредоточенности и эмоциональной отзывчивости на музык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Организация детского экспериментирования с немузыкальными звуками и исследования качеств музыкального звука: высоты, длительности, динамики, тембра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Активизация слуховой восприимчивости младших дошкольнико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4a021"/>
                </a:solidFill>
                <a:latin typeface="Monotype Corsiva"/>
              </a:rPr>
              <a:t>Задачи в области музыкального исполнительства – импровизации – творчества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Развитие двигательно-активных видов музыкальной деятельности: музыкально-ритмических движений и игры на шумовых музыкальных инструментах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Развитие координации движений и мелкой моторики при обучении приемам игры на инструментах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Формирование вокальных певческих умений в процессе подпевания взрослом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Стимулирование умений импровизировать и сочинять простейшие музыкально-художественные образы в музыкальных играх и танца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54a021"/>
                </a:solidFill>
                <a:latin typeface="Monotype Corsiva"/>
              </a:rPr>
              <a:t>Средний дошкольный возраст: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1231920"/>
            <a:ext cx="8218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Ребенок становится активным участником танцевальной, певческой, инструментальной деятельности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Способность интерпретировать характер элементарных музыкальных образов, настроение музыки, ориентируясь в средствах выражения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Особенно значимо обучение детей технике пения, движения, музицировани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4a021"/>
                </a:solidFill>
                <a:latin typeface="Monotype Corsiva"/>
              </a:rPr>
              <a:t>Задачи в области музыкального восприятия – слушания - интерпретации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213372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Воспитание слушательской культуры детей, развитие умений понимать и интерпретировать выразительные средства музык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Развитие умений общаться и сообщать о себе, своем настроении с помощью музык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Развитие музыкального слуха: интонационного, мелодического, гармонического, ладового; освоение элементарной музыкальной грамот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4a021"/>
                </a:solidFill>
                <a:latin typeface="Monotype Corsiva"/>
              </a:rPr>
              <a:t>Задачи в области музыкального исполнительства – импровизации – творчества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Развитие координации слуха и голоса, приобретение детьми певческих навыков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Освоение детьми приемов игры на детских музыкальных инструментах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Освоение элементов танца и ритмопластики для создания музыкальных двигательных образов в играх и драматизациях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Стимулирование желания ребенка самостоятельно заниматься музыкальной деятельностью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300" spc="-1" strike="noStrike">
                <a:solidFill>
                  <a:srgbClr val="90c226"/>
                </a:solidFill>
                <a:latin typeface="Monotype Corsiva"/>
              </a:rPr>
              <a:t>Старший дошкольный возраст: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3640" y="158112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Развитие умения устанавливать связи музыки с литературой, живописью, театром (интегративный подход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Умение выражать свои эмоции и чувства близкими для детей средствами: звуками, красками, движениями, словом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Интерпретация нюансов настроений и характеров в музыке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Формирование музыковедческого опыта и музыкальной эрудици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Познание многообразия музыкальных жанров, форм, интонаций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8T12:20:48Z</dcterms:created>
  <dc:creator>Пользователь</dc:creator>
  <dc:description/>
  <dc:language>en-US</dc:language>
  <cp:lastModifiedBy>настюфффка</cp:lastModifiedBy>
  <dcterms:modified xsi:type="dcterms:W3CDTF">2022-10-21T07:14:06Z</dcterms:modified>
  <cp:revision>9</cp:revision>
  <dc:subject/>
  <dc:title>Музыкальное воспитание дошкольников</dc:title>
</cp:coreProperties>
</file>