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4B0-D9E1-43F1-8A9D-A2F29CDBE7A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ень - это переход от лета к зи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чале осени еще тепл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 время в садах и на огородах созревает много овощей и фру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олях собирают пшеницу и рожь, из которых потом пекут хле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 Поэтому осень называют порой урож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тоже созревают разные плоды и ягоды: желуди (на дубе), орешки (на лещине), каштаны и ряб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цы и звери с удовольствием едят их и запасают на зи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иться все холоднее и холодн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ые и дети одевают кофты, куртки, длинные штаны или колго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птицы собираются в стаи и улетают в теплые кр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тоже готовятся к зиме - они сбрасывают листву. Только елочки и сосны не расстаются со своими иголоч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листья меняют цвет - из зеленых они превращаются в желтые, красные и светло-коричне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ередина осени. Ее часто называют золотой, потому что в это время очень краси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одеваются в яркие наряды, а на земле лежит разноцветный ковер из листь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от наступает конец осени. Деревья уже сбросили свои листья и стоят обнаж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идет дождь. Дует ве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 конце осени падает с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а ждет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Золотая осень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0DC-907D-49A4-AAF7-F50DA40C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69D-B244-4090-AD41-4E4712B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F8D-5828-406C-9D0E-BAFDD93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4C3-47E6-41FF-B5A3-202FCDCF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B01-1B80-4E1F-A0D7-524FB92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042-3F36-4940-9724-E4BF8F7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36B-DBC3-4222-B42F-7C24DE00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972-9C38-4E2C-974A-E5AA0D5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A92-FFB2-43DD-AD00-B6AA03A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E7C-59B4-473F-A4A7-ECC37B1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9D2-0BA5-4125-AACD-98ABDBE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208-0115-4C91-B562-DF569D1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E87-F4AD-4AD7-985C-C81963C43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cc00"/>
                </a:solidFill>
                <a:latin typeface="Arial"/>
              </a:rPr>
              <a:t>СЕ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Н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Дерево%20Осенью" descr=""/>
          <p:cNvPicPr/>
          <p:nvPr/>
        </p:nvPicPr>
        <p:blipFill>
          <a:blip r:embed="rId1"/>
          <a:stretch/>
        </p:blipFill>
        <p:spPr>
          <a:xfrm>
            <a:off x="47520" y="609480"/>
            <a:ext cx="46008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осень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1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е листики уже не так хорошо держатся за дерево как летом, и ветер легко сдувает их их с вет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6041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ередина осен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е часто называют золотой, потому что в это время очень красиво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одеваются в яркие наряды, а на земле лежит разноцветный ковер из листье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7040" y="22860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от наступает конец осени. Деревья сбросили свои листья и стоят обнаженные. Часто идет дождь. Дует ветер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607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 конце осени падает сне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а ждет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36157" descr=""/>
          <p:cNvPicPr/>
          <p:nvPr/>
        </p:nvPicPr>
        <p:blipFill>
          <a:blip r:embed="rId1"/>
          <a:stretch/>
        </p:blipFill>
        <p:spPr>
          <a:xfrm>
            <a:off x="838080" y="127080"/>
            <a:ext cx="746784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5943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 - это переход от лета к зим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Летом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Осенью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6720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Зимой" descr=""/>
          <p:cNvPicPr/>
          <p:nvPr/>
        </p:nvPicPr>
        <p:blipFill>
          <a:blip r:embed="rId3"/>
          <a:stretch/>
        </p:blipFill>
        <p:spPr>
          <a:xfrm>
            <a:off x="6248520" y="1771560"/>
            <a:ext cx="28954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ВОЩИ%20ОСЕНЬЮ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85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осени еще тепл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 время в садах и на огородах созревает много овощей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4960" y="51814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ФРУКТЫ%20ОСЕНЬЮ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69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фруктов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62240" y="5638680"/>
            <a:ext cx="21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ЛЕСНЫЕ%20ПЛОДЫ%20ОСЕНЬЮ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62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тоже созревают разные плоды и ягоды: желуди (на дубе), орешки (на лещине), каштаны и рябин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и звери с удовольствием едят их и запасают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19920" y="5029200"/>
            <a:ext cx="2590560" cy="609480"/>
            <a:chOff x="6019920" y="5029200"/>
            <a:chExt cx="2590560" cy="609480"/>
          </a:xfrm>
        </p:grpSpPr>
        <p:grpSp>
          <p:nvGrpSpPr>
            <p:cNvPr id="64" name=""/>
            <p:cNvGrpSpPr/>
            <p:nvPr/>
          </p:nvGrpSpPr>
          <p:grpSpPr>
            <a:xfrm>
              <a:off x="6021360" y="5032440"/>
              <a:ext cx="2586960" cy="602280"/>
              <a:chOff x="6021360" y="5032440"/>
              <a:chExt cx="2586960" cy="6022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021360" y="5032440"/>
                <a:ext cx="2586960" cy="360"/>
                <a:chOff x="6021360" y="5032440"/>
                <a:chExt cx="2586960" cy="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047280" y="5032440"/>
                  <a:ext cx="253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021360" y="5032440"/>
                  <a:ext cx="258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021360" y="5032440"/>
                <a:ext cx="2586960" cy="602280"/>
                <a:chOff x="6021360" y="5032440"/>
                <a:chExt cx="2586960" cy="602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47280" y="5032440"/>
                  <a:ext cx="25351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РЯ</a:t>
                  </a:r>
                  <a:r>
                    <a:rPr b="1" lang="ru-RU" sz="3600" spc="-1" strike="noStrike">
                      <a:solidFill>
                        <a:srgbClr val="000000"/>
                      </a:solidFill>
                      <a:latin typeface="Chicago"/>
                    </a:rPr>
                    <a:t>БИ</a:t>
                  </a:r>
                  <a:r>
                    <a:rPr b="1" lang="ru-RU" sz="3600" spc="-1" strike="noStrike">
                      <a:solidFill>
                        <a:srgbClr val="6699ff"/>
                      </a:solidFill>
                      <a:latin typeface="Chicago"/>
                    </a:rPr>
                    <a:t>НА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21360" y="5032440"/>
                  <a:ext cx="2586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"/>
            <p:cNvSpPr/>
            <p:nvPr/>
          </p:nvSpPr>
          <p:spPr>
            <a:xfrm>
              <a:off x="6019920" y="5029200"/>
              <a:ext cx="259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30480" y="48099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А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ТА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800" y="5335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ЖЁ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ЛУ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0680" y="6858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hicago"/>
              </a:rPr>
              <a:t>РЕ</a:t>
            </a:r>
            <a:r>
              <a:rPr b="1" lang="ru-RU" sz="3600" spc="-1" strike="noStrike">
                <a:solidFill>
                  <a:srgbClr val="0033cc"/>
                </a:solidFill>
                <a:latin typeface="Chicago"/>
              </a:rPr>
              <a:t>Ш</a:t>
            </a:r>
            <a:r>
              <a:rPr b="1" lang="ru-RU" sz="3600" spc="-1" strike="noStrike">
                <a:solidFill>
                  <a:srgbClr val="6699ff"/>
                </a:solidFill>
                <a:latin typeface="Chicago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ться все холоднее и холодне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одеваться теплее: кофты, куртки, длинные штаны, колгот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осень" descr=""/>
          <p:cNvPicPr/>
          <p:nvPr/>
        </p:nvPicPr>
        <p:blipFill>
          <a:blip r:embed="rId1"/>
          <a:stretch/>
        </p:blipFill>
        <p:spPr>
          <a:xfrm>
            <a:off x="2371680" y="604800"/>
            <a:ext cx="4410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птицы собираются в стаи и улетают в теплые кр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irds011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тоже готовятся к зиме - они сбрасывают листв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оч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3603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48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листья меняют цвет - из зеленых они превращаются в желтые, красные и светло-коричневы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601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1-31T07:12:57Z</dcterms:modified>
  <cp:revision>31</cp:revision>
  <dc:subject/>
  <dc:title>ЗИМА</dc:title>
</cp:coreProperties>
</file>