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5.gif" ContentType="image/gif"/>
  <Override PartName="/ppt/media/image6.gif" ContentType="image/gif"/>
  <Override PartName="/ppt/media/image9.png" ContentType="image/png"/>
  <Override PartName="/ppt/media/image16.jpeg" ContentType="image/jpeg"/>
  <Override PartName="/ppt/media/image7.jpeg" ContentType="image/jpeg"/>
  <Override PartName="/ppt/media/image3.jpeg" ContentType="image/jpeg"/>
  <Override PartName="/ppt/media/image15.png" ContentType="image/png"/>
  <Override PartName="/ppt/media/image1.jpeg" ContentType="image/jpeg"/>
  <Override PartName="/ppt/media/image4.gif" ContentType="image/gif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EBFBB-6D41-412B-819B-97FEF670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64AF2-5483-417F-9E9E-F074B5A1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AD5E7-9FD7-466D-9AFC-56519E13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B0276-A8D4-46F7-839D-27B20FB9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56616-97D5-4E16-992B-57FEF72D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A5ABF-470D-4594-A196-7A640FF2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F716D-FD6B-4136-903C-5E8A9450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1B7D7-FF7E-41F3-9288-D137B12F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3F6A1C-46CD-440F-81D1-D9FF1A5B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373EB-EF90-411B-98C5-3437D5070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4288A-AF32-4504-9158-01F8BD50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E0C430-58AF-4E11-9ACF-D21D55AF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6E693-79A6-4D38-8A74-0451758F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878FC3-2329-4BB9-9FF7-EF20B5F4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1466C-3E31-49C9-923F-510E3F04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0FB6B-8287-4C62-AF00-BB39939C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B0DC5-75A5-4A75-A40F-832AE90E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7D573-D5A9-4C67-8D06-6C98D228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26659-925B-4212-9473-0E1EA3D9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2BA25-BDC2-468E-B2F7-DEB7107A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76A9A-6B0E-428C-B52E-152DC938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7436D-5FEB-4065-96C3-8E669204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60066-1636-4C01-9C89-FAC5D9B3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F9F95-725E-4BF8-8264-B4F8072F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F5279-7CD4-44F5-B4E5-918AE4830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40C8-63A6-4E39-8F66-30C98957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6F34-3563-4764-891B-8969B65E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36D9-27E0-4E23-B267-A80B0DCB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3718-2606-46A9-A74F-996BA430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09F2-4541-44A3-B4A7-F40B9A92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41CB-A8D8-4568-99A7-0FD5E8C1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2415-43FE-46AE-AD2E-EE6C9C90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4816C-D47F-4074-9D5B-A150806D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4C24-00FA-4383-B3BE-595A4C15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57E3-8DA4-4BC4-AE25-38A77F9E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1319-F82B-4712-A719-B011E0B1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5187-009D-4EE6-9B41-AF33FE90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1E9D-3B3B-4923-B795-E5D5083F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E9BC28-B384-4197-9D50-696A0463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FA55F6-72BB-4CBF-B79E-66BFA650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5A6679-9A32-4B92-B41D-40A77440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C2BFEA-DB41-4F14-BFA2-E9AA9573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2A973B-E107-44F6-BE01-26B26D97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A4C59-403C-46F2-8CD2-C8456B98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14BD62-329A-4C8A-AF0F-77AD494F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BF5AA8-7F86-4F6F-902D-3D1320DE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AA3121-9BFE-4D52-A28D-ACAC8F2E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2F25B3-0F27-447B-BFDA-7D83EAAA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4FB665-F1AE-4AA7-9B7D-EDF963EF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012EA3-3D57-40F2-B554-D9F51309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A08646-174A-49EE-B650-F8F09D77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4E06C-548F-4156-AFDD-8351954D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04CD9-5DBD-4A29-B750-D676B457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C212D-ACF1-4485-A9D2-EEF6C722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B2090-4045-4266-848F-402074F3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8154E-2E98-4F32-8D5F-8A893CB7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BA73F-AC6D-42E9-9577-C19D82E4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C31BC-6570-40E7-9359-04AF90A1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320D3-05D1-4914-89A6-2DCA776F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3FFAB-A638-4E0D-97E6-46E468D4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767F2-83AD-420E-A60E-30EFE218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8655A-9F71-4593-B028-CFED6406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AE3BC-17FA-4597-B1C6-A5D012A50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5E828-CB04-436D-8087-22FE2917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4E07C-36C3-41C3-A8E7-4B9621958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72D2D-6E4B-4078-B25E-CC3B8DF6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4E037-5675-47BB-8CF8-14D68CDC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A8265-2EA8-450F-83A4-EBB0AB4B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77C6F-73DD-4F54-99DE-80507DDE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11724-3B12-4FB9-88BC-A3F723EA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DA16D-E150-4DE5-8630-13CC2FAD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70577-5BDF-463A-B849-6919A3E3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54B56-5585-4992-B0CD-54783F1D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62C08-FBC1-455E-9089-2979F6C5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DA7D0-06C6-4027-969E-35D01C89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6AFE7-7F55-4DB5-9D8A-40BBB6DC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74112-BF12-41B0-9AF3-C95F2F41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F2A19-A85D-42C6-993A-B6BE6AAA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99A4C-A2DE-464C-B291-C1A817817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DF45C-604C-49DC-AFA9-B943DA84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A5AF6-12BE-4FE4-BA37-79B5B884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8D685-7829-4D11-88B0-6AC1F3C7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CB26A-32E0-47DF-8F62-212F86FC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F8A96-CB90-4903-A97C-25C7859A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1B807-6EFF-4957-BB68-B71F6433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92204-D064-4BF0-AE6F-2C38B2A9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08A16-0526-4501-84C6-3BB66196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B65C6-470D-41F4-A8F6-C1BF53A5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087A0-F05F-4AE7-8EC7-1D3B9362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50FA4-6EC9-4BC4-AF7F-A8772321F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E3FCA-60A1-4A5D-B9D1-70008785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97252-672E-42C1-B57E-1B22BF11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7628B-8804-4230-BED8-C5D86E80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14C2C-D3F9-4BA1-8AA6-9C3E5EA8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55B22-5E21-439B-8961-25DA098E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777A4-8567-4611-8385-58790741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932B1-4886-4652-A22F-4FC82B35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263B6-70CD-49B3-8AC7-2128D140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96824-3DCE-4EBF-AFEE-539203C7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22499-B243-4E6B-9290-811611C1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A2118-22E7-4B91-9247-368DD3F2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EBAF5-386F-4585-A6EC-C3FCD23E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78355-9D9A-4336-92AC-5237BBF1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958BA-54B2-4472-86D9-2D8EB201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EA8D8-D0FB-44E4-BC95-FBEAC0165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DE87E-28F2-4DAA-AC94-9E0714B4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4861B-370C-4302-B7AB-0A5F15EB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BD069-2F04-47B0-8FF8-61453C56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70E55-3F43-4368-AF03-024B2A45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C8E50-AD99-428A-A044-B086A6CB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439B7-A04E-4EBC-B092-9AD9AE97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D841B-4E62-42AB-9E3A-B21E2652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E9BEE-F2F7-4552-BEF3-6A84F51D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9E84D-D846-4053-88CB-D3E7EC79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CC7EB-229D-4015-91E1-13FE1A97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6669D-CB54-45E8-BD34-AD6C267B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4FB86-08A8-4199-8664-5239D7FC9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6F0CE-859D-4BBA-9814-CB1C4892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E326E-ACA0-4308-8C0A-B3C7FF43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4B2A9-82E8-4A96-9569-ADACF642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f3fc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2b82d8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879c9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3194f7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33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00ffff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3194f7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33cc"/>
                </a:gs>
                <a:gs pos="50000">
                  <a:srgbClr val="0839ce"/>
                </a:gs>
                <a:gs pos="100000">
                  <a:srgbClr val="0033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99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99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99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99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99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99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99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BCF6-88D2-45CA-8EB3-3D09EA25D334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grpSp>
        <p:nvGrpSpPr>
          <p:cNvPr id="53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4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54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54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grpSp>
          <p:nvGrpSpPr>
            <p:cNvPr id="54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4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54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54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54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54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</p:grpSp>
      </p:grpSp>
      <p:grpSp>
        <p:nvGrpSpPr>
          <p:cNvPr id="54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55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55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55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grpSp>
          <p:nvGrpSpPr>
            <p:cNvPr id="55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55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55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55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55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55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</p:grpSp>
      </p:grpSp>
      <p:sp>
        <p:nvSpPr>
          <p:cNvPr id="55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6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5941-3270-4A95-A9E3-1CFD5868B9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-86760" y="-93600"/>
            <a:ext cx="2778480" cy="6950160"/>
            <a:chOff x="-86760" y="-93600"/>
            <a:chExt cx="2778480" cy="6950160"/>
          </a:xfrm>
        </p:grpSpPr>
        <p:sp>
          <p:nvSpPr>
            <p:cNvPr id="64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grpSp>
          <p:nvGrpSpPr>
            <p:cNvPr id="65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66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67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68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</p:grpSp>
        <p:sp>
          <p:nvSpPr>
            <p:cNvPr id="69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grpSp>
          <p:nvGrpSpPr>
            <p:cNvPr id="70" name="Group 9"/>
            <p:cNvGrpSpPr/>
            <p:nvPr/>
          </p:nvGrpSpPr>
          <p:grpSpPr>
            <a:xfrm>
              <a:off x="-1080" y="2601000"/>
              <a:ext cx="2692800" cy="3117600"/>
              <a:chOff x="-1080" y="2601000"/>
              <a:chExt cx="2692800" cy="3117600"/>
            </a:xfrm>
          </p:grpSpPr>
          <p:sp>
            <p:nvSpPr>
              <p:cNvPr id="71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72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73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74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75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grpSp>
            <p:nvGrpSpPr>
              <p:cNvPr id="76" name="Group 15"/>
              <p:cNvGrpSpPr/>
              <p:nvPr/>
            </p:nvGrpSpPr>
            <p:grpSpPr>
              <a:xfrm>
                <a:off x="853560" y="4048560"/>
                <a:ext cx="1838160" cy="1670040"/>
                <a:chOff x="853560" y="4048560"/>
                <a:chExt cx="1838160" cy="1670040"/>
              </a:xfrm>
            </p:grpSpPr>
            <p:sp>
              <p:nvSpPr>
                <p:cNvPr id="77" name="Freeform 16"/>
                <p:cNvSpPr/>
                <p:nvPr/>
              </p:nvSpPr>
              <p:spPr>
                <a:xfrm flipH="1" rot="7102800">
                  <a:off x="1281240" y="3928320"/>
                  <a:ext cx="477360" cy="12582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6699ff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17"/>
                <p:cNvSpPr/>
                <p:nvPr/>
              </p:nvSpPr>
              <p:spPr>
                <a:xfrm flipH="1" rot="7102800">
                  <a:off x="2382840" y="4978800"/>
                  <a:ext cx="110520" cy="5158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6699ff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18"/>
                <p:cNvSpPr/>
                <p:nvPr/>
              </p:nvSpPr>
              <p:spPr>
                <a:xfrm flipH="1" rot="7102800">
                  <a:off x="2487600" y="5563800"/>
                  <a:ext cx="200880" cy="896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6600" spc="-1" strike="noStrike">
                    <a:solidFill>
                      <a:srgbClr val="6699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81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82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83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85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86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87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89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90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91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</p:grpSp>
        <p:sp>
          <p:nvSpPr>
            <p:cNvPr id="92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93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94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95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96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97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98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99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00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01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02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03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04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05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3DF5-FF4C-4B8A-A26D-A7D0CA0F2B5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A237-8A86-4AA2-AEE9-479E7D1A0D2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5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5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5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5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15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</p:grpSp>
      <p:sp>
        <p:nvSpPr>
          <p:cNvPr id="15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9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50000">
                  <a:srgbClr val="ffff00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20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ffccff"/>
                </a:gs>
                <a:gs pos="100000">
                  <a:srgbClr val="ff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20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50000">
                  <a:srgbClr val="ffff00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20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50000">
                  <a:srgbClr val="ffff00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20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20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20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c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c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AF3D-A099-4561-9E7E-86A034BEBA1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9AD1-760C-4B13-B8AB-59F86613B4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8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f3fc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29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29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29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29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29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29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2b82d8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29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879c9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29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29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29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0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0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3194f7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0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33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0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00ffff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0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0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3194f7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0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0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33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08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09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33cc"/>
                </a:gs>
                <a:gs pos="50000">
                  <a:srgbClr val="0839ce"/>
                </a:gs>
                <a:gs pos="100000">
                  <a:srgbClr val="0033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99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99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99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99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99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99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99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3273-7CF8-42EC-9D55-13FC89AB2038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2"/>
          <p:cNvGrpSpPr/>
          <p:nvPr/>
        </p:nvGrpSpPr>
        <p:grpSpPr>
          <a:xfrm>
            <a:off x="-19800" y="0"/>
            <a:ext cx="9050400" cy="6858000"/>
            <a:chOff x="-19800" y="0"/>
            <a:chExt cx="9050400" cy="6858000"/>
          </a:xfrm>
        </p:grpSpPr>
        <p:grpSp>
          <p:nvGrpSpPr>
            <p:cNvPr id="352" name="Group 3"/>
            <p:cNvGrpSpPr/>
            <p:nvPr/>
          </p:nvGrpSpPr>
          <p:grpSpPr>
            <a:xfrm>
              <a:off x="5373360" y="61560"/>
              <a:ext cx="3657240" cy="6139080"/>
              <a:chOff x="5373360" y="61560"/>
              <a:chExt cx="3657240" cy="6139080"/>
            </a:xfrm>
          </p:grpSpPr>
          <p:sp>
            <p:nvSpPr>
              <p:cNvPr id="353" name="Freeform 4"/>
              <p:cNvSpPr/>
              <p:nvPr/>
            </p:nvSpPr>
            <p:spPr>
              <a:xfrm flipV="1" rot="11970000">
                <a:off x="6575760" y="348120"/>
                <a:ext cx="2121840" cy="235800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354" name="Freeform 5"/>
              <p:cNvSpPr/>
              <p:nvPr/>
            </p:nvSpPr>
            <p:spPr>
              <a:xfrm flipV="1" rot="11970000">
                <a:off x="7403040" y="1961280"/>
                <a:ext cx="90900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355" name="Freeform 6"/>
              <p:cNvSpPr/>
              <p:nvPr/>
            </p:nvSpPr>
            <p:spPr>
              <a:xfrm flipV="1" rot="11970000">
                <a:off x="6817320" y="2590200"/>
                <a:ext cx="44064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356" name="Freeform 7"/>
              <p:cNvSpPr/>
              <p:nvPr/>
            </p:nvSpPr>
            <p:spPr>
              <a:xfrm flipV="1" rot="11970000">
                <a:off x="7244640" y="676440"/>
                <a:ext cx="389880" cy="55116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357" name="Freeform 8"/>
              <p:cNvSpPr/>
              <p:nvPr/>
            </p:nvSpPr>
            <p:spPr>
              <a:xfrm flipV="1" rot="11970000">
                <a:off x="7121520" y="2646000"/>
                <a:ext cx="16380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358" name="Freeform 9"/>
              <p:cNvSpPr/>
              <p:nvPr/>
            </p:nvSpPr>
            <p:spPr>
              <a:xfrm flipV="1" rot="11970000">
                <a:off x="7122960" y="123876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359" name="Freeform 10"/>
              <p:cNvSpPr/>
              <p:nvPr/>
            </p:nvSpPr>
            <p:spPr>
              <a:xfrm flipV="1" rot="11970000">
                <a:off x="5903640" y="2936520"/>
                <a:ext cx="525600" cy="326988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</p:grpSp>
        <p:sp>
          <p:nvSpPr>
            <p:cNvPr id="360" name="Freeform 11"/>
            <p:cNvSpPr/>
            <p:nvPr/>
          </p:nvSpPr>
          <p:spPr>
            <a:xfrm flipH="1" rot="373800">
              <a:off x="34200" y="3106800"/>
              <a:ext cx="5140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67480" y="2000160"/>
              <a:ext cx="20055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0" y="4143240"/>
              <a:ext cx="127584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63" name="Freeform 14"/>
            <p:cNvSpPr/>
            <p:nvPr/>
          </p:nvSpPr>
          <p:spPr>
            <a:xfrm flipH="1" rot="373800">
              <a:off x="1429560" y="4532040"/>
              <a:ext cx="5637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64" name="Freeform 15"/>
            <p:cNvSpPr/>
            <p:nvPr/>
          </p:nvSpPr>
          <p:spPr>
            <a:xfrm flipH="1" rot="373800">
              <a:off x="1271880" y="4728960"/>
              <a:ext cx="13860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65" name="Freeform 16"/>
            <p:cNvSpPr/>
            <p:nvPr/>
          </p:nvSpPr>
          <p:spPr>
            <a:xfrm>
              <a:off x="1895760" y="5195880"/>
              <a:ext cx="176472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grpSp>
          <p:nvGrpSpPr>
            <p:cNvPr id="366" name="Group 17"/>
            <p:cNvGrpSpPr/>
            <p:nvPr/>
          </p:nvGrpSpPr>
          <p:grpSpPr>
            <a:xfrm>
              <a:off x="4164480" y="1032480"/>
              <a:ext cx="1018080" cy="1263960"/>
              <a:chOff x="4164480" y="1032480"/>
              <a:chExt cx="1018080" cy="1263960"/>
            </a:xfrm>
          </p:grpSpPr>
          <p:sp>
            <p:nvSpPr>
              <p:cNvPr id="367" name="Freeform 18"/>
              <p:cNvSpPr/>
              <p:nvPr/>
            </p:nvSpPr>
            <p:spPr>
              <a:xfrm rot="3220200">
                <a:off x="4581360" y="1069920"/>
                <a:ext cx="285840" cy="379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368" name="Freeform 19"/>
              <p:cNvSpPr/>
              <p:nvPr/>
            </p:nvSpPr>
            <p:spPr>
              <a:xfrm rot="3220200">
                <a:off x="4665960" y="1603800"/>
                <a:ext cx="488880" cy="315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369" name="Freeform 20"/>
              <p:cNvSpPr/>
              <p:nvPr/>
            </p:nvSpPr>
            <p:spPr>
              <a:xfrm rot="3220200">
                <a:off x="4124880" y="196272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21"/>
            <p:cNvGrpSpPr/>
            <p:nvPr/>
          </p:nvGrpSpPr>
          <p:grpSpPr>
            <a:xfrm>
              <a:off x="5645520" y="226080"/>
              <a:ext cx="896040" cy="827280"/>
              <a:chOff x="5645520" y="226080"/>
              <a:chExt cx="896040" cy="827280"/>
            </a:xfrm>
          </p:grpSpPr>
          <p:sp>
            <p:nvSpPr>
              <p:cNvPr id="371" name="Freeform 22"/>
              <p:cNvSpPr/>
              <p:nvPr/>
            </p:nvSpPr>
            <p:spPr>
              <a:xfrm rot="14908200">
                <a:off x="5757480" y="721440"/>
                <a:ext cx="179280" cy="363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372" name="Freeform 23"/>
              <p:cNvSpPr/>
              <p:nvPr/>
            </p:nvSpPr>
            <p:spPr>
              <a:xfrm rot="14908200">
                <a:off x="5707800" y="401040"/>
                <a:ext cx="305280" cy="301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373" name="Freeform 24"/>
              <p:cNvSpPr/>
              <p:nvPr/>
            </p:nvSpPr>
            <p:spPr>
              <a:xfrm rot="14908200">
                <a:off x="6251760" y="325800"/>
                <a:ext cx="319320" cy="1537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25"/>
            <p:cNvGrpSpPr/>
            <p:nvPr/>
          </p:nvGrpSpPr>
          <p:grpSpPr>
            <a:xfrm>
              <a:off x="971280" y="5232960"/>
              <a:ext cx="1061640" cy="831960"/>
              <a:chOff x="971280" y="5232960"/>
              <a:chExt cx="1061640" cy="831960"/>
            </a:xfrm>
          </p:grpSpPr>
          <p:sp>
            <p:nvSpPr>
              <p:cNvPr id="375" name="Freeform 26"/>
              <p:cNvSpPr/>
              <p:nvPr/>
            </p:nvSpPr>
            <p:spPr>
              <a:xfrm rot="8524800">
                <a:off x="1715400" y="5497200"/>
                <a:ext cx="252000" cy="299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376" name="Freeform 27"/>
              <p:cNvSpPr/>
              <p:nvPr/>
            </p:nvSpPr>
            <p:spPr>
              <a:xfrm rot="8524800">
                <a:off x="1197000" y="5709600"/>
                <a:ext cx="430920" cy="2487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377" name="Freeform 28"/>
              <p:cNvSpPr/>
              <p:nvPr/>
            </p:nvSpPr>
            <p:spPr>
              <a:xfrm rot="8524800">
                <a:off x="963000" y="5357880"/>
                <a:ext cx="450720" cy="127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29"/>
            <p:cNvGrpSpPr/>
            <p:nvPr/>
          </p:nvGrpSpPr>
          <p:grpSpPr>
            <a:xfrm>
              <a:off x="377640" y="394920"/>
              <a:ext cx="1695240" cy="1146960"/>
              <a:chOff x="377640" y="394920"/>
              <a:chExt cx="1695240" cy="1146960"/>
            </a:xfrm>
          </p:grpSpPr>
          <p:sp>
            <p:nvSpPr>
              <p:cNvPr id="379" name="Freeform 30"/>
              <p:cNvSpPr/>
              <p:nvPr/>
            </p:nvSpPr>
            <p:spPr>
              <a:xfrm flipH="1" rot="4107000">
                <a:off x="1582200" y="1012680"/>
                <a:ext cx="355320" cy="5320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380" name="Freeform 31"/>
              <p:cNvSpPr/>
              <p:nvPr/>
            </p:nvSpPr>
            <p:spPr>
              <a:xfrm flipH="1" rot="4107000">
                <a:off x="1027800" y="537840"/>
                <a:ext cx="608400" cy="4420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381" name="Freeform 32"/>
              <p:cNvSpPr/>
              <p:nvPr/>
            </p:nvSpPr>
            <p:spPr>
              <a:xfrm flipH="1" rot="4107000">
                <a:off x="280800" y="1053360"/>
                <a:ext cx="636120" cy="225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33"/>
            <p:cNvGrpSpPr/>
            <p:nvPr/>
          </p:nvGrpSpPr>
          <p:grpSpPr>
            <a:xfrm>
              <a:off x="7459920" y="3711600"/>
              <a:ext cx="1159560" cy="1608840"/>
              <a:chOff x="7459920" y="3711600"/>
              <a:chExt cx="1159560" cy="1608840"/>
            </a:xfrm>
          </p:grpSpPr>
          <p:sp>
            <p:nvSpPr>
              <p:cNvPr id="383" name="Freeform 34"/>
              <p:cNvSpPr/>
              <p:nvPr/>
            </p:nvSpPr>
            <p:spPr>
              <a:xfrm flipH="1" rot="10015800">
                <a:off x="7514640" y="4756320"/>
                <a:ext cx="35676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384" name="Freeform 35"/>
              <p:cNvSpPr/>
              <p:nvPr/>
            </p:nvSpPr>
            <p:spPr>
              <a:xfrm flipH="1" rot="10015800">
                <a:off x="7967160" y="4455360"/>
                <a:ext cx="610200" cy="441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385" name="Freeform 36"/>
              <p:cNvSpPr/>
              <p:nvPr/>
            </p:nvSpPr>
            <p:spPr>
              <a:xfrm flipH="1" rot="10015800">
                <a:off x="7659360" y="3780720"/>
                <a:ext cx="63792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</p:grpSp>
        <p:sp>
          <p:nvSpPr>
            <p:cNvPr id="386" name="Freeform 37"/>
            <p:cNvSpPr/>
            <p:nvPr/>
          </p:nvSpPr>
          <p:spPr>
            <a:xfrm>
              <a:off x="1938600" y="3240"/>
              <a:ext cx="137304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87" name="Freeform 38"/>
            <p:cNvSpPr/>
            <p:nvPr/>
          </p:nvSpPr>
          <p:spPr>
            <a:xfrm flipV="1" rot="9832800">
              <a:off x="3436560" y="160560"/>
              <a:ext cx="108504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88" name="Freeform 39"/>
            <p:cNvSpPr/>
            <p:nvPr/>
          </p:nvSpPr>
          <p:spPr>
            <a:xfrm flipV="1" rot="9832800">
              <a:off x="3180600" y="1361880"/>
              <a:ext cx="5256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89" name="Freeform 40"/>
            <p:cNvSpPr/>
            <p:nvPr/>
          </p:nvSpPr>
          <p:spPr>
            <a:xfrm flipV="1" rot="9832800">
              <a:off x="3542400" y="1281960"/>
              <a:ext cx="19584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90" name="Freeform 41"/>
            <p:cNvSpPr/>
            <p:nvPr/>
          </p:nvSpPr>
          <p:spPr>
            <a:xfrm>
              <a:off x="2553480" y="0"/>
              <a:ext cx="19728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91" name="Freeform 42"/>
            <p:cNvSpPr/>
            <p:nvPr/>
          </p:nvSpPr>
          <p:spPr>
            <a:xfrm flipV="1" rot="9832800">
              <a:off x="3461760" y="1964160"/>
              <a:ext cx="6256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392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5AA5-F9BF-4CCA-8358-0D38D9FAC592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3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43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grpSp>
          <p:nvGrpSpPr>
            <p:cNvPr id="43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43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44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44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44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44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44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44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44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  <p:sp>
            <p:nvSpPr>
              <p:cNvPr id="44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6699ff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3784-71D3-47B3-9A5E-52C7B46C78D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9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50000">
                  <a:srgbClr val="ffff00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49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ffccff"/>
                </a:gs>
                <a:gs pos="100000">
                  <a:srgbClr val="ff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49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50000">
                  <a:srgbClr val="ffff00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49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50000">
                  <a:srgbClr val="ffff00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49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49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  <p:sp>
          <p:nvSpPr>
            <p:cNvPr id="49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6699ff"/>
                </a:solidFill>
                <a:latin typeface="Arial"/>
              </a:endParaRPr>
            </a:p>
          </p:txBody>
        </p:sp>
      </p:grp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c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c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9A5B-A1A4-4561-8F09-C7D4535690E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6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3" name="WordArt 7"/>
          <p:cNvSpPr txBox="1"/>
          <p:nvPr/>
        </p:nvSpPr>
        <p:spPr>
          <a:xfrm>
            <a:off x="2050920" y="907920"/>
            <a:ext cx="5329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Внеклассное мероприятие</a:t>
            </a:r>
            <a:endParaRPr b="0" lang="en-US" sz="66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2195640" y="1773360"/>
            <a:ext cx="740880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Comic Sans MS"/>
              </a:rPr>
              <a:t>     </a:t>
            </a:r>
            <a:r>
              <a:rPr b="1" lang="ru-RU" sz="5400" spc="-1" strike="noStrike">
                <a:solidFill>
                  <a:srgbClr val="33cc33"/>
                </a:solidFill>
                <a:latin typeface="Comic Sans MS"/>
              </a:rPr>
              <a:t>КВН: </a:t>
            </a:r>
            <a:endParaRPr b="0" lang="en-US" sz="54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6000" spc="-1" strike="noStrike">
                <a:solidFill>
                  <a:srgbClr val="33cc33"/>
                </a:solidFill>
                <a:latin typeface="Comic Sans MS"/>
              </a:rPr>
              <a:t>«Загадки Математики»</a:t>
            </a:r>
            <a:endParaRPr b="0" lang="en-US" sz="60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99"/>
                </a:solidFill>
                <a:latin typeface="Verdana"/>
              </a:rPr>
              <a:t>ПА ’3 Ж 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00"/>
                </a:solidFill>
                <a:latin typeface="Verdana"/>
              </a:rPr>
              <a:t>5 ’ница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Verdana"/>
              </a:rPr>
              <a:t>расс 100 яние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ff"/>
                </a:solidFill>
                <a:latin typeface="Verdana"/>
              </a:rPr>
              <a:t>3 ’о н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66ff"/>
                </a:solidFill>
                <a:latin typeface="Verdana"/>
              </a:rPr>
              <a:t>у </a:t>
            </a:r>
            <a:r>
              <a:rPr b="1" lang="ru-RU" sz="5400" spc="-1" strike="noStrike">
                <a:solidFill>
                  <a:srgbClr val="ff66ff"/>
                </a:solidFill>
                <a:latin typeface="Verdana"/>
              </a:rPr>
              <a:t>3’ </a:t>
            </a:r>
            <a:r>
              <a:rPr b="1" i="1" lang="ru-RU" sz="5400" spc="-1" strike="noStrike">
                <a:solidFill>
                  <a:srgbClr val="ff66ff"/>
                </a:solidFill>
                <a:latin typeface="Verdana"/>
              </a:rPr>
              <a:t>о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1" lang="ru-RU" sz="5400" spc="-1" strike="noStrike">
                <a:solidFill>
                  <a:srgbClr val="ff5050"/>
                </a:solidFill>
                <a:latin typeface="Verdana"/>
              </a:rPr>
              <a:t>ена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1" name="Picture 4"/>
          <p:cNvSpPr/>
          <p:nvPr/>
        </p:nvSpPr>
        <p:spPr>
          <a:xfrm>
            <a:off x="4500720" y="4724280"/>
            <a:ext cx="192060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32" name="Picture 5"/>
          <p:cNvSpPr/>
          <p:nvPr/>
        </p:nvSpPr>
        <p:spPr>
          <a:xfrm>
            <a:off x="1908000" y="3429000"/>
            <a:ext cx="174312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33" name="Rectangle 9"/>
          <p:cNvSpPr/>
          <p:nvPr/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66"/>
                </a:solidFill>
                <a:uFillTx/>
                <a:latin typeface="Arial"/>
              </a:rPr>
              <a:t>РЕБУСЫ</a:t>
            </a:r>
            <a:endParaRPr b="0" lang="en-US" sz="4000" spc="-1" strike="noStrike">
              <a:solidFill>
                <a:srgbClr val="6699ff"/>
              </a:solidFill>
              <a:latin typeface="Arial"/>
            </a:endParaRPr>
          </a:p>
        </p:txBody>
      </p:sp>
      <p:pic>
        <p:nvPicPr>
          <p:cNvPr id="634" name="Picture 10" descr=""/>
          <p:cNvPicPr/>
          <p:nvPr/>
        </p:nvPicPr>
        <p:blipFill>
          <a:blip r:embed="rId1"/>
          <a:stretch/>
        </p:blipFill>
        <p:spPr>
          <a:xfrm>
            <a:off x="2916360" y="5229360"/>
            <a:ext cx="752400" cy="1104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35" name="Text Box 11"/>
          <p:cNvSpPr/>
          <p:nvPr/>
        </p:nvSpPr>
        <p:spPr>
          <a:xfrm>
            <a:off x="3708360" y="5084640"/>
            <a:ext cx="343080" cy="48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99ff"/>
                </a:solidFill>
                <a:latin typeface="Arial"/>
              </a:rPr>
              <a:t>’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WordArt 2"/>
          <p:cNvSpPr txBox="1"/>
          <p:nvPr/>
        </p:nvSpPr>
        <p:spPr>
          <a:xfrm>
            <a:off x="1258920" y="549360"/>
            <a:ext cx="6769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8160">
                  <a:solidFill>
                    <a:srgbClr val="00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Умножь и Раздели"</a:t>
            </a:r>
            <a:endParaRPr b="1" lang="en-US" sz="6600" spc="1" strike="noStrike">
              <a:ln w="38160">
                <a:solidFill>
                  <a:srgbClr val="00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37" name="Rectangle 8"/>
          <p:cNvSpPr/>
          <p:nvPr/>
        </p:nvSpPr>
        <p:spPr>
          <a:xfrm>
            <a:off x="539640" y="1612440"/>
            <a:ext cx="784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  <a:ea typeface="Times New Roman"/>
              </a:rPr>
              <a:t>49:7     </a:t>
            </a: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50:2</a:t>
            </a:r>
            <a:r>
              <a:rPr b="0" lang="ru-RU" sz="4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  <a:ea typeface="Times New Roman"/>
              </a:rPr>
              <a:t>36:6</a:t>
            </a: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32:8</a:t>
            </a:r>
            <a:endParaRPr b="0" lang="en-US" sz="48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  <a:ea typeface="Times New Roman"/>
              </a:rPr>
              <a:t>21:7</a:t>
            </a: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27:9</a:t>
            </a:r>
            <a:endParaRPr b="0" lang="en-US" sz="48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  <a:ea typeface="Times New Roman"/>
              </a:rPr>
              <a:t>7*5</a:t>
            </a: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11*2</a:t>
            </a:r>
            <a:endParaRPr b="0" lang="en-US" sz="48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  <a:ea typeface="Times New Roman"/>
              </a:rPr>
              <a:t>7*4</a:t>
            </a: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3*8</a:t>
            </a:r>
            <a:endParaRPr b="0" lang="en-US" sz="48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  <a:ea typeface="Times New Roman"/>
              </a:rPr>
              <a:t>10*5</a:t>
            </a: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7*6</a:t>
            </a:r>
            <a:endParaRPr b="0" lang="en-US" sz="48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WordArt 4"/>
          <p:cNvSpPr txBox="1"/>
          <p:nvPr/>
        </p:nvSpPr>
        <p:spPr>
          <a:xfrm>
            <a:off x="1403280" y="620640"/>
            <a:ext cx="633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"Конкурс капитанов"</a:t>
            </a:r>
            <a:endParaRPr b="0" lang="en-US" sz="6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9" name="Rectangle 16"/>
          <p:cNvSpPr/>
          <p:nvPr/>
        </p:nvSpPr>
        <p:spPr>
          <a:xfrm>
            <a:off x="324000" y="1288800"/>
            <a:ext cx="8280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.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Что тяжелее — один кг ваты  или один кг железа? 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2.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Тройка лошадей в час пробежала 24 км.   Сколько километров пробежала каждая лошадь? 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3. В одной семье  два папы и два сына. Сколько всего людей? 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4. Винни-пух в гостях съел несколько кг мёда и ещё столько же. Половину оставшегося мёда, 3 кг, унес домой. 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Сколько кг мёда съёл Винни- пух ?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WordArt 4"/>
          <p:cNvSpPr txBox="1"/>
          <p:nvPr/>
        </p:nvSpPr>
        <p:spPr>
          <a:xfrm>
            <a:off x="1403280" y="765000"/>
            <a:ext cx="6408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минутка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1" name="Rectangle 6"/>
          <p:cNvSpPr/>
          <p:nvPr/>
        </p:nvSpPr>
        <p:spPr>
          <a:xfrm>
            <a:off x="1042920" y="1951560"/>
            <a:ext cx="7489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Мы шагаем, мы шагаем,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Руки выше поднимаем.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Вдруг мы видим, у куста,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Выпал птенчик из гнезда.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Тихо птенчика берем,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И в гнездо его кладем.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5708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Arial"/>
              </a:rPr>
              <a:t>Конкурс Загад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1.По десятку на шесточке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Сели умные круж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И считают громко вслу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Только слыш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стук да стук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2.  Восемь ног, как восемь рук,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Вышивают шелком круг.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Мастер в шелке знает толк.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Покупайте, мухи, шел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3. Пять ступенек - лесенка,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На ступеньках - пес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4. Чёрненькая, хвостатенькая, не лает, не кусает, а из класса в класс не пуск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5. Кто в году четыре раза пе­реодевае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6. Сговорились две ноги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Делать дуги и круги.</a:t>
            </a: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7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pic>
        <p:nvPicPr>
          <p:cNvPr id="644" name="Picture 4" descr="buch"/>
          <p:cNvPicPr/>
          <p:nvPr/>
        </p:nvPicPr>
        <p:blipFill>
          <a:blip r:embed="rId1"/>
          <a:stretch/>
        </p:blipFill>
        <p:spPr>
          <a:xfrm>
            <a:off x="5435640" y="1197000"/>
            <a:ext cx="320040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Реши задач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24000" y="691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Arial"/>
              </a:rPr>
              <a:t>1. </a:t>
            </a:r>
            <a:r>
              <a:rPr b="1" i="1" lang="ru-RU" sz="1600" spc="-1" strike="noStrike">
                <a:solidFill>
                  <a:srgbClr val="0066ff"/>
                </a:solidFill>
                <a:latin typeface="Arial"/>
              </a:rPr>
              <a:t>Произведение каких двух однозначных чисел дает число 5. (5x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ff"/>
                </a:solidFill>
                <a:latin typeface="Arial"/>
              </a:rPr>
              <a:t>2. Заяц вытащил 7 морковок и съел все, кроме 4. Сколько морковок осталось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ff"/>
                </a:solidFill>
                <a:latin typeface="Arial"/>
              </a:rPr>
              <a:t>3. Сколько бойцов было у Али-бабы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ff"/>
                </a:solidFill>
                <a:latin typeface="Arial"/>
              </a:rPr>
              <a:t>4. Две сардельки варятся 6 минут. За сколько ми­нут сварятся 8 таких же сарделек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ff"/>
                </a:solidFill>
                <a:latin typeface="Arial"/>
              </a:rPr>
              <a:t>5. Сумма, каких однозначных чисел дает число 1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ff"/>
                </a:solidFill>
                <a:latin typeface="Arial"/>
              </a:rPr>
              <a:t>6. Прямоугольник с равными сторон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ff"/>
                </a:solidFill>
                <a:latin typeface="Arial"/>
              </a:rPr>
              <a:t>7. Дядя Фёдор написал папе с мамой в Крым 15 писем , а в Простоквашино –в 8 раз больше .Сколько писем написал дядя Фёдор в Простоквашино 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ff"/>
                </a:solidFill>
                <a:latin typeface="Arial"/>
              </a:rPr>
              <a:t>8. Курочка Ряба за год снесла 160 простых яиц, а – золотых в 2 раза меньше. Сколько золотых яиц снесла курочка Ряба 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ff"/>
                </a:solidFill>
                <a:latin typeface="Arial"/>
              </a:rPr>
              <a:t>9. Баба Яга летит на своей метле со скоростью 25 км/ч. Сколько времени ей потребуется, чтобы полететь на этой метле 100км 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ff"/>
                </a:solidFill>
                <a:latin typeface="Arial"/>
              </a:rPr>
              <a:t>10. От деревни до города 95 км. Пятую часть пути турист проехал на велосипеде. Сколько км он проехал 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2" descr=""/>
          <p:cNvPicPr/>
          <p:nvPr/>
        </p:nvPicPr>
        <p:blipFill>
          <a:blip r:embed="rId1"/>
          <a:stretch/>
        </p:blipFill>
        <p:spPr>
          <a:xfrm>
            <a:off x="7020000" y="5300640"/>
            <a:ext cx="1908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amond(in)" transition="out">
                                      <p:cBhvr additive="repl">
                                        <p:cTn id="67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2" descr="82564924"/>
          <p:cNvPicPr/>
          <p:nvPr/>
        </p:nvPicPr>
        <p:blipFill>
          <a:blip r:embed="rId1"/>
          <a:srcRect l="0" t="0" r="42917" b="0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4037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24"/>
          <p:cNvSpPr/>
          <p:nvPr/>
        </p:nvSpPr>
        <p:spPr>
          <a:xfrm>
            <a:off x="5364000" y="-404280"/>
            <a:ext cx="3529080" cy="847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«В мире уравнений»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Х+274=696  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Х-28=256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1009+Х=5000   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100-Х=59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Х+25=90:3 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56-Х=11+3  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Х+25=30   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87-33=Х+20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Х+19=75+25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48-Х=25+15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99ff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2" descr="82564924"/>
          <p:cNvPicPr/>
          <p:nvPr/>
        </p:nvPicPr>
        <p:blipFill>
          <a:blip r:embed="rId1"/>
          <a:srcRect l="0" t="0" r="42917" b="0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4037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5148360" y="-516960"/>
            <a:ext cx="3744720" cy="704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«Найди ошибки и исправь»</a:t>
            </a: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Arial"/>
              </a:rPr>
              <a:t>158*10=1580                                                            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Arial"/>
              </a:rPr>
              <a:t>75*1000=70500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Arial"/>
              </a:rPr>
              <a:t>10*920=9200           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Arial"/>
              </a:rPr>
              <a:t>842*100=842000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Arial"/>
              </a:rPr>
              <a:t>5003*10=50030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Arial"/>
              </a:rPr>
              <a:t>384*10=3084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255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Конкурс шуточных вопрос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79280" y="907920"/>
            <a:ext cx="8785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 семерых братьев по одной сестре: Много ли се­сте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ве матери, две дочери, да бабушка с внучкой. Сколько всего человек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гусь стоит на двух ногах он весит 4 кг. Сколько он будет весить, когда встанет на одну ногу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 яйца сварились за 4 минуты. За сколько минут сварилось одно яйц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легче: килограмм железа или килограмм пух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етели три страуса, охотник убил одного. Сколь­ко страусов осталось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погребе 5 мышей грызли корку сыра. Они были так увлечены этим, что не заметили подкравшегося кота. Кот бросился на мышей и одну из них схватил. Сколько мышей осталось доедать сы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абушка вязала внукам шарфы и варежки. Всего она связала 3 шарфа и 6 варежек. Сколько внуков у ба­бушк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морю плыли 9 акул. Они увидели косяк рыб и нырнули в глубину. Сколько акул осталось в мор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коло столовой, где обедали лыжники, пришедшие из похода, стояли 20 лыж, а в снег было воткнуто 20 палок. Сколько лыжников ходило в поход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узнец подковал тройку лошадей. Сколько подков ему пришлось сдел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ступил долгожданный февраль. Сначала зацвела 1 яблоня, а потом - 3 сливы. Сколько деревьев зацве­л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4" descr="f_47b00edfd70af"/>
          <p:cNvPicPr/>
          <p:nvPr/>
        </p:nvPicPr>
        <p:blipFill>
          <a:blip r:embed="rId1"/>
          <a:stretch/>
        </p:blipFill>
        <p:spPr>
          <a:xfrm>
            <a:off x="452520" y="493560"/>
            <a:ext cx="8238960" cy="587232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16"/>
          <p:cNvSpPr/>
          <p:nvPr/>
        </p:nvSpPr>
        <p:spPr>
          <a:xfrm>
            <a:off x="2340000" y="1547640"/>
            <a:ext cx="633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58" name="Rectangle 4"/>
          <p:cNvSpPr/>
          <p:nvPr/>
        </p:nvSpPr>
        <p:spPr>
          <a:xfrm>
            <a:off x="2124000" y="2637000"/>
            <a:ext cx="6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654200"/>
                <a:tab algn="l" pos="212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pic>
        <p:nvPicPr>
          <p:cNvPr id="659" name="Picture 4" descr="658722416"/>
          <p:cNvPicPr/>
          <p:nvPr/>
        </p:nvPicPr>
        <p:blipFill>
          <a:blip r:embed="rId2"/>
          <a:stretch/>
        </p:blipFill>
        <p:spPr>
          <a:xfrm>
            <a:off x="1908000" y="765000"/>
            <a:ext cx="4608720" cy="2506680"/>
          </a:xfrm>
          <a:prstGeom prst="rect">
            <a:avLst/>
          </a:prstGeom>
          <a:ln w="0">
            <a:noFill/>
          </a:ln>
        </p:spPr>
      </p:pic>
      <p:sp>
        <p:nvSpPr>
          <p:cNvPr id="660" name="Rectangle 7"/>
          <p:cNvSpPr/>
          <p:nvPr/>
        </p:nvSpPr>
        <p:spPr>
          <a:xfrm>
            <a:off x="2771640" y="2448360"/>
            <a:ext cx="35290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Monotype Corsiva"/>
              </a:rPr>
              <a:t>Подведение итогов</a:t>
            </a:r>
            <a:r>
              <a:rPr b="1" lang="ru-RU" sz="6600" spc="-1" strike="noStrike">
                <a:solidFill>
                  <a:srgbClr val="003366"/>
                </a:solidFill>
                <a:latin typeface="Monotype Corsiva"/>
              </a:rPr>
              <a:t> </a:t>
            </a: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4" descr="658722416"/>
          <p:cNvPicPr/>
          <p:nvPr/>
        </p:nvPicPr>
        <p:blipFill>
          <a:blip r:embed="rId1"/>
          <a:stretch/>
        </p:blipFill>
        <p:spPr>
          <a:xfrm>
            <a:off x="5796000" y="-674640"/>
            <a:ext cx="3348000" cy="276840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5"/>
          <p:cNvSpPr/>
          <p:nvPr/>
        </p:nvSpPr>
        <p:spPr>
          <a:xfrm>
            <a:off x="1743120" y="46080"/>
            <a:ext cx="4844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00"/>
                </a:solidFill>
                <a:latin typeface="Arial"/>
              </a:rPr>
              <a:t>ЦЕЛИ:</a:t>
            </a: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07" name="Text Box 6"/>
          <p:cNvSpPr/>
          <p:nvPr/>
        </p:nvSpPr>
        <p:spPr>
          <a:xfrm flipH="1" flipV="1">
            <a:off x="8750160" y="-184680"/>
            <a:ext cx="78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08" name="Rectangle 5"/>
          <p:cNvSpPr/>
          <p:nvPr/>
        </p:nvSpPr>
        <p:spPr>
          <a:xfrm>
            <a:off x="-4091040" y="333000"/>
            <a:ext cx="173275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99ff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99ff"/>
                </a:solidFill>
                <a:latin typeface="Arial"/>
              </a:rPr>
              <a:t>- Способствовать формированию интереса к урокам математики, 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99ff"/>
                </a:solidFill>
                <a:latin typeface="Arial"/>
              </a:rPr>
              <a:t>развитию логического мышления, математической интуиции, 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99ff"/>
                </a:solidFill>
                <a:latin typeface="Arial"/>
              </a:rPr>
              <a:t>              </a:t>
            </a:r>
            <a:r>
              <a:rPr b="1" i="1" lang="ru-RU" sz="2000" spc="-1" strike="noStrike">
                <a:solidFill>
                  <a:srgbClr val="6699ff"/>
                </a:solidFill>
                <a:latin typeface="Arial"/>
              </a:rPr>
              <a:t>умению анализировать, 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99ff"/>
                </a:solidFill>
                <a:latin typeface="Arial"/>
              </a:rPr>
              <a:t>применять знания в нестандартных ситуациях;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buClr>
                <a:srgbClr val="cc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99ff"/>
                </a:solidFill>
                <a:latin typeface="Arial"/>
              </a:rPr>
              <a:t>C</a:t>
            </a:r>
            <a:r>
              <a:rPr b="1" i="1" lang="ru-RU" sz="2000" spc="-1" strike="noStrike">
                <a:solidFill>
                  <a:srgbClr val="6699ff"/>
                </a:solidFill>
                <a:latin typeface="Arial"/>
              </a:rPr>
              <a:t>овершенствовать устные и письменные 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99ff"/>
                </a:solidFill>
                <a:latin typeface="Arial"/>
              </a:rPr>
              <a:t>вычислительные навыки;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99ff"/>
                </a:solidFill>
                <a:latin typeface="Arial"/>
              </a:rPr>
              <a:t>- Выполнять арифметические действия с величинами;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buClr>
                <a:srgbClr val="cc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6699ff"/>
                </a:solidFill>
                <a:latin typeface="Arial"/>
              </a:rPr>
              <a:t>Формировать представление  о единстве окружающего мира: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buClr>
                <a:srgbClr val="cc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buClr>
                <a:srgbClr val="cc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6699ff"/>
                </a:solidFill>
                <a:latin typeface="Arial"/>
              </a:rPr>
              <a:t>Развивать у учащихся коммуникативные компетентности 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99ff"/>
                </a:solidFill>
                <a:latin typeface="Arial"/>
              </a:rPr>
              <a:t>(культуру общения, умение работать в группах);</a:t>
            </a:r>
            <a:r>
              <a:rPr b="1" lang="ru-RU" sz="2000" spc="-1" strike="noStrike">
                <a:solidFill>
                  <a:srgbClr val="66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buClr>
                <a:srgbClr val="cc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4" descr="1275323481_rrrrr21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6335640"/>
          </a:xfrm>
          <a:prstGeom prst="rect">
            <a:avLst/>
          </a:prstGeom>
          <a:ln w="0">
            <a:noFill/>
          </a:ln>
        </p:spPr>
      </p:pic>
      <p:pic>
        <p:nvPicPr>
          <p:cNvPr id="662" name="wmpaud1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63" name="wmpaud1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500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5881" fill="hold"/>
                                        <p:tgtEl>
                                          <p:spTgt spid="6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881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5881" fill="hold"/>
                                        <p:tgtEl>
                                          <p:spTgt spid="6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6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0" name="WordArt 7"/>
          <p:cNvSpPr txBox="1"/>
          <p:nvPr/>
        </p:nvSpPr>
        <p:spPr>
          <a:xfrm>
            <a:off x="2050920" y="907920"/>
            <a:ext cx="5400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Мы начинаем КВН</a:t>
            </a:r>
            <a:endParaRPr b="0" lang="en-US" sz="66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sp>
        <p:nvSpPr>
          <p:cNvPr id="611" name="Text Box 8"/>
          <p:cNvSpPr/>
          <p:nvPr/>
        </p:nvSpPr>
        <p:spPr>
          <a:xfrm>
            <a:off x="2340000" y="2421000"/>
            <a:ext cx="446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0"/>
                </a:solidFill>
                <a:latin typeface="Arial"/>
              </a:rPr>
              <a:t>Долгожданный дан звонок-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0"/>
                </a:solidFill>
                <a:latin typeface="Arial"/>
              </a:rPr>
              <a:t>Начинается урок.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0"/>
                </a:solidFill>
                <a:latin typeface="Arial"/>
              </a:rPr>
              <a:t>Тут затеи и задачи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0"/>
                </a:solidFill>
                <a:latin typeface="Arial"/>
              </a:rPr>
              <a:t>Игры, шутки, все для вас!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0"/>
                </a:solidFill>
                <a:latin typeface="Arial"/>
              </a:rPr>
              <a:t>Пожелаю всем удачи-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0"/>
                </a:solidFill>
                <a:latin typeface="Arial"/>
              </a:rPr>
              <a:t>За работу, в добрый час!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0"/>
                </a:solidFill>
                <a:latin typeface="Arial"/>
              </a:rPr>
              <a:t>***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0"/>
                </a:solidFill>
                <a:latin typeface="Arial"/>
              </a:rPr>
              <a:t>Привет, друзья! Сегодня в школе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0"/>
                </a:solidFill>
                <a:latin typeface="Arial"/>
              </a:rPr>
              <a:t>Большой и интересный день.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0"/>
                </a:solidFill>
                <a:latin typeface="Arial"/>
              </a:rPr>
              <a:t>Мы приготовили веселый 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0"/>
                </a:solidFill>
                <a:latin typeface="Arial"/>
              </a:rPr>
              <a:t>Чудесный праздник — КВН.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3" name="TextBox 1"/>
          <p:cNvSpPr/>
          <p:nvPr/>
        </p:nvSpPr>
        <p:spPr>
          <a:xfrm>
            <a:off x="285840" y="241200"/>
            <a:ext cx="8501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6699ff"/>
              </a:solidFill>
              <a:latin typeface="Arial"/>
            </a:endParaRPr>
          </a:p>
        </p:txBody>
      </p:sp>
      <p:pic>
        <p:nvPicPr>
          <p:cNvPr id="614" name="Picture 6" descr="4а"/>
          <p:cNvPicPr/>
          <p:nvPr/>
        </p:nvPicPr>
        <p:blipFill>
          <a:blip r:embed="rId2"/>
          <a:stretch/>
        </p:blipFill>
        <p:spPr>
          <a:xfrm>
            <a:off x="0" y="3857760"/>
            <a:ext cx="3218040" cy="30002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6" descr="у доски"/>
          <p:cNvPicPr/>
          <p:nvPr/>
        </p:nvPicPr>
        <p:blipFill>
          <a:blip r:embed="rId3"/>
          <a:stretch/>
        </p:blipFill>
        <p:spPr>
          <a:xfrm>
            <a:off x="6762600" y="3562200"/>
            <a:ext cx="2381400" cy="32958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8" descr="child1"/>
          <p:cNvPicPr/>
          <p:nvPr/>
        </p:nvPicPr>
        <p:blipFill>
          <a:blip r:embed="rId4"/>
          <a:stretch/>
        </p:blipFill>
        <p:spPr>
          <a:xfrm>
            <a:off x="6012000" y="5013360"/>
            <a:ext cx="618840" cy="1419120"/>
          </a:xfrm>
          <a:prstGeom prst="rect">
            <a:avLst/>
          </a:prstGeom>
          <a:ln w="0">
            <a:noFill/>
          </a:ln>
        </p:spPr>
      </p:pic>
      <p:sp>
        <p:nvSpPr>
          <p:cNvPr id="617" name="AutoShape 10"/>
          <p:cNvSpPr/>
          <p:nvPr/>
        </p:nvSpPr>
        <p:spPr>
          <a:xfrm>
            <a:off x="179280" y="189000"/>
            <a:ext cx="4608720" cy="3600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«Ученики 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ифагора»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18" name="AutoShape 11"/>
          <p:cNvSpPr/>
          <p:nvPr/>
        </p:nvSpPr>
        <p:spPr>
          <a:xfrm>
            <a:off x="4788000" y="0"/>
            <a:ext cx="4356000" cy="3645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«Умники и 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Умницы»</a:t>
            </a:r>
            <a:endParaRPr b="0" lang="en-US" sz="3600" spc="-1" strike="noStrike">
              <a:solidFill>
                <a:srgbClr val="6699ff"/>
              </a:solidFill>
              <a:latin typeface="Arial"/>
            </a:endParaRPr>
          </a:p>
        </p:txBody>
      </p:sp>
      <p:pic>
        <p:nvPicPr>
          <p:cNvPr id="619" name="Picture 9" descr="25233116"/>
          <p:cNvPicPr/>
          <p:nvPr/>
        </p:nvPicPr>
        <p:blipFill>
          <a:blip r:embed="rId5"/>
          <a:stretch/>
        </p:blipFill>
        <p:spPr>
          <a:xfrm>
            <a:off x="3492360" y="3500280"/>
            <a:ext cx="2143440" cy="30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785440" cy="5438520"/>
          </a:xfrm>
          <a:prstGeom prst="rect">
            <a:avLst/>
          </a:prstGeom>
          <a:noFill/>
          <a:ln w="9360">
            <a:solidFill>
              <a:srgbClr val="ffccff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66"/>
                </a:solidFill>
                <a:latin typeface="Arial"/>
              </a:rPr>
              <a:t>     </a:t>
            </a:r>
            <a:r>
              <a:rPr b="0" i="1" lang="ru-RU" sz="3200" spc="-1" strike="noStrike">
                <a:solidFill>
                  <a:srgbClr val="cc0066"/>
                </a:solidFill>
                <a:latin typeface="Times New Roman"/>
              </a:rPr>
              <a:t>«Математика открывает свои тайны только тому, кто занимается ею с чистой любовью, ради ее собственной красоты»                                      .                                                               Архимед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66"/>
                </a:solidFill>
                <a:latin typeface="Times New Roman"/>
              </a:rPr>
              <a:t>    </a:t>
            </a:r>
            <a:r>
              <a:rPr b="0" i="1" lang="ru-RU" sz="3200" spc="-1" strike="noStrike">
                <a:solidFill>
                  <a:srgbClr val="cc0066"/>
                </a:solidFill>
                <a:latin typeface="Times New Roman"/>
              </a:rPr>
              <a:t>«Величие человека – в его способности мыслить».                                      Блез Паскаль 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66"/>
                </a:solidFill>
                <a:latin typeface="Times New Roman"/>
              </a:rPr>
              <a:t>    </a:t>
            </a:r>
            <a:r>
              <a:rPr b="0" i="1" lang="ru-RU" sz="3200" spc="-1" strike="noStrike">
                <a:solidFill>
                  <a:srgbClr val="cc0066"/>
                </a:solidFill>
                <a:latin typeface="Times New Roman"/>
              </a:rPr>
              <a:t>«Природа говорит на языке математики».     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66"/>
                </a:solidFill>
                <a:latin typeface="Times New Roman"/>
              </a:rPr>
              <a:t>                                                       </a:t>
            </a:r>
            <a:r>
              <a:rPr b="0" i="1" lang="ru-RU" sz="3200" spc="-1" strike="noStrike">
                <a:solidFill>
                  <a:srgbClr val="cc0066"/>
                </a:solidFill>
                <a:latin typeface="Times New Roman"/>
              </a:rPr>
              <a:t>Галилео Галилей 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66"/>
                </a:solidFill>
                <a:latin typeface="Times New Roman"/>
              </a:rPr>
              <a:t>    </a:t>
            </a:r>
            <a:r>
              <a:rPr b="0" i="1" lang="ru-RU" sz="3200" spc="-1" strike="noStrike">
                <a:solidFill>
                  <a:srgbClr val="cc0066"/>
                </a:solidFill>
                <a:latin typeface="Times New Roman"/>
              </a:rPr>
              <a:t>«Числа управляют миром»</a:t>
            </a:r>
            <a:r>
              <a:rPr b="1" i="1" lang="ru-RU" sz="3200" spc="-1" strike="noStrike">
                <a:solidFill>
                  <a:srgbClr val="cc0066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Times New Roman"/>
              </a:rPr>
              <a:t>                                                                     </a:t>
            </a:r>
            <a:r>
              <a:rPr b="0" i="1" lang="ru-RU" sz="3200" spc="-1" strike="noStrike">
                <a:solidFill>
                  <a:srgbClr val="cc0066"/>
                </a:solidFill>
                <a:latin typeface="Times New Roman"/>
              </a:rPr>
              <a:t>Пифагор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74872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Конкурс: «Разминка»</a:t>
            </a:r>
            <a:r>
              <a:rPr b="0" lang="ru-RU" sz="32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1. Гусь весит 3 кг. Сколько он будет весить, если встанет на одну ногу?</a:t>
            </a: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2. Летели 3 страуса. Охотник одного подстрелил. Сколько страусов осталось? </a:t>
            </a:r>
            <a:endParaRPr b="0" lang="en-US" sz="24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3. Какая цифра, если перевер­нуть сверху вниз, уменьшится на 3?</a:t>
            </a:r>
            <a:endParaRPr b="0" lang="en-US" sz="24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4. Какие часы показывают верное время только 2 раза в сут­ки? </a:t>
            </a:r>
            <a:endParaRPr b="0" lang="en-US" sz="24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5. Когда мы смотрим на чис­ло 3, а говорим «пятнадцать»?</a:t>
            </a:r>
            <a:endParaRPr b="0" lang="en-US" sz="24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6. В известной сказке «Поди туда - не знаю куда, принеси то - не знаю что» царь послал стрел­ка Андрея «за тридевять земель».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Внимание, вопрос! Тридевять - это сколько?</a:t>
            </a:r>
            <a:r>
              <a:rPr b="0" lang="ru-RU" sz="32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640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cc"/>
                </a:solidFill>
                <a:latin typeface="Arial"/>
              </a:rPr>
              <a:t>7. У трех братьев по одной сестре. Сколько всего детей в семье? </a:t>
            </a:r>
            <a:endParaRPr b="0" lang="en-US" sz="26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cc"/>
                </a:solidFill>
                <a:latin typeface="Arial"/>
              </a:rPr>
              <a:t>8. Сколько лет рыбачил старик из «Сказки о рыбаке и рыбке» А.С. Пушкина до того, как он поймал золотую рыбку? </a:t>
            </a:r>
            <a:endParaRPr b="0" lang="en-US" sz="26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cc"/>
                </a:solidFill>
                <a:latin typeface="Arial"/>
              </a:rPr>
              <a:t>9. Сколько раз старик ходил к морю в «Сказке о рыбаке и рыб­ке» А.С. Пушкина, чтобы рыбка выполнила желания старухи? </a:t>
            </a:r>
            <a:endParaRPr b="0" lang="en-US" sz="26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cc"/>
                </a:solidFill>
                <a:latin typeface="Arial"/>
              </a:rPr>
              <a:t>10. Стоит в поле дуб. На дубе 3 ветки. На каждой ветке по 3 яблока. Сколько всего яблок? </a:t>
            </a:r>
            <a:endParaRPr b="0" lang="en-US" sz="26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cc"/>
                </a:solidFill>
                <a:latin typeface="Arial"/>
              </a:rPr>
              <a:t>11. На грядке сидят 6 воробь­ев, к ним прилетели еще 5. Кот подкрался и схватил одного. Сколько осталось воробьев на грядке? </a:t>
            </a:r>
            <a:endParaRPr b="0" lang="en-US" sz="26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cc"/>
                </a:solidFill>
                <a:latin typeface="Arial"/>
              </a:rPr>
              <a:t>12. Сколько ушей у 5 мышей?</a:t>
            </a:r>
            <a:r>
              <a:rPr b="0" lang="ru-RU" sz="26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826560" y="691920"/>
            <a:ext cx="80074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Конкурс: «А ну-ка сосчитай»</a:t>
            </a:r>
            <a:r>
              <a:rPr b="0" lang="ru-RU" sz="32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0066"/>
                </a:solidFill>
                <a:uFillTx/>
                <a:latin typeface="Arial"/>
              </a:rPr>
              <a:t>1</a:t>
            </a: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. Возле  речки  бродил  бегемотик.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Он  имел  весьма  круглый  животик.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Говорил: «Так  сегодня  наелся,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Что  бананами  даже  объелся.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6  бананов  на  завтрак  раздали,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У  мартышек  4  упали.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Я  их  быстренько  съел,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Аж  живот  заболел».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Сколько  фруктов  съел  бегемотик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И  получил  весьма  круглый  животик? 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Arial"/>
              </a:rPr>
              <a:t>***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2. Решила старушка ватрушки испечь.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Поставила тесто да печь затопила.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Решила старушка ватрушки испечь,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А сколько их надо — совсем позабыла.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Две штучки — для внучки,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Две штучки — для деда,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Две штучки — для Тани,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Дочурки соседа...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Считала, считала, да сбилась,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А печь-то совсем протопилась!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Помоги старушке сосчитать ватрушки.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624" name="Picture 4" descr="1132068025_enl"/>
          <p:cNvPicPr/>
          <p:nvPr/>
        </p:nvPicPr>
        <p:blipFill>
          <a:blip r:embed="rId1"/>
          <a:stretch/>
        </p:blipFill>
        <p:spPr>
          <a:xfrm>
            <a:off x="1042920" y="4149720"/>
            <a:ext cx="3097440" cy="22334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2" descr=""/>
          <p:cNvPicPr/>
          <p:nvPr/>
        </p:nvPicPr>
        <p:blipFill>
          <a:blip r:embed="rId2"/>
          <a:stretch/>
        </p:blipFill>
        <p:spPr>
          <a:xfrm>
            <a:off x="5796000" y="1484280"/>
            <a:ext cx="244800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amond(in)" transition="out">
                                      <p:cBhvr additive="repl">
                                        <p:cTn id="52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68360" y="189000"/>
            <a:ext cx="8136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3. Как-то вечером к медведю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На пирог пришли соседи: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Ёж, барсук, енот, "косой",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Волк с плутовкою лисой.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А медведь никак не мог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Разделить на всех пирог.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От труда медведь вспотел -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Он считать ведь не умел!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Помогите ему скорей -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Посчитайте-ка всех гостей.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4. Старый дом пошёл на слом.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Мы въезжаем в новый дом.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У него весёлый вид-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Всюду музыка гремит.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Под балконами большими,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Возле новеньких ворот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Разгружаются машины,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Улыбается народ.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Вот, осматривая дом,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Ходит новый управдом.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Он без всякого труда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Говорит кому куда: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-Вам пониже на этаж,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Этот - ваш, а этот - ваш.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Ваш - четвёртый, ваш - седьмой,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Ваш - восьмой.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А наш какой?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- На этаж повыше,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Ваш у самой крыши.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- Если выше на этаж,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marL="3258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То который будет наш?</a:t>
            </a: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628" name="Picture 4" descr="ucheniki_w450_h468"/>
          <p:cNvPicPr/>
          <p:nvPr/>
        </p:nvPicPr>
        <p:blipFill>
          <a:blip r:embed="rId1"/>
          <a:stretch/>
        </p:blipFill>
        <p:spPr>
          <a:xfrm>
            <a:off x="684360" y="2708280"/>
            <a:ext cx="4392360" cy="388296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4" descr="25881"/>
          <p:cNvPicPr/>
          <p:nvPr/>
        </p:nvPicPr>
        <p:blipFill>
          <a:blip r:embed="rId2"/>
          <a:stretch/>
        </p:blipFill>
        <p:spPr>
          <a:xfrm>
            <a:off x="4716360" y="404640"/>
            <a:ext cx="367200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1:07:38Z</dcterms:created>
  <dc:creator>Антон</dc:creator>
  <dc:description/>
  <dc:language>en-US</dc:language>
  <cp:lastModifiedBy>User</cp:lastModifiedBy>
  <dcterms:modified xsi:type="dcterms:W3CDTF">2019-02-01T04:39:30Z</dcterms:modified>
  <cp:revision>101</cp:revision>
  <dc:subject/>
  <dc:title>Слайд 1</dc:title>
</cp:coreProperties>
</file>