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5.gif" ContentType="image/gif"/>
  <Override PartName="/ppt/media/image6.gif" ContentType="image/gif"/>
  <Override PartName="/ppt/media/image9.png" ContentType="image/png"/>
  <Override PartName="/ppt/media/image16.jpeg" ContentType="image/jpeg"/>
  <Override PartName="/ppt/media/image7.jpeg" ContentType="image/jpeg"/>
  <Override PartName="/ppt/media/image3.jpeg" ContentType="image/jpeg"/>
  <Override PartName="/ppt/media/image15.png" ContentType="image/png"/>
  <Override PartName="/ppt/media/image1.jpeg" ContentType="image/jpe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E3ED-1D12-4F45-A84E-BF5C6B0C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B34A-F9C8-4D74-B5AD-2194F59F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6D888-985D-4823-81F6-21BAECB8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7D5A2-966A-409F-9C35-BA76559D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60826-4005-407E-B83E-510782A8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9E015-8481-40F4-BA58-A548936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62BEB-66B6-42B5-95AB-12E6FF7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E873E-F680-4402-9239-A599A0F7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16850-3135-451D-B657-88C116F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1EF28-7A9D-4221-B69A-0E6FA7A7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0BEB9-B110-4C88-86EE-593B8A6B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B84D9-91FD-4BE8-9B3F-0FBB8139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472D-AB50-4BD9-9D16-CBB318F7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1249F-235E-4212-9FB0-42B4F7C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FCD5A-7FED-4A18-8AEC-15E248AA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773C0-F4B1-47AB-AC1B-DDDD22D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52759-9493-4FFD-A9B5-69307D14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312F4-2CD2-4953-848F-18E58956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1E23F-D016-4794-97E9-B937ECD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19234-911F-4207-B2FF-64F9A98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71BC6-55CB-4E57-818E-3770D305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03DFC-8605-42DA-8EAA-1EBEB754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71A18-3F23-4697-8311-4725C332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B15B-6939-4A01-9178-746625C9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446F1-2721-4CA4-B940-7A5EC5A4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CCD4-6D96-446E-814F-CEA0E020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9934-211C-4090-B65B-209EB07A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A6F8-40D9-4EF9-B9A0-93303C6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B322-72E2-406B-AFA1-F980C443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B190-5512-4641-9C7D-F7B3C83A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AD78-4201-4F5D-A303-70A6C538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10B7-5394-4AD4-9CBC-41A8217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B177-898A-41D1-BF47-6EA4C84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8FCD-482D-4553-95AF-E1A2A72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5CA1-810A-4B5A-9336-6C30E2E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4544-1C51-4AE5-87B3-094BA9EF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0F77-25CE-4CE6-B346-73C76EB5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5C74-6FF3-4955-BFF4-6919F33E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8FF1E-C2FE-4D6D-8A5C-735698DE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2149C-FADF-4B65-9FA1-80436606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235FC-AE19-4ADE-881B-B96F3C82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27FB3-D20A-4F04-AAC6-B6B1C6B0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494C4-A9BD-49C2-8515-693E8C92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E6A2-0B02-400F-8CF3-95B7A4D7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B5774-C434-4E04-9FC1-F763B38B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10812-C3F6-434B-9D19-4E9F40FB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3A224-7066-4B63-AFE8-BB4228D5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F4413-A0F5-4163-BD90-216E90DF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92D79-1437-4CCF-9F5F-AF8CE638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F13C7-414A-4DF8-B437-FC85C662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E288E-9A65-4DD9-ADAA-BAB02856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4DC1-8C44-4741-9369-04193D6E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5F0A-1E2E-4261-A8C2-31F0A6B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0263-51C1-49C0-A19E-202B8896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93CD-5113-4DB4-91C5-24DA2FFF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7137-8AC1-424A-A494-E63EDDBF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EFCB-1472-46C6-9055-CAE8C18F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E9AB-FA01-4FFE-B8CB-C4A949D3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53BE-D43B-4531-B239-67E8293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6D93-79F5-4C80-9A05-6B9F6FE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D745-86C4-4FA4-87CF-E655BD8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43ED7-B3B6-475F-A8C1-DAE9AF1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171F1-25A3-459F-8EC4-0BD67108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7E5DE-2C36-476F-81E7-F491A405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6255-871D-4540-BD64-B238F86B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1E89-DF7D-4619-B067-5BDA5FDC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EFE4-4288-4AAE-BD14-E4C3EC7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800F9-0948-474A-B0A6-E2DA3245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2223-20FB-4EB5-93CD-2BE5A501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CD41D-91DB-43E1-9F34-8F05A980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CFD1A-C7D7-4E19-9915-4D4163DC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67192-C9E5-4377-8472-AC57BEA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9AF5D-5BF0-46E4-9770-1967DB5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48F3D-03A0-482F-9B7A-903BF4FC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CF19B-D403-43EC-9B77-80A7E5A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94EA-03F7-4B9D-B45C-0C69D83B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1A07-A069-42D6-8002-128B5B25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34883-FF39-4F80-AE24-0CCE0724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BA2D8-E084-473A-B4E5-B596758C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3F74-04D9-4531-BA02-345DD2D8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0845-6CF3-4B79-BC62-F8685CA1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31B4-9F26-4AE6-BF13-EAEDCF02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7D06-8902-4411-9CEF-D1CB2C85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64323-5956-4522-8E3C-07AFEF08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AE4FC-7729-4116-B7C5-2064BC54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A9C72-A730-4D64-9F46-C600157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6EEC2-E1AD-456A-9864-E674B6D8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D951-5658-45D1-869C-C686BD7A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E9B2-BDE7-47A7-A157-DB28FC70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B7A57-1694-45B7-B0FD-69EE5684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9B77-E801-4EEA-B1FA-DC078553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A67B-EF9E-4865-B7A9-F937A1BA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BAE01-2734-4F52-8949-48D87656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D942F-994B-4E7C-9E19-684F226E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4AD9E-A63A-48E4-AC47-7C6818D9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9441E-DC2A-4EFA-A205-4F9F1F94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277A-1D60-4E08-956F-63C9BF19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E0527-4C43-426A-B264-AAAE3A4C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9FD4-9769-4283-96EA-29DF43D7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6D76C-0916-428D-B26E-E522479E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DDECF-B715-47F0-A3F6-796A192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D5C62-1D21-4F67-87FF-197E2C29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CE02D-E45A-4124-99B9-94F08D48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80526-8FCC-4DFD-8D7F-3C230969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E9F0-36BD-4E8E-90B6-2EDD5ED4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1B4E6-F00C-4A39-8D41-A6F2F53A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13A61-176C-450D-9313-278890E0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1BD5F-A818-4317-8589-C8BA93D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BF1A-E422-4868-84F8-FA4C6EF1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4223-EF24-45D5-ADA0-AA19BB3F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880D9-34C2-4F23-8912-E8504F9F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86B2-6028-458A-A7C3-C1AC4473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F6185-BEA3-4A3F-B9DE-1D0BE21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3C641-EE9F-4BE2-B4F1-A3242EC0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A5E26-A976-47FB-A3B3-B43A38F3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24BD6-9CAB-4793-B091-B6DC921E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9816A-3694-4428-A6B5-DC58849F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9B80D-D6CB-494D-901B-E573C6D4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5075F-E4AA-4B6F-B238-FAECCE6F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47952-3CFD-4A28-BDB6-FF3C1779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f3fc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b82d8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79c9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3194f7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33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3194f7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33cc"/>
                </a:gs>
                <a:gs pos="50000">
                  <a:srgbClr val="0839ce"/>
                </a:gs>
                <a:gs pos="100000">
                  <a:srgbClr val="0033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B60B-2A32-403F-B5EC-BD9C3ACE83B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5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5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5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55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5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5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5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5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5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</p:grpSp>
      <p:sp>
        <p:nvSpPr>
          <p:cNvPr id="5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8E4-BA48-41F3-BAFC-117AD857C4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6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6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sp>
          <p:nvSpPr>
            <p:cNvPr id="6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70" name="Group 9"/>
            <p:cNvGrpSpPr/>
            <p:nvPr/>
          </p:nvGrpSpPr>
          <p:grpSpPr>
            <a:xfrm>
              <a:off x="-1080" y="2601000"/>
              <a:ext cx="2692800" cy="3117600"/>
              <a:chOff x="-1080" y="2601000"/>
              <a:chExt cx="2692800" cy="3117600"/>
            </a:xfrm>
          </p:grpSpPr>
          <p:sp>
            <p:nvSpPr>
              <p:cNvPr id="7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grpSp>
            <p:nvGrpSpPr>
              <p:cNvPr id="76" name="Group 15"/>
              <p:cNvGrpSpPr/>
              <p:nvPr/>
            </p:nvGrpSpPr>
            <p:grpSpPr>
              <a:xfrm>
                <a:off x="853560" y="4048560"/>
                <a:ext cx="1838160" cy="1670040"/>
                <a:chOff x="853560" y="4048560"/>
                <a:chExt cx="1838160" cy="1670040"/>
              </a:xfrm>
            </p:grpSpPr>
            <p:sp>
              <p:nvSpPr>
                <p:cNvPr id="77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6699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6699ff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18"/>
                <p:cNvSpPr/>
                <p:nvPr/>
              </p:nvSpPr>
              <p:spPr>
                <a:xfrm flipH="1" rot="7102800">
                  <a:off x="2487600" y="5563800"/>
                  <a:ext cx="200880" cy="896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6600" spc="-1" strike="noStrike">
                    <a:solidFill>
                      <a:srgbClr val="6699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81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9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9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sp>
          <p:nvSpPr>
            <p:cNvPr id="9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D449-82B7-4BED-83C4-628106FE181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9F81-DB15-4A89-A7AF-8A23F7EA26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ccff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0143-C3BC-4DFA-92AB-B9FE331745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B2BD-DCB5-4DB4-81E3-13E429A03A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8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f3fc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b82d8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79c9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3194f7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33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3194f7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33cc"/>
                </a:gs>
                <a:gs pos="50000">
                  <a:srgbClr val="0839ce"/>
                </a:gs>
                <a:gs pos="100000">
                  <a:srgbClr val="0033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C4AB-8733-4094-A37F-ADAC9D9B950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-19800" y="0"/>
            <a:ext cx="9050400" cy="6858000"/>
            <a:chOff x="-19800" y="0"/>
            <a:chExt cx="9050400" cy="6858000"/>
          </a:xfrm>
        </p:grpSpPr>
        <p:grpSp>
          <p:nvGrpSpPr>
            <p:cNvPr id="352" name="Group 3"/>
            <p:cNvGrpSpPr/>
            <p:nvPr/>
          </p:nvGrpSpPr>
          <p:grpSpPr>
            <a:xfrm>
              <a:off x="5373360" y="61560"/>
              <a:ext cx="3657240" cy="6139080"/>
              <a:chOff x="5373360" y="61560"/>
              <a:chExt cx="3657240" cy="6139080"/>
            </a:xfrm>
          </p:grpSpPr>
          <p:sp>
            <p:nvSpPr>
              <p:cNvPr id="353" name="Freeform 4"/>
              <p:cNvSpPr/>
              <p:nvPr/>
            </p:nvSpPr>
            <p:spPr>
              <a:xfrm flipV="1" rot="11970000">
                <a:off x="6575760" y="348120"/>
                <a:ext cx="2121840" cy="23580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4" name="Freeform 5"/>
              <p:cNvSpPr/>
              <p:nvPr/>
            </p:nvSpPr>
            <p:spPr>
              <a:xfrm flipV="1" rot="11970000">
                <a:off x="7403040" y="1961280"/>
                <a:ext cx="9090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5" name="Freeform 6"/>
              <p:cNvSpPr/>
              <p:nvPr/>
            </p:nvSpPr>
            <p:spPr>
              <a:xfrm flipV="1" rot="11970000">
                <a:off x="6817320" y="2590200"/>
                <a:ext cx="44064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 flipV="1" rot="11970000">
                <a:off x="7244640" y="676440"/>
                <a:ext cx="38988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7" name="Freeform 8"/>
              <p:cNvSpPr/>
              <p:nvPr/>
            </p:nvSpPr>
            <p:spPr>
              <a:xfrm flipV="1" rot="11970000">
                <a:off x="7121520" y="2646000"/>
                <a:ext cx="16380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8" name="Freeform 9"/>
              <p:cNvSpPr/>
              <p:nvPr/>
            </p:nvSpPr>
            <p:spPr>
              <a:xfrm flipV="1" rot="11970000">
                <a:off x="7122960" y="123876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9" name="Freeform 10"/>
              <p:cNvSpPr/>
              <p:nvPr/>
            </p:nvSpPr>
            <p:spPr>
              <a:xfrm flipV="1" rot="11970000">
                <a:off x="5903640" y="2936520"/>
                <a:ext cx="525600" cy="32698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sp>
          <p:nvSpPr>
            <p:cNvPr id="360" name="Freeform 11"/>
            <p:cNvSpPr/>
            <p:nvPr/>
          </p:nvSpPr>
          <p:spPr>
            <a:xfrm flipH="1" rot="373800">
              <a:off x="34200" y="3106800"/>
              <a:ext cx="5140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67480" y="2000160"/>
              <a:ext cx="20055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0" y="4143240"/>
              <a:ext cx="127584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 flipH="1" rot="373800">
              <a:off x="1429560" y="4532040"/>
              <a:ext cx="5637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 flipH="1" rot="373800">
              <a:off x="1271880" y="4728960"/>
              <a:ext cx="13860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1895760" y="5195880"/>
              <a:ext cx="176472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366" name="Group 17"/>
            <p:cNvGrpSpPr/>
            <p:nvPr/>
          </p:nvGrpSpPr>
          <p:grpSpPr>
            <a:xfrm>
              <a:off x="4164480" y="1032480"/>
              <a:ext cx="1018080" cy="1263960"/>
              <a:chOff x="4164480" y="1032480"/>
              <a:chExt cx="1018080" cy="1263960"/>
            </a:xfrm>
          </p:grpSpPr>
          <p:sp>
            <p:nvSpPr>
              <p:cNvPr id="367" name="Freeform 18"/>
              <p:cNvSpPr/>
              <p:nvPr/>
            </p:nvSpPr>
            <p:spPr>
              <a:xfrm rot="3220200">
                <a:off x="4581360" y="1069920"/>
                <a:ext cx="285840" cy="379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68" name="Freeform 19"/>
              <p:cNvSpPr/>
              <p:nvPr/>
            </p:nvSpPr>
            <p:spPr>
              <a:xfrm rot="3220200">
                <a:off x="4665960" y="1603800"/>
                <a:ext cx="488880" cy="315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69" name="Freeform 20"/>
              <p:cNvSpPr/>
              <p:nvPr/>
            </p:nvSpPr>
            <p:spPr>
              <a:xfrm rot="3220200">
                <a:off x="4124880" y="196272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1"/>
            <p:cNvGrpSpPr/>
            <p:nvPr/>
          </p:nvGrpSpPr>
          <p:grpSpPr>
            <a:xfrm>
              <a:off x="5645520" y="226080"/>
              <a:ext cx="896040" cy="827280"/>
              <a:chOff x="5645520" y="226080"/>
              <a:chExt cx="896040" cy="827280"/>
            </a:xfrm>
          </p:grpSpPr>
          <p:sp>
            <p:nvSpPr>
              <p:cNvPr id="371" name="Freeform 22"/>
              <p:cNvSpPr/>
              <p:nvPr/>
            </p:nvSpPr>
            <p:spPr>
              <a:xfrm rot="14908200">
                <a:off x="5757480" y="721440"/>
                <a:ext cx="179280" cy="363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72" name="Freeform 23"/>
              <p:cNvSpPr/>
              <p:nvPr/>
            </p:nvSpPr>
            <p:spPr>
              <a:xfrm rot="14908200">
                <a:off x="5707800" y="401040"/>
                <a:ext cx="30528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73" name="Freeform 24"/>
              <p:cNvSpPr/>
              <p:nvPr/>
            </p:nvSpPr>
            <p:spPr>
              <a:xfrm rot="14908200">
                <a:off x="6251760" y="325800"/>
                <a:ext cx="319320" cy="153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5"/>
            <p:cNvGrpSpPr/>
            <p:nvPr/>
          </p:nvGrpSpPr>
          <p:grpSpPr>
            <a:xfrm>
              <a:off x="971280" y="5232960"/>
              <a:ext cx="1061640" cy="831960"/>
              <a:chOff x="971280" y="5232960"/>
              <a:chExt cx="1061640" cy="831960"/>
            </a:xfrm>
          </p:grpSpPr>
          <p:sp>
            <p:nvSpPr>
              <p:cNvPr id="375" name="Freeform 26"/>
              <p:cNvSpPr/>
              <p:nvPr/>
            </p:nvSpPr>
            <p:spPr>
              <a:xfrm rot="8524800">
                <a:off x="1715400" y="5497200"/>
                <a:ext cx="25200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76" name="Freeform 27"/>
              <p:cNvSpPr/>
              <p:nvPr/>
            </p:nvSpPr>
            <p:spPr>
              <a:xfrm rot="8524800">
                <a:off x="1197000" y="5709600"/>
                <a:ext cx="43092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77" name="Freeform 28"/>
              <p:cNvSpPr/>
              <p:nvPr/>
            </p:nvSpPr>
            <p:spPr>
              <a:xfrm rot="8524800">
                <a:off x="963000" y="5357880"/>
                <a:ext cx="45072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29"/>
            <p:cNvGrpSpPr/>
            <p:nvPr/>
          </p:nvGrpSpPr>
          <p:grpSpPr>
            <a:xfrm>
              <a:off x="377640" y="394920"/>
              <a:ext cx="1695240" cy="1146960"/>
              <a:chOff x="377640" y="394920"/>
              <a:chExt cx="1695240" cy="1146960"/>
            </a:xfrm>
          </p:grpSpPr>
          <p:sp>
            <p:nvSpPr>
              <p:cNvPr id="379" name="Freeform 30"/>
              <p:cNvSpPr/>
              <p:nvPr/>
            </p:nvSpPr>
            <p:spPr>
              <a:xfrm flipH="1" rot="4107000">
                <a:off x="1582200" y="1012680"/>
                <a:ext cx="355320" cy="532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80" name="Freeform 31"/>
              <p:cNvSpPr/>
              <p:nvPr/>
            </p:nvSpPr>
            <p:spPr>
              <a:xfrm flipH="1" rot="4107000">
                <a:off x="1027800" y="537840"/>
                <a:ext cx="608400" cy="442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81" name="Freeform 32"/>
              <p:cNvSpPr/>
              <p:nvPr/>
            </p:nvSpPr>
            <p:spPr>
              <a:xfrm flipH="1" rot="4107000">
                <a:off x="280800" y="1053360"/>
                <a:ext cx="63612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33"/>
            <p:cNvGrpSpPr/>
            <p:nvPr/>
          </p:nvGrpSpPr>
          <p:grpSpPr>
            <a:xfrm>
              <a:off x="7459920" y="3711600"/>
              <a:ext cx="1159560" cy="1608840"/>
              <a:chOff x="7459920" y="3711600"/>
              <a:chExt cx="1159560" cy="1608840"/>
            </a:xfrm>
          </p:grpSpPr>
          <p:sp>
            <p:nvSpPr>
              <p:cNvPr id="383" name="Freeform 34"/>
              <p:cNvSpPr/>
              <p:nvPr/>
            </p:nvSpPr>
            <p:spPr>
              <a:xfrm flipH="1" rot="10015800">
                <a:off x="7514640" y="4756320"/>
                <a:ext cx="35676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84" name="Freeform 35"/>
              <p:cNvSpPr/>
              <p:nvPr/>
            </p:nvSpPr>
            <p:spPr>
              <a:xfrm flipH="1" rot="10015800">
                <a:off x="7967160" y="4455360"/>
                <a:ext cx="610200" cy="441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85" name="Freeform 36"/>
              <p:cNvSpPr/>
              <p:nvPr/>
            </p:nvSpPr>
            <p:spPr>
              <a:xfrm flipH="1" rot="10015800">
                <a:off x="7659360" y="3780720"/>
                <a:ext cx="63792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sp>
          <p:nvSpPr>
            <p:cNvPr id="386" name="Freeform 37"/>
            <p:cNvSpPr/>
            <p:nvPr/>
          </p:nvSpPr>
          <p:spPr>
            <a:xfrm>
              <a:off x="1938600" y="3240"/>
              <a:ext cx="137304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 flipV="1" rot="9832800">
              <a:off x="3436560" y="160560"/>
              <a:ext cx="108504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 flipV="1" rot="9832800">
              <a:off x="3180600" y="1361880"/>
              <a:ext cx="5256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 flipV="1" rot="9832800">
              <a:off x="3542400" y="1281960"/>
              <a:ext cx="19584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2553480" y="0"/>
              <a:ext cx="19728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 flipV="1" rot="9832800">
              <a:off x="3461760" y="1964160"/>
              <a:ext cx="6256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E822-450A-497F-8312-080464EC0F7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3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43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3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00EE-B741-417B-BB31-A94E2186E1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ccff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916-D709-469C-AAAD-316E14A474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WordArt 7"/>
          <p:cNvSpPr txBox="1"/>
          <p:nvPr/>
        </p:nvSpPr>
        <p:spPr>
          <a:xfrm>
            <a:off x="2050920" y="90792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Внеклассное мероприятие</a:t>
            </a:r>
            <a:endParaRPr b="0" lang="en-US" sz="66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195640" y="1773360"/>
            <a:ext cx="74088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Comic Sans MS"/>
              </a:rPr>
              <a:t>     </a:t>
            </a:r>
            <a:r>
              <a:rPr b="1" lang="ru-RU" sz="5400" spc="-1" strike="noStrike">
                <a:solidFill>
                  <a:srgbClr val="33cc33"/>
                </a:solidFill>
                <a:latin typeface="Comic Sans MS"/>
              </a:rPr>
              <a:t>КВН: </a:t>
            </a:r>
            <a:endParaRPr b="0" lang="en-US" sz="54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33cc33"/>
                </a:solidFill>
                <a:latin typeface="Comic Sans MS"/>
              </a:rPr>
              <a:t>«Загадки Математики»</a:t>
            </a:r>
            <a:endParaRPr b="0" lang="en-US" sz="60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ПА ’3 Ж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Verdana"/>
              </a:rPr>
              <a:t>5 ’ниц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Verdana"/>
              </a:rPr>
              <a:t>расс 100 яние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ff"/>
                </a:solidFill>
                <a:latin typeface="Verdana"/>
              </a:rPr>
              <a:t>3 ’о 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66ff"/>
                </a:solidFill>
                <a:latin typeface="Verdana"/>
              </a:rPr>
              <a:t>у </a:t>
            </a:r>
            <a:r>
              <a:rPr b="1" lang="ru-RU" sz="5400" spc="-1" strike="noStrike">
                <a:solidFill>
                  <a:srgbClr val="ff66ff"/>
                </a:solidFill>
                <a:latin typeface="Verdana"/>
              </a:rPr>
              <a:t>3’ </a:t>
            </a:r>
            <a:r>
              <a:rPr b="1" i="1" lang="ru-RU" sz="5400" spc="-1" strike="noStrike">
                <a:solidFill>
                  <a:srgbClr val="ff66ff"/>
                </a:solidFill>
                <a:latin typeface="Verdana"/>
              </a:rPr>
              <a:t>о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5400" spc="-1" strike="noStrike">
                <a:solidFill>
                  <a:srgbClr val="ff5050"/>
                </a:solidFill>
                <a:latin typeface="Verdana"/>
              </a:rPr>
              <a:t>ен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Picture 4"/>
          <p:cNvSpPr/>
          <p:nvPr/>
        </p:nvSpPr>
        <p:spPr>
          <a:xfrm>
            <a:off x="4500720" y="4724280"/>
            <a:ext cx="192060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32" name="Picture 5"/>
          <p:cNvSpPr/>
          <p:nvPr/>
        </p:nvSpPr>
        <p:spPr>
          <a:xfrm>
            <a:off x="1908000" y="3429000"/>
            <a:ext cx="1743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РЕБУСЫ</a:t>
            </a:r>
            <a:endParaRPr b="0" lang="en-US" sz="40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34" name="Picture 10" descr=""/>
          <p:cNvPicPr/>
          <p:nvPr/>
        </p:nvPicPr>
        <p:blipFill>
          <a:blip r:embed="rId1"/>
          <a:stretch/>
        </p:blipFill>
        <p:spPr>
          <a:xfrm>
            <a:off x="2916360" y="5229360"/>
            <a:ext cx="752400" cy="1104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35" name="Text Box 11"/>
          <p:cNvSpPr/>
          <p:nvPr/>
        </p:nvSpPr>
        <p:spPr>
          <a:xfrm>
            <a:off x="3708360" y="5084640"/>
            <a:ext cx="34308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WordArt 2"/>
          <p:cNvSpPr txBox="1"/>
          <p:nvPr/>
        </p:nvSpPr>
        <p:spPr>
          <a:xfrm>
            <a:off x="1258920" y="549360"/>
            <a:ext cx="6769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Умножь и Раздели"</a:t>
            </a:r>
            <a:endParaRPr b="1" lang="en-US" sz="6600" spc="1" strike="noStrike">
              <a:ln w="381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539640" y="161244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49:7     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50:2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36:6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32:8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21:7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27:9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7*5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11*2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7*4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3*8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10*5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7*6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4"/>
          <p:cNvSpPr txBox="1"/>
          <p:nvPr/>
        </p:nvSpPr>
        <p:spPr>
          <a:xfrm>
            <a:off x="1403280" y="62064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Конкурс капитанов"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Rectangle 16"/>
          <p:cNvSpPr/>
          <p:nvPr/>
        </p:nvSpPr>
        <p:spPr>
          <a:xfrm>
            <a:off x="324000" y="128880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Что тяжелее — один кг ваты  или один кг железа?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Тройка лошадей в час пробежала 24 км.   Сколько километров пробежала каждая лошадь?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3. В одной семье  два папы и два сына. Сколько всего людей?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4. Винни-пух в гостях съел несколько кг мёда и ещё столько же. Половину оставшегося мёда, 3 кг, унес домой.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Сколько кг мёда съёл Винни- пух ?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WordArt 4"/>
          <p:cNvSpPr txBox="1"/>
          <p:nvPr/>
        </p:nvSpPr>
        <p:spPr>
          <a:xfrm>
            <a:off x="1403280" y="765000"/>
            <a:ext cx="640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минутка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1042920" y="1951560"/>
            <a:ext cx="748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Мы шагаем, мы шагаем,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Руки выше поднимаем.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Вдруг мы видим, у куста,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Выпал птенчик из гнезда.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Тихо птенчика берем,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И в гнездо его кладем.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570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Конкурс Зага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.По десятку на шесточк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ели умные круж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И считают громко вслу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Только слыш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тук да сту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.  Восемь ног, как восемь рук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Вышивают шелком круг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Мастер в шелке знает толк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окупайте, мухи, шел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3. Пять ступенек - лесенка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На ступеньках - пес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4. Чёрненькая, хвостатенькая, не лает, не кусает, а из класса в класс не пуск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5. Кто в году четыре раза пе­реодева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6. Сговорились две ноги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Делать дуги и круги.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44" name="Picture 4" descr="buch"/>
          <p:cNvPicPr/>
          <p:nvPr/>
        </p:nvPicPr>
        <p:blipFill>
          <a:blip r:embed="rId1"/>
          <a:stretch/>
        </p:blipFill>
        <p:spPr>
          <a:xfrm>
            <a:off x="5435640" y="1197000"/>
            <a:ext cx="32004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Реши задач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240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1.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Произведение каких двух однозначных чисел дает число 5. (5x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2. Заяц вытащил 7 морковок и съел все, кроме 4. Сколько морковок осталос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3. Сколько бойцов было у Али-баб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4. Две сардельки варятся 6 минут. За сколько ми­нут сварятся 8 таких же сарделек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5. Сумма, каких однозначных чисел дает число 1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6. Прямоугольник с равными сторон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7. Дядя Фёдор написал папе с мамой в Крым 15 писем , а в Простоквашино –в 8 раз больше .Сколько писем написал дядя Фёдор в Простоквашино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8. Курочка Ряба за год снесла 160 простых яиц, а – золотых в 2 раза меньше. Сколько золотых яиц снесла курочка Ряба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9. Баба Яга летит на своей метле со скоростью 25 км/ч. Сколько времени ей потребуется, чтобы полететь на этой метле 100км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10. От деревни до города 95 км. Пятую часть пути турист проехал на велосипеде. Сколько км он проехал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7020000" y="5300640"/>
            <a:ext cx="1908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6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82564924"/>
          <p:cNvPicPr/>
          <p:nvPr/>
        </p:nvPicPr>
        <p:blipFill>
          <a:blip r:embed="rId1"/>
          <a:srcRect l="0" t="0" r="42917" b="0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4"/>
          <p:cNvSpPr/>
          <p:nvPr/>
        </p:nvSpPr>
        <p:spPr>
          <a:xfrm>
            <a:off x="5364000" y="-404280"/>
            <a:ext cx="3529080" cy="847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«В мире уравнений»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+274=696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-28=256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1009+Х=5000 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100-Х=59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+25=90:3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56-Х=11+3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+25=30 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87-33=Х+20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+19=75+25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48-Х=25+15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99ff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82564924"/>
          <p:cNvPicPr/>
          <p:nvPr/>
        </p:nvPicPr>
        <p:blipFill>
          <a:blip r:embed="rId1"/>
          <a:srcRect l="0" t="0" r="42917" b="0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148360" y="-516960"/>
            <a:ext cx="3744720" cy="704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«Найди ошибки и исправь»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158*10=1580                                                          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75*1000=70500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10*920=9200         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842*100=842000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5003*10=50030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384*10=3084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нкурс шуточных вопрос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емерых братьев по одной сестре: Много ли се­с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матери, две дочери, да бабушка с внучкой. Сколько всего челове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гусь стоит на двух ногах он весит 4 кг. Сколько он будет весить, когда встанет на одну ног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 яйца сварились за 4 минуты. За сколько минут сварилось одно яйц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легче: килограмм железа или килограмм пух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ели три страуса, охотник убил одного. Сколь­ко страусов осталос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гребе 5 мышей грызли корку сыра. Они были так увлечены этим, что не заметили подкравшегося кота. Кот бросился на мышей и одну из них схватил. Сколько мышей осталось доедать сы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абушка вязала внукам шарфы и варежки. Всего она связала 3 шарфа и 6 варежек. Сколько внуков у ба­буш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орю плыли 9 акул. Они увидели косяк рыб и нырнули в глубину. Сколько акул осталось в мор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столовой, где обедали лыжники, пришедшие из похода, стояли 20 лыж, а в снег было воткнуто 20 палок. Сколько лыжников ходило в пох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узнец подковал тройку лошадей. Сколько подков ему пришлось с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тупил долгожданный февраль. Сначала зацвела 1 яблоня, а потом - 3 сливы. Сколько деревьев зацве­л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4" descr="f_47b00edfd70af"/>
          <p:cNvPicPr/>
          <p:nvPr/>
        </p:nvPicPr>
        <p:blipFill>
          <a:blip r:embed="rId1"/>
          <a:stretch/>
        </p:blipFill>
        <p:spPr>
          <a:xfrm>
            <a:off x="452520" y="493560"/>
            <a:ext cx="8238960" cy="587232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16"/>
          <p:cNvSpPr/>
          <p:nvPr/>
        </p:nvSpPr>
        <p:spPr>
          <a:xfrm>
            <a:off x="2340000" y="1547640"/>
            <a:ext cx="63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2124000" y="2637000"/>
            <a:ext cx="6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65420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59" name="Picture 4" descr="658722416"/>
          <p:cNvPicPr/>
          <p:nvPr/>
        </p:nvPicPr>
        <p:blipFill>
          <a:blip r:embed="rId2"/>
          <a:stretch/>
        </p:blipFill>
        <p:spPr>
          <a:xfrm>
            <a:off x="1908000" y="765000"/>
            <a:ext cx="4608720" cy="250668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7"/>
          <p:cNvSpPr/>
          <p:nvPr/>
        </p:nvSpPr>
        <p:spPr>
          <a:xfrm>
            <a:off x="2771640" y="2448360"/>
            <a:ext cx="3529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Monotype Corsiva"/>
              </a:rPr>
              <a:t>Подведение итогов</a:t>
            </a:r>
            <a:r>
              <a:rPr b="1" lang="ru-RU" sz="6600" spc="-1" strike="noStrike">
                <a:solidFill>
                  <a:srgbClr val="003366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658722416"/>
          <p:cNvPicPr/>
          <p:nvPr/>
        </p:nvPicPr>
        <p:blipFill>
          <a:blip r:embed="rId1"/>
          <a:stretch/>
        </p:blipFill>
        <p:spPr>
          <a:xfrm>
            <a:off x="5796000" y="-674640"/>
            <a:ext cx="3348000" cy="27684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1743120" y="46080"/>
            <a:ext cx="484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ЦЕЛИ:</a:t>
            </a: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 flipH="1" flipV="1">
            <a:off x="8750160" y="-184680"/>
            <a:ext cx="78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-4091040" y="333000"/>
            <a:ext cx="173275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99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- Способствовать формированию интереса к урокам математики,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развитию логического мышления, математической интуиции,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умению анализировать,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применять знания в нестандартных ситуациях;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ff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овершенствовать устные и письменные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вычислительные навыки;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- Выполнять арифметические действия с величинами;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Формировать представление  о единстве окружающего мира: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Развивать у учащихся коммуникативные компетентности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(культуру общения, умение работать в группах);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1275323481_rrrrr21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335640"/>
          </a:xfrm>
          <a:prstGeom prst="rect">
            <a:avLst/>
          </a:prstGeom>
          <a:ln w="0">
            <a:noFill/>
          </a:ln>
        </p:spPr>
      </p:pic>
      <p:pic>
        <p:nvPicPr>
          <p:cNvPr id="662" name="wmpaud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3" name="wmpaud1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588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881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5881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WordArt 7"/>
          <p:cNvSpPr txBox="1"/>
          <p:nvPr/>
        </p:nvSpPr>
        <p:spPr>
          <a:xfrm>
            <a:off x="2050920" y="907920"/>
            <a:ext cx="540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Мы начинаем КВН</a:t>
            </a:r>
            <a:endParaRPr b="0" lang="en-US" sz="66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340000" y="242100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Долгожданный дан звонок-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Начинается урок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Тут затеи и задачи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Игры, шутки, все для вас!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Пожелаю всем удачи-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За работу, в добрый час!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***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Привет, друзья! Сегодня в школе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Большой и интересный день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Мы приготовили веселый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Чудесный праздник — КВН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Box 1"/>
          <p:cNvSpPr/>
          <p:nvPr/>
        </p:nvSpPr>
        <p:spPr>
          <a:xfrm>
            <a:off x="285840" y="24120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14" name="Picture 6" descr="4а"/>
          <p:cNvPicPr/>
          <p:nvPr/>
        </p:nvPicPr>
        <p:blipFill>
          <a:blip r:embed="rId2"/>
          <a:stretch/>
        </p:blipFill>
        <p:spPr>
          <a:xfrm>
            <a:off x="0" y="3857760"/>
            <a:ext cx="3218040" cy="3000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у доски"/>
          <p:cNvPicPr/>
          <p:nvPr/>
        </p:nvPicPr>
        <p:blipFill>
          <a:blip r:embed="rId3"/>
          <a:stretch/>
        </p:blipFill>
        <p:spPr>
          <a:xfrm>
            <a:off x="6762600" y="3562200"/>
            <a:ext cx="2381400" cy="3295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child1"/>
          <p:cNvPicPr/>
          <p:nvPr/>
        </p:nvPicPr>
        <p:blipFill>
          <a:blip r:embed="rId4"/>
          <a:stretch/>
        </p:blipFill>
        <p:spPr>
          <a:xfrm>
            <a:off x="6012000" y="5013360"/>
            <a:ext cx="618840" cy="141912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/>
          <p:cNvSpPr/>
          <p:nvPr/>
        </p:nvSpPr>
        <p:spPr>
          <a:xfrm>
            <a:off x="179280" y="189000"/>
            <a:ext cx="4608720" cy="3600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Ученики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ифагора»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4788000" y="0"/>
            <a:ext cx="4356000" cy="364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Умники и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мницы»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19" name="Picture 9" descr="25233116"/>
          <p:cNvPicPr/>
          <p:nvPr/>
        </p:nvPicPr>
        <p:blipFill>
          <a:blip r:embed="rId5"/>
          <a:stretch/>
        </p:blipFill>
        <p:spPr>
          <a:xfrm>
            <a:off x="3492360" y="3500280"/>
            <a:ext cx="2143440" cy="30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785440" cy="543852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«Математика открывает свои тайны только тому, кто занимается ею с чистой любовью, ради ее собственной красоты»                                      .                                                               Архимед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«Величие человека – в его способности мыслить».                                      Блез Паскаль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«Природа говорит на языке математики».    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Галилео Галилей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«Числа управляют миром»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                                                                 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Пифагор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748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Конкурс: «Разминка»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. Гусь весит 3 кг. Сколько он будет весить, если встанет на одну ногу?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. Летели 3 страуса. Охотник одного подстрелил. Сколько страусов осталось? 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3. Какая цифра, если перевер­нуть сверху вниз, уменьшится на 3?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4. Какие часы показывают верное время только 2 раза в сут­ки? 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5. Когда мы смотрим на чис­ло 3, а говорим «пятнадцать»?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6. В известной сказке «Поди туда - не знаю куда, принеси то - не знаю что» царь послал стрел­ка Андрея «за тридевять земель»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Внимание, вопрос! Тридевять - это сколько?</a:t>
            </a: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640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7. У трех братьев по одной сестре. Сколько всего детей в семье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8. Сколько лет рыбачил старик из «Сказки о рыбаке и рыбке» А.С. Пушкина до того, как он поймал золотую рыбку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9. Сколько раз старик ходил к морю в «Сказке о рыбаке и рыб­ке» А.С. Пушкина, чтобы рыбка выполнила желания старухи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10. Стоит в поле дуб. На дубе 3 ветки. На каждой ветке по 3 яблока. Сколько всего яблок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11. На грядке сидят 6 воробь­ев, к ним прилетели еще 5. Кот подкрался и схватил одного. Сколько осталось воробьев на грядке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12. Сколько ушей у 5 мышей?</a:t>
            </a:r>
            <a:r>
              <a:rPr b="0" lang="ru-RU" sz="26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80074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Конкурс: «А ну-ка сосчитай»</a:t>
            </a: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66"/>
                </a:solidFill>
                <a:uFillTx/>
                <a:latin typeface="Arial"/>
              </a:rPr>
              <a:t>1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. Возле  речки  бродил  бегемотик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Он  имел  весьма  круглый  животик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Говорил: «Так  сегодня  наелся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Что  бананами  даже  объелся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6  бананов  на  завтрак  раздали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У  мартышек  4  упали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Я  их  быстренько  съел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Аж  живот  заболел»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Сколько  фруктов  съел  бегемотик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И  получил  весьма  круглый  животик?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***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2. Решила старушка ватрушки испечь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Поставила тесто да печь затопила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Решила старушка ватрушки испечь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А сколько их надо — совсем позабыла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Две штучки — для внучки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Две штучки — для деда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Две штучки — для Тани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Дочурки соседа..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Считала, считала, да сбилась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А печь-то совсем протопилась!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Помоги старушке сосчитать ватрушки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624" name="Picture 4" descr="1132068025_enl"/>
          <p:cNvPicPr/>
          <p:nvPr/>
        </p:nvPicPr>
        <p:blipFill>
          <a:blip r:embed="rId1"/>
          <a:stretch/>
        </p:blipFill>
        <p:spPr>
          <a:xfrm>
            <a:off x="1042920" y="4149720"/>
            <a:ext cx="3097440" cy="22334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"/>
          <p:cNvPicPr/>
          <p:nvPr/>
        </p:nvPicPr>
        <p:blipFill>
          <a:blip r:embed="rId2"/>
          <a:stretch/>
        </p:blipFill>
        <p:spPr>
          <a:xfrm>
            <a:off x="5796000" y="1484280"/>
            <a:ext cx="24480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3. Как-то вечером к медведю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На пирог пришли соседи: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Ёж, барсук, енот, "косой"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олк с плутовкою лисой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А медведь никак не мог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Разделить на всех пирог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От труда медведь вспотел -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Он считать ведь не умел!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Помогите ему скорей -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Посчитайте-ка всех гостей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4. Старый дом пошёл на слом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Мы въезжаем в новый дом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У него весёлый вид-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сюду музыка гремит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Под балконами большими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озле новеньких ворот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Разгружаются машины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Улыбается народ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от, осматривая дом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Ходит новый управдом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Он без всякого труда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Говорит кому куда: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-Вам пониже на этаж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Этот - ваш, а этот - ваш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аш - четвёртый, ваш - седьмой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аш - восьмой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А наш какой?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- На этаж повыше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аш у самой крыши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- Если выше на этаж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То который будет наш?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628" name="Picture 4" descr="ucheniki_w450_h468"/>
          <p:cNvPicPr/>
          <p:nvPr/>
        </p:nvPicPr>
        <p:blipFill>
          <a:blip r:embed="rId1"/>
          <a:stretch/>
        </p:blipFill>
        <p:spPr>
          <a:xfrm>
            <a:off x="684360" y="2708280"/>
            <a:ext cx="4392360" cy="3882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25881"/>
          <p:cNvPicPr/>
          <p:nvPr/>
        </p:nvPicPr>
        <p:blipFill>
          <a:blip r:embed="rId2"/>
          <a:stretch/>
        </p:blipFill>
        <p:spPr>
          <a:xfrm>
            <a:off x="4716360" y="404640"/>
            <a:ext cx="3672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07:38Z</dcterms:created>
  <dc:creator>Антон</dc:creator>
  <dc:description/>
  <dc:language>en-US</dc:language>
  <cp:lastModifiedBy>User</cp:lastModifiedBy>
  <dcterms:modified xsi:type="dcterms:W3CDTF">2019-02-01T04:39:30Z</dcterms:modified>
  <cp:revision>101</cp:revision>
  <dc:subject/>
  <dc:title>Слайд 1</dc:title>
</cp:coreProperties>
</file>